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3D62-4421-4F4E-AA70-110627E98A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5694-D7F0-4782-B126-3A96DE64D90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D2C8-E287-42AA-9E57-BE437C5D468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EFBE-161F-42AB-8073-D3C24BEE757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8BF6-0A1D-424D-9532-BF98E216EE4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94A-478E-4543-8500-21D7B2BC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8A7-2014-4C71-9B48-CF10A632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907-F4C5-4919-BAC7-78210B22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205-B69B-48DA-9FFC-DFDCC761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8168-AE8D-4267-B431-2B666451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A436-C667-4855-B706-0EE93AA5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AD34-112B-4097-9901-02D55DE0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0D0E-E5EF-4758-9AAD-95F7B9B2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EEAD-DDA2-44CC-9210-DF886177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8CFB-F989-4B81-9FBE-CB7C7AD3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8964-E5F1-42C7-9515-96E4D165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C9C-01A6-464E-8E1E-C881DFE9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F469-7933-4860-9C74-B44D850E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9A77-5D43-4815-877C-13920F73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206A-ED62-421E-B6AC-AD034775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2BA3-98AF-45CD-B8EA-52059C60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981C-82FB-46BC-96C5-7BE030DC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AC7-371A-4F67-AEC3-1580EB61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E53-3A68-447A-B68A-3DBFBE52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D3F-63C6-4A2E-96C8-C49E4DA9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7D0-3189-4956-B137-45E3C730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1C6-51FC-406E-875E-4399A007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43A2-38F7-47D3-9B87-5D6335C3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190-CECD-4C58-A7FB-BF68EEAD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FE29-F40A-4880-BB7D-A4D117140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1473-C851-4474-9C8E-F1B874042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116000" y="260280"/>
                <a:ext cx="20667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318360" y="2387520"/>
                <a:ext cx="2624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242100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565280" y="3357720"/>
                <a:ext cx="20383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582560" y="4508640"/>
                <a:ext cx="23608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835280" y="5950080"/>
                <a:ext cx="2511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°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3724200" y="2387520"/>
            <a:ext cx="26053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87280" y="206064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35640" y="3068640"/>
            <a:ext cx="0" cy="115236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979640" y="1052640"/>
                <a:ext cx="49626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16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16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4680000" y="4221000"/>
            <a:ext cx="446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06920" y="4797360"/>
            <a:ext cx="237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63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26´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571640" y="4292640"/>
            <a:ext cx="576720" cy="503280"/>
            <a:chOff x="4571640" y="4292640"/>
            <a:chExt cx="576720" cy="503280"/>
          </a:xfrm>
        </p:grpSpPr>
        <p:sp>
          <p:nvSpPr>
            <p:cNvPr id="316" name=""/>
            <p:cNvSpPr/>
            <p:nvPr/>
          </p:nvSpPr>
          <p:spPr>
            <a:xfrm>
              <a:off x="4572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571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43280" y="4797360"/>
            <a:ext cx="360360" cy="432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2000"/>
              <a:gd name="textAreaBottom" fmla="*/ 414720 h 432000"/>
            </a:gdLst>
            <a:ahLst/>
            <a:rect l="textAreaLeft" t="textAreaTop" r="textAreaRight" b="textAreaBottom"/>
            <a:pathLst>
              <a:path w="21600" h="25890">
                <a:moveTo>
                  <a:pt x="3600" y="0"/>
                </a:moveTo>
                <a:arcTo wR="3600" hR="3600" stAng="16200000" swAng="-5400000"/>
                <a:lnTo>
                  <a:pt x="0" y="22290"/>
                </a:lnTo>
                <a:arcTo wR="3600" hR="3600" stAng="10800000" swAng="-5400000"/>
                <a:lnTo>
                  <a:pt x="18000" y="258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4365720"/>
            <a:ext cx="647640" cy="115236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152360"/>
              <a:gd name="textAreaBottom" fmla="*/ 1121040 h 1152360"/>
            </a:gdLst>
            <a:ahLst/>
            <a:rect l="textAreaLeft" t="textAreaTop" r="textAreaRight" b="textAreaBottom"/>
            <a:pathLst>
              <a:path w="21600" h="38424">
                <a:moveTo>
                  <a:pt x="3600" y="0"/>
                </a:moveTo>
                <a:arcTo wR="3600" hR="3600" stAng="16200000" swAng="-5400000"/>
                <a:lnTo>
                  <a:pt x="0" y="34824"/>
                </a:lnTo>
                <a:arcTo wR="3600" hR="3600" stAng="10800000" swAng="-5400000"/>
                <a:lnTo>
                  <a:pt x="18000" y="384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24360" y="5157720"/>
            <a:ext cx="5745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8" idx="2"/>
          </p:cNvCxnSpPr>
          <p:nvPr/>
        </p:nvCxnSpPr>
        <p:spPr>
          <a:xfrm flipH="1" flipV="1" rot="5400000">
            <a:off x="3430440" y="4173480"/>
            <a:ext cx="662760" cy="1477080"/>
          </a:xfrm>
          <a:prstGeom prst="curvedConnector5">
            <a:avLst>
              <a:gd name="adj1" fmla="val -59945"/>
              <a:gd name="adj2" fmla="val 39127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116000" y="260280"/>
                <a:ext cx="23335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407280" y="2387520"/>
                <a:ext cx="25606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258920" y="2421000"/>
                <a:ext cx="2421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403280" y="3357720"/>
                <a:ext cx="20750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403280" y="4508640"/>
                <a:ext cx="21798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877000"/>
                <a:ext cx="2548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3</m:t>
                    </m:r>
                    <m:r>
                      <m:t xml:space="preserve">°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3781440" y="2387520"/>
            <a:ext cx="26049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08720" y="2997360"/>
            <a:ext cx="0" cy="129672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08000" y="1125360"/>
                <a:ext cx="47437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33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33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4500720" y="4221000"/>
            <a:ext cx="4643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II. nebo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00720" y="4797360"/>
            <a:ext cx="237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53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08´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940000" y="4292640"/>
            <a:ext cx="576720" cy="503280"/>
            <a:chOff x="5940000" y="4292640"/>
            <a:chExt cx="576720" cy="503280"/>
          </a:xfrm>
        </p:grpSpPr>
        <p:sp>
          <p:nvSpPr>
            <p:cNvPr id="335" name=""/>
            <p:cNvSpPr/>
            <p:nvPr/>
          </p:nvSpPr>
          <p:spPr>
            <a:xfrm>
              <a:off x="594036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940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771640" y="4797360"/>
            <a:ext cx="287640" cy="43200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27">
                <a:moveTo>
                  <a:pt x="3600" y="0"/>
                </a:moveTo>
                <a:arcTo wR="3600" hR="3600" stAng="16200000" swAng="-5400000"/>
                <a:lnTo>
                  <a:pt x="0" y="28827"/>
                </a:lnTo>
                <a:arcTo wR="3600" hR="3600" stAng="10800000" swAng="-5400000"/>
                <a:lnTo>
                  <a:pt x="18000" y="32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08360" y="5157720"/>
            <a:ext cx="7192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7" idx="2"/>
          </p:cNvCxnSpPr>
          <p:nvPr/>
        </p:nvCxnSpPr>
        <p:spPr>
          <a:xfrm flipH="1" flipV="1" rot="5400000">
            <a:off x="332244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042920" y="260280"/>
                <a:ext cx="26337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6330960" y="2347920"/>
                <a:ext cx="2813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494000" y="3284640"/>
                <a:ext cx="22572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741320" y="5626080"/>
                <a:ext cx="2946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3686040" y="2347920"/>
            <a:ext cx="26053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87280" y="206064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48360" y="2997360"/>
            <a:ext cx="0" cy="122544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903320" y="907920"/>
                <a:ext cx="72248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4356000" y="4221000"/>
            <a:ext cx="47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56000" y="4797360"/>
            <a:ext cx="16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60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211280" y="4292640"/>
            <a:ext cx="576720" cy="503280"/>
            <a:chOff x="4211280" y="4292640"/>
            <a:chExt cx="576720" cy="503280"/>
          </a:xfrm>
        </p:grpSpPr>
        <p:sp>
          <p:nvSpPr>
            <p:cNvPr id="353" name=""/>
            <p:cNvSpPr/>
            <p:nvPr/>
          </p:nvSpPr>
          <p:spPr>
            <a:xfrm>
              <a:off x="4211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21128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22400" y="2276640"/>
                <a:ext cx="2682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2698920" y="4797360"/>
            <a:ext cx="360360" cy="432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2000"/>
              <a:gd name="textAreaBottom" fmla="*/ 414720 h 432000"/>
            </a:gdLst>
            <a:ahLst/>
            <a:rect l="textAreaLeft" t="textAreaTop" r="textAreaRight" b="textAreaBottom"/>
            <a:pathLst>
              <a:path w="21600" h="25890">
                <a:moveTo>
                  <a:pt x="3600" y="0"/>
                </a:moveTo>
                <a:arcTo wR="3600" hR="3600" stAng="16200000" swAng="-5400000"/>
                <a:lnTo>
                  <a:pt x="0" y="22290"/>
                </a:lnTo>
                <a:arcTo wR="3600" hR="3600" stAng="10800000" swAng="-5400000"/>
                <a:lnTo>
                  <a:pt x="18000" y="258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32000" y="4365720"/>
            <a:ext cx="648000" cy="115236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1152360"/>
              <a:gd name="textAreaBottom" fmla="*/ 1121040 h 1152360"/>
            </a:gdLst>
            <a:ahLst/>
            <a:rect l="textAreaLeft" t="textAreaTop" r="textAreaRight" b="textAreaBottom"/>
            <a:pathLst>
              <a:path w="21600" h="38403">
                <a:moveTo>
                  <a:pt x="3600" y="0"/>
                </a:moveTo>
                <a:arcTo wR="3600" hR="3600" stAng="16200000" swAng="-5400000"/>
                <a:lnTo>
                  <a:pt x="0" y="34803"/>
                </a:lnTo>
                <a:arcTo wR="3600" hR="3600" stAng="10800000" swAng="-5400000"/>
                <a:lnTo>
                  <a:pt x="18000" y="38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80000" y="5157720"/>
            <a:ext cx="5745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6" idx="2"/>
          </p:cNvCxnSpPr>
          <p:nvPr/>
        </p:nvCxnSpPr>
        <p:spPr>
          <a:xfrm flipH="1" flipV="1" rot="5400000">
            <a:off x="3285720" y="4173480"/>
            <a:ext cx="662760" cy="1477080"/>
          </a:xfrm>
          <a:prstGeom prst="curvedConnector5">
            <a:avLst>
              <a:gd name="adj1" fmla="val -59945"/>
              <a:gd name="adj2" fmla="val 39127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82520" y="210960"/>
                <a:ext cx="24004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143680" y="2852640"/>
                <a:ext cx="38890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276200" y="3284640"/>
                <a:ext cx="22575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258920" y="4581360"/>
                <a:ext cx="21794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655640" y="5734080"/>
                <a:ext cx="33829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3348000" y="2205000"/>
            <a:ext cx="2749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87280" y="206064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03640" y="2852640"/>
            <a:ext cx="0" cy="151308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700280" y="836640"/>
                <a:ext cx="74437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4356000" y="4292640"/>
            <a:ext cx="464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4869000"/>
            <a:ext cx="23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30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435280" y="4365720"/>
            <a:ext cx="576720" cy="503280"/>
            <a:chOff x="5435280" y="4365720"/>
            <a:chExt cx="576720" cy="503280"/>
          </a:xfrm>
        </p:grpSpPr>
        <p:sp>
          <p:nvSpPr>
            <p:cNvPr id="372" name=""/>
            <p:cNvSpPr/>
            <p:nvPr/>
          </p:nvSpPr>
          <p:spPr>
            <a:xfrm>
              <a:off x="543564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543528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116000" y="2205000"/>
                <a:ext cx="22892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3</m:t>
                    </m:r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2554200" y="4869000"/>
            <a:ext cx="360360" cy="431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868">
                <a:moveTo>
                  <a:pt x="3600" y="0"/>
                </a:moveTo>
                <a:arcTo wR="3600" hR="3600" stAng="16200000" swAng="-5400000"/>
                <a:lnTo>
                  <a:pt x="0" y="22268"/>
                </a:lnTo>
                <a:arcTo wR="3600" hR="3600" stAng="10800000" swAng="-5400000"/>
                <a:lnTo>
                  <a:pt x="18000" y="2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87640" y="4508640"/>
            <a:ext cx="504720" cy="1081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1081080"/>
              <a:gd name="textAreaBottom" fmla="*/ 1056600 h 1081080"/>
            </a:gdLst>
            <a:ahLst/>
            <a:rect l="textAreaLeft" t="textAreaTop" r="textAreaRight" b="textAreaBottom"/>
            <a:pathLst>
              <a:path w="21600" h="46248">
                <a:moveTo>
                  <a:pt x="3600" y="0"/>
                </a:moveTo>
                <a:arcTo wR="3600" hR="3600" stAng="16200000" swAng="-5400000"/>
                <a:lnTo>
                  <a:pt x="0" y="42648"/>
                </a:lnTo>
                <a:arcTo wR="3600" hR="3600" stAng="10800000" swAng="-5400000"/>
                <a:lnTo>
                  <a:pt x="18000" y="462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92360" y="5229360"/>
            <a:ext cx="71784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2"/>
          </p:cNvCxnSpPr>
          <p:nvPr/>
        </p:nvCxnSpPr>
        <p:spPr>
          <a:xfrm flipH="1" flipV="1" rot="5400000">
            <a:off x="3141360" y="4245120"/>
            <a:ext cx="662760" cy="1477080"/>
          </a:xfrm>
          <a:prstGeom prst="curvedConnector5">
            <a:avLst>
              <a:gd name="adj1" fmla="val -59945"/>
              <a:gd name="adj2" fmla="val 34007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116000" y="836640"/>
                <a:ext cx="26337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042920" y="4869000"/>
                <a:ext cx="32004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042920" y="2997360"/>
                <a:ext cx="27669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4627440" y="476280"/>
            <a:ext cx="4516560" cy="6041880"/>
            <a:chOff x="4627440" y="476280"/>
            <a:chExt cx="4516560" cy="6041880"/>
          </a:xfrm>
        </p:grpSpPr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4660920" y="476280"/>
                  <a:ext cx="4483080" cy="17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4660920" y="4797360"/>
                  <a:ext cx="4483080" cy="17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4627440" y="2637000"/>
                  <a:ext cx="4516560" cy="17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4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4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158840" y="1268280"/>
                <a:ext cx="20671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216080" y="5734080"/>
                <a:ext cx="1833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106640" y="3405240"/>
                <a:ext cx="26812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9" name=""/>
          <p:cNvGrpSpPr/>
          <p:nvPr/>
        </p:nvGrpSpPr>
        <p:grpSpPr>
          <a:xfrm>
            <a:off x="4232160" y="836640"/>
            <a:ext cx="4911840" cy="6021360"/>
            <a:chOff x="4232160" y="836640"/>
            <a:chExt cx="4911840" cy="6021360"/>
          </a:xfrm>
        </p:grpSpPr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4232160" y="836640"/>
                  <a:ext cx="4911840" cy="17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5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4363920" y="5070600"/>
                  <a:ext cx="4780080" cy="17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1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15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4284720" y="2637000"/>
                  <a:ext cx="4614840" cy="23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3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182600" y="404640"/>
                <a:ext cx="23004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198440" y="5084640"/>
                <a:ext cx="25005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211400" y="1773360"/>
                <a:ext cx="2701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197000" y="3429000"/>
                <a:ext cx="1874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,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3635280" y="836640"/>
            <a:ext cx="5508720" cy="6021360"/>
            <a:chOff x="3635280" y="836640"/>
            <a:chExt cx="5508720" cy="6021360"/>
          </a:xfrm>
        </p:grpSpPr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3708360" y="836640"/>
                  <a:ext cx="52419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7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7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3672000" y="5832360"/>
                  <a:ext cx="5472000" cy="10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01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01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3672000" y="2276640"/>
                  <a:ext cx="547200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224</m:t>
                          </m:r>
                          <m:r>
                            <m:t xml:space="preserve">°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224</m:t>
                          </m:r>
                          <m:r>
                            <m:t xml:space="preserve">°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3635280" y="3645000"/>
                  <a:ext cx="46818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8,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8,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π</m:t>
                              </m:r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π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216080" y="620640"/>
                <a:ext cx="15336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138320" y="2852640"/>
                <a:ext cx="24778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116000" y="5589720"/>
                <a:ext cx="2160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,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4152960" y="333360"/>
            <a:ext cx="4991040" cy="6524640"/>
            <a:chOff x="4152960" y="333360"/>
            <a:chExt cx="4991040" cy="6524640"/>
          </a:xfrm>
        </p:grpSpPr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4356000" y="333360"/>
                  <a:ext cx="4087800" cy="17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4265640" y="2205000"/>
                  <a:ext cx="4878360" cy="232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5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4152960" y="5133960"/>
                  <a:ext cx="4714920" cy="17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7,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7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7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7,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8866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vod zápisu komplexního čísla z algebraického tvaru na tvar goniometrický – komplexní čísla imaginár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komplexního čísla imaginárního; Argument komplexního čísla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Převod AT na G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378936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42920" y="1872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imaginární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(neleží na souřadných osách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372360" y="2781360"/>
                <a:ext cx="2376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372360" y="3860640"/>
                <a:ext cx="231120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 flipH="1">
            <a:off x="2122560" y="2684520"/>
            <a:ext cx="1728720" cy="266544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58920" y="1677960"/>
            <a:ext cx="4084200" cy="5040000"/>
            <a:chOff x="1258920" y="1677960"/>
            <a:chExt cx="4084200" cy="5040000"/>
          </a:xfrm>
        </p:grpSpPr>
        <p:sp>
          <p:nvSpPr>
            <p:cNvPr id="148" name=""/>
            <p:cNvSpPr/>
            <p:nvPr/>
          </p:nvSpPr>
          <p:spPr>
            <a:xfrm flipV="1">
              <a:off x="1258920" y="5349240"/>
              <a:ext cx="4032000" cy="1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122560" y="1893600"/>
              <a:ext cx="0" cy="482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95640" y="16779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05440" y="53496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92000" y="5351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3" name="Group 63"/>
          <p:cNvGrpSpPr/>
          <p:nvPr/>
        </p:nvGrpSpPr>
        <p:grpSpPr>
          <a:xfrm>
            <a:off x="3777840" y="2612880"/>
            <a:ext cx="144720" cy="142920"/>
            <a:chOff x="3777840" y="2612880"/>
            <a:chExt cx="144720" cy="142920"/>
          </a:xfrm>
        </p:grpSpPr>
        <p:sp>
          <p:nvSpPr>
            <p:cNvPr id="154" name="Line 64"/>
            <p:cNvSpPr/>
            <p:nvPr/>
          </p:nvSpPr>
          <p:spPr>
            <a:xfrm>
              <a:off x="3778200" y="26128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65"/>
            <p:cNvSpPr/>
            <p:nvPr/>
          </p:nvSpPr>
          <p:spPr>
            <a:xfrm flipH="1">
              <a:off x="3777840" y="26128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507840" y="1989000"/>
            <a:ext cx="137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51280" y="2684520"/>
            <a:ext cx="0" cy="2736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050560" y="2684520"/>
            <a:ext cx="180036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45360" y="53499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29000" y="23972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122560" y="2684520"/>
            <a:ext cx="1728720" cy="266544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28720" y="3332160"/>
            <a:ext cx="5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 rot="16200000">
            <a:off x="2915640" y="4629960"/>
            <a:ext cx="142560" cy="17287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993480" y="2684520"/>
            <a:ext cx="144360" cy="2665440"/>
          </a:xfrm>
          <a:custGeom>
            <a:avLst/>
            <a:gdLst>
              <a:gd name="textAreaLeft" fmla="*/ 92160 w 144360"/>
              <a:gd name="textAreaRight" fmla="*/ 144360 w 14436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60120" y="5445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840" y="37180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187280" y="981000"/>
                <a:ext cx="4794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3203640" y="981000"/>
            <a:ext cx="431640" cy="576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76360"/>
              <a:gd name="textAreaBottom" fmla="*/ 555480 h 576360"/>
            </a:gdLst>
            <a:ahLst/>
            <a:rect l="textAreaLeft" t="textAreaTop" r="textAreaRight" b="textAreaBottom"/>
            <a:pathLst>
              <a:path w="21600" h="28836">
                <a:moveTo>
                  <a:pt x="3600" y="0"/>
                </a:moveTo>
                <a:arcTo wR="3600" hR="3600" stAng="16200000" swAng="-5400000"/>
                <a:lnTo>
                  <a:pt x="0" y="25236"/>
                </a:lnTo>
                <a:arcTo wR="3600" hR="3600" stAng="10800000" swAng="-5400000"/>
                <a:lnTo>
                  <a:pt x="18000" y="28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5351400"/>
            <a:ext cx="3168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124000" y="1700280"/>
            <a:ext cx="2374920" cy="3673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199400"/>
            <a:ext cx="2304720" cy="227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726" y="1771"/>
                </a:moveTo>
                <a:arcTo wR="10800" hR="10800" stAng="-3403182" swAng="3403182"/>
                <a:lnTo>
                  <a:pt x="10800" y="10800"/>
                </a:lnTo>
                <a:close/>
              </a:path>
              <a:path fill="none" w="21600" h="21600">
                <a:moveTo>
                  <a:pt x="16726" y="1771"/>
                </a:moveTo>
                <a:arcTo wR="10800" hR="10800" stAng="-3403182" swAng="3403182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53400" y="46944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56000" y="981000"/>
            <a:ext cx="287280" cy="576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76360"/>
              <a:gd name="textAreaBottom" fmla="*/ 562320 h 576360"/>
            </a:gdLst>
            <a:ahLst/>
            <a:rect l="textAreaLeft" t="textAreaTop" r="textAreaRight" b="textAreaBottom"/>
            <a:pathLst>
              <a:path w="21600" h="43308">
                <a:moveTo>
                  <a:pt x="3600" y="0"/>
                </a:moveTo>
                <a:arcTo wR="3600" hR="3600" stAng="16200000" swAng="-5400000"/>
                <a:lnTo>
                  <a:pt x="0" y="39708"/>
                </a:lnTo>
                <a:arcTo wR="3600" hR="3600" stAng="10800000" swAng="-5400000"/>
                <a:lnTo>
                  <a:pt x="18000" y="433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981000"/>
            <a:ext cx="358560" cy="576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707">
                <a:moveTo>
                  <a:pt x="3600" y="0"/>
                </a:moveTo>
                <a:arcTo wR="3600" hR="3600" stAng="16200000" swAng="-5400000"/>
                <a:lnTo>
                  <a:pt x="0" y="31107"/>
                </a:lnTo>
                <a:arcTo wR="3600" hR="3600" stAng="10800000" swAng="-5400000"/>
                <a:lnTo>
                  <a:pt x="18000" y="347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124000" y="2708280"/>
            <a:ext cx="1728720" cy="266544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87280" y="1846440"/>
          <a:ext cx="7777440" cy="718920"/>
        </p:xfrm>
        <a:graphic>
          <a:graphicData uri="http://schemas.openxmlformats.org/drawingml/2006/table">
            <a:tbl>
              <a:tblPr/>
              <a:tblGrid>
                <a:gridCol w="1511640"/>
                <a:gridCol w="1081080"/>
                <a:gridCol w="1296720"/>
                <a:gridCol w="1295640"/>
                <a:gridCol w="1288800"/>
                <a:gridCol w="130356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x´</a:t>
                      </a:r>
                      <a:r>
                        <a:rPr b="0" i="1" lang="en-US" sz="1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 (stupně)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45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675320" y="1827360"/>
                <a:ext cx="2617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973840" y="1817640"/>
                <a:ext cx="261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267680" y="1827360"/>
                <a:ext cx="261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8564400" y="1817640"/>
                <a:ext cx="2635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81" name=""/>
          <p:cNvGraphicFramePr/>
          <p:nvPr/>
        </p:nvGraphicFramePr>
        <p:xfrm>
          <a:off x="1187280" y="2565360"/>
          <a:ext cx="7772400" cy="792000"/>
        </p:xfrm>
        <a:graphic>
          <a:graphicData uri="http://schemas.openxmlformats.org/drawingml/2006/table">
            <a:tbl>
              <a:tblPr/>
              <a:tblGrid>
                <a:gridCol w="1511640"/>
                <a:gridCol w="1079280"/>
                <a:gridCol w="1295280"/>
                <a:gridCol w="1295640"/>
                <a:gridCol w="1295280"/>
                <a:gridCol w="129528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sin</a:t>
                      </a:r>
                      <a:r>
                        <a:rPr b="1" i="1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x´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8244000" y="2709720"/>
                <a:ext cx="2696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59280" y="2781360"/>
                <a:ext cx="287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435640" y="2565360"/>
                <a:ext cx="495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804000" y="2565360"/>
                <a:ext cx="4762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284720" y="2565360"/>
                <a:ext cx="296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16000" y="3357720"/>
            <a:ext cx="8028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I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=   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II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=   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V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6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= 2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Hodnoty goniometrické funkce sinu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(2. ročník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573408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ostatní úhly určíte pomocí kalkulátor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981000"/>
            <a:ext cx="81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88000" indent="-28800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tabulkové hodnoty“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348000" y="1989000"/>
                <a:ext cx="282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2" name=""/>
          <p:cNvGrpSpPr/>
          <p:nvPr/>
        </p:nvGrpSpPr>
        <p:grpSpPr>
          <a:xfrm>
            <a:off x="6157800" y="3502080"/>
            <a:ext cx="1845720" cy="1972440"/>
            <a:chOff x="6157800" y="3502080"/>
            <a:chExt cx="1845720" cy="1972440"/>
          </a:xfrm>
        </p:grpSpPr>
        <p:sp>
          <p:nvSpPr>
            <p:cNvPr id="193" name=""/>
            <p:cNvSpPr/>
            <p:nvPr/>
          </p:nvSpPr>
          <p:spPr>
            <a:xfrm>
              <a:off x="6516360" y="3935520"/>
              <a:ext cx="1150560" cy="1152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92720" y="3935520"/>
              <a:ext cx="0" cy="1150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16360" y="4511520"/>
              <a:ext cx="11505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94160" y="40068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62520" y="40068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09640" y="4440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61800" y="4440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49800" y="3502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70520" y="42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7800" y="42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05440" y="50148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50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420920" y="450864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356000" y="4292640"/>
            <a:ext cx="478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00360" y="4869000"/>
            <a:ext cx="358920" cy="43164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972">
                <a:moveTo>
                  <a:pt x="3600" y="0"/>
                </a:moveTo>
                <a:arcTo wR="3600" hR="3600" stAng="16200000" swAng="-5400000"/>
                <a:lnTo>
                  <a:pt x="0" y="22372"/>
                </a:lnTo>
                <a:arcTo wR="3600" hR="3600" stAng="10800000" swAng="-5400000"/>
                <a:lnTo>
                  <a:pt x="18000" y="259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4869000"/>
            <a:ext cx="1619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45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4437000"/>
            <a:ext cx="576360" cy="11527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720"/>
              <a:gd name="textAreaBottom" fmla="*/ 1124640 h 1152720"/>
            </a:gdLst>
            <a:ahLst/>
            <a:rect l="textAreaLeft" t="textAreaTop" r="textAreaRight" b="textAreaBottom"/>
            <a:pathLst>
              <a:path w="21600" h="43187">
                <a:moveTo>
                  <a:pt x="3600" y="0"/>
                </a:moveTo>
                <a:arcTo wR="3600" hR="3600" stAng="16200000" swAng="-5400000"/>
                <a:lnTo>
                  <a:pt x="0" y="39587"/>
                </a:lnTo>
                <a:arcTo wR="3600" hR="3600" stAng="10800000" swAng="-5400000"/>
                <a:lnTo>
                  <a:pt x="18000" y="43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5229360"/>
            <a:ext cx="64764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042920" y="907920"/>
                <a:ext cx="19432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156360" y="2565360"/>
                <a:ext cx="2592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25360" y="2637000"/>
                <a:ext cx="2357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403280" y="3429000"/>
                <a:ext cx="20750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763640" y="5661000"/>
                <a:ext cx="34228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564000" y="2565360"/>
            <a:ext cx="26049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249228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76720" y="3141720"/>
            <a:ext cx="0" cy="122220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435280" y="4365720"/>
            <a:ext cx="576720" cy="503280"/>
            <a:chOff x="5435280" y="4365720"/>
            <a:chExt cx="576720" cy="503280"/>
          </a:xfrm>
        </p:grpSpPr>
        <p:sp>
          <p:nvSpPr>
            <p:cNvPr id="219" name=""/>
            <p:cNvSpPr/>
            <p:nvPr/>
          </p:nvSpPr>
          <p:spPr>
            <a:xfrm>
              <a:off x="543564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43528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835280" y="1341360"/>
                <a:ext cx="7308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06" idx="2"/>
            <a:endCxn id="205" idx="1"/>
          </p:cNvCxnSpPr>
          <p:nvPr/>
        </p:nvCxnSpPr>
        <p:spPr>
          <a:xfrm flipH="1" flipV="1" rot="5400000">
            <a:off x="3285720" y="424512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88040" y="2492280"/>
                <a:ext cx="23115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403280" y="3357720"/>
                <a:ext cx="175896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78200" y="1528920"/>
                <a:ext cx="32414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4643280" y="2637000"/>
            <a:ext cx="50328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140360" y="2565360"/>
            <a:ext cx="1079280" cy="1079280"/>
            <a:chOff x="4140360" y="2565360"/>
            <a:chExt cx="1079280" cy="1079280"/>
          </a:xfrm>
        </p:grpSpPr>
        <p:sp>
          <p:nvSpPr>
            <p:cNvPr id="229" name=""/>
            <p:cNvSpPr/>
            <p:nvPr/>
          </p:nvSpPr>
          <p:spPr>
            <a:xfrm flipV="1">
              <a:off x="4643280" y="256536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40360" y="314136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042920" y="333360"/>
                <a:ext cx="2367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588000" y="2421000"/>
                <a:ext cx="23385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420920" y="3284640"/>
                <a:ext cx="23670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741320" y="5626080"/>
                <a:ext cx="29480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780000" y="2421000"/>
            <a:ext cx="26049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3141720"/>
            <a:ext cx="0" cy="108108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887480" y="907920"/>
                <a:ext cx="72565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4356000" y="4221000"/>
            <a:ext cx="47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II. nebo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56000" y="4797360"/>
            <a:ext cx="16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60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355640" y="4292640"/>
            <a:ext cx="576720" cy="503280"/>
            <a:chOff x="4355640" y="4292640"/>
            <a:chExt cx="576720" cy="503280"/>
          </a:xfrm>
        </p:grpSpPr>
        <p:sp>
          <p:nvSpPr>
            <p:cNvPr id="243" name=""/>
            <p:cNvSpPr/>
            <p:nvPr/>
          </p:nvSpPr>
          <p:spPr>
            <a:xfrm>
              <a:off x="4356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355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187280" y="2349360"/>
                <a:ext cx="26830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620040" y="2349360"/>
                <a:ext cx="23112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476360" y="3284640"/>
                <a:ext cx="175896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2771640" y="4797360"/>
            <a:ext cx="287640" cy="43200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27">
                <a:moveTo>
                  <a:pt x="3600" y="0"/>
                </a:moveTo>
                <a:arcTo wR="3600" hR="3600" stAng="16200000" swAng="-5400000"/>
                <a:lnTo>
                  <a:pt x="0" y="28827"/>
                </a:lnTo>
                <a:arcTo wR="3600" hR="3600" stAng="10800000" swAng="-5400000"/>
                <a:lnTo>
                  <a:pt x="18000" y="32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08360" y="5157720"/>
            <a:ext cx="5763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8" idx="2"/>
          </p:cNvCxnSpPr>
          <p:nvPr/>
        </p:nvCxnSpPr>
        <p:spPr>
          <a:xfrm flipH="1" flipV="1" rot="5400000">
            <a:off x="332244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908000" y="1052640"/>
                <a:ext cx="32418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4643280" y="2781360"/>
            <a:ext cx="50328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140360" y="2205000"/>
            <a:ext cx="1079280" cy="1079280"/>
            <a:chOff x="4140360" y="2205000"/>
            <a:chExt cx="1079280" cy="1079280"/>
          </a:xfrm>
        </p:grpSpPr>
        <p:sp>
          <p:nvSpPr>
            <p:cNvPr id="255" name=""/>
            <p:cNvSpPr/>
            <p:nvPr/>
          </p:nvSpPr>
          <p:spPr>
            <a:xfrm flipV="1">
              <a:off x="4643280" y="220500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40360" y="278100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042920" y="260280"/>
                <a:ext cx="2967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6540480" y="2276640"/>
                <a:ext cx="2433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403280" y="3284640"/>
                <a:ext cx="20750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781280" y="5661000"/>
                <a:ext cx="29113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3995640" y="2276640"/>
            <a:ext cx="2605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92720" y="2924280"/>
            <a:ext cx="0" cy="129672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951200" y="907920"/>
                <a:ext cx="71928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4355640" y="4292640"/>
            <a:ext cx="576720" cy="503280"/>
            <a:chOff x="4355640" y="4292640"/>
            <a:chExt cx="576720" cy="503280"/>
          </a:xfrm>
        </p:grpSpPr>
        <p:sp>
          <p:nvSpPr>
            <p:cNvPr id="267" name=""/>
            <p:cNvSpPr/>
            <p:nvPr/>
          </p:nvSpPr>
          <p:spPr>
            <a:xfrm>
              <a:off x="4356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355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116000" y="2276640"/>
                <a:ext cx="2970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500720" y="4221000"/>
            <a:ext cx="4643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27640" y="4797360"/>
            <a:ext cx="16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45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0360" y="4797360"/>
            <a:ext cx="358920" cy="43200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432000"/>
              <a:gd name="textAreaBottom" fmla="*/ 414720 h 432000"/>
            </a:gdLst>
            <a:ahLst/>
            <a:rect l="textAreaLeft" t="textAreaTop" r="textAreaRight" b="textAreaBottom"/>
            <a:pathLst>
              <a:path w="21600" h="25994">
                <a:moveTo>
                  <a:pt x="3600" y="0"/>
                </a:moveTo>
                <a:arcTo wR="3600" hR="3600" stAng="16200000" swAng="-5400000"/>
                <a:lnTo>
                  <a:pt x="0" y="22394"/>
                </a:lnTo>
                <a:arcTo wR="3600" hR="3600" stAng="10800000" swAng="-5400000"/>
                <a:lnTo>
                  <a:pt x="18000" y="259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08360" y="5157720"/>
            <a:ext cx="7192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2" idx="2"/>
          </p:cNvCxnSpPr>
          <p:nvPr/>
        </p:nvCxnSpPr>
        <p:spPr>
          <a:xfrm flipH="1" flipV="1" rot="5400000">
            <a:off x="328572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4140360" y="2276640"/>
            <a:ext cx="50292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140360" y="2205000"/>
            <a:ext cx="1079280" cy="1079280"/>
            <a:chOff x="4140360" y="2205000"/>
            <a:chExt cx="1079280" cy="1079280"/>
          </a:xfrm>
        </p:grpSpPr>
        <p:sp>
          <p:nvSpPr>
            <p:cNvPr id="278" name=""/>
            <p:cNvSpPr/>
            <p:nvPr/>
          </p:nvSpPr>
          <p:spPr>
            <a:xfrm flipV="1">
              <a:off x="4643280" y="220500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40360" y="278100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140360" y="2781360"/>
            <a:ext cx="50292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4500720" y="4221000"/>
            <a:ext cx="4643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II. nebo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00720" y="4797360"/>
            <a:ext cx="161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45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042920" y="260280"/>
                <a:ext cx="21337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6372360" y="2349360"/>
                <a:ext cx="25905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168560" y="2422440"/>
                <a:ext cx="2355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476360" y="3213000"/>
                <a:ext cx="207504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711440" y="5661000"/>
                <a:ext cx="29844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618000" y="2349360"/>
            <a:ext cx="26049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08720" y="2924280"/>
            <a:ext cx="0" cy="12967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835280" y="974880"/>
                <a:ext cx="730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3" name=""/>
          <p:cNvGrpSpPr/>
          <p:nvPr/>
        </p:nvGrpSpPr>
        <p:grpSpPr>
          <a:xfrm>
            <a:off x="5866920" y="4292640"/>
            <a:ext cx="576720" cy="503280"/>
            <a:chOff x="5866920" y="4292640"/>
            <a:chExt cx="576720" cy="503280"/>
          </a:xfrm>
        </p:grpSpPr>
        <p:sp>
          <p:nvSpPr>
            <p:cNvPr id="294" name=""/>
            <p:cNvSpPr/>
            <p:nvPr/>
          </p:nvSpPr>
          <p:spPr>
            <a:xfrm>
              <a:off x="5867280" y="4292640"/>
              <a:ext cx="576360" cy="5032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866920" y="4292640"/>
              <a:ext cx="576360" cy="5032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771640" y="4797360"/>
            <a:ext cx="287640" cy="43200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27">
                <a:moveTo>
                  <a:pt x="3600" y="0"/>
                </a:moveTo>
                <a:arcTo wR="3600" hR="3600" stAng="16200000" swAng="-5400000"/>
                <a:lnTo>
                  <a:pt x="0" y="28827"/>
                </a:lnTo>
                <a:arcTo wR="3600" hR="3600" stAng="10800000" swAng="-5400000"/>
                <a:lnTo>
                  <a:pt x="18000" y="32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08360" y="5157720"/>
            <a:ext cx="7192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96" idx="2"/>
          </p:cNvCxnSpPr>
          <p:nvPr/>
        </p:nvCxnSpPr>
        <p:spPr>
          <a:xfrm flipH="1" flipV="1" rot="5400000">
            <a:off x="332244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grpSp>
        <p:nvGrpSpPr>
          <p:cNvPr id="300" name=""/>
          <p:cNvGrpSpPr/>
          <p:nvPr/>
        </p:nvGrpSpPr>
        <p:grpSpPr>
          <a:xfrm>
            <a:off x="4140360" y="2205000"/>
            <a:ext cx="1079280" cy="1079280"/>
            <a:chOff x="4140360" y="2205000"/>
            <a:chExt cx="1079280" cy="1079280"/>
          </a:xfrm>
        </p:grpSpPr>
        <p:sp>
          <p:nvSpPr>
            <p:cNvPr id="301" name=""/>
            <p:cNvSpPr/>
            <p:nvPr/>
          </p:nvSpPr>
          <p:spPr>
            <a:xfrm flipV="1">
              <a:off x="4643280" y="220500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40360" y="278100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04Z</dcterms:modified>
  <cp:revision>299</cp:revision>
  <dc:subject/>
  <dc:title>KČ</dc:title>
</cp:coreProperties>
</file>