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BDC-315D-415D-ACC9-EDA56696AA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D58-E27D-4BA5-96F0-87787F085F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92B-980E-4CCF-B092-2A48D018C7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5CD-5A0C-4117-9CB0-1A8AA5752B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B9D-AABE-4B5C-93B2-4CDA173B8B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1B49-9E8C-4CD8-83BD-47B27B6ACF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C72-CE4F-4D58-8E4B-0F2A7754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09E-58DD-4197-8EAE-04398F06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A0B-E9D6-471A-8A99-3BE1130E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CAB-0AB7-46D1-A1E1-82F789BC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9713-9AAF-44E2-9998-E4F28502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5FF6-C8DD-40DE-ADC2-D7091558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DFDD-3EC5-469B-A9D4-087596C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1217-57FB-438E-AE5E-5F55F62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51DD-FC96-457C-A687-9947246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E50A-3E51-47B7-98C3-805C7859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D2A0-64EE-4AA9-9C66-29BC210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863-C31B-4DD9-B672-6569B37D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CB2-8734-4CC4-883E-1201594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DEC1-6613-4580-96EF-DDDC639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9F45-FDAB-4658-8BD5-967FDAF6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EFB-1F63-41C0-8949-AD8D4C2F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D212-5BFD-40BD-90C7-2BB98B4B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063-0ECB-4FFA-AB1F-0B44DC79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039-F958-4C3C-8F59-854CED0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383-279D-4DDB-BB04-B868F243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A84-624A-49EE-B453-0EB52946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B36-5B42-4DD6-9DD7-92F4A4A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AFD-6C59-43F9-BE90-6DD8081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CC4-4226-4398-8355-65869A2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0054-7C0F-478C-A860-6C5D1947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632C-09B2-405D-8345-9091A4A0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58920" y="260280"/>
                <a:ext cx="178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1773360"/>
                <a:ext cx="1692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2924280"/>
                <a:ext cx="2663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4292640"/>
                <a:ext cx="31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5589720"/>
                <a:ext cx="4886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7093080" y="692280"/>
            <a:ext cx="1317600" cy="5924520"/>
            <a:chOff x="7093080" y="692280"/>
            <a:chExt cx="1317600" cy="59245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380360" y="692280"/>
                  <a:ext cx="196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236000" y="1557360"/>
                  <a:ext cx="7063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093080" y="2924280"/>
                  <a:ext cx="12175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93080" y="4292640"/>
                  <a:ext cx="12459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64360" y="5661000"/>
                  <a:ext cx="124632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klad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87280" y="260280"/>
                <a:ext cx="3414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484280"/>
                <a:ext cx="2945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87280" y="2708280"/>
                <a:ext cx="2913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87280" y="3789360"/>
                <a:ext cx="3195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87280" y="4869000"/>
                <a:ext cx="36658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5950080"/>
                <a:ext cx="2600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5435640" y="476280"/>
            <a:ext cx="3708360" cy="5948280"/>
            <a:chOff x="5435640" y="476280"/>
            <a:chExt cx="3708360" cy="59482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35640" y="476280"/>
                  <a:ext cx="13460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435640" y="1557360"/>
                  <a:ext cx="1158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481720" y="2637000"/>
                  <a:ext cx="36622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08720" y="3789360"/>
                  <a:ext cx="1753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508720" y="4581360"/>
                  <a:ext cx="325584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580000" y="5950080"/>
                  <a:ext cx="1001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imaginární složku 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87280" y="549360"/>
                <a:ext cx="285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1628640"/>
                <a:ext cx="39466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3213000"/>
                <a:ext cx="269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187280" y="4437000"/>
                <a:ext cx="34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71440" y="5661000"/>
                <a:ext cx="3697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42040" y="549360"/>
            <a:ext cx="3801960" cy="5689440"/>
            <a:chOff x="5342040" y="549360"/>
            <a:chExt cx="3801960" cy="56894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342040" y="549360"/>
                  <a:ext cx="1533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364000" y="1773360"/>
                  <a:ext cx="200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08720" y="5661000"/>
                  <a:ext cx="16272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435640" y="4437000"/>
                  <a:ext cx="3004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5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zápornou a současně imaginární složku ne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620640"/>
                <a:ext cx="2883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1628640"/>
                <a:ext cx="3791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87280" y="3213000"/>
                <a:ext cx="332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4437000"/>
                <a:ext cx="3197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87280" y="5445000"/>
                <a:ext cx="4668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5232240" y="498600"/>
            <a:ext cx="3911760" cy="5771880"/>
            <a:chOff x="5232240" y="498600"/>
            <a:chExt cx="3911760" cy="57718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232240" y="498600"/>
                  <a:ext cx="1752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70760" y="5589720"/>
                  <a:ext cx="29732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⟩</m:t>
                      </m:r>
                      <m:r>
                        <m:t xml:space="preserve">∪</m:t>
                      </m:r>
                      <m:r>
                        <m:t xml:space="preserve">⟨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92720" y="1557360"/>
                  <a:ext cx="1784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92720" y="4365720"/>
                  <a:ext cx="1752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6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tak, aby KČ bylo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yze imaginárn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eál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03480" y="620640"/>
                <a:ext cx="4448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87280" y="2205000"/>
                <a:ext cx="491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87280" y="3645000"/>
                <a:ext cx="3695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58920" y="5157720"/>
                <a:ext cx="435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746760" y="620640"/>
            <a:ext cx="1936800" cy="5837400"/>
            <a:chOff x="6746760" y="620640"/>
            <a:chExt cx="1936800" cy="58374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775560" y="620640"/>
                  <a:ext cx="187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761160" y="220500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46760" y="3789360"/>
                  <a:ext cx="1614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75560" y="537372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234936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7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ro která reálná čísla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, y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platí rovnost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705440" cy="5315040"/>
        </p:xfrm>
        <a:graphic>
          <a:graphicData uri="http://schemas.openxmlformats.org/drawingml/2006/table">
            <a:tbl>
              <a:tblPr/>
              <a:tblGrid>
                <a:gridCol w="2834640"/>
                <a:gridCol w="487080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vičení - algebra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říklady (zadání a výsledky), které jsou vybrány průřezově z celé kapitol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a znázornění komplexního čísla; Reálná a imaginární část komplexního čísla; Číslo opačné a komplexně sdružené ke komplexnímu číslu; Vzdálenost komplexního čísla od počátku; Početní úkony s komplexními čísly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87280" y="692280"/>
                <a:ext cx="375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1916280"/>
                <a:ext cx="448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3213000"/>
                <a:ext cx="4042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4508640"/>
                <a:ext cx="7394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6877080" y="620640"/>
            <a:ext cx="1166760" cy="5692680"/>
            <a:chOff x="6877080" y="620640"/>
            <a:chExt cx="1166760" cy="5692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877080" y="620640"/>
                  <a:ext cx="93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948360" y="1916280"/>
                  <a:ext cx="10954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948360" y="321300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20000" y="5157720"/>
                  <a:ext cx="9079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16000" y="765000"/>
                <a:ext cx="54500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87280" y="2421000"/>
                <a:ext cx="4040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4437000"/>
                <a:ext cx="61722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236000" y="1197000"/>
            <a:ext cx="1282680" cy="4970520"/>
            <a:chOff x="7236000" y="1197000"/>
            <a:chExt cx="1282680" cy="497052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1197000"/>
                  <a:ext cx="969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236000" y="2852640"/>
                  <a:ext cx="128268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308720" y="558972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8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bsolutní hodnotu KČ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87280" y="404640"/>
                <a:ext cx="1816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187280" y="18446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141720"/>
                <a:ext cx="444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365720"/>
                <a:ext cx="419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58920" y="5373720"/>
                <a:ext cx="2851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6372360" y="333360"/>
            <a:ext cx="1627200" cy="5897520"/>
            <a:chOff x="6372360" y="333360"/>
            <a:chExt cx="1627200" cy="5897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372360" y="333360"/>
                  <a:ext cx="1314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372360" y="1844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372360" y="3068640"/>
                  <a:ext cx="15969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372360" y="4221000"/>
                  <a:ext cx="16272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443640" y="5516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9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KČ opačné a komplexně sdruže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87280" y="620640"/>
                <a:ext cx="40071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58920" y="2492280"/>
                <a:ext cx="2944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3600" y="4581360"/>
                <a:ext cx="2695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6084720" y="620640"/>
            <a:ext cx="1971720" cy="5192640"/>
            <a:chOff x="6084720" y="620640"/>
            <a:chExt cx="1971720" cy="519264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084720" y="620640"/>
                  <a:ext cx="1971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084720" y="2637000"/>
                  <a:ext cx="17845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227640" y="4724280"/>
                  <a:ext cx="1503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87280" y="1125360"/>
                <a:ext cx="441828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87280" y="3284640"/>
                <a:ext cx="2600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6084720" y="1197000"/>
            <a:ext cx="2294280" cy="4265640"/>
            <a:chOff x="6084720" y="1197000"/>
            <a:chExt cx="2294280" cy="42656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156360" y="1197000"/>
                  <a:ext cx="2222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84720" y="3284640"/>
                  <a:ext cx="2192400" cy="21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10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byla komplexní jednotka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58920" y="692280"/>
                <a:ext cx="2097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58920" y="2708280"/>
                <a:ext cx="209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332000" y="4508640"/>
                <a:ext cx="2254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5364000" y="907920"/>
            <a:ext cx="3780000" cy="4365720"/>
            <a:chOff x="5364000" y="907920"/>
            <a:chExt cx="3780000" cy="436572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435640" y="907920"/>
                  <a:ext cx="146988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5364000" y="2852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08720" y="4797360"/>
                  <a:ext cx="115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114800"/>
            <a:ext cx="75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lgebraický tvar komplexního čísl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197000"/>
            <a:ext cx="81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Zapište dané KČ v AT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sestrojte jeho obraz v Gaussově rovině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vypočtěte jeho vzdálenost od počátku, určete KČ opačné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KČ komplexně sdružené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987640" y="1312920"/>
            <a:ext cx="5818320" cy="1569960"/>
            <a:chOff x="2987640" y="1312920"/>
            <a:chExt cx="5818320" cy="156996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2040" y="1412640"/>
                  <a:ext cx="1322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535880" y="1312920"/>
                  <a:ext cx="1270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05640" y="1441440"/>
                  <a:ext cx="898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987640" y="2421000"/>
                  <a:ext cx="17463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776920" y="2449440"/>
                  <a:ext cx="1322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350028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987640" y="4581360"/>
            <a:ext cx="5127480" cy="1974960"/>
            <a:chOff x="2987640" y="4581360"/>
            <a:chExt cx="5127480" cy="19749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071520" y="4654440"/>
                  <a:ext cx="169416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897600" y="4581360"/>
                  <a:ext cx="121752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209920" y="4654440"/>
                  <a:ext cx="142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987640" y="5662440"/>
                  <a:ext cx="17190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3760" y="5662440"/>
                  <a:ext cx="1693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04640"/>
                <a:ext cx="51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7280" y="333360"/>
                <a:ext cx="1943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132000" y="1528920"/>
            <a:ext cx="5592960" cy="1282680"/>
            <a:chOff x="3132000" y="1528920"/>
            <a:chExt cx="5592960" cy="128268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254400" y="1628640"/>
                  <a:ext cx="134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610400" y="1528920"/>
                  <a:ext cx="1114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595840" y="1657440"/>
                  <a:ext cx="1111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132000" y="2349360"/>
                  <a:ext cx="140364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37320" y="2378160"/>
                  <a:ext cx="1349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58920" y="3645000"/>
                <a:ext cx="1849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3132000" y="4840200"/>
            <a:ext cx="4929480" cy="1282680"/>
            <a:chOff x="3132000" y="4840200"/>
            <a:chExt cx="4929480" cy="1282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176640" y="4941720"/>
                  <a:ext cx="1482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950160" y="4840200"/>
                  <a:ext cx="1111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73800" y="4970520"/>
                  <a:ext cx="900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132000" y="5661000"/>
                  <a:ext cx="1508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78480" y="5689440"/>
                  <a:ext cx="14828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87280" y="404640"/>
                <a:ext cx="4135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00240" y="1528920"/>
            <a:ext cx="5870880" cy="1282680"/>
            <a:chOff x="3000240" y="1528920"/>
            <a:chExt cx="5870880" cy="128268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122640" y="1628640"/>
                  <a:ext cx="1614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464600" y="1528920"/>
                  <a:ext cx="140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16640" y="1657440"/>
                  <a:ext cx="1270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000240" y="2349360"/>
                  <a:ext cx="166860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5605560" y="2378160"/>
                  <a:ext cx="1612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3716280"/>
                <a:ext cx="41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040200" y="4840200"/>
            <a:ext cx="5180040" cy="1282680"/>
            <a:chOff x="3040200" y="4840200"/>
            <a:chExt cx="5180040" cy="128268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097080" y="4941720"/>
                  <a:ext cx="1641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792840" y="4840200"/>
                  <a:ext cx="1427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9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81640" y="4970520"/>
                  <a:ext cx="1085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40200" y="5661000"/>
                  <a:ext cx="1693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411880" y="5689440"/>
                  <a:ext cx="16160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Zapište KČ v AT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16000" y="1341360"/>
                <a:ext cx="66740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3068640"/>
                <a:ext cx="6799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16000" y="4869000"/>
                <a:ext cx="2819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6000" y="5734080"/>
                <a:ext cx="3602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7164360" y="260280"/>
            <a:ext cx="1812960" cy="6121440"/>
            <a:chOff x="7164360" y="260280"/>
            <a:chExt cx="1812960" cy="61214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164360" y="260280"/>
                  <a:ext cx="17524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451640" y="2492280"/>
                  <a:ext cx="15256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7524720" y="4149720"/>
                  <a:ext cx="820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524720" y="5013360"/>
                  <a:ext cx="622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7667640" y="5950080"/>
                  <a:ext cx="2826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260280"/>
                <a:ext cx="3790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33Z</dcterms:modified>
  <cp:revision>298</cp:revision>
  <dc:subject/>
  <dc:title>KČ</dc:title>
</cp:coreProperties>
</file>