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C7E3-CF63-48B8-A5C8-FF252B2C7A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885C-72FE-408D-B2F7-96AAD0E1058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2A2E-C548-4EB5-967F-07A9EF664BD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CFE1-E827-4E48-A0FE-0D7BBD3C2F6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F1FA-9A74-4D5A-938B-44DE2BBB6B4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878-9E3B-4A40-9A23-757115BF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412-4EDF-4709-B4FE-0E03F71D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A11-800A-4930-8F00-35E411E6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994-9BDA-4DB1-8C2B-E4DC274F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EB3D-84A0-4C77-A2A8-7B30FD93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FEB5-71F5-43C7-9619-07A0DE3F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5199-336B-4DCB-9E92-E6186241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9F83-7152-4EB3-90DF-A34187D4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31FC-A3F4-4771-B9D7-FE538C1A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B6E8-5BD1-4F59-A452-67FF3F7A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4FA0-2D3C-4178-82CF-F1003C78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A1AB-EEFC-452F-9CED-A2A118A9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E363-05E0-4DA1-B8D0-C3773731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0FCC-85EE-441F-A7EF-6107A01E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1110-F55F-44A9-A056-09169EBF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079F-929B-4ED6-8C72-96BA3DD8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0FAE-0BB8-48FC-86E4-79039B2B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A33-2027-4E77-A0DD-6B17A247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743-2B43-4F71-899F-75854CCB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277-514B-42A5-8F1B-DF997D77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012-7B54-47A6-BAB7-8839EA98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476-BCAA-4330-A9E7-F6405E72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8C6-405A-4B8B-8F65-2F3F15C2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857-5A71-4512-8718-0D0EAE03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4E3C-7273-40E6-B774-A3E5F05A4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9850-6AAA-47D0-B6B4-09337BB36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1042920" y="1700280"/>
                <a:ext cx="20383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042920" y="333360"/>
                <a:ext cx="23162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042920" y="3357720"/>
                <a:ext cx="18525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042920" y="4869000"/>
                <a:ext cx="24084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2987640" y="1052640"/>
            <a:ext cx="1500120" cy="5592240"/>
            <a:chOff x="2987640" y="1052640"/>
            <a:chExt cx="1500120" cy="5592240"/>
          </a:xfrm>
        </p:grpSpPr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987640" y="1052640"/>
                  <a:ext cx="97020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2987640" y="2276280"/>
                  <a:ext cx="1470240" cy="11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2987640" y="4005000"/>
                  <a:ext cx="1500120" cy="11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2987640" y="5589360"/>
                  <a:ext cx="106200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932360" y="189000"/>
                <a:ext cx="20383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003640" y="1628640"/>
                <a:ext cx="182268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003640" y="3284640"/>
                <a:ext cx="18226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859280" y="4724280"/>
                <a:ext cx="321300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7451640" y="692280"/>
            <a:ext cx="1692360" cy="6014880"/>
            <a:chOff x="7451640" y="692280"/>
            <a:chExt cx="1692360" cy="6014880"/>
          </a:xfrm>
        </p:grpSpPr>
        <mc:AlternateContent>
          <mc:Choice xmlns:a14="http://schemas.microsoft.com/office/drawing/2010/main" Requires="a14">
            <p:sp>
              <p:nvSpPr>
                <p:cNvPr id="444" name=""/>
                <p:cNvSpPr txBox="1"/>
                <p:nvPr/>
              </p:nvSpPr>
              <p:spPr>
                <a:xfrm>
                  <a:off x="7451640" y="692280"/>
                  <a:ext cx="1501920" cy="11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8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7451640" y="2276640"/>
                  <a:ext cx="140832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"/>
                <p:cNvSpPr txBox="1"/>
                <p:nvPr/>
              </p:nvSpPr>
              <p:spPr>
                <a:xfrm>
                  <a:off x="7451640" y="3429000"/>
                  <a:ext cx="1311480" cy="11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7458120" y="5516640"/>
                  <a:ext cx="1685880" cy="11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, je-li dané KČ komplexní jednotka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1042920" y="1989000"/>
                <a:ext cx="1932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042920" y="3213000"/>
                <a:ext cx="1811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971640" y="4363920"/>
                <a:ext cx="1784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42920" y="1197000"/>
                <a:ext cx="23115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+</m:t>
                    </m:r>
                    <m:r>
                      <m:t xml:space="preserve">0,8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3564000" y="1052640"/>
                <a:ext cx="25448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8388360" y="103356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an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564000" y="1916280"/>
                <a:ext cx="18129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8388360" y="206064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n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572000" y="3068640"/>
                <a:ext cx="2165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3213000"/>
                <a:ext cx="1549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388360" y="328464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an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771640" y="4363920"/>
                <a:ext cx="10512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068720" y="4221000"/>
                <a:ext cx="169560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8388360" y="436572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n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589720"/>
                <a:ext cx="19018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2916360" y="5589720"/>
                <a:ext cx="15764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859280" y="5516640"/>
                <a:ext cx="18129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8388360" y="573264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an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6156360" y="1052640"/>
                <a:ext cx="7603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7020000" y="1125360"/>
                <a:ext cx="4968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364000" y="1916280"/>
                <a:ext cx="1405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732720" y="1916280"/>
                <a:ext cx="10238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740720" y="2205000"/>
                <a:ext cx="496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732720" y="3068640"/>
                <a:ext cx="1052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740720" y="3429000"/>
                <a:ext cx="496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651640" y="4221000"/>
                <a:ext cx="134604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6877080" y="4221000"/>
                <a:ext cx="8762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7740720" y="4508640"/>
                <a:ext cx="4968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6732720" y="5516640"/>
                <a:ext cx="9064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7667640" y="5805360"/>
                <a:ext cx="498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16000" y="2421000"/>
            <a:ext cx="8028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tak, aby dané KČ bylo komplexní jednotkou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187280" y="404640"/>
                <a:ext cx="23814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476360" y="1773360"/>
                <a:ext cx="369720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059280" y="3284640"/>
                <a:ext cx="2066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500720" y="333360"/>
                <a:ext cx="12841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780000" y="4581360"/>
                <a:ext cx="15951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588000" y="1916280"/>
                <a:ext cx="1441440" cy="96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659640" y="3141720"/>
                <a:ext cx="156672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6804000" y="4437000"/>
                <a:ext cx="17240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116000" y="260280"/>
                <a:ext cx="38228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1258920" y="1557360"/>
                <a:ext cx="5202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971640" y="2781360"/>
                <a:ext cx="5511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5651640" y="260280"/>
                <a:ext cx="27255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042920" y="3933720"/>
                <a:ext cx="54482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427640" y="4941720"/>
                <a:ext cx="203508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4427640" y="6093000"/>
                <a:ext cx="2222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7093080" y="1916280"/>
                <a:ext cx="1503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7164360" y="2708280"/>
                <a:ext cx="1409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7164360" y="3789360"/>
                <a:ext cx="12542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7380360" y="4797360"/>
                <a:ext cx="11588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7451640" y="5765760"/>
                <a:ext cx="1316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116000" y="260280"/>
                <a:ext cx="38228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1484280"/>
                <a:ext cx="5202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971640" y="2781360"/>
                <a:ext cx="5511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651640" y="260280"/>
                <a:ext cx="27255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356000" y="3860640"/>
                <a:ext cx="203544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356000" y="5084640"/>
                <a:ext cx="2190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7093080" y="4221000"/>
                <a:ext cx="1566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7308720" y="4941720"/>
                <a:ext cx="15354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5796000" y="5950080"/>
            <a:ext cx="33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116000" y="333360"/>
                <a:ext cx="25066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1476360" y="1700280"/>
                <a:ext cx="40417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3276720" y="3213000"/>
                <a:ext cx="22240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359240" y="333360"/>
                <a:ext cx="15667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3132000" y="4653000"/>
                <a:ext cx="2408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6588000" y="2924280"/>
                <a:ext cx="1441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732720" y="4005360"/>
                <a:ext cx="1628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6877080" y="5229360"/>
                <a:ext cx="19749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7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6229440" y="1989000"/>
                <a:ext cx="1563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484280"/>
          <a:ext cx="7561080" cy="5172120"/>
        </p:xfrm>
        <a:graphic>
          <a:graphicData uri="http://schemas.openxmlformats.org/drawingml/2006/table">
            <a:tbl>
              <a:tblPr/>
              <a:tblGrid>
                <a:gridCol w="3246480"/>
                <a:gridCol w="431460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olutní hodnota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bsolutní hodnot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ního čísl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; Vlastnosti absolutní hodnot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ního čísla; Komplexní jednotka; Vzdálenost komplexního čísla od počátk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63640" y="1052640"/>
            <a:ext cx="73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8280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zdálenost KČ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od počátku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8280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e vyjádřena vždy kladným reálným číslem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156360" y="3645000"/>
                <a:ext cx="25192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156360" y="4941720"/>
                <a:ext cx="282096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Absolutní hodnota KČ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, ozn.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804000" y="189000"/>
                <a:ext cx="5335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871600" y="2849400"/>
            <a:ext cx="294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ythagorova věta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3284640"/>
            <a:ext cx="1728720" cy="273672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03280" y="2349360"/>
            <a:ext cx="3650760" cy="4192560"/>
            <a:chOff x="1403280" y="2349360"/>
            <a:chExt cx="3650760" cy="4192560"/>
          </a:xfrm>
        </p:grpSpPr>
        <p:sp>
          <p:nvSpPr>
            <p:cNvPr id="149" name=""/>
            <p:cNvSpPr/>
            <p:nvPr/>
          </p:nvSpPr>
          <p:spPr>
            <a:xfrm>
              <a:off x="1403280" y="6021360"/>
              <a:ext cx="35985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1833480" y="2565000"/>
              <a:ext cx="1440" cy="3887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6560" y="2349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16360" y="6021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6000" y="594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4" name="Group 63"/>
          <p:cNvGrpSpPr/>
          <p:nvPr/>
        </p:nvGrpSpPr>
        <p:grpSpPr>
          <a:xfrm>
            <a:off x="3492360" y="3213000"/>
            <a:ext cx="144720" cy="142920"/>
            <a:chOff x="3492360" y="3213000"/>
            <a:chExt cx="144720" cy="142920"/>
          </a:xfrm>
        </p:grpSpPr>
        <p:sp>
          <p:nvSpPr>
            <p:cNvPr id="155" name="Line 64"/>
            <p:cNvSpPr/>
            <p:nvPr/>
          </p:nvSpPr>
          <p:spPr>
            <a:xfrm>
              <a:off x="3492360" y="3213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65"/>
            <p:cNvSpPr/>
            <p:nvPr/>
          </p:nvSpPr>
          <p:spPr>
            <a:xfrm flipH="1">
              <a:off x="3492360" y="3213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292200" y="2637000"/>
            <a:ext cx="1310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63640" y="3284640"/>
            <a:ext cx="19080" cy="2833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692000" y="3284640"/>
            <a:ext cx="18716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8080" y="6093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8640" y="2924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0520" y="397980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 rot="16200000">
            <a:off x="2627280" y="529992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635280" y="3284640"/>
            <a:ext cx="144720" cy="2736720"/>
          </a:xfrm>
          <a:custGeom>
            <a:avLst/>
            <a:gdLst>
              <a:gd name="textAreaLeft" fmla="*/ 92520 w 144720"/>
              <a:gd name="textAreaRight" fmla="*/ 145080 w 14472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4520" y="6093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87560" y="4365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35280" y="3284640"/>
            <a:ext cx="1708200" cy="2736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71640" y="2602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Vlastnosti absolutní hodnoty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1052640"/>
            <a:ext cx="8028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Č, která mají stejnou vzdálenost od počátku</a:t>
            </a:r>
            <a:r>
              <a:rPr b="0" lang="cs-CZ" sz="3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nekonečně mnoho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Č, jejichž obrazy leží na kružni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(0;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r>
              <a:rPr b="0" lang="cs-CZ" sz="24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4 leží na souřadných osách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03280" y="5877000"/>
                <a:ext cx="35179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403280" y="5084640"/>
                <a:ext cx="1079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2" name=""/>
          <p:cNvGrpSpPr/>
          <p:nvPr/>
        </p:nvGrpSpPr>
        <p:grpSpPr>
          <a:xfrm>
            <a:off x="4140360" y="1714680"/>
            <a:ext cx="4781520" cy="5142960"/>
            <a:chOff x="4140360" y="1714680"/>
            <a:chExt cx="4781520" cy="5142960"/>
          </a:xfrm>
        </p:grpSpPr>
        <p:sp>
          <p:nvSpPr>
            <p:cNvPr id="173" name=""/>
            <p:cNvSpPr/>
            <p:nvPr/>
          </p:nvSpPr>
          <p:spPr>
            <a:xfrm>
              <a:off x="4140360" y="4797360"/>
              <a:ext cx="47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6576480" y="1885680"/>
              <a:ext cx="11160" cy="49719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05440" y="4797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89440" y="1714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18520" y="4797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716360" y="2997360"/>
            <a:ext cx="3733920" cy="3527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588000" y="3298320"/>
            <a:ext cx="1008360" cy="14986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227280" y="3009960"/>
            <a:ext cx="360360" cy="18590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859280" y="4076640"/>
            <a:ext cx="1728720" cy="72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932000" y="4797360"/>
            <a:ext cx="1655640" cy="792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4797360"/>
            <a:ext cx="1656000" cy="792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5440" y="51703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2720" y="373068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7080" y="329868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5080" y="4235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08360" y="52419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9" name="Group 63"/>
          <p:cNvGrpSpPr/>
          <p:nvPr/>
        </p:nvGrpSpPr>
        <p:grpSpPr>
          <a:xfrm>
            <a:off x="4787640" y="4005360"/>
            <a:ext cx="144720" cy="142920"/>
            <a:chOff x="4787640" y="4005360"/>
            <a:chExt cx="144720" cy="142920"/>
          </a:xfrm>
        </p:grpSpPr>
        <p:sp>
          <p:nvSpPr>
            <p:cNvPr id="190" name="Line 64"/>
            <p:cNvSpPr/>
            <p:nvPr/>
          </p:nvSpPr>
          <p:spPr>
            <a:xfrm>
              <a:off x="4788000" y="400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Line 65"/>
            <p:cNvSpPr/>
            <p:nvPr/>
          </p:nvSpPr>
          <p:spPr>
            <a:xfrm flipH="1">
              <a:off x="4787640" y="400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2" name="Group 63"/>
          <p:cNvGrpSpPr/>
          <p:nvPr/>
        </p:nvGrpSpPr>
        <p:grpSpPr>
          <a:xfrm>
            <a:off x="6156000" y="2938320"/>
            <a:ext cx="144720" cy="142920"/>
            <a:chOff x="6156000" y="2938320"/>
            <a:chExt cx="144720" cy="142920"/>
          </a:xfrm>
        </p:grpSpPr>
        <p:sp>
          <p:nvSpPr>
            <p:cNvPr id="193" name="Line 64"/>
            <p:cNvSpPr/>
            <p:nvPr/>
          </p:nvSpPr>
          <p:spPr>
            <a:xfrm>
              <a:off x="6156360" y="29383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65"/>
            <p:cNvSpPr/>
            <p:nvPr/>
          </p:nvSpPr>
          <p:spPr>
            <a:xfrm flipH="1">
              <a:off x="6156000" y="29383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5" name="Group 63"/>
          <p:cNvGrpSpPr/>
          <p:nvPr/>
        </p:nvGrpSpPr>
        <p:grpSpPr>
          <a:xfrm>
            <a:off x="4858920" y="5516640"/>
            <a:ext cx="144720" cy="142920"/>
            <a:chOff x="4858920" y="5516640"/>
            <a:chExt cx="144720" cy="142920"/>
          </a:xfrm>
        </p:grpSpPr>
        <p:sp>
          <p:nvSpPr>
            <p:cNvPr id="196" name="Line 64"/>
            <p:cNvSpPr/>
            <p:nvPr/>
          </p:nvSpPr>
          <p:spPr>
            <a:xfrm>
              <a:off x="4859280" y="5516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65"/>
            <p:cNvSpPr/>
            <p:nvPr/>
          </p:nvSpPr>
          <p:spPr>
            <a:xfrm flipH="1">
              <a:off x="4858920" y="5516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8" name="Group 63"/>
          <p:cNvGrpSpPr/>
          <p:nvPr/>
        </p:nvGrpSpPr>
        <p:grpSpPr>
          <a:xfrm>
            <a:off x="7524360" y="3227400"/>
            <a:ext cx="144720" cy="142920"/>
            <a:chOff x="7524360" y="3227400"/>
            <a:chExt cx="144720" cy="142920"/>
          </a:xfrm>
        </p:grpSpPr>
        <p:sp>
          <p:nvSpPr>
            <p:cNvPr id="199" name="Line 64"/>
            <p:cNvSpPr/>
            <p:nvPr/>
          </p:nvSpPr>
          <p:spPr>
            <a:xfrm>
              <a:off x="7524720" y="32274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65"/>
            <p:cNvSpPr/>
            <p:nvPr/>
          </p:nvSpPr>
          <p:spPr>
            <a:xfrm flipH="1">
              <a:off x="7524360" y="32274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63"/>
          <p:cNvGrpSpPr/>
          <p:nvPr/>
        </p:nvGrpSpPr>
        <p:grpSpPr>
          <a:xfrm>
            <a:off x="8172360" y="5516640"/>
            <a:ext cx="144720" cy="142920"/>
            <a:chOff x="8172360" y="5516640"/>
            <a:chExt cx="144720" cy="142920"/>
          </a:xfrm>
        </p:grpSpPr>
        <p:sp>
          <p:nvSpPr>
            <p:cNvPr id="202" name="Line 64"/>
            <p:cNvSpPr/>
            <p:nvPr/>
          </p:nvSpPr>
          <p:spPr>
            <a:xfrm>
              <a:off x="8172360" y="55166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65"/>
            <p:cNvSpPr/>
            <p:nvPr/>
          </p:nvSpPr>
          <p:spPr>
            <a:xfrm flipH="1">
              <a:off x="8172360" y="55166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V="1">
            <a:off x="6588000" y="3284640"/>
            <a:ext cx="1008360" cy="1512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6160" y="37306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272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163000" y="55576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63"/>
          <p:cNvGrpSpPr/>
          <p:nvPr/>
        </p:nvGrpSpPr>
        <p:grpSpPr>
          <a:xfrm>
            <a:off x="8386560" y="4765680"/>
            <a:ext cx="144720" cy="142920"/>
            <a:chOff x="8386560" y="4765680"/>
            <a:chExt cx="144720" cy="142920"/>
          </a:xfrm>
        </p:grpSpPr>
        <p:sp>
          <p:nvSpPr>
            <p:cNvPr id="209" name="Line 64"/>
            <p:cNvSpPr/>
            <p:nvPr/>
          </p:nvSpPr>
          <p:spPr>
            <a:xfrm>
              <a:off x="8386920" y="47656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65"/>
            <p:cNvSpPr/>
            <p:nvPr/>
          </p:nvSpPr>
          <p:spPr>
            <a:xfrm flipH="1">
              <a:off x="8386560" y="47656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1" name="Group 63"/>
          <p:cNvGrpSpPr/>
          <p:nvPr/>
        </p:nvGrpSpPr>
        <p:grpSpPr>
          <a:xfrm>
            <a:off x="6516360" y="2924280"/>
            <a:ext cx="144720" cy="142920"/>
            <a:chOff x="6516360" y="2924280"/>
            <a:chExt cx="144720" cy="142920"/>
          </a:xfrm>
        </p:grpSpPr>
        <p:sp>
          <p:nvSpPr>
            <p:cNvPr id="212" name="Line 64"/>
            <p:cNvSpPr/>
            <p:nvPr/>
          </p:nvSpPr>
          <p:spPr>
            <a:xfrm>
              <a:off x="6516720" y="29242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Line 65"/>
            <p:cNvSpPr/>
            <p:nvPr/>
          </p:nvSpPr>
          <p:spPr>
            <a:xfrm flipH="1">
              <a:off x="6516360" y="29242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4" name="Group 63"/>
          <p:cNvGrpSpPr/>
          <p:nvPr/>
        </p:nvGrpSpPr>
        <p:grpSpPr>
          <a:xfrm>
            <a:off x="4643280" y="4724280"/>
            <a:ext cx="144720" cy="142920"/>
            <a:chOff x="4643280" y="4724280"/>
            <a:chExt cx="144720" cy="142920"/>
          </a:xfrm>
        </p:grpSpPr>
        <p:sp>
          <p:nvSpPr>
            <p:cNvPr id="215" name="Line 64"/>
            <p:cNvSpPr/>
            <p:nvPr/>
          </p:nvSpPr>
          <p:spPr>
            <a:xfrm>
              <a:off x="4643280" y="4724280"/>
              <a:ext cx="14472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Line 65"/>
            <p:cNvSpPr/>
            <p:nvPr/>
          </p:nvSpPr>
          <p:spPr>
            <a:xfrm flipH="1">
              <a:off x="4643280" y="4724280"/>
              <a:ext cx="14472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7" name="Group 63"/>
          <p:cNvGrpSpPr/>
          <p:nvPr/>
        </p:nvGrpSpPr>
        <p:grpSpPr>
          <a:xfrm>
            <a:off x="6516360" y="6453360"/>
            <a:ext cx="144720" cy="142560"/>
            <a:chOff x="6516360" y="6453360"/>
            <a:chExt cx="144720" cy="142560"/>
          </a:xfrm>
        </p:grpSpPr>
        <p:sp>
          <p:nvSpPr>
            <p:cNvPr id="218" name="Line 64"/>
            <p:cNvSpPr/>
            <p:nvPr/>
          </p:nvSpPr>
          <p:spPr>
            <a:xfrm>
              <a:off x="6516720" y="6453360"/>
              <a:ext cx="144360" cy="14256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65"/>
            <p:cNvSpPr/>
            <p:nvPr/>
          </p:nvSpPr>
          <p:spPr>
            <a:xfrm flipH="1">
              <a:off x="6516360" y="6453360"/>
              <a:ext cx="144360" cy="14256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16000" y="4437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 proto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580000" y="3357720"/>
            <a:ext cx="1944720" cy="2879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49080" y="62784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3" name="Group 63"/>
          <p:cNvGrpSpPr/>
          <p:nvPr/>
        </p:nvGrpSpPr>
        <p:grpSpPr>
          <a:xfrm>
            <a:off x="6516360" y="4724280"/>
            <a:ext cx="144720" cy="142920"/>
            <a:chOff x="6516360" y="4724280"/>
            <a:chExt cx="144720" cy="142920"/>
          </a:xfrm>
        </p:grpSpPr>
        <p:sp>
          <p:nvSpPr>
            <p:cNvPr id="224" name="Line 64"/>
            <p:cNvSpPr/>
            <p:nvPr/>
          </p:nvSpPr>
          <p:spPr>
            <a:xfrm>
              <a:off x="6516720" y="472428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65"/>
            <p:cNvSpPr/>
            <p:nvPr/>
          </p:nvSpPr>
          <p:spPr>
            <a:xfrm flipH="1">
              <a:off x="6516360" y="472428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596360" y="3284640"/>
            <a:ext cx="0" cy="29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7" name="Group 63"/>
          <p:cNvGrpSpPr/>
          <p:nvPr/>
        </p:nvGrpSpPr>
        <p:grpSpPr>
          <a:xfrm>
            <a:off x="7524360" y="6165720"/>
            <a:ext cx="144720" cy="142920"/>
            <a:chOff x="7524360" y="6165720"/>
            <a:chExt cx="144720" cy="142920"/>
          </a:xfrm>
        </p:grpSpPr>
        <p:sp>
          <p:nvSpPr>
            <p:cNvPr id="228" name="Line 64"/>
            <p:cNvSpPr/>
            <p:nvPr/>
          </p:nvSpPr>
          <p:spPr>
            <a:xfrm>
              <a:off x="752472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65"/>
            <p:cNvSpPr/>
            <p:nvPr/>
          </p:nvSpPr>
          <p:spPr>
            <a:xfrm flipH="1">
              <a:off x="752436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38144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51640" y="6453360"/>
            <a:ext cx="28908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20360" y="27082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3284640"/>
            <a:ext cx="0" cy="29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4" name="Group 63"/>
          <p:cNvGrpSpPr/>
          <p:nvPr/>
        </p:nvGrpSpPr>
        <p:grpSpPr>
          <a:xfrm>
            <a:off x="5508360" y="3213000"/>
            <a:ext cx="144720" cy="142920"/>
            <a:chOff x="5508360" y="3213000"/>
            <a:chExt cx="144720" cy="142920"/>
          </a:xfrm>
        </p:grpSpPr>
        <p:sp>
          <p:nvSpPr>
            <p:cNvPr id="235" name="Line 64"/>
            <p:cNvSpPr/>
            <p:nvPr/>
          </p:nvSpPr>
          <p:spPr>
            <a:xfrm>
              <a:off x="5508720" y="32130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Line 65"/>
            <p:cNvSpPr/>
            <p:nvPr/>
          </p:nvSpPr>
          <p:spPr>
            <a:xfrm flipH="1">
              <a:off x="5508360" y="32130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508720" y="2852640"/>
            <a:ext cx="28728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16720" y="4797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9" name="Group 63"/>
          <p:cNvGrpSpPr/>
          <p:nvPr/>
        </p:nvGrpSpPr>
        <p:grpSpPr>
          <a:xfrm>
            <a:off x="5508360" y="6165720"/>
            <a:ext cx="144720" cy="142920"/>
            <a:chOff x="5508360" y="6165720"/>
            <a:chExt cx="144720" cy="142920"/>
          </a:xfrm>
        </p:grpSpPr>
        <p:sp>
          <p:nvSpPr>
            <p:cNvPr id="240" name="Line 64"/>
            <p:cNvSpPr/>
            <p:nvPr/>
          </p:nvSpPr>
          <p:spPr>
            <a:xfrm>
              <a:off x="550872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Line 65"/>
            <p:cNvSpPr/>
            <p:nvPr/>
          </p:nvSpPr>
          <p:spPr>
            <a:xfrm flipH="1">
              <a:off x="550836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2" name="Group 63"/>
          <p:cNvGrpSpPr/>
          <p:nvPr/>
        </p:nvGrpSpPr>
        <p:grpSpPr>
          <a:xfrm>
            <a:off x="7524360" y="3227400"/>
            <a:ext cx="144720" cy="142920"/>
            <a:chOff x="7524360" y="3227400"/>
            <a:chExt cx="144720" cy="142920"/>
          </a:xfrm>
        </p:grpSpPr>
        <p:sp>
          <p:nvSpPr>
            <p:cNvPr id="243" name="Line 64"/>
            <p:cNvSpPr/>
            <p:nvPr/>
          </p:nvSpPr>
          <p:spPr>
            <a:xfrm>
              <a:off x="7524720" y="32274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65"/>
            <p:cNvSpPr/>
            <p:nvPr/>
          </p:nvSpPr>
          <p:spPr>
            <a:xfrm flipH="1">
              <a:off x="7524360" y="32274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87280" y="1125360"/>
            <a:ext cx="7956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, jehož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vzdálenos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od počátku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je jedn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jednotka (cm, mm, ....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Č, jejichž obrazy leží na kružnici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k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;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3650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 z nich leží na souřadných osách: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33336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Komplexní jednotk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219640" y="1844640"/>
                <a:ext cx="1147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2987640" y="3429000"/>
            <a:ext cx="3918240" cy="3284280"/>
            <a:chOff x="2987640" y="3429000"/>
            <a:chExt cx="3918240" cy="3284280"/>
          </a:xfrm>
        </p:grpSpPr>
        <p:sp>
          <p:nvSpPr>
            <p:cNvPr id="249" name=""/>
            <p:cNvSpPr/>
            <p:nvPr/>
          </p:nvSpPr>
          <p:spPr>
            <a:xfrm>
              <a:off x="2987640" y="5300640"/>
              <a:ext cx="3816360" cy="1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788000" y="3571560"/>
              <a:ext cx="0" cy="3141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8944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88000" y="3429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16360" y="5229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562200" y="4149720"/>
            <a:ext cx="2449800" cy="2232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5" name="Group 63"/>
          <p:cNvGrpSpPr/>
          <p:nvPr/>
        </p:nvGrpSpPr>
        <p:grpSpPr>
          <a:xfrm>
            <a:off x="5938560" y="5229360"/>
            <a:ext cx="144720" cy="142920"/>
            <a:chOff x="5938560" y="5229360"/>
            <a:chExt cx="144720" cy="142920"/>
          </a:xfrm>
        </p:grpSpPr>
        <p:sp>
          <p:nvSpPr>
            <p:cNvPr id="256" name="Line 64"/>
            <p:cNvSpPr/>
            <p:nvPr/>
          </p:nvSpPr>
          <p:spPr>
            <a:xfrm>
              <a:off x="593892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Line 65"/>
            <p:cNvSpPr/>
            <p:nvPr/>
          </p:nvSpPr>
          <p:spPr>
            <a:xfrm flipH="1">
              <a:off x="59385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725800" y="5805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9" name="Group 63"/>
          <p:cNvGrpSpPr/>
          <p:nvPr/>
        </p:nvGrpSpPr>
        <p:grpSpPr>
          <a:xfrm>
            <a:off x="4714560" y="4078440"/>
            <a:ext cx="144720" cy="142560"/>
            <a:chOff x="4714560" y="4078440"/>
            <a:chExt cx="144720" cy="142560"/>
          </a:xfrm>
        </p:grpSpPr>
        <p:sp>
          <p:nvSpPr>
            <p:cNvPr id="260" name="Line 64"/>
            <p:cNvSpPr/>
            <p:nvPr/>
          </p:nvSpPr>
          <p:spPr>
            <a:xfrm>
              <a:off x="4714920" y="40784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1" name="Line 65"/>
            <p:cNvSpPr/>
            <p:nvPr/>
          </p:nvSpPr>
          <p:spPr>
            <a:xfrm flipH="1">
              <a:off x="4714560" y="40784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2" name="Group 63"/>
          <p:cNvGrpSpPr/>
          <p:nvPr/>
        </p:nvGrpSpPr>
        <p:grpSpPr>
          <a:xfrm>
            <a:off x="4714560" y="6310440"/>
            <a:ext cx="144720" cy="142920"/>
            <a:chOff x="4714560" y="6310440"/>
            <a:chExt cx="144720" cy="142920"/>
          </a:xfrm>
        </p:grpSpPr>
        <p:sp>
          <p:nvSpPr>
            <p:cNvPr id="263" name="Line 64"/>
            <p:cNvSpPr/>
            <p:nvPr/>
          </p:nvSpPr>
          <p:spPr>
            <a:xfrm>
              <a:off x="4714920" y="6310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Line 65"/>
            <p:cNvSpPr/>
            <p:nvPr/>
          </p:nvSpPr>
          <p:spPr>
            <a:xfrm flipH="1">
              <a:off x="4714560" y="6310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5" name="Group 63"/>
          <p:cNvGrpSpPr/>
          <p:nvPr/>
        </p:nvGrpSpPr>
        <p:grpSpPr>
          <a:xfrm>
            <a:off x="3490560" y="5229360"/>
            <a:ext cx="144720" cy="142920"/>
            <a:chOff x="3490560" y="5229360"/>
            <a:chExt cx="144720" cy="142920"/>
          </a:xfrm>
        </p:grpSpPr>
        <p:sp>
          <p:nvSpPr>
            <p:cNvPr id="266" name="Line 64"/>
            <p:cNvSpPr/>
            <p:nvPr/>
          </p:nvSpPr>
          <p:spPr>
            <a:xfrm>
              <a:off x="349092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65"/>
            <p:cNvSpPr/>
            <p:nvPr/>
          </p:nvSpPr>
          <p:spPr>
            <a:xfrm flipH="1">
              <a:off x="34905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988360" y="522936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34160" y="3716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84200" y="6134040"/>
            <a:ext cx="4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1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05440" y="457992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788000" y="4292640"/>
            <a:ext cx="576000" cy="1009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bsolutní hodnotu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určete vzdálenost KČ od počátku)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16000" y="1197000"/>
            <a:ext cx="266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 +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5 –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7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87640" y="1268280"/>
            <a:ext cx="2303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500720" y="1413000"/>
                <a:ext cx="19080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3059280" y="2060640"/>
            <a:ext cx="230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500720" y="2133720"/>
                <a:ext cx="2257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059280" y="2852640"/>
            <a:ext cx="230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–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500720" y="2924280"/>
                <a:ext cx="27414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059280" y="4149720"/>
            <a:ext cx="230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–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500720" y="4221000"/>
                <a:ext cx="23367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3059280" y="4869000"/>
            <a:ext cx="230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500720" y="5013360"/>
                <a:ext cx="1881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3059280" y="5661000"/>
            <a:ext cx="230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–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572000" y="5805360"/>
                <a:ext cx="2319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7667640" y="1413000"/>
                <a:ext cx="91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8634240" y="1484280"/>
                <a:ext cx="5097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300720" y="1413000"/>
                <a:ext cx="1343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732720" y="2205000"/>
                <a:ext cx="1154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885080" y="2205000"/>
                <a:ext cx="88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236000" y="2924280"/>
                <a:ext cx="1558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308720" y="3429000"/>
                <a:ext cx="91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8229600" y="342900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804000" y="4221000"/>
                <a:ext cx="11826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028000" y="4221000"/>
                <a:ext cx="752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443640" y="5013360"/>
                <a:ext cx="939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7451640" y="5084640"/>
                <a:ext cx="511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877080" y="5877000"/>
                <a:ext cx="752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740720" y="5950080"/>
                <a:ext cx="5094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042920" y="4941720"/>
            <a:ext cx="7489800" cy="165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4140360" y="1486080"/>
            <a:ext cx="4781520" cy="4424040"/>
            <a:chOff x="4140360" y="1486080"/>
            <a:chExt cx="4781520" cy="4424040"/>
          </a:xfrm>
        </p:grpSpPr>
        <p:sp>
          <p:nvSpPr>
            <p:cNvPr id="304" name=""/>
            <p:cNvSpPr/>
            <p:nvPr/>
          </p:nvSpPr>
          <p:spPr>
            <a:xfrm>
              <a:off x="4140360" y="3849840"/>
              <a:ext cx="47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588360" y="1630440"/>
              <a:ext cx="0" cy="42796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05440" y="38498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8944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18520" y="384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09" name="Group 63"/>
            <p:cNvGrpSpPr/>
            <p:nvPr/>
          </p:nvGrpSpPr>
          <p:grpSpPr>
            <a:xfrm>
              <a:off x="8561160" y="5649840"/>
              <a:ext cx="144720" cy="142920"/>
              <a:chOff x="8561160" y="5649840"/>
              <a:chExt cx="144720" cy="142920"/>
            </a:xfrm>
          </p:grpSpPr>
          <p:sp>
            <p:nvSpPr>
              <p:cNvPr id="310" name="Line 64"/>
              <p:cNvSpPr/>
              <p:nvPr/>
            </p:nvSpPr>
            <p:spPr>
              <a:xfrm>
                <a:off x="8561520" y="564984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1" name="Line 65"/>
              <p:cNvSpPr/>
              <p:nvPr/>
            </p:nvSpPr>
            <p:spPr>
              <a:xfrm flipH="1">
                <a:off x="8561160" y="564984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1116000" y="260280"/>
            <a:ext cx="802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                             je-li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8 – 6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635280" y="260280"/>
                <a:ext cx="2702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;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4716360" y="2120760"/>
            <a:ext cx="3733920" cy="34689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5" name="Group 63"/>
          <p:cNvGrpSpPr/>
          <p:nvPr/>
        </p:nvGrpSpPr>
        <p:grpSpPr>
          <a:xfrm>
            <a:off x="8027640" y="2781360"/>
            <a:ext cx="144720" cy="142920"/>
            <a:chOff x="8027640" y="2781360"/>
            <a:chExt cx="144720" cy="142920"/>
          </a:xfrm>
        </p:grpSpPr>
        <p:sp>
          <p:nvSpPr>
            <p:cNvPr id="316" name="Line 64"/>
            <p:cNvSpPr/>
            <p:nvPr/>
          </p:nvSpPr>
          <p:spPr>
            <a:xfrm>
              <a:off x="8028000" y="2781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65"/>
            <p:cNvSpPr/>
            <p:nvPr/>
          </p:nvSpPr>
          <p:spPr>
            <a:xfrm flipH="1">
              <a:off x="8027640" y="2781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63280" y="3286080"/>
            <a:ext cx="13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1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86160" y="4870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587640" y="4870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44000" y="2205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101080" y="3862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3" name="Group 63"/>
          <p:cNvGrpSpPr/>
          <p:nvPr/>
        </p:nvGrpSpPr>
        <p:grpSpPr>
          <a:xfrm>
            <a:off x="8027640" y="4797360"/>
            <a:ext cx="144720" cy="142920"/>
            <a:chOff x="8027640" y="4797360"/>
            <a:chExt cx="144720" cy="142920"/>
          </a:xfrm>
        </p:grpSpPr>
        <p:sp>
          <p:nvSpPr>
            <p:cNvPr id="324" name="Line 64"/>
            <p:cNvSpPr/>
            <p:nvPr/>
          </p:nvSpPr>
          <p:spPr>
            <a:xfrm>
              <a:off x="8028000" y="4797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5" name="Line 65"/>
            <p:cNvSpPr/>
            <p:nvPr/>
          </p:nvSpPr>
          <p:spPr>
            <a:xfrm flipH="1">
              <a:off x="8027640" y="4797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795780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28000" y="2379600"/>
            <a:ext cx="2890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720" y="487044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6720" y="2854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61080" y="5014800"/>
            <a:ext cx="2872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1" name="Group 63"/>
          <p:cNvGrpSpPr/>
          <p:nvPr/>
        </p:nvGrpSpPr>
        <p:grpSpPr>
          <a:xfrm>
            <a:off x="5003640" y="4797360"/>
            <a:ext cx="144720" cy="142920"/>
            <a:chOff x="5003640" y="4797360"/>
            <a:chExt cx="144720" cy="142920"/>
          </a:xfrm>
        </p:grpSpPr>
        <p:sp>
          <p:nvSpPr>
            <p:cNvPr id="332" name="Line 64"/>
            <p:cNvSpPr/>
            <p:nvPr/>
          </p:nvSpPr>
          <p:spPr>
            <a:xfrm>
              <a:off x="5003640" y="4797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Line 65"/>
            <p:cNvSpPr/>
            <p:nvPr/>
          </p:nvSpPr>
          <p:spPr>
            <a:xfrm flipH="1">
              <a:off x="5003640" y="4797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4" name="Group 63"/>
          <p:cNvGrpSpPr/>
          <p:nvPr/>
        </p:nvGrpSpPr>
        <p:grpSpPr>
          <a:xfrm>
            <a:off x="5003640" y="2781360"/>
            <a:ext cx="144720" cy="142920"/>
            <a:chOff x="5003640" y="2781360"/>
            <a:chExt cx="144720" cy="142920"/>
          </a:xfrm>
        </p:grpSpPr>
        <p:sp>
          <p:nvSpPr>
            <p:cNvPr id="335" name="Line 64"/>
            <p:cNvSpPr/>
            <p:nvPr/>
          </p:nvSpPr>
          <p:spPr>
            <a:xfrm>
              <a:off x="5003640" y="2781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65"/>
            <p:cNvSpPr/>
            <p:nvPr/>
          </p:nvSpPr>
          <p:spPr>
            <a:xfrm flipH="1">
              <a:off x="5003640" y="2781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 flipV="1">
            <a:off x="6588000" y="2854440"/>
            <a:ext cx="1513080" cy="1008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187280" y="1125360"/>
                <a:ext cx="22910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492360" y="1125360"/>
                <a:ext cx="1276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788000" y="1197000"/>
                <a:ext cx="785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332000" y="5805360"/>
                <a:ext cx="406080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8101080" y="378936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76720" y="378936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29800" y="3862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8980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516360" y="4870440"/>
            <a:ext cx="144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516360" y="2854440"/>
            <a:ext cx="144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34160" y="3862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18520" y="4726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5076360" y="2854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101080" y="2854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587640" y="2854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76720" y="3862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76360" y="4870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99680" y="2131920"/>
            <a:ext cx="17488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8 –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82600" y="2852640"/>
            <a:ext cx="2183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8 +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24880" y="3500280"/>
            <a:ext cx="1774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8 +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96960" y="3697200"/>
            <a:ext cx="2872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67200" y="4076640"/>
            <a:ext cx="2157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8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96960" y="4273560"/>
            <a:ext cx="2872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98680" y="2687760"/>
            <a:ext cx="172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71640" y="26028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229400" indent="-1229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Určete KČ, která leží na souřadných osách a jejichž vzdálenost od počátku je 5j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6732720" y="5281560"/>
                <a:ext cx="16635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±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±</m:t>
                            </m:r>
                            <m:r>
                              <m:t xml:space="preserve">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64" name=""/>
          <p:cNvGrpSpPr/>
          <p:nvPr/>
        </p:nvGrpSpPr>
        <p:grpSpPr>
          <a:xfrm>
            <a:off x="1620720" y="1773360"/>
            <a:ext cx="4781520" cy="4424040"/>
            <a:chOff x="1620720" y="1773360"/>
            <a:chExt cx="4781520" cy="4424040"/>
          </a:xfrm>
        </p:grpSpPr>
        <p:sp>
          <p:nvSpPr>
            <p:cNvPr id="365" name=""/>
            <p:cNvSpPr/>
            <p:nvPr/>
          </p:nvSpPr>
          <p:spPr>
            <a:xfrm>
              <a:off x="1620720" y="4137120"/>
              <a:ext cx="47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068720" y="1917720"/>
              <a:ext cx="0" cy="42796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85800" y="4137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69800" y="177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98880" y="4137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70" name="Group 63"/>
            <p:cNvGrpSpPr/>
            <p:nvPr/>
          </p:nvGrpSpPr>
          <p:grpSpPr>
            <a:xfrm>
              <a:off x="6041520" y="5937120"/>
              <a:ext cx="144720" cy="142920"/>
              <a:chOff x="6041520" y="5937120"/>
              <a:chExt cx="144720" cy="142920"/>
            </a:xfrm>
          </p:grpSpPr>
          <p:sp>
            <p:nvSpPr>
              <p:cNvPr id="371" name="Line 64"/>
              <p:cNvSpPr/>
              <p:nvPr/>
            </p:nvSpPr>
            <p:spPr>
              <a:xfrm>
                <a:off x="6041880" y="593712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72" name="Line 65"/>
              <p:cNvSpPr/>
              <p:nvPr/>
            </p:nvSpPr>
            <p:spPr>
              <a:xfrm flipH="1">
                <a:off x="6041520" y="593712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"/>
          <p:cNvSpPr/>
          <p:nvPr/>
        </p:nvSpPr>
        <p:spPr>
          <a:xfrm>
            <a:off x="2197080" y="2408400"/>
            <a:ext cx="3733920" cy="346860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4" name="Group 63"/>
          <p:cNvGrpSpPr/>
          <p:nvPr/>
        </p:nvGrpSpPr>
        <p:grpSpPr>
          <a:xfrm>
            <a:off x="3995640" y="2349360"/>
            <a:ext cx="144720" cy="142920"/>
            <a:chOff x="3995640" y="2349360"/>
            <a:chExt cx="144720" cy="142920"/>
          </a:xfrm>
        </p:grpSpPr>
        <p:sp>
          <p:nvSpPr>
            <p:cNvPr id="375" name="Line 64"/>
            <p:cNvSpPr/>
            <p:nvPr/>
          </p:nvSpPr>
          <p:spPr>
            <a:xfrm>
              <a:off x="3995640" y="2349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Line 65"/>
            <p:cNvSpPr/>
            <p:nvPr/>
          </p:nvSpPr>
          <p:spPr>
            <a:xfrm flipH="1">
              <a:off x="3995640" y="2349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915640" y="2997360"/>
            <a:ext cx="11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25440" y="4149720"/>
            <a:ext cx="3848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9" name="Group 63"/>
          <p:cNvGrpSpPr/>
          <p:nvPr/>
        </p:nvGrpSpPr>
        <p:grpSpPr>
          <a:xfrm>
            <a:off x="5867280" y="4076640"/>
            <a:ext cx="144720" cy="142920"/>
            <a:chOff x="5867280" y="4076640"/>
            <a:chExt cx="144720" cy="142920"/>
          </a:xfrm>
        </p:grpSpPr>
        <p:sp>
          <p:nvSpPr>
            <p:cNvPr id="380" name="Line 64"/>
            <p:cNvSpPr/>
            <p:nvPr/>
          </p:nvSpPr>
          <p:spPr>
            <a:xfrm>
              <a:off x="5867280" y="407664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Line 65"/>
            <p:cNvSpPr/>
            <p:nvPr/>
          </p:nvSpPr>
          <p:spPr>
            <a:xfrm flipH="1">
              <a:off x="5867280" y="407664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212720" y="2133720"/>
            <a:ext cx="49752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627280" y="3068280"/>
            <a:ext cx="1441440" cy="10810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08720" y="4149720"/>
            <a:ext cx="58896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5" name="Group 63"/>
          <p:cNvGrpSpPr/>
          <p:nvPr/>
        </p:nvGrpSpPr>
        <p:grpSpPr>
          <a:xfrm>
            <a:off x="2123640" y="4076640"/>
            <a:ext cx="144720" cy="142920"/>
            <a:chOff x="2123640" y="4076640"/>
            <a:chExt cx="144720" cy="142920"/>
          </a:xfrm>
        </p:grpSpPr>
        <p:sp>
          <p:nvSpPr>
            <p:cNvPr id="386" name="Line 64"/>
            <p:cNvSpPr/>
            <p:nvPr/>
          </p:nvSpPr>
          <p:spPr>
            <a:xfrm>
              <a:off x="2124000" y="407664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Line 65"/>
            <p:cNvSpPr/>
            <p:nvPr/>
          </p:nvSpPr>
          <p:spPr>
            <a:xfrm flipH="1">
              <a:off x="2123640" y="407664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4141080" y="5516640"/>
            <a:ext cx="7016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9" name="Group 63"/>
          <p:cNvGrpSpPr/>
          <p:nvPr/>
        </p:nvGrpSpPr>
        <p:grpSpPr>
          <a:xfrm>
            <a:off x="3995640" y="5805360"/>
            <a:ext cx="144720" cy="142920"/>
            <a:chOff x="3995640" y="5805360"/>
            <a:chExt cx="144720" cy="142920"/>
          </a:xfrm>
        </p:grpSpPr>
        <p:sp>
          <p:nvSpPr>
            <p:cNvPr id="390" name="Line 64"/>
            <p:cNvSpPr/>
            <p:nvPr/>
          </p:nvSpPr>
          <p:spPr>
            <a:xfrm>
              <a:off x="3995640" y="5805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65"/>
            <p:cNvSpPr/>
            <p:nvPr/>
          </p:nvSpPr>
          <p:spPr>
            <a:xfrm flipH="1">
              <a:off x="3995640" y="5805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bsolutní hodnotu KČ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116000" y="907920"/>
                <a:ext cx="6008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332000" y="2637000"/>
                <a:ext cx="20905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692360" y="1628640"/>
                <a:ext cx="50641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042920" y="3860640"/>
                <a:ext cx="56754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403280" y="5734080"/>
                <a:ext cx="19382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692360" y="4653000"/>
                <a:ext cx="4033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6877080" y="1700280"/>
                <a:ext cx="1212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2556000" y="981000"/>
            <a:ext cx="1584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56000" y="1628640"/>
            <a:ext cx="15112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40360" y="981000"/>
            <a:ext cx="143964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067280" y="1628640"/>
            <a:ext cx="1728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981000"/>
            <a:ext cx="792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96000" y="1628640"/>
            <a:ext cx="504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372360" y="981000"/>
            <a:ext cx="79200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00720" y="1628640"/>
            <a:ext cx="5032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56000" y="1628640"/>
            <a:ext cx="792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01440" y="2060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5218920" y="1628640"/>
            <a:ext cx="576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21440" y="206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421080" y="2637000"/>
                <a:ext cx="10303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500720" y="2637000"/>
                <a:ext cx="10602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6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3782880" y="3070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6.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724360" y="4724280"/>
                <a:ext cx="2578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2195640" y="3932280"/>
            <a:ext cx="1512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95640" y="4653000"/>
            <a:ext cx="122400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67280" y="3932280"/>
            <a:ext cx="18730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80000" y="4653000"/>
            <a:ext cx="936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56360" y="3860640"/>
            <a:ext cx="5032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48360" y="4653000"/>
            <a:ext cx="504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626560" y="4653000"/>
            <a:ext cx="7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01440" y="5084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067280" y="4653000"/>
            <a:ext cx="576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68360" y="5084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7524720" y="5229360"/>
                <a:ext cx="14256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348000" y="5734080"/>
                <a:ext cx="1060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427640" y="5734080"/>
                <a:ext cx="11811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3709800" y="6165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.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2:14Z</dcterms:modified>
  <cp:revision>296</cp:revision>
  <dc:subject/>
  <dc:title>KČ</dc:title>
</cp:coreProperties>
</file>