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02B9-45E9-4724-A14F-E4E8B06282B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FCC4-3D47-41FD-ACEF-2E589A70F6D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AF1D-8757-47F9-B450-3B2A0A23EFF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90FD-A326-4C26-AE76-1144CCAA80C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FFE6-3B6F-4B30-8153-63CC3D0FF7D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1DF4-F243-4694-9C9D-D801E8AB3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60A1-69C0-49A9-BE1B-0EA7B861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9BC5-9F9B-4035-9F5F-7CA44C7F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443E-430D-4067-B3EF-7A5E0026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4216-628E-4B61-8169-2E8B15E36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F197-D811-44DD-8B48-438527F3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E7FA-EFC3-4BC4-9DC1-7CA26B75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E2A3-7711-4281-8A5C-B7D1B7F4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CC7C-F32B-4025-9737-795A2A27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9BC1-5C12-48E0-B1EF-F2968EBC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4172-A0D4-4BF6-A46B-E8575135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51DB-DE3C-4765-935F-6A67217D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2785-FE57-4960-A8AC-8E67CE09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3B33-1F77-4F6D-BBA8-84A318C3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3D27-D100-4957-8A69-223B82B3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E9DB-1BE8-4B23-86F0-1331BE5A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33D7-9E8E-4977-8532-03567FC7B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6CAF-FCA0-45E4-B096-BFD664AA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5F7A-2547-45C5-9DD1-98865F76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9DE7-656A-4DF3-B248-B2E09E1D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0B4B-BA17-49B9-A21C-05ECD0B6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37B9-A120-4AFA-9D07-EF9EF104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6D8C-22BC-4A4B-B1AA-81C447A4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412F-E490-4682-B3C8-FAFEEB58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14EE-A3B7-4D05-9D6E-ABE349FB6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8A95-EB21-4FE6-8EE1-508880953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7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042920" y="476280"/>
                <a:ext cx="59007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g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24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987640" y="2349360"/>
                <a:ext cx="48402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987640" y="3502080"/>
                <a:ext cx="594828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059280" y="4941720"/>
                <a:ext cx="38019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987640" y="1557360"/>
                <a:ext cx="59342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g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24</m:t>
                        </m:r>
                      </m:e>
                    </m:rad>
                    <m:r>
                      <m:t xml:space="preserve">⋅</m:t>
                    </m:r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g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116000" y="260280"/>
                <a:ext cx="540072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203640" y="2781360"/>
                <a:ext cx="480852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203640" y="4005360"/>
                <a:ext cx="568476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3203640" y="5300640"/>
                <a:ext cx="38671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203640" y="1514520"/>
                <a:ext cx="532908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</m:e>
                    </m:rad>
                    <m:r>
                      <m:t xml:space="preserve">⋅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971640" y="549360"/>
                <a:ext cx="64339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,1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8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4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8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4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268360" y="1700280"/>
                <a:ext cx="58071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</m:t>
                            </m:r>
                            <m:r>
                              <m:t xml:space="preserve">°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</m:t>
                            </m:r>
                            <m:r>
                              <m:t xml:space="preserve">°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268360" y="4005360"/>
                <a:ext cx="60804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85</m:t>
                        </m:r>
                        <m:r>
                          <m:t xml:space="preserve">°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85</m:t>
                        </m:r>
                        <m:r>
                          <m:t xml:space="preserve">°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340000" y="5157720"/>
                <a:ext cx="53830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1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305080" y="2900520"/>
                <a:ext cx="6773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  <m:r>
                          <m:t xml:space="preserve">°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  <m:r>
                          <m:t xml:space="preserve">°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092240" y="189000"/>
                <a:ext cx="460044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900600" y="1052640"/>
                <a:ext cx="423360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933720" y="1844640"/>
                <a:ext cx="44672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940200" y="2637000"/>
                <a:ext cx="304020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8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116000" y="3500280"/>
                <a:ext cx="46753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486240" y="4365720"/>
                <a:ext cx="456732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419640" y="5157720"/>
                <a:ext cx="530064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492360" y="5877000"/>
                <a:ext cx="39006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165320" y="260280"/>
                <a:ext cx="4734000" cy="13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851280" y="1557360"/>
                <a:ext cx="430056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851280" y="2924280"/>
                <a:ext cx="482436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851280" y="4292640"/>
                <a:ext cx="4129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3851280" y="5300640"/>
                <a:ext cx="32702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165320" y="189000"/>
                <a:ext cx="516708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5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6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5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6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3419640" y="1484280"/>
                <a:ext cx="510048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419640" y="2852640"/>
                <a:ext cx="525456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419640" y="4149720"/>
                <a:ext cx="462564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419640" y="5373720"/>
                <a:ext cx="393048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5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092240" y="189000"/>
                <a:ext cx="566748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916360" y="1484280"/>
                <a:ext cx="547200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916360" y="2781360"/>
                <a:ext cx="59497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rad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987640" y="4076640"/>
                <a:ext cx="594684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3059280" y="5300640"/>
                <a:ext cx="485424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43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7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7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187280" y="260280"/>
                <a:ext cx="493416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635280" y="1484280"/>
                <a:ext cx="439920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564000" y="4076640"/>
                <a:ext cx="542124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564000" y="5300640"/>
                <a:ext cx="379728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564000" y="2565360"/>
                <a:ext cx="469116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171440" y="260280"/>
                <a:ext cx="466740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211640" y="1484280"/>
                <a:ext cx="413856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  <m:r>
                      <m:t xml:space="preserve">⋅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226040" y="4091040"/>
                <a:ext cx="453708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191120" y="5334120"/>
                <a:ext cx="343368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6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6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154400" y="2565360"/>
                <a:ext cx="390852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027080" y="260280"/>
                <a:ext cx="546732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24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635280" y="1549440"/>
                <a:ext cx="460872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24</m:t>
                        </m:r>
                      </m:e>
                    </m:rad>
                    <m:r>
                      <m:t xml:space="preserve">⋅</m:t>
                    </m:r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736800" y="4076640"/>
                <a:ext cx="498960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736800" y="5300640"/>
                <a:ext cx="343404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664080" y="2565360"/>
                <a:ext cx="429876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43243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ivreova vět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ivreova věta; Goniometrický tvar komplexního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1592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187280" y="260280"/>
                <a:ext cx="49672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116000" y="1773360"/>
                <a:ext cx="52340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,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116000" y="2997360"/>
                <a:ext cx="5200560" cy="12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3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3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187280" y="5084640"/>
                <a:ext cx="63342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1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1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64" name=""/>
          <p:cNvGrpSpPr/>
          <p:nvPr/>
        </p:nvGrpSpPr>
        <p:grpSpPr>
          <a:xfrm>
            <a:off x="4200480" y="1052640"/>
            <a:ext cx="4943520" cy="5557680"/>
            <a:chOff x="4200480" y="1052640"/>
            <a:chExt cx="4943520" cy="5557680"/>
          </a:xfrm>
        </p:grpSpPr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4211640" y="1052640"/>
                  <a:ext cx="3755880" cy="56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5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4211640" y="2492280"/>
                  <a:ext cx="4546440" cy="5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000</m:t>
                      </m:r>
                      <m:r>
                        <m:rPr>
                          <m:lit/>
                          <m:nor/>
                        </m:rPr>
                        <m:t xml:space="preserve">32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4211640" y="4076640"/>
                  <a:ext cx="4052880" cy="102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81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24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240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4200480" y="5950080"/>
                  <a:ext cx="494352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326</m:t>
                          </m:r>
                          <m:r>
                            <m:t xml:space="preserve">°</m:t>
                          </m:r>
                          <m:r>
                            <m:t xml:space="preserve">5</m:t>
                          </m:r>
                          <m:sSup>
                            <m:e>
                              <m:r>
                                <m:t xml:space="preserve">0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326</m:t>
                          </m:r>
                          <m:r>
                            <m:t xml:space="preserve">°</m:t>
                          </m:r>
                          <m:r>
                            <m:t xml:space="preserve">5</m:t>
                          </m:r>
                          <m:sSup>
                            <m:e>
                              <m:r>
                                <m:t xml:space="preserve">0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038240" y="260280"/>
                <a:ext cx="52671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042920" y="1773360"/>
                <a:ext cx="54673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042920" y="3284640"/>
                <a:ext cx="55674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6</m:t>
                        </m:r>
                      </m:deg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096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1042920" y="4724280"/>
                <a:ext cx="526752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5</m:t>
                        </m:r>
                      </m:deg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3</m:t>
                            </m:r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273" name=""/>
          <p:cNvGrpSpPr/>
          <p:nvPr/>
        </p:nvGrpSpPr>
        <p:grpSpPr>
          <a:xfrm>
            <a:off x="4970520" y="907920"/>
            <a:ext cx="3921120" cy="5705640"/>
            <a:chOff x="4970520" y="907920"/>
            <a:chExt cx="3921120" cy="5705640"/>
          </a:xfrm>
        </p:grpSpPr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5003640" y="907920"/>
                  <a:ext cx="3888000" cy="5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3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135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135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4970520" y="2492280"/>
                  <a:ext cx="3757680" cy="5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,5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5148360" y="4005360"/>
                  <a:ext cx="3427200" cy="56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55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55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7" name=""/>
                <p:cNvSpPr txBox="1"/>
                <p:nvPr/>
              </p:nvSpPr>
              <p:spPr>
                <a:xfrm>
                  <a:off x="5148360" y="5589720"/>
                  <a:ext cx="3460680" cy="102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042920" y="260280"/>
                <a:ext cx="42004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971640" y="1341360"/>
                <a:ext cx="426708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g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971640" y="2852640"/>
                <a:ext cx="426708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281" name=""/>
          <p:cNvGrpSpPr/>
          <p:nvPr/>
        </p:nvGrpSpPr>
        <p:grpSpPr>
          <a:xfrm>
            <a:off x="4727520" y="404640"/>
            <a:ext cx="4416480" cy="6307200"/>
            <a:chOff x="4727520" y="404640"/>
            <a:chExt cx="4416480" cy="6307200"/>
          </a:xfrm>
        </p:grpSpPr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5783400" y="404640"/>
                  <a:ext cx="3360600" cy="5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024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5867280" y="1484280"/>
                  <a:ext cx="2405160" cy="102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5584680" y="2924280"/>
                  <a:ext cx="3559320" cy="11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5" name=""/>
                <p:cNvSpPr txBox="1"/>
                <p:nvPr/>
              </p:nvSpPr>
              <p:spPr>
                <a:xfrm>
                  <a:off x="4727520" y="5589720"/>
                  <a:ext cx="4416480" cy="112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625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f>
                            <m:num>
                              <m:r>
                                <m:t xml:space="preserve">4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4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042920" y="4292640"/>
                <a:ext cx="543420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5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4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4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71640" y="260280"/>
            <a:ext cx="79167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Moivreova věta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42920" y="981000"/>
            <a:ext cx="810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o všechna přirozená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plat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587600" y="1701720"/>
                <a:ext cx="72914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1042920" y="2708280"/>
            <a:ext cx="810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809960" y="3429000"/>
                <a:ext cx="43340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162080" y="4740120"/>
                <a:ext cx="358452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116000" y="3284640"/>
                <a:ext cx="37004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859280" y="4005360"/>
                <a:ext cx="360036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°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788000" y="4869000"/>
                <a:ext cx="415116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541680" y="5948280"/>
                <a:ext cx="28861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4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6516720" y="5877000"/>
                <a:ext cx="245916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4427640" y="177336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40360" y="1989000"/>
            <a:ext cx="287280" cy="360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7088">
                <a:moveTo>
                  <a:pt x="3600" y="0"/>
                </a:moveTo>
                <a:arcTo wR="3600" hR="3600" stAng="16200000" swAng="-5400000"/>
                <a:lnTo>
                  <a:pt x="0" y="23488"/>
                </a:lnTo>
                <a:arcTo wR="3600" hR="3600" stAng="10800000" swAng="-5400000"/>
                <a:lnTo>
                  <a:pt x="18000" y="270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56720" y="198900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00720" y="328464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00720" y="472428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724360" y="3429000"/>
                <a:ext cx="3002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7740720" y="3429000"/>
                <a:ext cx="299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59" name=""/>
          <p:cNvCxnSpPr>
            <a:endCxn id="154" idx="0"/>
          </p:cNvCxnSpPr>
          <p:nvPr/>
        </p:nvCxnSpPr>
        <p:spPr>
          <a:xfrm>
            <a:off x="4788000" y="1773360"/>
            <a:ext cx="3350160" cy="202320"/>
          </a:xfrm>
          <a:prstGeom prst="curvedConnector2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</p:cxnSp>
      <p:cxnSp>
        <p:nvCxnSpPr>
          <p:cNvPr id="160" name=""/>
          <p:cNvCxnSpPr>
            <a:endCxn id="153" idx="0"/>
          </p:cNvCxnSpPr>
          <p:nvPr/>
        </p:nvCxnSpPr>
        <p:spPr>
          <a:xfrm>
            <a:off x="4788000" y="1773360"/>
            <a:ext cx="1297440" cy="202320"/>
          </a:xfrm>
          <a:prstGeom prst="curvedConnector2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651640" y="4869000"/>
                <a:ext cx="37764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7596360" y="4869000"/>
                <a:ext cx="37764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4427640" y="5948280"/>
            <a:ext cx="50472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28360" y="640080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&gt;</a:t>
            </a:r>
            <a:r>
              <a:rPr b="0" lang="cs-CZ" sz="2400" spc="-1" strike="noStrike">
                <a:solidFill>
                  <a:srgbClr val="99ff33"/>
                </a:solidFill>
                <a:latin typeface="Times New Roman"/>
              </a:rPr>
              <a:t> 2</a:t>
            </a:r>
            <a:r>
              <a:rPr b="0" lang="cs-CZ" sz="2400" spc="-1" strike="noStrike">
                <a:solidFill>
                  <a:srgbClr val="99ff33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042920" y="18900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Vypočtět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116000" y="836640"/>
                <a:ext cx="48006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564000" y="1557360"/>
                <a:ext cx="46670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564000" y="2278080"/>
                <a:ext cx="52671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492360" y="3078000"/>
                <a:ext cx="4535640" cy="6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8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1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1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187280" y="3933720"/>
                <a:ext cx="47340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,3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635280" y="4653000"/>
                <a:ext cx="45007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0,3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635280" y="5373720"/>
                <a:ext cx="51008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0,3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635280" y="6168960"/>
                <a:ext cx="42498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8</m:t>
                            </m:r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042920" y="189000"/>
                <a:ext cx="54007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419640" y="981000"/>
                <a:ext cx="523368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419640" y="1628640"/>
                <a:ext cx="55339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564000" y="3003480"/>
                <a:ext cx="43927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116000" y="3730680"/>
                <a:ext cx="496872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132000" y="4508640"/>
                <a:ext cx="486756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110040" y="5229360"/>
                <a:ext cx="60339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132000" y="5950080"/>
                <a:ext cx="473400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5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492360" y="2355840"/>
                <a:ext cx="46800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96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96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042920" y="189000"/>
                <a:ext cx="546732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0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0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203640" y="1444680"/>
                <a:ext cx="532908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203640" y="2708280"/>
                <a:ext cx="570060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203640" y="5084640"/>
                <a:ext cx="433368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203640" y="3933720"/>
                <a:ext cx="463392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116000" y="3068640"/>
                <a:ext cx="5545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722680" y="3860640"/>
                <a:ext cx="57006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700360" y="4653000"/>
                <a:ext cx="62341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843280" y="6099120"/>
                <a:ext cx="50022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88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116000" y="260280"/>
                <a:ext cx="48006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492360" y="907920"/>
                <a:ext cx="45673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492360" y="1628640"/>
                <a:ext cx="52563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492360" y="2303640"/>
                <a:ext cx="4392720" cy="66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771640" y="5373720"/>
                <a:ext cx="59007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90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90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116000" y="404640"/>
                <a:ext cx="48340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564000" y="2133720"/>
                <a:ext cx="432108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564000" y="3286080"/>
                <a:ext cx="522288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564000" y="4653000"/>
                <a:ext cx="38019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564000" y="1341360"/>
                <a:ext cx="49672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201680" y="476280"/>
                <a:ext cx="5234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529080" y="2205000"/>
                <a:ext cx="470988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525840" y="3357720"/>
                <a:ext cx="5618160" cy="112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578400" y="4724280"/>
                <a:ext cx="38019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540240" y="1413000"/>
                <a:ext cx="53337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</m:rad>
                    <m:r>
                      <m:t xml:space="preserve">⋅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5:39Z</dcterms:modified>
  <cp:revision>299</cp:revision>
  <dc:subject/>
  <dc:title>KČ</dc:title>
</cp:coreProperties>
</file>