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FB4D-EBAC-42D6-AA6A-2121DC5916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1C0E-903C-4C1B-928A-1E1E377036A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7ECF-2E87-4B44-A108-BC92DFCCBB3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EBF2-EB93-43B4-BB58-237741549B7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6682-3CFB-4EA9-9D8C-F4EF2094A9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D2A-11D2-4CD6-98D1-D3C90C3D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34A-2B55-4034-9B44-14263C79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50E-EE65-41D5-84A7-1C8A2DB0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CF9-A71E-4809-9478-0155B607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C920-78F8-4C5E-871A-2B76FC8F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0BFA-02BB-4ACE-A8A0-3789313E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A6D9-F170-4FAC-869B-6D8EA11B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EC8D-FD6A-466B-971E-C70CA05D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711D-5866-4E99-B214-278D2D10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BCE4-E984-4812-9A05-A4B1F8C2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097B-F857-4E65-AA1A-EA6634C0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131-336D-4CC1-9644-4FCD4F98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30BA-29EC-4AFC-A3A7-17357C6D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E9A8-73BC-4983-BEF4-5DD05FF8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85F1-A2F6-414A-BED2-1B7F1AEC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3513-6FB6-4E7E-9757-2C3629C7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F19F-C891-45A6-B201-52951EE5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84D-4384-4E3B-9961-061DFD4D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8F0-5552-44A8-BF32-1C63B3D9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E8D-A27A-4CDE-8CA5-65CB8A4B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3DA-FEA4-4364-991D-EE9D29F7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7B9-FEDE-4747-871E-C2BD78B1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4A0-B1FA-4EB1-B3F0-D57ADEDE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399-F180-48FE-8E27-BC836760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A45C-BDDE-43B4-8EA5-B68F7C7E3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DBA-93F1-4724-917B-D77775A29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971640" y="189000"/>
            <a:ext cx="817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Najděte kvadr. rovnic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x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b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+ c =0       s reálnými koeficienty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, b, c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, (a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≠ 0),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platí-l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187280" y="2278080"/>
                <a:ext cx="3579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6"/>
              <p:cNvSpPr txBox="1"/>
              <p:nvPr/>
            </p:nvSpPr>
            <p:spPr>
              <a:xfrm>
                <a:off x="1619280" y="314172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1908000" y="3933720"/>
                <a:ext cx="2033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8"/>
              <p:cNvSpPr txBox="1"/>
              <p:nvPr/>
            </p:nvSpPr>
            <p:spPr>
              <a:xfrm>
                <a:off x="1835280" y="5086440"/>
                <a:ext cx="200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0" name="Line 19"/>
          <p:cNvSpPr/>
          <p:nvPr/>
        </p:nvSpPr>
        <p:spPr>
          <a:xfrm>
            <a:off x="1619280" y="2781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7"/>
              <p:cNvSpPr txBox="1"/>
              <p:nvPr/>
            </p:nvSpPr>
            <p:spPr>
              <a:xfrm>
                <a:off x="6516720" y="3860640"/>
                <a:ext cx="1851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7"/>
              <p:cNvSpPr txBox="1"/>
              <p:nvPr/>
            </p:nvSpPr>
            <p:spPr>
              <a:xfrm>
                <a:off x="3924360" y="3860640"/>
                <a:ext cx="2579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116000" y="476280"/>
                <a:ext cx="42480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258920" y="1628640"/>
                <a:ext cx="4398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3780000" y="2276640"/>
                <a:ext cx="1647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403280" y="5877000"/>
                <a:ext cx="1760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1332000" y="3645000"/>
                <a:ext cx="12063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Line 9"/>
          <p:cNvSpPr/>
          <p:nvPr/>
        </p:nvSpPr>
        <p:spPr>
          <a:xfrm>
            <a:off x="1547640" y="1052640"/>
            <a:ext cx="388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4360" y="2852640"/>
            <a:ext cx="7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8000" y="980640"/>
            <a:ext cx="2087640" cy="180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332000" y="4221000"/>
                <a:ext cx="1235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1332000" y="4724280"/>
                <a:ext cx="1000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1187280" y="2276640"/>
                <a:ext cx="2559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5508720" y="2276640"/>
                <a:ext cx="16174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5508720" y="2852640"/>
                <a:ext cx="2413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851280" y="2133720"/>
            <a:ext cx="180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3357720"/>
            <a:ext cx="21607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549360"/>
            <a:ext cx="86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5364000" y="2997360"/>
                <a:ext cx="23828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1130400" y="476280"/>
                <a:ext cx="42177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258920" y="1628640"/>
                <a:ext cx="4398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187280" y="234936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1403280" y="3933720"/>
                <a:ext cx="8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8"/>
          <p:cNvSpPr/>
          <p:nvPr/>
        </p:nvSpPr>
        <p:spPr>
          <a:xfrm>
            <a:off x="1330200" y="5373720"/>
            <a:ext cx="392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ovnice neexistuj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1547640" y="1052640"/>
            <a:ext cx="388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27640" y="2997360"/>
            <a:ext cx="505080" cy="576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6000"/>
              <a:gd name="textAreaBottom" fmla="*/ 551520 h 576000"/>
            </a:gdLst>
            <a:ahLst/>
            <a:rect l="textAreaLeft" t="textAreaTop" r="textAreaRight" b="textAreaBottom"/>
            <a:pathLst>
              <a:path w="21600" h="24631">
                <a:moveTo>
                  <a:pt x="3600" y="0"/>
                </a:moveTo>
                <a:arcTo wR="3600" hR="3600" stAng="16200000" swAng="-5400000"/>
                <a:lnTo>
                  <a:pt x="0" y="21031"/>
                </a:lnTo>
                <a:arcTo wR="3600" hR="3600" stAng="10800000" swAng="-5400000"/>
                <a:lnTo>
                  <a:pt x="18000" y="24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148000" y="981000"/>
            <a:ext cx="1152360" cy="194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"/>
              <p:cNvSpPr txBox="1"/>
              <p:nvPr/>
            </p:nvSpPr>
            <p:spPr>
              <a:xfrm>
                <a:off x="1403280" y="4510080"/>
                <a:ext cx="8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3708360" y="2349360"/>
                <a:ext cx="1617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5364000" y="2349360"/>
                <a:ext cx="16178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403280" y="4508640"/>
                <a:ext cx="824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851280" y="2133720"/>
            <a:ext cx="180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3500280"/>
            <a:ext cx="216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549360"/>
            <a:ext cx="86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173240" y="260280"/>
                <a:ext cx="2305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1763640" y="97956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1763640" y="1700280"/>
                <a:ext cx="1911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5"/>
              <p:cNvSpPr txBox="1"/>
              <p:nvPr/>
            </p:nvSpPr>
            <p:spPr>
              <a:xfrm>
                <a:off x="1835280" y="2492280"/>
                <a:ext cx="1638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4289400" y="260280"/>
                <a:ext cx="1544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4"/>
              <p:cNvSpPr txBox="1"/>
              <p:nvPr/>
            </p:nvSpPr>
            <p:spPr>
              <a:xfrm>
                <a:off x="1187280" y="3716280"/>
                <a:ext cx="2638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5"/>
              <p:cNvSpPr txBox="1"/>
              <p:nvPr/>
            </p:nvSpPr>
            <p:spPr>
              <a:xfrm>
                <a:off x="1763640" y="443556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1763640" y="5154480"/>
                <a:ext cx="2235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7"/>
              <p:cNvSpPr txBox="1"/>
              <p:nvPr/>
            </p:nvSpPr>
            <p:spPr>
              <a:xfrm>
                <a:off x="1835280" y="5877000"/>
                <a:ext cx="15159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8"/>
              <p:cNvSpPr txBox="1"/>
              <p:nvPr/>
            </p:nvSpPr>
            <p:spPr>
              <a:xfrm>
                <a:off x="4289400" y="3716280"/>
                <a:ext cx="1514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Line 19"/>
          <p:cNvSpPr/>
          <p:nvPr/>
        </p:nvSpPr>
        <p:spPr>
          <a:xfrm>
            <a:off x="1619280" y="765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1619280" y="4219560"/>
            <a:ext cx="230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3708360" y="1628640"/>
                <a:ext cx="1706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5435640" y="1628640"/>
                <a:ext cx="14130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4067280" y="5084640"/>
                <a:ext cx="1530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643280" y="1628640"/>
            <a:ext cx="6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4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5084640"/>
            <a:ext cx="865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62520" y="55879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244520" y="260280"/>
                <a:ext cx="2486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547640" y="98100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1547640" y="1628640"/>
                <a:ext cx="2267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1619280" y="2421000"/>
                <a:ext cx="1820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4197240" y="260280"/>
                <a:ext cx="17287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1763640" y="429264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1824120" y="5013360"/>
                <a:ext cx="2060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0"/>
              <p:cNvSpPr txBox="1"/>
              <p:nvPr/>
            </p:nvSpPr>
            <p:spPr>
              <a:xfrm>
                <a:off x="1782720" y="5789520"/>
                <a:ext cx="1911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1289160" y="3500280"/>
                <a:ext cx="3822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Line 13"/>
          <p:cNvSpPr/>
          <p:nvPr/>
        </p:nvSpPr>
        <p:spPr>
          <a:xfrm>
            <a:off x="1619280" y="76500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1692360" y="400356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3780000" y="1557360"/>
                <a:ext cx="1912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724360" y="1557360"/>
                <a:ext cx="1589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4098960" y="4940280"/>
                <a:ext cx="1617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9"/>
              <p:cNvSpPr txBox="1"/>
              <p:nvPr/>
            </p:nvSpPr>
            <p:spPr>
              <a:xfrm>
                <a:off x="5867280" y="4941720"/>
                <a:ext cx="15890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4716360" y="1557360"/>
            <a:ext cx="936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2520" y="2060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6610320" y="3357720"/>
                <a:ext cx="25336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4788000" y="1700280"/>
                <a:ext cx="4176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042920" y="333360"/>
                <a:ext cx="29098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1317600" y="97956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258920" y="1700280"/>
                <a:ext cx="3530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332000" y="6021360"/>
                <a:ext cx="2792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200480" y="333360"/>
                <a:ext cx="1970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8" name="Group 22"/>
          <p:cNvGrpSpPr/>
          <p:nvPr/>
        </p:nvGrpSpPr>
        <p:grpSpPr>
          <a:xfrm>
            <a:off x="5680080" y="2204640"/>
            <a:ext cx="3244680" cy="820440"/>
            <a:chOff x="5680080" y="2204640"/>
            <a:chExt cx="3244680" cy="820440"/>
          </a:xfrm>
        </p:grpSpPr>
        <p:sp>
          <p:nvSpPr>
            <p:cNvPr id="299" name="Line 10"/>
            <p:cNvSpPr/>
            <p:nvPr/>
          </p:nvSpPr>
          <p:spPr>
            <a:xfrm>
              <a:off x="6276960" y="2494080"/>
              <a:ext cx="1871640" cy="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680080" y="2565360"/>
              <a:ext cx="3244680" cy="459720"/>
            </a:xfrm>
            <a:prstGeom prst="rect">
              <a:avLst/>
            </a:prstGeom>
            <a:noFill/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.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+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 flipV="1">
              <a:off x="627696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V="1">
              <a:off x="814860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Oval 14"/>
          <p:cNvSpPr/>
          <p:nvPr/>
        </p:nvSpPr>
        <p:spPr>
          <a:xfrm>
            <a:off x="5435640" y="1700280"/>
            <a:ext cx="792000" cy="4348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Oval 15"/>
          <p:cNvSpPr/>
          <p:nvPr/>
        </p:nvSpPr>
        <p:spPr>
          <a:xfrm>
            <a:off x="7164360" y="1700280"/>
            <a:ext cx="792360" cy="4348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Oval 16"/>
          <p:cNvSpPr/>
          <p:nvPr/>
        </p:nvSpPr>
        <p:spPr>
          <a:xfrm>
            <a:off x="6516720" y="1700280"/>
            <a:ext cx="50472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Oval 17"/>
          <p:cNvSpPr/>
          <p:nvPr/>
        </p:nvSpPr>
        <p:spPr>
          <a:xfrm>
            <a:off x="8317080" y="1700280"/>
            <a:ext cx="50472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1403280" y="4292640"/>
                <a:ext cx="1206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Oval 21"/>
          <p:cNvSpPr/>
          <p:nvPr/>
        </p:nvSpPr>
        <p:spPr>
          <a:xfrm>
            <a:off x="7524720" y="3357720"/>
            <a:ext cx="647640" cy="576000"/>
          </a:xfrm>
          <a:prstGeom prst="flowChartAlternateProcess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1403280" y="83664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0"/>
              <p:cNvSpPr txBox="1"/>
              <p:nvPr/>
            </p:nvSpPr>
            <p:spPr>
              <a:xfrm>
                <a:off x="1403280" y="4797360"/>
                <a:ext cx="12366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0"/>
              <p:cNvSpPr txBox="1"/>
              <p:nvPr/>
            </p:nvSpPr>
            <p:spPr>
              <a:xfrm>
                <a:off x="1403280" y="5300640"/>
                <a:ext cx="10303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 flipH="1" flipV="1">
            <a:off x="3492360" y="764640"/>
            <a:ext cx="3888000" cy="2519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9"/>
              <p:cNvSpPr txBox="1"/>
              <p:nvPr/>
            </p:nvSpPr>
            <p:spPr>
              <a:xfrm>
                <a:off x="3821040" y="3357720"/>
                <a:ext cx="27860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9"/>
              <p:cNvSpPr txBox="1"/>
              <p:nvPr/>
            </p:nvSpPr>
            <p:spPr>
              <a:xfrm>
                <a:off x="1371600" y="3387600"/>
                <a:ext cx="23922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Object 16"/>
              <p:cNvSpPr txBox="1"/>
              <p:nvPr/>
            </p:nvSpPr>
            <p:spPr>
              <a:xfrm>
                <a:off x="6600960" y="3213000"/>
                <a:ext cx="25430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4643280" y="1700280"/>
                <a:ext cx="3915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1116000" y="260280"/>
                <a:ext cx="27273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317600" y="97956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1332000" y="1700280"/>
                <a:ext cx="3265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5"/>
              <p:cNvSpPr txBox="1"/>
              <p:nvPr/>
            </p:nvSpPr>
            <p:spPr>
              <a:xfrm>
                <a:off x="1187280" y="5661000"/>
                <a:ext cx="2459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4289400" y="260280"/>
                <a:ext cx="181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2" name="Group 20"/>
          <p:cNvGrpSpPr/>
          <p:nvPr/>
        </p:nvGrpSpPr>
        <p:grpSpPr>
          <a:xfrm>
            <a:off x="5537160" y="2133360"/>
            <a:ext cx="3321000" cy="891720"/>
            <a:chOff x="5537160" y="2133360"/>
            <a:chExt cx="3321000" cy="891720"/>
          </a:xfrm>
        </p:grpSpPr>
        <p:sp>
          <p:nvSpPr>
            <p:cNvPr id="323" name="Line 8"/>
            <p:cNvSpPr/>
            <p:nvPr/>
          </p:nvSpPr>
          <p:spPr>
            <a:xfrm flipV="1">
              <a:off x="6229440" y="2491920"/>
              <a:ext cx="1608120" cy="180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5537160" y="2565360"/>
              <a:ext cx="3321000" cy="459720"/>
            </a:xfrm>
            <a:prstGeom prst="rect">
              <a:avLst/>
            </a:prstGeom>
            <a:noFill/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+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.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 flipV="1">
              <a:off x="622944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 flipV="1">
              <a:off x="7837560" y="2133360"/>
              <a:ext cx="0" cy="3603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Oval 12"/>
          <p:cNvSpPr/>
          <p:nvPr/>
        </p:nvSpPr>
        <p:spPr>
          <a:xfrm>
            <a:off x="5292720" y="1700280"/>
            <a:ext cx="792000" cy="43344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Oval 13"/>
          <p:cNvSpPr/>
          <p:nvPr/>
        </p:nvSpPr>
        <p:spPr>
          <a:xfrm>
            <a:off x="6948360" y="1700280"/>
            <a:ext cx="792360" cy="43344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Oval 14"/>
          <p:cNvSpPr/>
          <p:nvPr/>
        </p:nvSpPr>
        <p:spPr>
          <a:xfrm>
            <a:off x="6445080" y="1692360"/>
            <a:ext cx="28764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Oval 15"/>
          <p:cNvSpPr/>
          <p:nvPr/>
        </p:nvSpPr>
        <p:spPr>
          <a:xfrm>
            <a:off x="8101080" y="1692360"/>
            <a:ext cx="28728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6"/>
              <p:cNvSpPr txBox="1"/>
              <p:nvPr/>
            </p:nvSpPr>
            <p:spPr>
              <a:xfrm>
                <a:off x="1332000" y="3213000"/>
                <a:ext cx="2433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7"/>
              <p:cNvSpPr txBox="1"/>
              <p:nvPr/>
            </p:nvSpPr>
            <p:spPr>
              <a:xfrm>
                <a:off x="1258920" y="4005360"/>
                <a:ext cx="1069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Oval 18"/>
          <p:cNvSpPr/>
          <p:nvPr/>
        </p:nvSpPr>
        <p:spPr>
          <a:xfrm>
            <a:off x="8317080" y="3219480"/>
            <a:ext cx="826920" cy="482400"/>
          </a:xfrm>
          <a:prstGeom prst="flowChartAlternateProcess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1476360" y="76500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563640" y="692280"/>
            <a:ext cx="4608360" cy="2449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7"/>
              <p:cNvSpPr txBox="1"/>
              <p:nvPr/>
            </p:nvSpPr>
            <p:spPr>
              <a:xfrm>
                <a:off x="1258920" y="4437000"/>
                <a:ext cx="1069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7"/>
              <p:cNvSpPr txBox="1"/>
              <p:nvPr/>
            </p:nvSpPr>
            <p:spPr>
              <a:xfrm>
                <a:off x="1258920" y="4797360"/>
                <a:ext cx="851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6"/>
              <p:cNvSpPr txBox="1"/>
              <p:nvPr/>
            </p:nvSpPr>
            <p:spPr>
              <a:xfrm>
                <a:off x="3780000" y="3213000"/>
                <a:ext cx="2792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971640" y="260280"/>
                <a:ext cx="3241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4"/>
              <p:cNvSpPr txBox="1"/>
              <p:nvPr/>
            </p:nvSpPr>
            <p:spPr>
              <a:xfrm>
                <a:off x="1763640" y="1916280"/>
                <a:ext cx="4002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7"/>
              <p:cNvSpPr txBox="1"/>
              <p:nvPr/>
            </p:nvSpPr>
            <p:spPr>
              <a:xfrm>
                <a:off x="4915080" y="3789360"/>
                <a:ext cx="103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9"/>
              <p:cNvSpPr txBox="1"/>
              <p:nvPr/>
            </p:nvSpPr>
            <p:spPr>
              <a:xfrm>
                <a:off x="1619280" y="981000"/>
                <a:ext cx="1635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Line 20"/>
          <p:cNvSpPr/>
          <p:nvPr/>
        </p:nvSpPr>
        <p:spPr>
          <a:xfrm>
            <a:off x="1547640" y="765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1476360" y="5734080"/>
            <a:ext cx="392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ovnice neexistuj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9"/>
              <p:cNvSpPr txBox="1"/>
              <p:nvPr/>
            </p:nvSpPr>
            <p:spPr>
              <a:xfrm>
                <a:off x="3564000" y="981000"/>
                <a:ext cx="2119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7"/>
              <p:cNvSpPr txBox="1"/>
              <p:nvPr/>
            </p:nvSpPr>
            <p:spPr>
              <a:xfrm>
                <a:off x="4915080" y="4365720"/>
                <a:ext cx="103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7"/>
              <p:cNvSpPr txBox="1"/>
              <p:nvPr/>
            </p:nvSpPr>
            <p:spPr>
              <a:xfrm>
                <a:off x="4915080" y="4869000"/>
                <a:ext cx="882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7"/>
              <p:cNvSpPr txBox="1"/>
              <p:nvPr/>
            </p:nvSpPr>
            <p:spPr>
              <a:xfrm>
                <a:off x="6138720" y="4869000"/>
                <a:ext cx="1370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21"/>
          <p:cNvSpPr/>
          <p:nvPr/>
        </p:nvSpPr>
        <p:spPr>
          <a:xfrm>
            <a:off x="7883640" y="4724280"/>
            <a:ext cx="126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po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1692360" y="2565360"/>
                <a:ext cx="3471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4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4067280" y="256536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3080" y="306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5148360" y="2565360"/>
                <a:ext cx="2471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Oval 12"/>
          <p:cNvSpPr/>
          <p:nvPr/>
        </p:nvSpPr>
        <p:spPr>
          <a:xfrm>
            <a:off x="2124000" y="1924200"/>
            <a:ext cx="79236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76720" y="1916280"/>
            <a:ext cx="43164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3995640" y="1924200"/>
            <a:ext cx="79236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5148360" y="1916280"/>
            <a:ext cx="43164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Oval 12"/>
          <p:cNvSpPr/>
          <p:nvPr/>
        </p:nvSpPr>
        <p:spPr>
          <a:xfrm>
            <a:off x="2340000" y="2637000"/>
            <a:ext cx="165564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Oval 14"/>
          <p:cNvSpPr/>
          <p:nvPr/>
        </p:nvSpPr>
        <p:spPr>
          <a:xfrm>
            <a:off x="4356000" y="2637000"/>
            <a:ext cx="57636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900000" y="189000"/>
                <a:ext cx="3575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1547640" y="2133720"/>
                <a:ext cx="44881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6877080" y="3860640"/>
                <a:ext cx="103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476360" y="981000"/>
                <a:ext cx="2816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Line 6"/>
          <p:cNvSpPr/>
          <p:nvPr/>
        </p:nvSpPr>
        <p:spPr>
          <a:xfrm>
            <a:off x="1405080" y="9079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8"/>
              <p:cNvSpPr txBox="1"/>
              <p:nvPr/>
            </p:nvSpPr>
            <p:spPr>
              <a:xfrm>
                <a:off x="1619280" y="5445000"/>
                <a:ext cx="25210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284720" y="981000"/>
                <a:ext cx="18478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6227640" y="981000"/>
                <a:ext cx="2754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2124000" y="2852640"/>
                <a:ext cx="4006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2124000" y="3716280"/>
                <a:ext cx="2619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6948360" y="4365720"/>
                <a:ext cx="973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6877080" y="4726080"/>
                <a:ext cx="914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4500720" y="2781360"/>
            <a:ext cx="1439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05080" y="3357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Oval 12"/>
          <p:cNvSpPr/>
          <p:nvPr/>
        </p:nvSpPr>
        <p:spPr>
          <a:xfrm>
            <a:off x="1908000" y="2133720"/>
            <a:ext cx="79236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Oval 14"/>
          <p:cNvSpPr/>
          <p:nvPr/>
        </p:nvSpPr>
        <p:spPr>
          <a:xfrm>
            <a:off x="2916360" y="2131920"/>
            <a:ext cx="93492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3995640" y="2133720"/>
            <a:ext cx="79236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Oval 14"/>
          <p:cNvSpPr/>
          <p:nvPr/>
        </p:nvSpPr>
        <p:spPr>
          <a:xfrm>
            <a:off x="5003640" y="2131920"/>
            <a:ext cx="86364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Oval 12"/>
          <p:cNvSpPr/>
          <p:nvPr/>
        </p:nvSpPr>
        <p:spPr>
          <a:xfrm>
            <a:off x="2771640" y="2852640"/>
            <a:ext cx="1656000" cy="505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Oval 14"/>
          <p:cNvSpPr/>
          <p:nvPr/>
        </p:nvSpPr>
        <p:spPr>
          <a:xfrm>
            <a:off x="4788000" y="2852640"/>
            <a:ext cx="107928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981000"/>
            <a:ext cx="79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36720" y="141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971640" y="260280"/>
                <a:ext cx="3968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92360" y="2133720"/>
                <a:ext cx="3943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6948360" y="3716280"/>
                <a:ext cx="1400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1547640" y="981000"/>
                <a:ext cx="311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6"/>
          <p:cNvSpPr/>
          <p:nvPr/>
        </p:nvSpPr>
        <p:spPr>
          <a:xfrm>
            <a:off x="1547640" y="83664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403280" y="5516640"/>
                <a:ext cx="31273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4716360" y="1052640"/>
                <a:ext cx="1573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6372360" y="1052640"/>
                <a:ext cx="2452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276720" y="981000"/>
            <a:ext cx="7905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49080" y="1484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2627280" y="2708280"/>
                <a:ext cx="4060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144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627280" y="3645000"/>
                <a:ext cx="3060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5292720" y="263700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65080" y="321300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4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6948360" y="4292640"/>
                <a:ext cx="1430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6948360" y="4724280"/>
                <a:ext cx="1309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Oval 12"/>
          <p:cNvSpPr/>
          <p:nvPr/>
        </p:nvSpPr>
        <p:spPr>
          <a:xfrm>
            <a:off x="2052720" y="2135160"/>
            <a:ext cx="792000" cy="43020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3132000" y="2133720"/>
            <a:ext cx="503280" cy="4381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Oval 12"/>
          <p:cNvSpPr/>
          <p:nvPr/>
        </p:nvSpPr>
        <p:spPr>
          <a:xfrm>
            <a:off x="3924360" y="2133720"/>
            <a:ext cx="718920" cy="43020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932360" y="2133720"/>
            <a:ext cx="503280" cy="4316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3276720" y="2708280"/>
            <a:ext cx="194292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5580000" y="2708280"/>
            <a:ext cx="86364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634160" cy="501012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klad kvadratického trojčlenu na souči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ást, ale také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týkání; Algebraické vzorce; Vietovy vzorce; Vzorec pro kořeny kvadratické rovnice s diskriminantem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1187280" y="549360"/>
                <a:ext cx="3211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1"/>
              <p:cNvSpPr txBox="1"/>
              <p:nvPr/>
            </p:nvSpPr>
            <p:spPr>
              <a:xfrm>
                <a:off x="1187280" y="1557360"/>
                <a:ext cx="2968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3"/>
              <p:cNvSpPr txBox="1"/>
              <p:nvPr/>
            </p:nvSpPr>
            <p:spPr>
              <a:xfrm>
                <a:off x="1187280" y="2708280"/>
                <a:ext cx="3030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5"/>
              <p:cNvSpPr txBox="1"/>
              <p:nvPr/>
            </p:nvSpPr>
            <p:spPr>
              <a:xfrm>
                <a:off x="1187280" y="3933720"/>
                <a:ext cx="281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7"/>
              <p:cNvSpPr txBox="1"/>
              <p:nvPr/>
            </p:nvSpPr>
            <p:spPr>
              <a:xfrm>
                <a:off x="1187280" y="4797360"/>
                <a:ext cx="27878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9"/>
              <p:cNvSpPr txBox="1"/>
              <p:nvPr/>
            </p:nvSpPr>
            <p:spPr>
              <a:xfrm>
                <a:off x="1258920" y="5805360"/>
                <a:ext cx="2787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21"/>
          <p:cNvGrpSpPr/>
          <p:nvPr/>
        </p:nvGrpSpPr>
        <p:grpSpPr>
          <a:xfrm>
            <a:off x="5508720" y="476280"/>
            <a:ext cx="3635280" cy="6091200"/>
            <a:chOff x="5508720" y="476280"/>
            <a:chExt cx="3635280" cy="6091200"/>
          </a:xfrm>
        </p:grpSpPr>
        <mc:AlternateContent>
          <mc:Choice xmlns:a14="http://schemas.microsoft.com/office/drawing/2010/main" Requires="a14">
            <p:sp>
              <p:nvSpPr>
                <p:cNvPr id="411" name="Object 6"/>
                <p:cNvSpPr txBox="1"/>
                <p:nvPr/>
              </p:nvSpPr>
              <p:spPr>
                <a:xfrm>
                  <a:off x="5508720" y="476280"/>
                  <a:ext cx="2496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2" name="Object 10"/>
                <p:cNvSpPr txBox="1"/>
                <p:nvPr/>
              </p:nvSpPr>
              <p:spPr>
                <a:xfrm>
                  <a:off x="5508720" y="1268280"/>
                  <a:ext cx="243972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12"/>
                <p:cNvSpPr txBox="1"/>
                <p:nvPr/>
              </p:nvSpPr>
              <p:spPr>
                <a:xfrm>
                  <a:off x="5796000" y="2421000"/>
                  <a:ext cx="24685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14"/>
                <p:cNvSpPr txBox="1"/>
                <p:nvPr/>
              </p:nvSpPr>
              <p:spPr>
                <a:xfrm>
                  <a:off x="5867280" y="3860640"/>
                  <a:ext cx="177192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5" name="Rectangle 18"/>
            <p:cNvSpPr/>
            <p:nvPr/>
          </p:nvSpPr>
          <p:spPr>
            <a:xfrm>
              <a:off x="5867280" y="4724280"/>
              <a:ext cx="3276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00"/>
                  </a:solidFill>
                  <a:latin typeface="Times New Roman"/>
                </a:rPr>
                <a:t>rovnice neexistuje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20"/>
                <p:cNvSpPr txBox="1"/>
                <p:nvPr/>
              </p:nvSpPr>
              <p:spPr>
                <a:xfrm>
                  <a:off x="5867280" y="5589720"/>
                  <a:ext cx="1857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Rozklad kvadratického trojčlenu na součin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763640" y="4797360"/>
                <a:ext cx="6193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3" name="Group 4"/>
          <p:cNvGrpSpPr/>
          <p:nvPr/>
        </p:nvGrpSpPr>
        <p:grpSpPr>
          <a:xfrm>
            <a:off x="1116000" y="5732640"/>
            <a:ext cx="8028000" cy="720720"/>
            <a:chOff x="1116000" y="5732640"/>
            <a:chExt cx="8028000" cy="720720"/>
          </a:xfrm>
        </p:grpSpPr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6588000" y="5732640"/>
                  <a:ext cx="25560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Rectangle 6"/>
            <p:cNvSpPr/>
            <p:nvPr/>
          </p:nvSpPr>
          <p:spPr>
            <a:xfrm>
              <a:off x="1116000" y="5732640"/>
              <a:ext cx="8028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349280" indent="-134928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cs-CZ" sz="30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cs-CZ" sz="3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cs-CZ" sz="3000" spc="-1" strike="noStrike" baseline="-25000">
                  <a:solidFill>
                    <a:srgbClr val="dddddd"/>
                  </a:solidFill>
                  <a:latin typeface="Times New Roman"/>
                </a:rPr>
                <a:t>2  </a:t>
              </a:r>
              <a:r>
                <a:rPr b="0" lang="cs-CZ" sz="3000" spc="-1" strike="noStrike">
                  <a:solidFill>
                    <a:srgbClr val="dddddd"/>
                  </a:solidFill>
                  <a:latin typeface="Times New Roman"/>
                </a:rPr>
                <a:t> jsou kořeny kvadr. rovnice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46" name="Rectangle 7"/>
          <p:cNvSpPr/>
          <p:nvPr/>
        </p:nvSpPr>
        <p:spPr>
          <a:xfrm>
            <a:off x="1042920" y="119700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rozkladu na součin můžeme uží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ytýkání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3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3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5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algebraické vzorc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4 =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2)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ietovy vzorc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6 =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3)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zorec pro kořeny kvadr. rovnice s diskriminante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Rozložte v C dané kvadratické výrazy na součin lineárních činitelů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1116000" y="1557360"/>
                <a:ext cx="2244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219640" y="2205000"/>
                <a:ext cx="3672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5076720" y="3502080"/>
                <a:ext cx="1728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4859280" y="2779560"/>
                <a:ext cx="1303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1692360" y="5229360"/>
                <a:ext cx="5821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692360" y="4653000"/>
                <a:ext cx="4392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476360" y="5157720"/>
            <a:ext cx="3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47260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522936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5229360"/>
            <a:ext cx="1008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5229360"/>
            <a:ext cx="936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7260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472608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7380360" y="3357720"/>
                <a:ext cx="1407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7380360" y="4005360"/>
                <a:ext cx="1466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6877080" y="3717720"/>
            <a:ext cx="503280" cy="215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1692360" y="5878440"/>
                <a:ext cx="50022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380360" y="3357720"/>
            <a:ext cx="1439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4005360"/>
            <a:ext cx="1439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3635280" y="1628640"/>
            <a:ext cx="55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nejprve prověříme, zda nelze použít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1200240" y="476280"/>
                <a:ext cx="2305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046840" y="1052640"/>
                <a:ext cx="373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4859280" y="2708280"/>
                <a:ext cx="2727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4788000" y="1844640"/>
                <a:ext cx="1272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1547640" y="4149720"/>
                <a:ext cx="4942080" cy="22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530160" y="52560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476280"/>
                <a:ext cx="318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4572000" y="1268280"/>
                <a:ext cx="4278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4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627440" y="2779560"/>
                <a:ext cx="45165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4356000" y="1916280"/>
                <a:ext cx="13035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1258920" y="4292640"/>
                <a:ext cx="608652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</m:rad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209480" y="5493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25360" y="476280"/>
                <a:ext cx="245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4859280" y="1125360"/>
                <a:ext cx="40975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253040" y="2781360"/>
                <a:ext cx="3930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10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692600" y="1917720"/>
                <a:ext cx="14540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1403280" y="4221000"/>
                <a:ext cx="6462720" cy="21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3561840" y="5493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405080" y="404640"/>
                <a:ext cx="269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1405080" y="1341360"/>
                <a:ext cx="2377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1405080" y="2205000"/>
                <a:ext cx="1871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9"/>
              <p:cNvSpPr txBox="1"/>
              <p:nvPr/>
            </p:nvSpPr>
            <p:spPr>
              <a:xfrm>
                <a:off x="1476360" y="3141720"/>
                <a:ext cx="22194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1"/>
              <p:cNvSpPr txBox="1"/>
              <p:nvPr/>
            </p:nvSpPr>
            <p:spPr>
              <a:xfrm>
                <a:off x="1476360" y="4076640"/>
                <a:ext cx="218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3440" y="5013360"/>
                <a:ext cx="164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5"/>
              <p:cNvSpPr txBox="1"/>
              <p:nvPr/>
            </p:nvSpPr>
            <p:spPr>
              <a:xfrm>
                <a:off x="1332000" y="5950080"/>
                <a:ext cx="256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1"/>
              <p:cNvSpPr txBox="1"/>
              <p:nvPr/>
            </p:nvSpPr>
            <p:spPr>
              <a:xfrm>
                <a:off x="4673520" y="189000"/>
                <a:ext cx="4470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7"/>
              <p:cNvSpPr txBox="1"/>
              <p:nvPr/>
            </p:nvSpPr>
            <p:spPr>
              <a:xfrm>
                <a:off x="4716360" y="1341360"/>
                <a:ext cx="1830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8"/>
              <p:cNvSpPr txBox="1"/>
              <p:nvPr/>
            </p:nvSpPr>
            <p:spPr>
              <a:xfrm>
                <a:off x="4788000" y="2276640"/>
                <a:ext cx="142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4788000" y="3213000"/>
                <a:ext cx="25239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2"/>
              <p:cNvSpPr txBox="1"/>
              <p:nvPr/>
            </p:nvSpPr>
            <p:spPr>
              <a:xfrm>
                <a:off x="4788000" y="4149720"/>
                <a:ext cx="1773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4"/>
              <p:cNvSpPr txBox="1"/>
              <p:nvPr/>
            </p:nvSpPr>
            <p:spPr>
              <a:xfrm>
                <a:off x="4788000" y="5084640"/>
                <a:ext cx="2063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6"/>
              <p:cNvSpPr txBox="1"/>
              <p:nvPr/>
            </p:nvSpPr>
            <p:spPr>
              <a:xfrm>
                <a:off x="4788000" y="5784840"/>
                <a:ext cx="374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971640" y="18900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Určete druhý kořen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kvadratické rovnice s reálnými koeficienty, platí-l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187280" y="1700280"/>
                <a:ext cx="1881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4788000" y="1700280"/>
                <a:ext cx="2151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4"/>
              <p:cNvSpPr txBox="1"/>
              <p:nvPr/>
            </p:nvSpPr>
            <p:spPr>
              <a:xfrm>
                <a:off x="1187280" y="2565360"/>
                <a:ext cx="1849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4788000" y="2494080"/>
                <a:ext cx="2058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7"/>
              <p:cNvSpPr txBox="1"/>
              <p:nvPr/>
            </p:nvSpPr>
            <p:spPr>
              <a:xfrm>
                <a:off x="1187280" y="3357720"/>
                <a:ext cx="178920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4788000" y="3357720"/>
                <a:ext cx="22096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187280" y="4292640"/>
                <a:ext cx="1395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4788000" y="4292640"/>
                <a:ext cx="1030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1"/>
              <p:cNvSpPr txBox="1"/>
              <p:nvPr/>
            </p:nvSpPr>
            <p:spPr>
              <a:xfrm>
                <a:off x="1187280" y="5157720"/>
                <a:ext cx="1757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2"/>
              <p:cNvSpPr txBox="1"/>
              <p:nvPr/>
            </p:nvSpPr>
            <p:spPr>
              <a:xfrm>
                <a:off x="4788000" y="5157720"/>
                <a:ext cx="2239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2867040" y="5229360"/>
                <a:ext cx="117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4"/>
              <p:cNvSpPr txBox="1"/>
              <p:nvPr/>
            </p:nvSpPr>
            <p:spPr>
              <a:xfrm>
                <a:off x="1187280" y="5950080"/>
                <a:ext cx="1608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5"/>
              <p:cNvSpPr txBox="1"/>
              <p:nvPr/>
            </p:nvSpPr>
            <p:spPr>
              <a:xfrm>
                <a:off x="4788000" y="5950080"/>
                <a:ext cx="1030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26Z</dcterms:modified>
  <cp:revision>295</cp:revision>
  <dc:subject/>
  <dc:title>KČ</dc:title>
</cp:coreProperties>
</file>