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06F-DAA7-4106-BC9D-55FFAC0602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9FA-11D9-4AEA-8170-CBD2F2A5DF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322-B693-4E5C-95D0-A884C1D214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0E83-92CC-4DAB-B4EF-8D23C8424A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02F-6BEF-41E2-8D89-8A4A76F5FA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7A5-DCB2-4C91-A66E-7E021884AC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3B0-B270-4711-A7FD-D094DE50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E53-EF52-4B84-B3AD-F40BD627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60C-5628-48BE-B777-23B340C0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276-D41D-4FDB-9F0B-B9B9C35F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52D9-8FE4-48FE-844C-1BC7CD6F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A22-8150-4A11-B60E-BB25E4FA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7A2-1D95-429D-AAA7-A65F888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5871-CBBC-43A4-8624-97739CEE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017-09DC-43E5-9EA6-8CC2C1B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41B9-1004-4374-B160-CEE06047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3B75-087B-417C-8D17-9015008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B7D-AE64-4400-818E-F4F5FA4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D77D-1875-4F1A-9C58-4FAC591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68E7-0B1D-43CD-BE36-4C9DEC0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5A4-08B1-48D6-A013-4BA4A07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AD9-90E2-4962-B64F-B9C69732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D20-0C39-4803-B7BF-79F1E84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82A-D96D-4CC6-A05C-DDC046C7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ABA-9E60-4446-BF6B-CC206D6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99-E78C-4E48-8682-B6E490EE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AB5-9091-4F96-BD9C-3BBD2176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2F4-CA18-4E83-8CF3-AE975D0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B43-AF11-45CB-A5B6-77B43CD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49D-5BA9-4EFC-9A3A-ADC82CDE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6D4F-E305-400E-A9DD-031B4ECDA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172-0766-4A74-8474-37A5AFBD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58920" y="198900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93372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36840" y="128916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108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3840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2297160"/>
            <a:ext cx="0" cy="180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03280" y="229716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936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1916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08120" y="3952800"/>
            <a:ext cx="1728720" cy="10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8160" y="4437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36840" y="1628640"/>
            <a:ext cx="1522440" cy="23241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240" y="3097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Charakteristiky zápisu v AT,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700280"/>
            <a:ext cx="80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 KČ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46000" indent="-25344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Font typeface="Times New Roman"/>
              <a:buChar char="•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mé průměty obrazu daného KČ d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řadných o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040" y="19162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700280"/>
            <a:ext cx="80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T KČ 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1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cos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</a:t>
            </a:r>
            <a:r>
              <a:rPr b="0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in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spcBef>
                <a:spcPts val="1400"/>
              </a:spcBef>
              <a:buClr>
                <a:srgbClr val="66ff33"/>
              </a:buClr>
              <a:buFont typeface="Times New Roman"/>
              <a:buChar char="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dálenost daného KČ od počátku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buClr>
                <a:srgbClr val="66ff33"/>
              </a:buClr>
              <a:buFont typeface="Symbol" charset="2"/>
              <a:buChar char="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úhlu, který svírá vektor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pojující počátek a obraz daného KČ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 kladnou částí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3600" y="19162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(cos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in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5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5520" y="1916280"/>
            <a:ext cx="455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cos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9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348000" y="393372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618880" y="193572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7707240" y="128880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66880" y="2514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4120" y="25131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0720" y="24922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780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348000" y="227628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97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zápisu komplexního čísla v goniometrickém tvar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ky zápisu komplexních čísel; Komplexní jednotka; Obraz komplexního čísla; Vzdálenost komplexního čísla od počátku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oniometr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8760" y="220680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415116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06680" y="150660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0575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6320" y="2514600"/>
            <a:ext cx="0" cy="1800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3120" y="251460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200" y="41511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0200" y="213372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06680" y="1846080"/>
            <a:ext cx="1522440" cy="23238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3840" y="3575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080" y="33145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3880" y="20620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ledáme tvar zápisu, který bude používat nové charakteristiky: 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7840" y="415116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560" y="2709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7640" y="41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17840" y="249372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25840" y="2422440"/>
            <a:ext cx="144720" cy="142920"/>
            <a:chOff x="4425840" y="2422440"/>
            <a:chExt cx="144720" cy="142920"/>
          </a:xfrm>
        </p:grpSpPr>
        <p:sp>
          <p:nvSpPr>
            <p:cNvPr id="161" name=""/>
            <p:cNvSpPr/>
            <p:nvPr/>
          </p:nvSpPr>
          <p:spPr>
            <a:xfrm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16360" y="26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ze nalézt obraz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iným způsobem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dvození GT komplexního čísla </a:t>
            </a: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neme obraz M komplexní jednotk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za předpokladu, že velikosti úhlů, které svírají vektor OM a vektor OA s kladnou částí os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sou shod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4005360"/>
            <a:ext cx="8172360" cy="2560680"/>
            <a:chOff x="971640" y="4005360"/>
            <a:chExt cx="8172360" cy="2560680"/>
          </a:xfrm>
        </p:grpSpPr>
        <p:sp>
          <p:nvSpPr>
            <p:cNvPr id="167" name=""/>
            <p:cNvSpPr/>
            <p:nvPr/>
          </p:nvSpPr>
          <p:spPr>
            <a:xfrm>
              <a:off x="971640" y="4005360"/>
              <a:ext cx="8172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874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Obraz A daného KČ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nalezneme ve stejnolehlosti se středem v počátku a koeficientem podobnosti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27640" y="5229360"/>
                  <a:ext cx="15829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A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M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64160" y="1700280"/>
            <a:ext cx="20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91640" y="2131920"/>
            <a:ext cx="1081080" cy="165744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84644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14560" y="3789360"/>
            <a:ext cx="5329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92360" y="90792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668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9080" y="37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21542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46200" y="21542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0" y="383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184464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6920" y="32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5640" y="303876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9440" y="23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0720" y="379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90920" y="213336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98560" y="2062080"/>
            <a:ext cx="144720" cy="142920"/>
            <a:chOff x="4498560" y="2062080"/>
            <a:chExt cx="144720" cy="142920"/>
          </a:xfrm>
        </p:grpSpPr>
        <p:sp>
          <p:nvSpPr>
            <p:cNvPr id="186" name=""/>
            <p:cNvSpPr/>
            <p:nvPr/>
          </p:nvSpPr>
          <p:spPr>
            <a:xfrm>
              <a:off x="449892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9856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M je obrazem komplexní jednotky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3860640"/>
            <a:ext cx="2887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1557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3800" y="5445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080" y="386064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5080" y="3789360"/>
            <a:ext cx="208728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7120" y="32130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565360"/>
            <a:ext cx="2556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čivo 2. ročníku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oniometrick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c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ecného úh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souřadnice 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jednotkov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ružnic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6600" y="6093000"/>
                <a:ext cx="20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564240" y="6093000"/>
                <a:ext cx="25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589440" y="1700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3347280" y="1125360"/>
            <a:ext cx="1655640" cy="2592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47280" y="2060640"/>
            <a:ext cx="1079640" cy="16574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21000" y="977760"/>
            <a:ext cx="1800360" cy="27352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0480" y="177156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42840" y="3714840"/>
            <a:ext cx="532944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21000" y="83340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4080" y="61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7720" y="3641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2060640"/>
            <a:ext cx="0" cy="1800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03280" y="20606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1840" y="376380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2080" y="169848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5200" y="313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4280" y="296424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900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356000" y="1989000"/>
            <a:ext cx="144720" cy="142920"/>
            <a:chOff x="4356000" y="1989000"/>
            <a:chExt cx="144720" cy="142920"/>
          </a:xfrm>
        </p:grpSpPr>
        <p:sp>
          <p:nvSpPr>
            <p:cNvPr id="216" name=""/>
            <p:cNvSpPr/>
            <p:nvPr/>
          </p:nvSpPr>
          <p:spPr>
            <a:xfrm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1233000" y="3714840"/>
            <a:ext cx="208764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1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12600" y="1773360"/>
            <a:ext cx="36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A je obrazem hledaného KČ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42920" y="5950080"/>
                <a:ext cx="810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24560" y="2854440"/>
                <a:ext cx="1298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4581360"/>
                <a:ext cx="15004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794200" y="5157720"/>
                <a:ext cx="15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648560" y="2854440"/>
                <a:ext cx="7221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17080" y="3141720"/>
                <a:ext cx="663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78560" y="4581360"/>
                <a:ext cx="1586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78560" y="5157720"/>
                <a:ext cx="152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932000" y="1052640"/>
            <a:ext cx="144720" cy="142920"/>
            <a:chOff x="4932000" y="105264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493236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3200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03640" y="1125360"/>
            <a:ext cx="0" cy="273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640" y="112536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7720" y="378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83664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0760" y="765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92000">
            <a:off x="4026960" y="835200"/>
            <a:ext cx="120960" cy="3078000"/>
          </a:xfrm>
          <a:custGeom>
            <a:avLst/>
            <a:gdLst>
              <a:gd name="textAreaLeft" fmla="*/ 77400 w 120960"/>
              <a:gd name="textAreaRight" fmla="*/ 121320 w 120960"/>
              <a:gd name="textAreaTop" fmla="*/ 80280 h 3078000"/>
              <a:gd name="textAreaBottom" fmla="*/ 2997720 h 30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8360" y="10526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0400" y="24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trojúhelníky podobné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421000"/>
            <a:ext cx="1079640" cy="21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781000"/>
            <a:ext cx="1655640" cy="43164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2000">
            <a:off x="3568680" y="1817280"/>
            <a:ext cx="306360" cy="19638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1120 h 1963800"/>
              <a:gd name="textAreaBottom" fmla="*/ 1912680 h 19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91"/>
                </a:lnTo>
                <a:cubicBezTo>
                  <a:pt x="10800" y="8991"/>
                  <a:pt x="5400" y="9891"/>
                  <a:pt x="0" y="9891"/>
                </a:cubicBezTo>
                <a:cubicBezTo>
                  <a:pt x="5400" y="9891"/>
                  <a:pt x="10800" y="10791"/>
                  <a:pt x="10800" y="116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48000" y="2060280"/>
            <a:ext cx="1079640" cy="1654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148608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0880" y="537372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4000" y="3789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189000"/>
            <a:ext cx="7988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Goniometr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G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341360"/>
            <a:ext cx="81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zápis:                                             , kd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285920"/>
                <a:ext cx="453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971640" y="2708280"/>
            <a:ext cx="8172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43200" indent="-338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zdálenost KČ od počátku,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1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ždy číslo kladné)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43200" indent="-33804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argument KČ – úhel, který svírá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ektor 0A s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adnou částí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545120" indent="-42948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150000"/>
              <a:buFont typeface="Times New Roman"/>
              <a:buChar char="!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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základní argumen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ZOR!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276640"/>
            <a:ext cx="77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3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omplexnímu číslu 0 nepřiřazujeme goniometrický tvar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57Z</dcterms:modified>
  <cp:revision>296</cp:revision>
  <dc:subject/>
  <dc:title>KČ</dc:title>
</cp:coreProperties>
</file>