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10A8-D9D6-41F1-A0D8-EDCF82D066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B8D6-E3F8-4221-B088-3126072E66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BB77-FAFE-4B09-8C14-C159C9CDEC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619A-B19E-4F10-B514-4C38D7CC6C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D928-9E02-453B-92D3-F0EFBA4631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00B8-F6F9-4826-9806-F7B3D278B3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F8B-932C-47AA-AE46-71E0BF94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06F-7354-40A0-948D-2EFB59C7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AEA-D1E9-4B5F-A7FD-DA235723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9AB-1895-419D-A6C8-1A8D3C42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496D-B354-4790-B94F-B6C47F09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5785-B9FA-4BD1-9CF9-DE23E3D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C56-4A41-46B7-879A-EA78790D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7EBB-CA00-4CE8-BDAA-833C31D2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67F-8C22-4B29-AA30-2E4DD8F4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64C4-3610-4DDD-B89C-2DC92519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099-AF96-4DA7-85D9-0E98C36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932-AE81-4A2D-8898-F354306D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5147-5AC2-473F-9837-6D2E24F3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6A7F-06C5-4101-AD62-B20E8AF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1EE-8D64-4434-8384-4CB4A6F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8ED-0D45-4AAD-ADA8-7FBC9F05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EE3C-9C54-45EC-8E9F-5B533B00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AC5-5215-4766-8BF4-E657C767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120-5D44-48D0-962E-7A3D711D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FC1-D4F0-45A5-A1CF-20E97D9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0D9-BF69-498D-8FEC-083DD9B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A51-F382-4D0E-8213-FFE2317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912-3017-4122-9231-DA94804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206-0590-4BE8-86AF-7428F53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A474-4BB5-4016-8B8B-844C55E4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0D0-956E-4BD7-9484-9E0B00D6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a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eálná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333360"/>
            <a:ext cx="521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reálnou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reálné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42920" y="1773360"/>
            <a:ext cx="5693040" cy="4938480"/>
            <a:chOff x="1042920" y="1773360"/>
            <a:chExt cx="5693040" cy="4938480"/>
          </a:xfrm>
        </p:grpSpPr>
        <p:sp>
          <p:nvSpPr>
            <p:cNvPr id="365" name=""/>
            <p:cNvSpPr/>
            <p:nvPr/>
          </p:nvSpPr>
          <p:spPr>
            <a:xfrm>
              <a:off x="4703760" y="2859120"/>
              <a:ext cx="0" cy="1827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35360" y="2859120"/>
              <a:ext cx="9684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89920" y="2416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643280" y="2803680"/>
              <a:ext cx="120960" cy="110880"/>
              <a:chOff x="4643280" y="2803680"/>
              <a:chExt cx="120960" cy="1108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042920" y="4686480"/>
              <a:ext cx="558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40040" y="1940040"/>
              <a:ext cx="5040" cy="468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784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9520" y="4629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5080" y="274788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232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36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8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328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24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52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682800" y="64562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682800" y="601200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682800" y="55706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682800" y="51292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82800" y="418788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682800" y="37450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82800" y="33019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682800" y="241632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82800" y="28591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764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978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784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63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6800" y="4076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6800" y="363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6800" y="319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6800" y="230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4720" y="63435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4720" y="59022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4720" y="5460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4720" y="5019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2400" y="47401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0496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580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3640" y="3745080"/>
              <a:ext cx="0" cy="93960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3640" y="3745080"/>
              <a:ext cx="14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242800" y="3689280"/>
              <a:ext cx="120960" cy="109440"/>
              <a:chOff x="2242800" y="3689280"/>
              <a:chExt cx="120960" cy="109440"/>
            </a:xfrm>
          </p:grpSpPr>
          <p:sp>
            <p:nvSpPr>
              <p:cNvPr id="417" name=""/>
              <p:cNvSpPr/>
              <p:nvPr/>
            </p:nvSpPr>
            <p:spPr>
              <a:xfrm>
                <a:off x="224316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24280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022840" y="33019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3160" y="4686480"/>
              <a:ext cx="0" cy="8841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3160" y="5570640"/>
              <a:ext cx="23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65600" y="562608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283760" y="5514840"/>
              <a:ext cx="119520" cy="109800"/>
              <a:chOff x="1283760" y="5514840"/>
              <a:chExt cx="119520" cy="109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28412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28376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183280" y="4686480"/>
              <a:ext cx="0" cy="132552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5080" y="6012000"/>
              <a:ext cx="1438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124600" y="5958000"/>
              <a:ext cx="118800" cy="109440"/>
              <a:chOff x="5124600" y="5958000"/>
              <a:chExt cx="118800" cy="109440"/>
            </a:xfrm>
          </p:grpSpPr>
          <p:sp>
            <p:nvSpPr>
              <p:cNvPr id="429" name=""/>
              <p:cNvSpPr/>
              <p:nvPr/>
            </p:nvSpPr>
            <p:spPr>
              <a:xfrm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896720" y="60688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682800" y="4130640"/>
              <a:ext cx="120960" cy="109440"/>
              <a:chOff x="3682800" y="4130640"/>
              <a:chExt cx="120960" cy="109440"/>
            </a:xfrm>
          </p:grpSpPr>
          <p:sp>
            <p:nvSpPr>
              <p:cNvPr id="433" name=""/>
              <p:cNvSpPr/>
              <p:nvPr/>
            </p:nvSpPr>
            <p:spPr>
              <a:xfrm>
                <a:off x="36831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68280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227400" y="396540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082920" y="4629240"/>
              <a:ext cx="120960" cy="109440"/>
              <a:chOff x="6082920" y="4629240"/>
              <a:chExt cx="120960" cy="109440"/>
            </a:xfrm>
          </p:grpSpPr>
          <p:sp>
            <p:nvSpPr>
              <p:cNvPr id="437" name=""/>
              <p:cNvSpPr/>
              <p:nvPr/>
            </p:nvSpPr>
            <p:spPr>
              <a:xfrm>
                <a:off x="608328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0829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803200" y="41832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3440" y="307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82800" y="3246480"/>
              <a:ext cx="120960" cy="109440"/>
              <a:chOff x="3682800" y="3246480"/>
              <a:chExt cx="120960" cy="109440"/>
            </a:xfrm>
          </p:grpSpPr>
          <p:sp>
            <p:nvSpPr>
              <p:cNvPr id="442" name=""/>
              <p:cNvSpPr/>
              <p:nvPr/>
            </p:nvSpPr>
            <p:spPr>
              <a:xfrm>
                <a:off x="368316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368280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3760" y="4629240"/>
              <a:ext cx="120960" cy="109440"/>
              <a:chOff x="2723760" y="4629240"/>
              <a:chExt cx="120960" cy="10944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1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72376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625120" y="424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22800" y="4187880"/>
              <a:ext cx="0" cy="55224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744720" y="4187880"/>
              <a:ext cx="47772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6920" y="3689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163760" y="4130640"/>
              <a:ext cx="120960" cy="109440"/>
              <a:chOff x="4163760" y="4130640"/>
              <a:chExt cx="120960" cy="109440"/>
            </a:xfrm>
          </p:grpSpPr>
          <p:sp>
            <p:nvSpPr>
              <p:cNvPr id="452" name=""/>
              <p:cNvSpPr/>
              <p:nvPr/>
            </p:nvSpPr>
            <p:spPr>
              <a:xfrm>
                <a:off x="416412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1637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3132000" y="49417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682800" y="5072040"/>
              <a:ext cx="120960" cy="111240"/>
              <a:chOff x="3682800" y="5072040"/>
              <a:chExt cx="120960" cy="111240"/>
            </a:xfrm>
          </p:grpSpPr>
          <p:sp>
            <p:nvSpPr>
              <p:cNvPr id="456" name=""/>
              <p:cNvSpPr/>
              <p:nvPr/>
            </p:nvSpPr>
            <p:spPr>
              <a:xfrm>
                <a:off x="368316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68280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782800" y="2416320"/>
              <a:ext cx="0" cy="2268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2416320"/>
              <a:ext cx="95256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41960" y="19731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723760" y="2360520"/>
              <a:ext cx="120960" cy="109800"/>
              <a:chOff x="2723760" y="2360520"/>
              <a:chExt cx="120960" cy="109800"/>
            </a:xfrm>
          </p:grpSpPr>
          <p:sp>
            <p:nvSpPr>
              <p:cNvPr id="462" name=""/>
              <p:cNvSpPr/>
              <p:nvPr/>
            </p:nvSpPr>
            <p:spPr>
              <a:xfrm>
                <a:off x="272412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72376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263760" y="4686480"/>
              <a:ext cx="0" cy="17697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3760" y="6456240"/>
              <a:ext cx="47304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2880" y="616572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203280" y="6400800"/>
              <a:ext cx="120960" cy="109440"/>
              <a:chOff x="3203280" y="6400800"/>
              <a:chExt cx="120960" cy="109440"/>
            </a:xfrm>
          </p:grpSpPr>
          <p:sp>
            <p:nvSpPr>
              <p:cNvPr id="468" name=""/>
              <p:cNvSpPr/>
              <p:nvPr/>
            </p:nvSpPr>
            <p:spPr>
              <a:xfrm>
                <a:off x="320364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20328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627280" y="4149720"/>
            <a:ext cx="504720" cy="100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123">
                <a:moveTo>
                  <a:pt x="3600" y="0"/>
                </a:moveTo>
                <a:arcTo wR="3600" hR="3600" stAng="16200000" swAng="-5400000"/>
                <a:lnTo>
                  <a:pt x="0" y="39523"/>
                </a:lnTo>
                <a:arcTo wR="3600" hR="3600" stAng="10800000" swAng="-5400000"/>
                <a:lnTo>
                  <a:pt x="18000" y="43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4149720"/>
            <a:ext cx="505080" cy="100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55600" y="26028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–2,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765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yze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83664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imaginární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49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48000" y="400536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1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600" y="76500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–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1341360"/>
            <a:ext cx="45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obě část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mimo os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7640" y="2421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2720" y="3213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5445000"/>
            <a:ext cx="504720" cy="64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27">
                <a:moveTo>
                  <a:pt x="3600" y="0"/>
                </a:moveTo>
                <a:arcTo wR="3600" hR="3600" stAng="16200000" swAng="-5400000"/>
                <a:lnTo>
                  <a:pt x="0" y="24127"/>
                </a:lnTo>
                <a:arcTo wR="3600" hR="3600" stAng="10800000" swAng="-5400000"/>
                <a:lnTo>
                  <a:pt x="18000" y="27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5877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95640" y="3716280"/>
            <a:ext cx="505080" cy="647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692">
                <a:moveTo>
                  <a:pt x="3600" y="0"/>
                </a:moveTo>
                <a:arcTo wR="3600" hR="3600" stAng="16200000" swAng="-5400000"/>
                <a:lnTo>
                  <a:pt x="0" y="24092"/>
                </a:lnTo>
                <a:arcTo wR="3600" hR="3600" stAng="10800000" swAng="-5400000"/>
                <a:lnTo>
                  <a:pt x="18000" y="27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1989000"/>
            <a:ext cx="505080" cy="64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08">
                <a:moveTo>
                  <a:pt x="3600" y="0"/>
                </a:moveTo>
                <a:arcTo wR="3600" hR="3600" stAng="16200000" swAng="-5400000"/>
                <a:lnTo>
                  <a:pt x="0" y="24108"/>
                </a:lnTo>
                <a:arcTo wR="3600" hR="3600" stAng="10800000" swAng="-5400000"/>
                <a:lnTo>
                  <a:pt x="18000" y="27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1640" y="6165720"/>
            <a:ext cx="649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1268280"/>
            <a:ext cx="7988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2 +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3 +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5 –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3 –3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1 +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, m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2 + 5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1 –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1268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bylo a) reálné, b) ryze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258920" y="1092240"/>
                <a:ext cx="375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690560" y="2676600"/>
                <a:ext cx="213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889360" y="3119400"/>
                <a:ext cx="10332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364000" y="2421000"/>
                <a:ext cx="2067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938920" y="3573360"/>
                <a:ext cx="1503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515280" y="4216320"/>
                <a:ext cx="971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258920" y="981000"/>
                <a:ext cx="360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705640" y="2365200"/>
                <a:ext cx="2662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651640" y="3284640"/>
                <a:ext cx="2725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92360" y="2276640"/>
                <a:ext cx="2035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27440" y="3468600"/>
                <a:ext cx="876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451640" y="4149720"/>
                <a:ext cx="1158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836720" y="404352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187280" y="1125360"/>
                <a:ext cx="422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87840" y="2349360"/>
                <a:ext cx="222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692360" y="2421000"/>
                <a:ext cx="24732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984320" y="3473280"/>
                <a:ext cx="222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5796000" y="537372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013120" y="4292640"/>
                <a:ext cx="2471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5435640" y="3213000"/>
            <a:ext cx="37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lze rozložit na souč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35640" y="3789360"/>
            <a:ext cx="37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řeny neexistuj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011240" y="906480"/>
                <a:ext cx="4919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05480" y="2130480"/>
                <a:ext cx="2189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659640" y="5300640"/>
                <a:ext cx="1158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347840" y="2421000"/>
                <a:ext cx="3162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547640" y="3429000"/>
                <a:ext cx="2940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920960" y="4292640"/>
                <a:ext cx="2655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443640" y="4292640"/>
                <a:ext cx="13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6012000" y="3357720"/>
                <a:ext cx="1657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042920" y="765000"/>
                <a:ext cx="4919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987800" y="1917720"/>
                <a:ext cx="322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403280" y="2060640"/>
                <a:ext cx="2129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27280" y="3933720"/>
                <a:ext cx="969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433600" y="2997360"/>
                <a:ext cx="115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508720" y="29973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580000" y="3860640"/>
                <a:ext cx="19083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526000" y="4979880"/>
                <a:ext cx="2532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258920" y="260280"/>
                <a:ext cx="5923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35280" y="4768920"/>
                <a:ext cx="3222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92360" y="1268280"/>
                <a:ext cx="3162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268360" y="5634000"/>
                <a:ext cx="3848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195640" y="3357720"/>
                <a:ext cx="27525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  <m:r>
                      <m:rPr>
                        <m:lit/>
                        <m:nor/>
                      </m:rPr>
                      <m:t xml:space="preserve">;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1989000"/>
                <a:ext cx="375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2565360"/>
                <a:ext cx="22208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2195640" y="61372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KČ mělo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reálnou složku nezáporno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imaginární složku kladn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187280" y="549360"/>
                <a:ext cx="3759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430280" y="1916280"/>
                <a:ext cx="197316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484360" y="3933720"/>
                <a:ext cx="939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359320" y="2171880"/>
                <a:ext cx="213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195640" y="4724280"/>
                <a:ext cx="156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08000" y="3141720"/>
                <a:ext cx="147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659640" y="2997360"/>
                <a:ext cx="1128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659640" y="3645000"/>
                <a:ext cx="10033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84720" y="4941720"/>
                <a:ext cx="2035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634160" cy="5149800"/>
        </p:xfrm>
        <a:graphic>
          <a:graphicData uri="http://schemas.openxmlformats.org/drawingml/2006/table">
            <a:tbl>
              <a:tblPr/>
              <a:tblGrid>
                <a:gridCol w="3097080"/>
                <a:gridCol w="453708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braický tvar komplexníh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 Příklady jsou sestaveny tak, aby si žáci procvičili novou látku, ale také zopakovali řešení rovnic a nerovnic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ický tvar komplexního čísla – reálná a imaginární část; Komplexní číslo – ryze imaginární, imaginární, reáln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260280"/>
                <a:ext cx="4103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187280" y="1557360"/>
                <a:ext cx="2160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84720" y="1700280"/>
                <a:ext cx="2381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763640" y="5373720"/>
                <a:ext cx="181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495440" y="2637000"/>
                <a:ext cx="168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6438960" y="234936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614920" y="5516640"/>
                <a:ext cx="3194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54" name=""/>
          <p:cNvGrpSpPr/>
          <p:nvPr/>
        </p:nvGrpSpPr>
        <p:grpSpPr>
          <a:xfrm>
            <a:off x="1332000" y="4076640"/>
            <a:ext cx="3095640" cy="1150920"/>
            <a:chOff x="1332000" y="4076640"/>
            <a:chExt cx="3095640" cy="1150920"/>
          </a:xfrm>
        </p:grpSpPr>
        <p:sp>
          <p:nvSpPr>
            <p:cNvPr id="555" name=""/>
            <p:cNvSpPr/>
            <p:nvPr/>
          </p:nvSpPr>
          <p:spPr>
            <a:xfrm>
              <a:off x="1332000" y="421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1979640" y="4508280"/>
                  <a:ext cx="4082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3132360" y="4435200"/>
                  <a:ext cx="3063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26872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4836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836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2072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700360" y="3787920"/>
            <a:ext cx="289080" cy="288720"/>
            <a:chOff x="2700360" y="3787920"/>
            <a:chExt cx="289080" cy="288720"/>
          </a:xfrm>
        </p:grpSpPr>
        <p:sp>
          <p:nvSpPr>
            <p:cNvPr id="563" name=""/>
            <p:cNvSpPr/>
            <p:nvPr/>
          </p:nvSpPr>
          <p:spPr>
            <a:xfrm>
              <a:off x="2700360" y="393228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44720" y="3787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924360" y="1628640"/>
                <a:ext cx="888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516720" y="3141720"/>
                <a:ext cx="1440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7" name=""/>
          <p:cNvGrpSpPr/>
          <p:nvPr/>
        </p:nvGrpSpPr>
        <p:grpSpPr>
          <a:xfrm>
            <a:off x="5796000" y="4076640"/>
            <a:ext cx="3095640" cy="824040"/>
            <a:chOff x="5796000" y="4076640"/>
            <a:chExt cx="3095640" cy="824040"/>
          </a:xfrm>
        </p:grpSpPr>
        <p:sp>
          <p:nvSpPr>
            <p:cNvPr id="568" name=""/>
            <p:cNvSpPr/>
            <p:nvPr/>
          </p:nvSpPr>
          <p:spPr>
            <a:xfrm>
              <a:off x="5796000" y="421956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443640" y="450864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"/>
            <p:cNvSpPr/>
            <p:nvPr/>
          </p:nvSpPr>
          <p:spPr>
            <a:xfrm>
              <a:off x="673272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1200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7667640" y="4508640"/>
                  <a:ext cx="2808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>
            <a:off x="7093080" y="393372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244000" y="3789360"/>
            <a:ext cx="288720" cy="288720"/>
            <a:chOff x="8244000" y="3789360"/>
            <a:chExt cx="288720" cy="288720"/>
          </a:xfrm>
        </p:grpSpPr>
        <p:sp>
          <p:nvSpPr>
            <p:cNvPr id="575" name=""/>
            <p:cNvSpPr/>
            <p:nvPr/>
          </p:nvSpPr>
          <p:spPr>
            <a:xfrm>
              <a:off x="8244000" y="393372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800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084720" y="3789360"/>
            <a:ext cx="289080" cy="288720"/>
            <a:chOff x="6084720" y="3789360"/>
            <a:chExt cx="289080" cy="288720"/>
          </a:xfrm>
        </p:grpSpPr>
        <p:sp>
          <p:nvSpPr>
            <p:cNvPr id="578" name=""/>
            <p:cNvSpPr/>
            <p:nvPr/>
          </p:nvSpPr>
          <p:spPr>
            <a:xfrm>
              <a:off x="6084720" y="393372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908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700360" y="1628640"/>
            <a:ext cx="289080" cy="288720"/>
            <a:chOff x="2700360" y="1628640"/>
            <a:chExt cx="289080" cy="288720"/>
          </a:xfrm>
        </p:grpSpPr>
        <p:sp>
          <p:nvSpPr>
            <p:cNvPr id="581" name=""/>
            <p:cNvSpPr/>
            <p:nvPr/>
          </p:nvSpPr>
          <p:spPr>
            <a:xfrm>
              <a:off x="270036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472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885080" y="1628640"/>
            <a:ext cx="289080" cy="288720"/>
            <a:chOff x="7885080" y="1628640"/>
            <a:chExt cx="289080" cy="288720"/>
          </a:xfrm>
        </p:grpSpPr>
        <p:sp>
          <p:nvSpPr>
            <p:cNvPr id="584" name=""/>
            <p:cNvSpPr/>
            <p:nvPr/>
          </p:nvSpPr>
          <p:spPr>
            <a:xfrm>
              <a:off x="788508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2944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042920" y="260280"/>
                <a:ext cx="551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258920" y="1125360"/>
                <a:ext cx="30369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651640" y="1052640"/>
                <a:ext cx="2882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57480" y="5475240"/>
                <a:ext cx="3352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∪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940360" y="1773360"/>
                <a:ext cx="2635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796000" y="486900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888160" y="2492280"/>
                <a:ext cx="163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5867280" y="3716280"/>
            <a:ext cx="3095640" cy="824040"/>
            <a:chOff x="5867280" y="3716280"/>
            <a:chExt cx="3095640" cy="824040"/>
          </a:xfrm>
        </p:grpSpPr>
        <p:sp>
          <p:nvSpPr>
            <p:cNvPr id="594" name=""/>
            <p:cNvSpPr/>
            <p:nvPr/>
          </p:nvSpPr>
          <p:spPr>
            <a:xfrm>
              <a:off x="5867280" y="385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6514920" y="414828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680400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8328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7781760" y="4160880"/>
                  <a:ext cx="1951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9" name="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315280" y="3429000"/>
            <a:ext cx="289080" cy="288720"/>
            <a:chOff x="8315280" y="3429000"/>
            <a:chExt cx="289080" cy="288720"/>
          </a:xfrm>
        </p:grpSpPr>
        <p:sp>
          <p:nvSpPr>
            <p:cNvPr id="601" name=""/>
            <p:cNvSpPr/>
            <p:nvPr/>
          </p:nvSpPr>
          <p:spPr>
            <a:xfrm>
              <a:off x="8315280" y="357336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5964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56360" y="3429000"/>
            <a:ext cx="288720" cy="288720"/>
            <a:chOff x="6156360" y="3429000"/>
            <a:chExt cx="288720" cy="288720"/>
          </a:xfrm>
        </p:grpSpPr>
        <p:sp>
          <p:nvSpPr>
            <p:cNvPr id="604" name=""/>
            <p:cNvSpPr/>
            <p:nvPr/>
          </p:nvSpPr>
          <p:spPr>
            <a:xfrm>
              <a:off x="6156360" y="357336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0036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1619280" y="2060640"/>
                <a:ext cx="3024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619280" y="2708280"/>
                <a:ext cx="2557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8" name=""/>
          <p:cNvGrpSpPr/>
          <p:nvPr/>
        </p:nvGrpSpPr>
        <p:grpSpPr>
          <a:xfrm>
            <a:off x="1546200" y="4435560"/>
            <a:ext cx="3095640" cy="1009080"/>
            <a:chOff x="1546200" y="4435560"/>
            <a:chExt cx="3095640" cy="1009080"/>
          </a:xfrm>
        </p:grpSpPr>
        <p:sp>
          <p:nvSpPr>
            <p:cNvPr id="609" name=""/>
            <p:cNvSpPr/>
            <p:nvPr/>
          </p:nvSpPr>
          <p:spPr>
            <a:xfrm>
              <a:off x="1546200" y="457812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2194200" y="4724280"/>
                  <a:ext cx="465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248292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6256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418200" y="4868640"/>
                  <a:ext cx="2808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4" name=""/>
          <p:cNvSpPr/>
          <p:nvPr/>
        </p:nvSpPr>
        <p:spPr>
          <a:xfrm>
            <a:off x="2843280" y="429264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994200" y="4148280"/>
            <a:ext cx="288720" cy="288720"/>
            <a:chOff x="3994200" y="4148280"/>
            <a:chExt cx="288720" cy="288720"/>
          </a:xfrm>
        </p:grpSpPr>
        <p:sp>
          <p:nvSpPr>
            <p:cNvPr id="616" name=""/>
            <p:cNvSpPr/>
            <p:nvPr/>
          </p:nvSpPr>
          <p:spPr>
            <a:xfrm>
              <a:off x="399420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3820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35280" y="4148280"/>
            <a:ext cx="288720" cy="288720"/>
            <a:chOff x="1835280" y="4148280"/>
            <a:chExt cx="288720" cy="288720"/>
          </a:xfrm>
        </p:grpSpPr>
        <p:sp>
          <p:nvSpPr>
            <p:cNvPr id="619" name=""/>
            <p:cNvSpPr/>
            <p:nvPr/>
          </p:nvSpPr>
          <p:spPr>
            <a:xfrm>
              <a:off x="183528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7928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780000" y="981000"/>
            <a:ext cx="288720" cy="288720"/>
            <a:chOff x="3780000" y="981000"/>
            <a:chExt cx="288720" cy="288720"/>
          </a:xfrm>
        </p:grpSpPr>
        <p:sp>
          <p:nvSpPr>
            <p:cNvPr id="622" name=""/>
            <p:cNvSpPr/>
            <p:nvPr/>
          </p:nvSpPr>
          <p:spPr>
            <a:xfrm>
              <a:off x="378000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400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956720" y="981000"/>
            <a:ext cx="288720" cy="288720"/>
            <a:chOff x="7956720" y="981000"/>
            <a:chExt cx="288720" cy="288720"/>
          </a:xfrm>
        </p:grpSpPr>
        <p:sp>
          <p:nvSpPr>
            <p:cNvPr id="625" name=""/>
            <p:cNvSpPr/>
            <p:nvPr/>
          </p:nvSpPr>
          <p:spPr>
            <a:xfrm>
              <a:off x="795672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072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lgebra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lgebra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A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87280" y="1341360"/>
            <a:ext cx="7701120" cy="792360"/>
            <a:chOff x="1187280" y="1341360"/>
            <a:chExt cx="7701120" cy="792360"/>
          </a:xfrm>
        </p:grpSpPr>
        <p:sp>
          <p:nvSpPr>
            <p:cNvPr id="144" name=""/>
            <p:cNvSpPr/>
            <p:nvPr/>
          </p:nvSpPr>
          <p:spPr>
            <a:xfrm>
              <a:off x="1187280" y="1341360"/>
              <a:ext cx="7701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se nazývá zápis:                           , kde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140360" y="1341360"/>
                  <a:ext cx="23763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47640" y="2349360"/>
            <a:ext cx="7452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álná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aginární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774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 slova latinského původu překlád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omplex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že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maginár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yslné, zdánlivé, neskuteč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62064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30000"/>
              </a:lnSpc>
              <a:tabLst>
                <a:tab algn="l" pos="0"/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em KČ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a = 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 Gaussově rovině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bod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763560"/>
            <a:ext cx="433440" cy="576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reálná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76356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8560" y="260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maginární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341360"/>
            <a:ext cx="722520" cy="439128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58560" y="551664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= reálná os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1280" y="1341360"/>
            <a:ext cx="647640" cy="23036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220500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maginární osa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5516640"/>
            <a:ext cx="3816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27640" y="2421000"/>
            <a:ext cx="0" cy="39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51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000" y="5516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8606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84720" y="3860640"/>
            <a:ext cx="11397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33680" y="3213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72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64000" y="3789360"/>
            <a:ext cx="144720" cy="142920"/>
            <a:chOff x="5364000" y="3789360"/>
            <a:chExt cx="144720" cy="142920"/>
          </a:xfrm>
        </p:grpSpPr>
        <p:sp>
          <p:nvSpPr>
            <p:cNvPr id="168" name=""/>
            <p:cNvSpPr/>
            <p:nvPr/>
          </p:nvSpPr>
          <p:spPr>
            <a:xfrm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ozlišujeme a v AT zapisujeme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197000"/>
            <a:ext cx="8028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eálná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5; ...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yze imaginární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imaginární: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+ i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...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, které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eleží na souřadných osá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421000"/>
            <a:ext cx="8028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) Sestrojte v Gaussově rovině obrazy KČ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 Vyberte, která ze zadaných KČ jsou            a) reálná, b) ryze imaginární, c)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16000" y="4005360"/>
            <a:ext cx="802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1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4005360"/>
            <a:ext cx="60120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5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1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–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5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1; –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052640"/>
            <a:ext cx="302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183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186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234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44880" y="20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189000"/>
            <a:ext cx="813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3668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052640"/>
            <a:ext cx="2017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 2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1052640"/>
            <a:ext cx="190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2;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3;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5; –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3; –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95640" y="378900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4941720"/>
            <a:ext cx="29415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243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8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003280" y="5516640"/>
            <a:ext cx="1800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249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59016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4005360"/>
            <a:ext cx="13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005360"/>
            <a:ext cx="18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258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261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309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61080" y="1989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95640" y="378936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95640" y="4941720"/>
            <a:ext cx="2869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0160" y="501336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316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5516640"/>
            <a:ext cx="17272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321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09520" y="5589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03640" y="3068640"/>
            <a:ext cx="144720" cy="142920"/>
            <a:chOff x="5003640" y="306864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02880" y="285264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329" name="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742520" y="3213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17002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03640" y="1916280"/>
            <a:ext cx="144720" cy="142560"/>
            <a:chOff x="5003640" y="191628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50920" y="3716280"/>
            <a:ext cx="144720" cy="142920"/>
            <a:chOff x="3850920" y="3716280"/>
            <a:chExt cx="144720" cy="142920"/>
          </a:xfrm>
        </p:grpSpPr>
        <p:sp>
          <p:nvSpPr>
            <p:cNvPr id="337" name=""/>
            <p:cNvSpPr/>
            <p:nvPr/>
          </p:nvSpPr>
          <p:spPr>
            <a:xfrm>
              <a:off x="3851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50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85344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141720"/>
            <a:ext cx="0" cy="718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76360" y="3141720"/>
            <a:ext cx="57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5760" y="249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79640" y="3068640"/>
            <a:ext cx="144720" cy="142920"/>
            <a:chOff x="5579640" y="3068640"/>
            <a:chExt cx="144720" cy="142920"/>
          </a:xfrm>
        </p:grpSpPr>
        <p:sp>
          <p:nvSpPr>
            <p:cNvPr id="344" name=""/>
            <p:cNvSpPr/>
            <p:nvPr/>
          </p:nvSpPr>
          <p:spPr>
            <a:xfrm>
              <a:off x="558000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57964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2880" y="4076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003640" y="4292640"/>
            <a:ext cx="144720" cy="142920"/>
            <a:chOff x="5003640" y="4292640"/>
            <a:chExt cx="144720" cy="142920"/>
          </a:xfrm>
        </p:grpSpPr>
        <p:sp>
          <p:nvSpPr>
            <p:cNvPr id="348" name=""/>
            <p:cNvSpPr/>
            <p:nvPr/>
          </p:nvSpPr>
          <p:spPr>
            <a:xfrm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924360" y="836640"/>
            <a:ext cx="0" cy="2951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24360" y="836640"/>
            <a:ext cx="1141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1720" y="26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52720" y="765000"/>
            <a:ext cx="144720" cy="142920"/>
            <a:chOff x="3852720" y="765000"/>
            <a:chExt cx="144720" cy="142920"/>
          </a:xfrm>
        </p:grpSpPr>
        <p:sp>
          <p:nvSpPr>
            <p:cNvPr id="354" name=""/>
            <p:cNvSpPr/>
            <p:nvPr/>
          </p:nvSpPr>
          <p:spPr>
            <a:xfrm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00720" y="3789360"/>
            <a:ext cx="0" cy="230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6093000"/>
            <a:ext cx="566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6880" y="580536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427280" y="6021360"/>
            <a:ext cx="144720" cy="142920"/>
            <a:chOff x="4427280" y="6021360"/>
            <a:chExt cx="144720" cy="142920"/>
          </a:xfrm>
        </p:grpSpPr>
        <p:sp>
          <p:nvSpPr>
            <p:cNvPr id="360" name=""/>
            <p:cNvSpPr/>
            <p:nvPr/>
          </p:nvSpPr>
          <p:spPr>
            <a:xfrm>
              <a:off x="442764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42728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14Z</dcterms:modified>
  <cp:revision>296</cp:revision>
  <dc:subject/>
  <dc:title>KČ</dc:title>
</cp:coreProperties>
</file>