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6637-DB34-4278-9F2E-AB63F43ADA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9B81-F209-481A-B654-4765A58BB91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9F8B-7017-40D5-8D6D-CC735505DA0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5D39-202D-44A3-BF1E-9DB54D5F1A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DCE8-C886-4ACB-AD2C-C2E883CF8C3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399-3E68-409D-A8DB-D3C03772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81D-FEBD-40CC-A0F5-AAE59154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A53-265D-416B-B6AC-83807EC5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FF1-9DB0-40B5-91B1-EBF7E6AD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432C-BE28-4F1E-9D8A-AC4618E7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5EFD-205F-4622-88E7-525AFF84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482C-A0BD-4556-AA2B-1CCBCE08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8203-0118-4EA7-A294-C458CD57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37D2-E05F-4CAE-A112-49F41A1D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1252-B08F-49F0-B865-2D1F8BFE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79FC-6E60-433B-89AF-E4201B14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68D-599D-49F6-9B6D-FA7D682E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B752-3C0C-4E53-89FE-9917DC0D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3F68-8A53-40DF-99A1-DE69D5A9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1137-1540-40A5-B41B-3E3B8D3A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C20A-BBE3-40CD-83B2-BF106662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8E5E-0103-40D4-9A04-E70BE25F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328-7A22-4B13-9E5D-8B33F530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DB5-BBFB-4A75-8076-2235BDE1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459-2817-4BA7-B29F-DED5C9A1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DF2-DF9D-4CC7-81F1-9E3CC6C3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0CA-990B-4F0D-B59D-D1981BD2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7F3-0473-4465-A6FF-3A143989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E0F-042D-4DF5-B5B7-A51C7323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9045-23E0-41A6-BE16-58FCCA5E0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F5BD-7AB8-4483-99E2-819740FDB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042920" y="981000"/>
                <a:ext cx="4967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A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042920" y="2421000"/>
                <a:ext cx="45007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042920" y="3762360"/>
                <a:ext cx="4033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42920" y="5229360"/>
                <a:ext cx="493416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6110280" y="907920"/>
            <a:ext cx="3033720" cy="5519880"/>
            <a:chOff x="6110280" y="907920"/>
            <a:chExt cx="3033720" cy="551988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6110280" y="907920"/>
                  <a:ext cx="303372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5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6156360" y="2781360"/>
                  <a:ext cx="12859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6227640" y="3795840"/>
                  <a:ext cx="128592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6227640" y="5300640"/>
                  <a:ext cx="2340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42920" y="549360"/>
                <a:ext cx="51008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42920" y="1700280"/>
                <a:ext cx="42004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042920" y="3429000"/>
                <a:ext cx="6426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16000" y="5157720"/>
                <a:ext cx="47340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6732720" y="549360"/>
            <a:ext cx="2411280" cy="5735520"/>
            <a:chOff x="6732720" y="549360"/>
            <a:chExt cx="2411280" cy="57355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6732720" y="549360"/>
                  <a:ext cx="21096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,5</m:t>
                      </m:r>
                      <m:r>
                        <m:t xml:space="preserve">−</m:t>
                      </m:r>
                      <m:r>
                        <m:t xml:space="preserve">3,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6754680" y="1779480"/>
                  <a:ext cx="138456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6804000" y="4149720"/>
                  <a:ext cx="234000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7</m:t>
                      </m:r>
                      <m:r>
                        <m:t xml:space="preserve">+</m:t>
                      </m:r>
                      <m:r>
                        <m:t xml:space="preserve">4,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6804000" y="5157720"/>
                  <a:ext cx="2340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187280" y="260280"/>
                <a:ext cx="44341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42920" y="1484280"/>
                <a:ext cx="52578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16000" y="3141720"/>
                <a:ext cx="47512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116000" y="4869000"/>
                <a:ext cx="61009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9" name=""/>
          <p:cNvGrpSpPr/>
          <p:nvPr/>
        </p:nvGrpSpPr>
        <p:grpSpPr>
          <a:xfrm>
            <a:off x="6659640" y="476280"/>
            <a:ext cx="2484360" cy="5715000"/>
            <a:chOff x="6659640" y="476280"/>
            <a:chExt cx="2484360" cy="571500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6659640" y="476280"/>
                  <a:ext cx="135072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6732720" y="1773360"/>
                  <a:ext cx="184608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6659640" y="3141720"/>
                  <a:ext cx="227484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7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770520" y="5661000"/>
                  <a:ext cx="2373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,5</m:t>
                      </m:r>
                      <m:r>
                        <m:t xml:space="preserve">+</m:t>
                      </m:r>
                      <m:r>
                        <m:t xml:space="preserve">5,8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277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goniometrického tvaru na tvar algebraick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; 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GT na 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tu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197000"/>
            <a:ext cx="8028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rgument KČ převeďte z obloukové míry na stupňovou pro lepší srozumitelnost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hodnoty goniometrických funkcí kosinus a sinus pomo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3520" indent="-53316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abulek – pro hodnoty argumentu 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6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jejich násobků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3520" indent="-53316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lkulátoru – pro zbylé hodnoty argument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znásobte tyto hodnoty vzdáleností KČ od počátk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835280" y="2494080"/>
                <a:ext cx="3382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2771640" y="1125360"/>
            <a:ext cx="360360" cy="93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35280"/>
              <a:gd name="textAreaBottom" fmla="*/ 918000 h 935280"/>
            </a:gdLst>
            <a:ahLst/>
            <a:rect l="textAreaLeft" t="textAreaTop" r="textAreaRight" b="textAreaBottom"/>
            <a:pathLst>
              <a:path w="21600" h="56026">
                <a:moveTo>
                  <a:pt x="3600" y="0"/>
                </a:moveTo>
                <a:arcTo wR="3600" hR="3600" stAng="16200000" swAng="-5400000"/>
                <a:lnTo>
                  <a:pt x="0" y="52426"/>
                </a:lnTo>
                <a:arcTo wR="3600" hR="3600" stAng="10800000" swAng="-5400000"/>
                <a:lnTo>
                  <a:pt x="18000" y="56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2494080"/>
            <a:ext cx="647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2060640"/>
            <a:ext cx="0" cy="4316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2349360"/>
            <a:ext cx="115236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314172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2349360"/>
            <a:ext cx="10792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779640" y="3141720"/>
            <a:ext cx="431640" cy="122400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89000"/>
            <a:ext cx="810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40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152360" y="1066680"/>
                <a:ext cx="3630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484360" y="350028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... tabulková hodnota – MFCHT, str. 3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6560" y="4367160"/>
                <a:ext cx="22240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243320" y="4367160"/>
                <a:ext cx="141912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859360" y="4727520"/>
                <a:ext cx="1776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2195640" y="4365720"/>
            <a:ext cx="647640" cy="1152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24">
                <a:moveTo>
                  <a:pt x="3600" y="0"/>
                </a:moveTo>
                <a:arcTo wR="3600" hR="3600" stAng="16200000" swAng="-5400000"/>
                <a:lnTo>
                  <a:pt x="0" y="34824"/>
                </a:lnTo>
                <a:arcTo wR="3600" hR="3600" stAng="10800000" swAng="-5400000"/>
                <a:lnTo>
                  <a:pt x="18000" y="38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4365720"/>
            <a:ext cx="431640" cy="1152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152360"/>
              <a:gd name="textAreaBottom" fmla="*/ 1131480 h 1152360"/>
            </a:gdLst>
            <a:ahLst/>
            <a:rect l="textAreaLeft" t="textAreaTop" r="textAreaRight" b="textAreaBottom"/>
            <a:pathLst>
              <a:path w="21600" h="57636">
                <a:moveTo>
                  <a:pt x="3600" y="0"/>
                </a:moveTo>
                <a:arcTo wR="3600" hR="3600" stAng="16200000" swAng="-5400000"/>
                <a:lnTo>
                  <a:pt x="0" y="54036"/>
                </a:lnTo>
                <a:arcTo wR="3600" hR="3600" stAng="10800000" swAng="-5400000"/>
                <a:lnTo>
                  <a:pt x="18000" y="57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71640" y="189000"/>
                <a:ext cx="4290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63640" y="1557360"/>
                <a:ext cx="39974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763640" y="2924280"/>
                <a:ext cx="20289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03640" y="2852640"/>
                <a:ext cx="771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2987640" y="26028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557360"/>
            <a:ext cx="64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268280"/>
            <a:ext cx="0" cy="2890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1413000"/>
            <a:ext cx="11527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29242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2205000"/>
            <a:ext cx="0" cy="719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1413000"/>
            <a:ext cx="1152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29242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635280" y="2205000"/>
            <a:ext cx="720720" cy="71928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40160" y="234936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... tabulková hodnota – MFCHT, str. 3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780000" y="2924280"/>
                <a:ext cx="1287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763640" y="5229360"/>
                <a:ext cx="50626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6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3</m:t>
                            </m:r>
                          </m:e>
                        </m:d>
                      </m:e>
                    </m:d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42920" y="4005360"/>
                <a:ext cx="5483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987640" y="4076640"/>
            <a:ext cx="12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5300640"/>
            <a:ext cx="1296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4581360"/>
            <a:ext cx="0" cy="719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076640"/>
            <a:ext cx="1296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5300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80000" y="4581360"/>
            <a:ext cx="0" cy="71928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20160" y="4653000"/>
            <a:ext cx="55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... není tabulková hodnota – kalkulát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63640" y="6093000"/>
                <a:ext cx="27417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1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00720" y="6019920"/>
                <a:ext cx="2063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,2</m:t>
                            </m:r>
                            <m:r>
                              <m:t xml:space="preserve">−</m:t>
                            </m:r>
                            <m:r>
                              <m:t xml:space="preserve">1,8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116000" y="3429000"/>
                <a:ext cx="46069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835280" y="4437000"/>
                <a:ext cx="4235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042920" y="189000"/>
                <a:ext cx="45165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835280" y="1246320"/>
                <a:ext cx="4235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03240" y="1712880"/>
                <a:ext cx="38592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796000" y="2046240"/>
                <a:ext cx="1512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08000" y="5300640"/>
                <a:ext cx="321660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48360" y="5353200"/>
                <a:ext cx="1855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451640" y="2158920"/>
                <a:ext cx="1692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202520" y="5661000"/>
                <a:ext cx="19414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16000" y="3141720"/>
                <a:ext cx="4886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35280" y="4221000"/>
                <a:ext cx="45450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835280" y="5300640"/>
                <a:ext cx="38289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651640" y="5445000"/>
                <a:ext cx="17128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451640" y="5445000"/>
                <a:ext cx="1368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116000" y="260280"/>
                <a:ext cx="4079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219640" y="549360"/>
                <a:ext cx="3579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08000" y="1197000"/>
                <a:ext cx="28306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788000" y="1197000"/>
                <a:ext cx="15364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77080" y="1557360"/>
                <a:ext cx="1776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42920" y="5445000"/>
            <a:ext cx="8101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7120" indent="-53172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 příkladů je zřejmé, že je mnohem snadnější převést zápis KČ z AT na GT než-li naopak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187280" y="2652840"/>
                <a:ext cx="54007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979640" y="3645000"/>
                <a:ext cx="48290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116000" y="260280"/>
                <a:ext cx="57103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,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835280" y="1341360"/>
                <a:ext cx="3967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,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71</m:t>
                        </m:r>
                      </m:e>
                    </m:d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867280" y="1341360"/>
                <a:ext cx="25448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4</m:t>
                    </m:r>
                    <m:r>
                      <m:t xml:space="preserve">i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79640" y="4149720"/>
                <a:ext cx="40672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084720" y="4149720"/>
                <a:ext cx="20671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1916280"/>
                <a:ext cx="1773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,8</m:t>
                            </m:r>
                            <m:r>
                              <m:t xml:space="preserve">+</m:t>
                            </m:r>
                            <m:r>
                              <m:t xml:space="preserve">0,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35280" y="765000"/>
                <a:ext cx="4741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,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21Z</dcterms:modified>
  <cp:revision>295</cp:revision>
  <dc:subject/>
  <dc:title>KČ</dc:title>
</cp:coreProperties>
</file>