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FB4E-7072-40B2-ABA0-20135707192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E7C0-0810-4D4A-BF3F-AD17256F8EB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CD55-8C10-4FFA-996F-231C2A82C2E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EFE4-5477-43EF-9B33-5BABEFF808E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9503-3F7F-4A91-BFE8-2FCF57061EB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4B78-6B5D-470F-BFBB-E44AD20B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FEAE-4D86-4E74-8224-7CBDBAC5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55D8-D374-4956-998B-C080FF0F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3D28-06A0-431A-8BEE-271C0A4F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4B48-2142-4D5A-A5BF-8E6E630A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9B22-94D9-4948-920A-CE62867B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6EAB-C521-431A-92A0-98C234B4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A401-55BC-4107-B036-31FE0839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847B-EB64-4BA7-9777-6961DEF3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15B8-79A9-4D9D-9A16-DEB4B3B9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25B0-BFC1-41DA-B8E9-84992154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D696-8124-4F7F-9BEE-004260B8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4CE6-E5A8-4276-A8A5-D4373DC4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6082-E7BA-4F1A-A618-D3DB5EF6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DC98-D5F4-4375-A518-CEFF974A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2938-4E86-4DDD-BE51-5F22FECA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0B12-FE08-4E80-8D37-F4C12ACA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C1E5-A194-4AE4-9767-502A8712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886C-9E2B-430A-AE96-1F7D0251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B0D0-6D2F-49E3-966D-BB4C9115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B58A-6B9D-4FE4-9C6A-F896D773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F5A2-BD6C-4B6E-B2A4-BA09636C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0979-70A8-437B-92FB-6A86CC99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283B-F178-41AC-8FBA-7CB1E4F3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5AAB-3C83-43EF-BF8B-D39F86B72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B998-870E-41DB-892A-DD075274F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9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87280" y="83664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Zápis komplexní čísl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87280" y="1989000"/>
            <a:ext cx="77011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Č zapisujeme dvěma způsoby a tudíž používám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72720" indent="-348840">
              <a:lnSpc>
                <a:spcPct val="120000"/>
              </a:lnSpc>
              <a:spcBef>
                <a:spcPts val="901"/>
              </a:spcBef>
              <a:buClr>
                <a:srgbClr val="0099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tvar algebraický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lvl="1" marL="972720" indent="-348840">
              <a:lnSpc>
                <a:spcPct val="120000"/>
              </a:lnSpc>
              <a:spcBef>
                <a:spcPts val="901"/>
              </a:spcBef>
              <a:buClr>
                <a:srgbClr val="0099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tvar goniometrický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Znázornění komplexní čísl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87280" y="1700280"/>
            <a:ext cx="7956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Č znázorňujeme jako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20000"/>
              </a:lnSpc>
              <a:spcBef>
                <a:spcPts val="901"/>
              </a:spcBef>
              <a:buClr>
                <a:srgbClr val="0099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dddddd"/>
                </a:solidFill>
                <a:uFillTx/>
                <a:latin typeface="Times New Roman"/>
              </a:rPr>
              <a:t>body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Gaussovy roviny,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20000"/>
              </a:lnSpc>
              <a:spcBef>
                <a:spcPts val="901"/>
              </a:spcBef>
              <a:buClr>
                <a:srgbClr val="0099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dddddd"/>
                </a:solidFill>
                <a:uFillTx/>
                <a:latin typeface="Times New Roman"/>
              </a:rPr>
              <a:t>vektory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Gaussovy roviny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dddddd"/>
                </a:solidFill>
                <a:uFillTx/>
                <a:latin typeface="Times New Roman"/>
              </a:rPr>
              <a:t>Gaussova rovin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0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,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ortogonální soustava souřadných os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, y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87280" y="83664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Druhy komplexních čísel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87280" y="1989000"/>
            <a:ext cx="77011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5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KČ imaginární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KČ ryze imaginární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KČ reálná ( R </a:t>
            </a:r>
            <a:r>
              <a:rPr b="0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C 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46120"/>
          <a:ext cx="7416720" cy="51688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Zavedení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or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komplexních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el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zopakuje známé číselné obory. Vysvětlí nutnost zavedení nového číselného oboru na konkrétním příkladu. Seznámí se základními druhy komplexních čísel, způsoby zápisu a znázorněním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elné obory; Potřeba komplexních čísel; Imaginární jednotka; Zápis, znázornění a druhy komplexních čísel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1117440" y="4681440"/>
            <a:ext cx="4695840" cy="2017800"/>
            <a:chOff x="1117440" y="4681440"/>
            <a:chExt cx="4695840" cy="2017800"/>
          </a:xfrm>
        </p:grpSpPr>
        <p:sp>
          <p:nvSpPr>
            <p:cNvPr id="142" name=""/>
            <p:cNvSpPr/>
            <p:nvPr/>
          </p:nvSpPr>
          <p:spPr>
            <a:xfrm>
              <a:off x="1349280" y="4681440"/>
              <a:ext cx="4464000" cy="20178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17440" y="6021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36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619280" y="4765680"/>
            <a:ext cx="3168720" cy="1800360"/>
            <a:chOff x="1619280" y="4765680"/>
            <a:chExt cx="3168720" cy="1800360"/>
          </a:xfrm>
        </p:grpSpPr>
        <p:sp>
          <p:nvSpPr>
            <p:cNvPr id="145" name=""/>
            <p:cNvSpPr/>
            <p:nvPr/>
          </p:nvSpPr>
          <p:spPr>
            <a:xfrm>
              <a:off x="1619280" y="4765680"/>
              <a:ext cx="3168720" cy="18003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79600" y="55580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172e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763640" y="4908600"/>
            <a:ext cx="2305080" cy="1295280"/>
            <a:chOff x="1763640" y="4908600"/>
            <a:chExt cx="2305080" cy="1295280"/>
          </a:xfrm>
        </p:grpSpPr>
        <p:sp>
          <p:nvSpPr>
            <p:cNvPr id="148" name=""/>
            <p:cNvSpPr/>
            <p:nvPr/>
          </p:nvSpPr>
          <p:spPr>
            <a:xfrm>
              <a:off x="1763640" y="4908600"/>
              <a:ext cx="2305080" cy="1295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4960" y="53402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172e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71280" y="1125360"/>
            <a:ext cx="8172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37680" indent="0">
              <a:lnSpc>
                <a:spcPct val="110000"/>
              </a:lnSpc>
              <a:buNone/>
              <a:tabLst>
                <a:tab algn="l" pos="0"/>
                <a:tab algn="l" pos="723960"/>
                <a:tab algn="l" pos="1434960"/>
                <a:tab algn="l" pos="34113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řirozená čísl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 =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; 2; 3; ..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}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37680" indent="0">
              <a:lnSpc>
                <a:spcPct val="110000"/>
              </a:lnSpc>
              <a:buNone/>
              <a:tabLst>
                <a:tab algn="l" pos="0"/>
                <a:tab algn="l" pos="723960"/>
                <a:tab algn="l" pos="1434960"/>
                <a:tab algn="l" pos="34113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celá čísl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 =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... – 2; – 1; 0; 1; 2 ..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}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37680" indent="0">
              <a:lnSpc>
                <a:spcPct val="110000"/>
              </a:lnSpc>
              <a:buNone/>
              <a:tabLst>
                <a:tab algn="l" pos="0"/>
                <a:tab algn="l" pos="723960"/>
                <a:tab algn="l" pos="1434960"/>
                <a:tab algn="l" pos="34113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racionální čísl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(zlomky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37680" indent="0">
              <a:lnSpc>
                <a:spcPct val="110000"/>
              </a:lnSpc>
              <a:buNone/>
              <a:tabLst>
                <a:tab algn="l" pos="0"/>
                <a:tab algn="l" pos="723960"/>
                <a:tab algn="l" pos="1434960"/>
                <a:tab algn="l" pos="34113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Q =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p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Z; q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N: p/q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}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37680" indent="0">
              <a:lnSpc>
                <a:spcPct val="110000"/>
              </a:lnSpc>
              <a:buNone/>
              <a:tabLst>
                <a:tab algn="l" pos="0"/>
                <a:tab algn="l" pos="723960"/>
                <a:tab algn="l" pos="1434960"/>
                <a:tab algn="l" pos="34113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iracionální čísl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konstanty, odmocniny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37680" indent="0">
              <a:lnSpc>
                <a:spcPct val="110000"/>
              </a:lnSpc>
              <a:buNone/>
              <a:tabLst>
                <a:tab algn="l" pos="0"/>
                <a:tab algn="l" pos="723960"/>
                <a:tab algn="l" pos="1434960"/>
                <a:tab algn="l" pos="34113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reálná čísl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 = (– ∞; +∞ 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4581360"/>
            <a:ext cx="3276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450720"/>
                <a:tab algn="l" pos="982800"/>
                <a:tab algn="l" pos="1433520"/>
                <a:tab algn="l" pos="1882800"/>
                <a:tab algn="l" pos="2333520"/>
                <a:tab algn="l" pos="278460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124000" y="5052960"/>
            <a:ext cx="1079640" cy="792000"/>
            <a:chOff x="2124000" y="5052960"/>
            <a:chExt cx="1079640" cy="792000"/>
          </a:xfrm>
        </p:grpSpPr>
        <p:sp>
          <p:nvSpPr>
            <p:cNvPr id="153" name=""/>
            <p:cNvSpPr/>
            <p:nvPr/>
          </p:nvSpPr>
          <p:spPr>
            <a:xfrm>
              <a:off x="2124000" y="5052960"/>
              <a:ext cx="1079640" cy="7920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28720" y="51973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172e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900000" y="189000"/>
            <a:ext cx="80596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Vývoj a přehled číselných oborů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861080" y="5197320"/>
            <a:ext cx="720720" cy="863640"/>
            <a:chOff x="4861080" y="5197320"/>
            <a:chExt cx="720720" cy="863640"/>
          </a:xfrm>
        </p:grpSpPr>
        <p:sp>
          <p:nvSpPr>
            <p:cNvPr id="157" name=""/>
            <p:cNvSpPr/>
            <p:nvPr/>
          </p:nvSpPr>
          <p:spPr>
            <a:xfrm>
              <a:off x="4861080" y="5197320"/>
              <a:ext cx="720720" cy="86364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8880" y="53416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172e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867280" y="4581360"/>
            <a:ext cx="3276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450720"/>
                <a:tab algn="l" pos="982800"/>
                <a:tab algn="l" pos="1433520"/>
                <a:tab algn="l" pos="1882800"/>
                <a:tab algn="l" pos="2333520"/>
                <a:tab algn="l" pos="278460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4581360"/>
            <a:ext cx="3276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450720"/>
                <a:tab algn="l" pos="982800"/>
                <a:tab algn="l" pos="1433520"/>
                <a:tab algn="l" pos="1882800"/>
                <a:tab algn="l" pos="2333520"/>
                <a:tab algn="l" pos="278460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5156280"/>
            <a:ext cx="3276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450720"/>
                <a:tab algn="l" pos="982800"/>
                <a:tab algn="l" pos="1433520"/>
                <a:tab algn="l" pos="1882800"/>
                <a:tab algn="l" pos="2333520"/>
                <a:tab algn="l" pos="278460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5877000"/>
            <a:ext cx="3276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450720"/>
                <a:tab algn="l" pos="982800"/>
                <a:tab algn="l" pos="1433520"/>
                <a:tab algn="l" pos="1882800"/>
                <a:tab algn="l" pos="2333520"/>
                <a:tab algn="l" pos="278460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Q 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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 I = 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1187280" y="1197000"/>
            <a:ext cx="7772400" cy="944640"/>
            <a:chOff x="1187280" y="1197000"/>
            <a:chExt cx="7772400" cy="944640"/>
          </a:xfrm>
        </p:grpSpPr>
        <p:sp>
          <p:nvSpPr>
            <p:cNvPr id="164" name=""/>
            <p:cNvSpPr/>
            <p:nvPr/>
          </p:nvSpPr>
          <p:spPr>
            <a:xfrm>
              <a:off x="1187280" y="1341360"/>
              <a:ext cx="77724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dddddd"/>
                  </a:solidFill>
                  <a:latin typeface="Times New Roman"/>
                </a:rPr>
                <a:t>Řešte rovnici:</a:t>
              </a:r>
              <a:endParaRPr b="0" lang="en-US" sz="36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4067280" y="1197000"/>
                  <a:ext cx="3671640" cy="75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9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6" name=""/>
          <p:cNvSpPr/>
          <p:nvPr/>
        </p:nvSpPr>
        <p:spPr>
          <a:xfrm>
            <a:off x="1187280" y="2637000"/>
            <a:ext cx="79567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dná se o úplnou kvadratickou rovnici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učivo 1. ročníku), kterou můžeme řešit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15840" indent="-2854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zkladem na součin pomocí Vietových vzorců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15840" indent="-2854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zorcem pro kořeny s diskriminantem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87280" y="189000"/>
            <a:ext cx="7772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Příklad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8728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Vietovy vzor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87280" y="1268280"/>
            <a:ext cx="7700760" cy="5195520"/>
            <a:chOff x="1187280" y="1268280"/>
            <a:chExt cx="7700760" cy="5195520"/>
          </a:xfrm>
        </p:grpSpPr>
        <p:sp>
          <p:nvSpPr>
            <p:cNvPr id="170" name=""/>
            <p:cNvSpPr/>
            <p:nvPr/>
          </p:nvSpPr>
          <p:spPr>
            <a:xfrm>
              <a:off x="1187280" y="1268280"/>
              <a:ext cx="770076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446040" indent="-446040">
                <a:lnSpc>
                  <a:spcPct val="120000"/>
                </a:lnSpc>
                <a:spcBef>
                  <a:spcPts val="799"/>
                </a:spcBef>
                <a:buClr>
                  <a:srgbClr val="0099cc"/>
                </a:buClr>
                <a:buSzPct val="8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V </a:t>
              </a:r>
              <a:r>
                <a:rPr b="0" i="1" lang="en-US" sz="3200" spc="-1" strike="noStrike" u="sng">
                  <a:solidFill>
                    <a:srgbClr val="dddddd"/>
                  </a:solidFill>
                  <a:uFillTx/>
                  <a:latin typeface="Times New Roman"/>
                </a:rPr>
                <a:t>normované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 kvadratické rovnici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marL="446040" indent="-446040">
                <a:lnSpc>
                  <a:spcPct val="12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marL="446040" indent="-446040">
                <a:lnSpc>
                  <a:spcPct val="12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platí vztah mezi kořeny (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dddddd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dddddd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) a koeficienty (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p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q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):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lvl="1" marL="972720" indent="-348840">
                <a:lnSpc>
                  <a:spcPct val="120000"/>
                </a:lnSpc>
                <a:spcBef>
                  <a:spcPts val="1749"/>
                </a:spcBef>
                <a:buClr>
                  <a:srgbClr val="dddddd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součin kořenů rovnice dává hodnotu absolutního členu: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  <a:p>
              <a:pPr lvl="1" marL="972720" indent="-348840">
                <a:lnSpc>
                  <a:spcPct val="120000"/>
                </a:lnSpc>
                <a:spcBef>
                  <a:spcPts val="1749"/>
                </a:spcBef>
                <a:buClr>
                  <a:srgbClr val="dddddd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součet kořenů rovnice dává opačnou hodnotu lineárního koeficientu: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1836360" y="1953720"/>
                  <a:ext cx="303552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px</m:t>
                      </m:r>
                      <m:r>
                        <m:t xml:space="preserve">+</m:t>
                      </m:r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5221080" y="4508280"/>
                  <a:ext cx="2063880" cy="65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5724360" y="5803560"/>
                  <a:ext cx="257004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4" name=""/>
          <p:cNvSpPr/>
          <p:nvPr/>
        </p:nvSpPr>
        <p:spPr>
          <a:xfrm>
            <a:off x="3419640" y="2060640"/>
            <a:ext cx="720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84360" y="2060640"/>
            <a:ext cx="7192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96760" y="260280"/>
            <a:ext cx="8062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Vzorec pro kořeny s diskriminantem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1125360"/>
            <a:ext cx="82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V </a:t>
            </a: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obecné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 kvadratické rovnic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ypočteme hodnotu výrazu, který řídí počet kořenů rovnice (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diskriminant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318360" y="1052640"/>
                <a:ext cx="28256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516720" y="2349360"/>
                <a:ext cx="22161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258920" y="3213000"/>
            <a:ext cx="7885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20000"/>
              </a:lnSpc>
              <a:buClr>
                <a:srgbClr val="ccecff"/>
              </a:buClr>
              <a:buSzPct val="80000"/>
              <a:buFont typeface="Times New Roman"/>
              <a:buAutoNum type="arabicParenR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iskriminant je kladný,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&gt;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436760" indent="-449280">
              <a:lnSpc>
                <a:spcPct val="120000"/>
              </a:lnSpc>
              <a:buClr>
                <a:srgbClr val="dddddd"/>
              </a:buClr>
              <a:buFont typeface="Times New Roman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vnice má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různé </a:t>
            </a:r>
            <a:r>
              <a:rPr b="0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reálné koř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58920" y="4365720"/>
            <a:ext cx="788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98680" indent="-598680">
              <a:lnSpc>
                <a:spcPct val="120000"/>
              </a:lnSpc>
              <a:buClr>
                <a:srgbClr val="ccecff"/>
              </a:buClr>
              <a:buSzPct val="80000"/>
              <a:buFont typeface="Times New Roman"/>
              <a:buAutoNum type="arabicParenR" startAt="2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iskriminant je nulový,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379160" indent="-431280">
              <a:lnSpc>
                <a:spcPct val="120000"/>
              </a:lnSpc>
              <a:buClr>
                <a:srgbClr val="ccecff"/>
              </a:buClr>
              <a:buFont typeface="Times New Roman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vnice má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1 </a:t>
            </a:r>
            <a:r>
              <a:rPr b="0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reálný koř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5589720"/>
            <a:ext cx="788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98680" indent="-598680">
              <a:lnSpc>
                <a:spcPct val="120000"/>
              </a:lnSpc>
              <a:buClr>
                <a:srgbClr val="ccecff"/>
              </a:buClr>
              <a:buSzPct val="80000"/>
              <a:buFont typeface="Times New Roman"/>
              <a:buAutoNum type="arabicParenR" startAt="3"/>
              <a:tabLst>
                <a:tab algn="l" pos="420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iskriminant je záporný,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&lt;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379160" indent="-431280">
              <a:lnSpc>
                <a:spcPct val="120000"/>
              </a:lnSpc>
              <a:buClr>
                <a:srgbClr val="ccecff"/>
              </a:buClr>
              <a:buFont typeface="Times New Roman"/>
              <a:buChar char="•"/>
              <a:tabLst>
                <a:tab algn="l" pos="420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vnice </a:t>
            </a:r>
            <a:r>
              <a:rPr b="0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nemá reálný koř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71640" y="189000"/>
            <a:ext cx="79880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vrátíme se k řešení zadané kvadratické rovnice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971640" y="71280"/>
                <a:ext cx="33843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1042920" y="692280"/>
            <a:ext cx="8101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D = (– 10)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– 4.1.29 = 100 – 116 =  – 16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&lt;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rovnice nemá v oboru reálných čísel řešen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 u="sng">
                <a:solidFill>
                  <a:srgbClr val="ffff00"/>
                </a:solidFill>
                <a:uFillTx/>
                <a:latin typeface="Times New Roman"/>
              </a:rPr>
              <a:t>Hledáme jiný početní postup a nový číselný obor</a:t>
            </a:r>
            <a:r>
              <a:rPr b="1" i="1" lang="cs-CZ" sz="30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dddddd"/>
                </a:solidFill>
                <a:latin typeface="Times New Roman"/>
              </a:rPr>
              <a:t>ve kterém bychom řešení nalezli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2637000"/>
            <a:ext cx="802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vyjdeme z nejjednodušší rovnice tohoto typu (rovnice nemá v R řešení):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940360" y="3068640"/>
                <a:ext cx="14400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1116000" y="3718080"/>
            <a:ext cx="802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předpokládáme, že jejím kořenem je jisté číslo, které nazveme 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imaginární jednotkou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596360" y="4292640"/>
                <a:ext cx="7207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1116000" y="4726080"/>
            <a:ext cx="8028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uplatníme předpoklad a dosadíme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236000" y="4797360"/>
                <a:ext cx="1368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667640" y="5300640"/>
                <a:ext cx="1147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1116000" y="5776920"/>
            <a:ext cx="802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upravíme rovnici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10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29 = 0 do tvaru, který odpovídá tvaru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1 = 0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227280" y="3573360"/>
            <a:ext cx="1584360" cy="719280"/>
          </a:xfrm>
          <a:prstGeom prst="line">
            <a:avLst/>
          </a:prstGeom>
          <a:ln w="38160">
            <a:solidFill>
              <a:srgbClr val="ff99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72360" y="3718080"/>
            <a:ext cx="1224000" cy="1150920"/>
          </a:xfrm>
          <a:prstGeom prst="line">
            <a:avLst/>
          </a:prstGeom>
          <a:ln w="38160">
            <a:solidFill>
              <a:srgbClr val="ff99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96360" y="5346720"/>
            <a:ext cx="1296720" cy="5302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556000" y="260280"/>
                <a:ext cx="25923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042920" y="835200"/>
                <a:ext cx="41356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914560" y="1411200"/>
                <a:ext cx="22845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635280" y="1987560"/>
                <a:ext cx="15750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301920" y="2635200"/>
                <a:ext cx="19447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436840" y="3282840"/>
                <a:ext cx="28386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381560" y="3932280"/>
                <a:ext cx="12049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940360" y="1484280"/>
                <a:ext cx="26542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876840" y="4579920"/>
                <a:ext cx="1728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452840" y="5227560"/>
                <a:ext cx="14814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356000" y="5950080"/>
                <a:ext cx="44276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z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1187280" y="1987560"/>
            <a:ext cx="4418280" cy="24480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932440" y="2349360"/>
                <a:ext cx="32115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4094280" y="2058840"/>
            <a:ext cx="576000" cy="57636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576360"/>
              <a:gd name="textAreaBottom" fmla="*/ 548280 h 57636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643280" y="3141720"/>
            <a:ext cx="4176720" cy="0"/>
          </a:xfrm>
          <a:prstGeom prst="line">
            <a:avLst/>
          </a:prstGeom>
          <a:ln w="38160">
            <a:solidFill>
              <a:srgbClr val="ff99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3920" y="2635200"/>
            <a:ext cx="863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56360" y="2133720"/>
            <a:ext cx="0" cy="36036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8820000" y="2924280"/>
            <a:ext cx="0" cy="217440"/>
          </a:xfrm>
          <a:prstGeom prst="line">
            <a:avLst/>
          </a:prstGeom>
          <a:ln w="3816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3280" y="2133720"/>
            <a:ext cx="151308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19890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řešení ryze kvadratických rovnic v 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600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16000" y="2360160"/>
            <a:ext cx="77724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Řešením kvadratických rovnic, jejichž diskriminant je záporný, budou obdobné výrazy, které se nazývají </a:t>
            </a: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komplexní čísl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0:54Z</dcterms:modified>
  <cp:revision>294</cp:revision>
  <dc:subject/>
  <dc:title>KČ</dc:title>
</cp:coreProperties>
</file>