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3EE0-2B7C-4035-8C71-6622553C78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2D69-8AE5-4E7F-A761-807289C241B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67C1-26F3-40A0-886B-2CE47EDE32E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952A-C603-4430-A7ED-951918A3831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A142-BF11-412E-999C-5C0E8FB7F1B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303-4C97-4940-BC66-3AA1B7DF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AED-0582-4E89-B96E-BF38B212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270-BEC7-4CC1-A617-23BD323B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C32-8ED3-4447-8585-EA02040B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D9DB-2339-473B-9D54-A3DBA55D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5701-DCB3-48C3-8D2B-B8BE56FE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EF12-E912-40AC-8816-723C7007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89C1-8FEA-4166-9FFC-27F3D174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EA09-913B-4663-A7BB-EF65F8B0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6140-8A1B-4DF5-9915-ABAFEC5E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6EB8-B818-4AAC-B6FD-3F4C9785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798-5E4A-4C56-9AEF-A4942408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BCC9-FA66-4615-96F6-EB358C57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5B3F-3E78-475F-A7F0-BAC9C36F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CF21-C71D-4016-A5A4-C8F93C28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FB36-48A0-4922-B55F-90B0FB9F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833B-D0BF-47AE-8443-2C63CD4F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F37-904C-4FF2-BA91-5A3271D0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204-8539-4858-AE14-EE423032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C3D-553B-42A2-8D3A-8148F3EA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7A8-8F9C-413C-B057-127610B3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733-1262-4085-95B6-02740C9F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970-BFED-4AA1-9D22-B4BF4F42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5D0-C042-49F9-BFF8-A124102F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95DF-6315-47BA-A66A-A2C1ED9FC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DC56-3339-4A66-8D4F-4BD4362B7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476360" y="620640"/>
                <a:ext cx="17748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301760" y="1946160"/>
                <a:ext cx="18763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332000" y="3789360"/>
                <a:ext cx="24573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332000" y="5157720"/>
                <a:ext cx="2012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89560" y="3571920"/>
                <a:ext cx="4654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00720" y="5157720"/>
                <a:ext cx="37591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00720" y="620640"/>
                <a:ext cx="38862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489560" y="1916280"/>
                <a:ext cx="38685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332000" y="692280"/>
                <a:ext cx="21495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332000" y="2205000"/>
                <a:ext cx="22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,1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332000" y="3860640"/>
                <a:ext cx="19112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32000" y="5415120"/>
                <a:ext cx="20127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427640" y="1916280"/>
                <a:ext cx="4384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,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427640" y="620640"/>
                <a:ext cx="3970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427640" y="3824280"/>
                <a:ext cx="3886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427640" y="5084640"/>
                <a:ext cx="407340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8150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algebraického tvaru na tvar goniometrický – komplexní čísla reálná a ryze imaginár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 – reálného, ryze imaginárního; Souřadná os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AT na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3789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eálná a ryze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872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eálné klad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klad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0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4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476360" y="5516640"/>
                <a:ext cx="71928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47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2" name="Group 63"/>
          <p:cNvGrpSpPr/>
          <p:nvPr/>
        </p:nvGrpSpPr>
        <p:grpSpPr>
          <a:xfrm>
            <a:off x="7453080" y="3500280"/>
            <a:ext cx="144720" cy="142920"/>
            <a:chOff x="7453080" y="3500280"/>
            <a:chExt cx="144720" cy="142920"/>
          </a:xfrm>
        </p:grpSpPr>
        <p:sp>
          <p:nvSpPr>
            <p:cNvPr id="153" name="Line 64"/>
            <p:cNvSpPr/>
            <p:nvPr/>
          </p:nvSpPr>
          <p:spPr>
            <a:xfrm>
              <a:off x="745344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Line 65"/>
            <p:cNvSpPr/>
            <p:nvPr/>
          </p:nvSpPr>
          <p:spPr>
            <a:xfrm flipH="1">
              <a:off x="745308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310160" y="36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357192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5080" y="3573360"/>
            <a:ext cx="1944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6907680" y="2891520"/>
            <a:ext cx="152280" cy="10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5240" y="27795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5445000"/>
            <a:ext cx="360360" cy="79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92360"/>
              <a:gd name="textAreaBottom" fmla="*/ 775080 h 792360"/>
            </a:gdLst>
            <a:ahLst/>
            <a:rect l="textAreaLeft" t="textAreaTop" r="textAreaRight" b="textAreaBottom"/>
            <a:pathLst>
              <a:path w="21600" h="47468">
                <a:moveTo>
                  <a:pt x="3600" y="0"/>
                </a:moveTo>
                <a:arcTo wR="3600" hR="3600" stAng="16200000" swAng="-5400000"/>
                <a:lnTo>
                  <a:pt x="0" y="43868"/>
                </a:lnTo>
                <a:arcTo wR="3600" hR="3600" stAng="10800000" swAng="-5400000"/>
                <a:lnTo>
                  <a:pt x="18000" y="47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445000"/>
            <a:ext cx="5977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61945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52680" y="61945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92720" y="4221000"/>
            <a:ext cx="54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očáteční rameno</a:t>
            </a:r>
            <a:r>
              <a:rPr b="0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</a:t>
            </a:r>
            <a:r>
              <a:rPr b="0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ncové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1628640"/>
            <a:ext cx="28814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859280" y="2421000"/>
            <a:ext cx="1441440" cy="1944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187280" y="5516640"/>
                <a:ext cx="78156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eálné zápor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zápor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18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2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71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6" name="Group 63"/>
          <p:cNvGrpSpPr/>
          <p:nvPr/>
        </p:nvGrpSpPr>
        <p:grpSpPr>
          <a:xfrm>
            <a:off x="5435280" y="3500280"/>
            <a:ext cx="144720" cy="142920"/>
            <a:chOff x="5435280" y="3500280"/>
            <a:chExt cx="144720" cy="142920"/>
          </a:xfrm>
        </p:grpSpPr>
        <p:sp>
          <p:nvSpPr>
            <p:cNvPr id="177" name="Line 64"/>
            <p:cNvSpPr/>
            <p:nvPr/>
          </p:nvSpPr>
          <p:spPr>
            <a:xfrm>
              <a:off x="543564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65"/>
            <p:cNvSpPr/>
            <p:nvPr/>
          </p:nvSpPr>
          <p:spPr>
            <a:xfrm flipH="1">
              <a:off x="543528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149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500360" y="3573360"/>
            <a:ext cx="1944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 rot="16200000">
            <a:off x="5899680" y="3324240"/>
            <a:ext cx="152280" cy="934920"/>
          </a:xfrm>
          <a:custGeom>
            <a:avLst/>
            <a:gdLst>
              <a:gd name="textAreaLeft" fmla="*/ 97200 w 152280"/>
              <a:gd name="textAreaRight" fmla="*/ 152640 w 1522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25800" y="37893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5445000"/>
            <a:ext cx="504720" cy="792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92360"/>
              <a:gd name="textAreaBottom" fmla="*/ 767880 h 792360"/>
            </a:gdLst>
            <a:ahLst/>
            <a:rect l="textAreaLeft" t="textAreaTop" r="textAreaRight" b="textAreaBottom"/>
            <a:pathLst>
              <a:path w="21600" h="33901">
                <a:moveTo>
                  <a:pt x="3600" y="0"/>
                </a:moveTo>
                <a:arcTo wR="3600" hR="3600" stAng="16200000" swAng="-5400000"/>
                <a:lnTo>
                  <a:pt x="0" y="30301"/>
                </a:lnTo>
                <a:arcTo wR="3600" hR="3600" stAng="10800000" swAng="-5400000"/>
                <a:lnTo>
                  <a:pt x="18000" y="33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5445000"/>
            <a:ext cx="665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77520" y="616572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8520" y="61657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1628640"/>
            <a:ext cx="3241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292360" y="2420640"/>
            <a:ext cx="934920" cy="647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6000" y="2924280"/>
            <a:ext cx="1294920" cy="127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1011"/>
                </a:moveTo>
                <a:arcTo wR="10800" hR="10800" stAng="10732961" swAng="10867039"/>
                <a:lnTo>
                  <a:pt x="10800" y="10800"/>
                </a:lnTo>
                <a:close/>
              </a:path>
              <a:path fill="none" w="21600" h="21600">
                <a:moveTo>
                  <a:pt x="2" y="11011"/>
                </a:moveTo>
                <a:arcTo wR="10800" hR="10800" stAng="10732961" swAng="10867039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05880" y="299088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332000" y="5084640"/>
                <a:ext cx="765468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yze imaginární klad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klad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9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   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3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96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63"/>
          <p:cNvGrpSpPr/>
          <p:nvPr/>
        </p:nvGrpSpPr>
        <p:grpSpPr>
          <a:xfrm>
            <a:off x="6372000" y="2349360"/>
            <a:ext cx="144720" cy="142920"/>
            <a:chOff x="6372000" y="2349360"/>
            <a:chExt cx="144720" cy="142920"/>
          </a:xfrm>
        </p:grpSpPr>
        <p:sp>
          <p:nvSpPr>
            <p:cNvPr id="202" name="Line 64"/>
            <p:cNvSpPr/>
            <p:nvPr/>
          </p:nvSpPr>
          <p:spPr>
            <a:xfrm>
              <a:off x="6372360" y="234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6372000" y="234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517800" y="213372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443640" y="1844640"/>
            <a:ext cx="1440" cy="1728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156360" y="2420280"/>
            <a:ext cx="144360" cy="115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1080" y="27082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5084640"/>
            <a:ext cx="360360" cy="1224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24000"/>
              <a:gd name="textAreaBottom" fmla="*/ 1206720 h 1224000"/>
            </a:gdLst>
            <a:ahLst/>
            <a:rect l="textAreaLeft" t="textAreaTop" r="textAreaRight" b="textAreaBottom"/>
            <a:pathLst>
              <a:path w="21600" h="73315">
                <a:moveTo>
                  <a:pt x="3600" y="0"/>
                </a:moveTo>
                <a:arcTo wR="3600" hR="3600" stAng="16200000" swAng="-5400000"/>
                <a:lnTo>
                  <a:pt x="0" y="69715"/>
                </a:lnTo>
                <a:arcTo wR="3600" hR="3600" stAng="10800000" swAng="-5400000"/>
                <a:lnTo>
                  <a:pt x="18000" y="73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56000" y="5084640"/>
            <a:ext cx="640872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66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38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1628640"/>
            <a:ext cx="3241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292720" y="2420640"/>
            <a:ext cx="1295280" cy="647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23280" y="2852640"/>
            <a:ext cx="1440720" cy="141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98280" y="299736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067280" y="1557360"/>
                <a:ext cx="36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58920" y="5157720"/>
                <a:ext cx="7718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yze imaginární zápor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zápor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27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    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2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222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7" name="Group 63"/>
          <p:cNvGrpSpPr/>
          <p:nvPr/>
        </p:nvGrpSpPr>
        <p:grpSpPr>
          <a:xfrm>
            <a:off x="6372000" y="4508640"/>
            <a:ext cx="144720" cy="142560"/>
            <a:chOff x="6372000" y="4508640"/>
            <a:chExt cx="144720" cy="142560"/>
          </a:xfrm>
        </p:grpSpPr>
        <p:sp>
          <p:nvSpPr>
            <p:cNvPr id="228" name="Line 64"/>
            <p:cNvSpPr/>
            <p:nvPr/>
          </p:nvSpPr>
          <p:spPr>
            <a:xfrm>
              <a:off x="6372360" y="4508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65"/>
            <p:cNvSpPr/>
            <p:nvPr/>
          </p:nvSpPr>
          <p:spPr>
            <a:xfrm flipH="1">
              <a:off x="6372000" y="4508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725440" y="4292640"/>
            <a:ext cx="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443640" y="3573360"/>
            <a:ext cx="1440" cy="1440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6515280" y="3573360"/>
            <a:ext cx="142560" cy="1008000"/>
          </a:xfrm>
          <a:custGeom>
            <a:avLst/>
            <a:gdLst>
              <a:gd name="textAreaLeft" fmla="*/ 91080 w 142560"/>
              <a:gd name="textAreaRight" fmla="*/ 142920 w 1425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60720" y="37893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5084640"/>
            <a:ext cx="576360" cy="1224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224000"/>
              <a:gd name="textAreaBottom" fmla="*/ 1195920 h 1224000"/>
            </a:gdLst>
            <a:ahLst/>
            <a:rect l="textAreaLeft" t="textAreaTop" r="textAreaRight" b="textAreaBottom"/>
            <a:pathLst>
              <a:path w="21600" h="45856">
                <a:moveTo>
                  <a:pt x="3600" y="0"/>
                </a:moveTo>
                <a:arcTo wR="3600" hR="3600" stAng="16200000" swAng="-5400000"/>
                <a:lnTo>
                  <a:pt x="0" y="42256"/>
                </a:lnTo>
                <a:arcTo wR="3600" hR="3600" stAng="10800000" swAng="-5400000"/>
                <a:lnTo>
                  <a:pt x="18000" y="458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56000" y="5084640"/>
            <a:ext cx="640872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9524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8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1628640"/>
            <a:ext cx="3457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720" y="2421000"/>
            <a:ext cx="57456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781360"/>
            <a:ext cx="1588680" cy="15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3"/>
                </a:moveTo>
                <a:arcTo wR="10800" hR="10800" stAng="10786231" swAng="10813769"/>
                <a:lnTo>
                  <a:pt x="10800" y="10800"/>
                </a:lnTo>
                <a:close/>
              </a:path>
              <a:path fill="none" w="21600" h="21600">
                <a:moveTo>
                  <a:pt x="0" y="10843"/>
                </a:moveTo>
                <a:arcTo wR="10800" hR="10800" stAng="10786231" swAng="10813769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77560" y="306864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7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84720" y="1557360"/>
                <a:ext cx="501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 flipH="1" flipV="1">
            <a:off x="5653080" y="2793600"/>
            <a:ext cx="1560960" cy="15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87" swAng="5602805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87" swAng="5602805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58920" y="1197000"/>
                <a:ext cx="13669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187280" y="2349360"/>
                <a:ext cx="1717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3645000"/>
                <a:ext cx="1401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258920" y="5086440"/>
                <a:ext cx="1682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3280" y="1197000"/>
                <a:ext cx="3024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43280" y="2276640"/>
                <a:ext cx="31100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643280" y="3357720"/>
                <a:ext cx="31100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643280" y="4797360"/>
                <a:ext cx="3486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332000" y="981000"/>
                <a:ext cx="1807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32000" y="2492280"/>
                <a:ext cx="17064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03280" y="3933720"/>
                <a:ext cx="1638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03280" y="5373720"/>
                <a:ext cx="1569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427640" y="620640"/>
                <a:ext cx="42498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27640" y="2421000"/>
                <a:ext cx="3724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532400" y="3860640"/>
                <a:ext cx="3781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498920" y="5084640"/>
                <a:ext cx="390384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45Z</dcterms:modified>
  <cp:revision>298</cp:revision>
  <dc:subject/>
  <dc:title>KČ</dc:title>
</cp:coreProperties>
</file>