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528-7371-4381-98C9-F8B46BE599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F9B2-0117-429D-9E83-9D41DBE79CA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663-1FF7-4377-A5D2-7B7EEB087C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C79-A92D-43D6-AAD6-73C3132290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B048-3C8D-4772-A8A2-36E1AB65C18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3F4-C681-4AE7-B25D-D9711019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E5C-D359-48D8-9609-7B9F971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756-D005-4764-9782-EE8B8DD5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627-E0BF-4E03-9F8C-3507DCA1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39B3-F2B1-4DE8-9B7F-A017C727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89A4-569D-4979-B84B-1DD5FBED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2859-1628-4B70-BDA6-D0C060BA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7092-23A1-4AB5-925B-D182FF81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078-016F-4F3D-8452-18CCB28D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C2FE-1BA0-4267-B059-4FD5B356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186-7CC5-4D33-8ACE-92C1D0E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820-F055-4FBD-82F7-9647E28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117D-C9BF-4BFB-ABE6-206C661B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D496-4B37-4897-85E3-2E69AB58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F0B0-7134-4BDB-B203-AABBE400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3F6F-F2F9-4C4F-B836-A6E14B80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1E66-5D79-4741-8FA1-A239426D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2C7-7E42-43FA-9C7C-A3DCDC93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270-1F31-4E26-894C-25B63637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991-EA01-40B5-9C39-62A54C6F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7E5-7835-4E14-979D-2794BAA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DB9-BDDB-4254-8FE9-4F221BD9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1BE-3221-4952-A308-2E65FCF3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AC9-404C-4B85-9CA1-CA43B56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87A-765C-4415-80BB-CD1E2F1C2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BF31-A557-47C5-9C8B-EB49F1AE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116000" y="189000"/>
            <a:ext cx="8028000" cy="6048360"/>
            <a:chOff x="1116000" y="189000"/>
            <a:chExt cx="8028000" cy="6048360"/>
          </a:xfrm>
        </p:grpSpPr>
        <p:sp>
          <p:nvSpPr>
            <p:cNvPr id="235" name=""/>
            <p:cNvSpPr/>
            <p:nvPr/>
          </p:nvSpPr>
          <p:spPr>
            <a:xfrm>
              <a:off x="1116000" y="189000"/>
              <a:ext cx="802800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Je-li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–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 +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5 – 4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, e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7,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vypočtět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16000" y="1773360"/>
              <a:ext cx="266400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+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c + d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–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 – a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 – a + d – e =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e – d – c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340000" y="1773360"/>
            <a:ext cx="68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773360"/>
            <a:ext cx="37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2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2349360"/>
            <a:ext cx="615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2349360"/>
            <a:ext cx="18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4 – 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2997360"/>
            <a:ext cx="687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2997360"/>
            <a:ext cx="406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96360" y="2997360"/>
            <a:ext cx="15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500280"/>
            <a:ext cx="68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645000"/>
            <a:ext cx="41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3645000"/>
            <a:ext cx="16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4 +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429264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941720"/>
            <a:ext cx="60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941720"/>
            <a:ext cx="190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558972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6021360"/>
            <a:ext cx="60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 5 +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6165720"/>
            <a:ext cx="21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981000"/>
            <a:ext cx="75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 . 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(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1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558972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96360" y="2349360"/>
            <a:ext cx="360360" cy="287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177336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4724280"/>
            <a:ext cx="223200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4724280"/>
            <a:ext cx="273708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229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2360" y="5229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00000" y="189000"/>
            <a:ext cx="82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-li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,  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1989000"/>
            <a:ext cx="2664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. c . d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– e . c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1989000"/>
            <a:ext cx="71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16000" y="1989000"/>
            <a:ext cx="863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60720" y="15606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2781360"/>
            <a:ext cx="68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5229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7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198900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1989000"/>
            <a:ext cx="18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1 +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0920" y="3645000"/>
            <a:ext cx="7093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+ 1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780000" y="2997360"/>
            <a:ext cx="2232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344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0720" y="3429000"/>
            <a:ext cx="0" cy="4334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64500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2 – 3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236000" y="3789360"/>
            <a:ext cx="100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3080" y="33577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429408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8 + 3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6021360"/>
            <a:ext cx="65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5 +28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6021360"/>
            <a:ext cx="19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132000" y="5300640"/>
            <a:ext cx="237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08720" y="5300640"/>
            <a:ext cx="2016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6093000"/>
            <a:ext cx="25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580000" y="6093000"/>
            <a:ext cx="1656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88000" y="6093000"/>
            <a:ext cx="792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5080" y="5661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4000" y="3860640"/>
            <a:ext cx="194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84000" y="3860640"/>
            <a:ext cx="1081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42920" y="260280"/>
            <a:ext cx="75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ho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126828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žíváme algebraické vzorce známé již ze Z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03280" y="2131920"/>
                <a:ext cx="4027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76360" y="2781360"/>
                <a:ext cx="54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258920" y="371628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76360" y="4653000"/>
                <a:ext cx="13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771640" y="4653000"/>
                <a:ext cx="2079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788000" y="4653000"/>
                <a:ext cx="1527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995640" y="4653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8360" y="4221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573200" y="5965920"/>
                <a:ext cx="1104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771640" y="5950080"/>
                <a:ext cx="2795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86480" y="5942160"/>
                <a:ext cx="1396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140360" y="59500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2720" y="55166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5950080"/>
            <a:ext cx="647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79960" y="551664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580000" y="5589360"/>
            <a:ext cx="432000" cy="14436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92920" y="5300640"/>
                <a:ext cx="315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116000" y="981000"/>
                <a:ext cx="2592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2565360"/>
                <a:ext cx="2467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116000" y="4076640"/>
                <a:ext cx="244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16000" y="5516640"/>
                <a:ext cx="2714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2627280" y="1700280"/>
            <a:ext cx="1963800" cy="5013360"/>
            <a:chOff x="2627280" y="1700280"/>
            <a:chExt cx="1963800" cy="501336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2627280" y="1700280"/>
                  <a:ext cx="12207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2771640" y="3284640"/>
                  <a:ext cx="1255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771640" y="4724280"/>
                  <a:ext cx="18194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71640" y="6237360"/>
                  <a:ext cx="1660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 (zapište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97320" y="981000"/>
                <a:ext cx="3486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24600" y="2565360"/>
                <a:ext cx="3917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197320" y="4076640"/>
                <a:ext cx="345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268960" y="5445000"/>
                <a:ext cx="2962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7093080" y="1700280"/>
            <a:ext cx="1858320" cy="5005440"/>
            <a:chOff x="7093080" y="1700280"/>
            <a:chExt cx="1858320" cy="500544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7093080" y="1700280"/>
                  <a:ext cx="1596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7135560" y="3284640"/>
                  <a:ext cx="1252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7165800" y="4797360"/>
                  <a:ext cx="1785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165800" y="6093000"/>
                  <a:ext cx="17236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981000"/>
                <a:ext cx="1513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87280" y="2421000"/>
                <a:ext cx="1541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87280" y="3933720"/>
                <a:ext cx="1544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187280" y="5373720"/>
                <a:ext cx="1729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593720" y="1700280"/>
            <a:ext cx="2246400" cy="4937040"/>
            <a:chOff x="1593720" y="1700280"/>
            <a:chExt cx="2246400" cy="493704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1593720" y="1700280"/>
                  <a:ext cx="16909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19280" y="3213000"/>
                  <a:ext cx="197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619280" y="4653000"/>
                  <a:ext cx="194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1619280" y="6093000"/>
                  <a:ext cx="2220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121360" y="981000"/>
                <a:ext cx="1760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2421000"/>
                <a:ext cx="1573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76720" y="4005360"/>
                <a:ext cx="21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148360" y="5373720"/>
                <a:ext cx="2778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5580000" y="1700280"/>
            <a:ext cx="2379600" cy="4937040"/>
            <a:chOff x="5580000" y="1700280"/>
            <a:chExt cx="2379600" cy="49370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5580000" y="1700280"/>
                  <a:ext cx="2379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5630760" y="3213000"/>
                  <a:ext cx="2065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51640" y="4653000"/>
                  <a:ext cx="165888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724360" y="6093000"/>
                  <a:ext cx="1938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3200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 jednot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573360"/>
            <a:ext cx="72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Mocniny imaginární jednotky nabývají pouz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čtyř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ůzné hodnoty, které se opakují stále ve stejném pořadí: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+ 1, + 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1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 i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o úpravu lze užít dva postupy. Zvažte, který je pro vás jednodušší a ten si zapiš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1052640"/>
                <a:ext cx="11527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140360" y="981000"/>
                <a:ext cx="392724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56000" y="1052640"/>
            <a:ext cx="576000" cy="24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2447640"/>
              <a:gd name="textAreaBottom" fmla="*/ 2419560 h 2447640"/>
            </a:gdLst>
            <a:ahLst/>
            <a:rect l="textAreaLeft" t="textAreaTop" r="textAreaRight" b="textAreaBottom"/>
            <a:pathLst>
              <a:path w="21600" h="91743">
                <a:moveTo>
                  <a:pt x="3600" y="0"/>
                </a:moveTo>
                <a:arcTo wR="3600" hR="3600" stAng="16200000" swAng="-5400000"/>
                <a:lnTo>
                  <a:pt x="0" y="88143"/>
                </a:lnTo>
                <a:arcTo wR="3600" hR="3600" stAng="10800000" swAng="-5400000"/>
                <a:lnTo>
                  <a:pt x="18000" y="91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260280"/>
            <a:ext cx="727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způsob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635280" y="1125360"/>
                <a:ext cx="1198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602400" y="1844640"/>
                <a:ext cx="2541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492360" y="333360"/>
                <a:ext cx="2156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332000" y="2997360"/>
                <a:ext cx="5535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332000" y="3933720"/>
                <a:ext cx="5570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59000" y="4869000"/>
                <a:ext cx="7640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332000" y="5877000"/>
                <a:ext cx="73231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443640" y="404640"/>
                <a:ext cx="2430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458040" y="1052640"/>
                <a:ext cx="240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 flipV="1">
            <a:off x="2771640" y="980640"/>
            <a:ext cx="2448000" cy="208764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95640" y="1052640"/>
            <a:ext cx="0" cy="180000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1699920"/>
            <a:ext cx="0" cy="1368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1700280"/>
            <a:ext cx="432000" cy="1512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64000" y="981000"/>
            <a:ext cx="1513080" cy="216072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588000" y="981000"/>
            <a:ext cx="2051280" cy="208764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87640" y="2491920"/>
            <a:ext cx="532764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284720" y="2492280"/>
            <a:ext cx="280656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197000"/>
            <a:ext cx="28728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066920" y="1052640"/>
            <a:ext cx="865080" cy="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3141720"/>
            <a:ext cx="28764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4360" y="1700280"/>
            <a:ext cx="71892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306864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2997360"/>
            <a:ext cx="936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31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3640" y="3213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314172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72360" y="3068640"/>
            <a:ext cx="936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48360" y="981000"/>
            <a:ext cx="1584360" cy="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235640" y="2492280"/>
            <a:ext cx="86508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501336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92360" y="501336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187280" y="189000"/>
            <a:ext cx="7812360" cy="1653480"/>
            <a:chOff x="1187280" y="189000"/>
            <a:chExt cx="7812360" cy="1653480"/>
          </a:xfrm>
        </p:grpSpPr>
        <p:sp>
          <p:nvSpPr>
            <p:cNvPr id="386" name=""/>
            <p:cNvSpPr/>
            <p:nvPr/>
          </p:nvSpPr>
          <p:spPr>
            <a:xfrm>
              <a:off x="1187280" y="189000"/>
              <a:ext cx="7274160" cy="16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ccecff"/>
                  </a:solidFill>
                  <a:uFillTx/>
                  <a:latin typeface="Times New Roman"/>
                </a:rPr>
                <a:t>2. způsob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a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c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b) 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d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708360" y="1125360"/>
                  <a:ext cx="11667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708360" y="404640"/>
                  <a:ext cx="12304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6732720" y="404640"/>
                  <a:ext cx="12301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732720" y="1125360"/>
                  <a:ext cx="22669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258920" y="2349360"/>
                <a:ext cx="272556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8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258920" y="4581360"/>
                <a:ext cx="269568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837400" y="2319480"/>
                <a:ext cx="26938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796000" y="4581360"/>
                <a:ext cx="247644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12400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24000" y="580536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57340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0108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1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5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4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9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54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8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0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0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5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7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2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7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5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0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mocniny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13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operace s komplexními čísl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úkony s komplexními čísly: Rovnost komplexních čísel; Součet a rozdíl komplexních čísel; Součin a podíl komplexních čísel; Mocniny imaginární jednotk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58920" y="907920"/>
            <a:ext cx="788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...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32000" y="2637000"/>
            <a:ext cx="7812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4626000"/>
            <a:ext cx="766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..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907920"/>
            <a:ext cx="154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3640" y="2637000"/>
            <a:ext cx="4140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6360" y="5950080"/>
            <a:ext cx="766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4000" y="5950080"/>
            <a:ext cx="3780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979640" y="907920"/>
                <a:ext cx="38466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1116000" y="2276640"/>
            <a:ext cx="802800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POZOR!!!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Aby se jednalo o podíl KČ, musí být KČ (imag. jednotka) ve jmenovateli zlomk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yřešit podíl KČ znamená „odstranit imaginární jednotku ze jmenovatele zlomku“    – obdobná úprava jako u usměrňování zlomků (učivo 1. ročníku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dělte KČ (zapište KČ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116000" y="2349360"/>
                <a:ext cx="13827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484360" y="234936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133640" y="3860640"/>
                <a:ext cx="1250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340000" y="386064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182600" y="5446800"/>
                <a:ext cx="12510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40000" y="5445000"/>
                <a:ext cx="501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2700360" y="234936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386064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57440" y="544500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01800" y="19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132000" y="2349360"/>
                <a:ext cx="18734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950000" y="2276640"/>
                <a:ext cx="15127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443640" y="2349360"/>
                <a:ext cx="1184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96360" y="2637000"/>
                <a:ext cx="1349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987640" y="3860640"/>
                <a:ext cx="17431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643280" y="3789360"/>
                <a:ext cx="15112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156360" y="3860640"/>
                <a:ext cx="12812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80360" y="3860640"/>
                <a:ext cx="1511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763640" y="292428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43700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619280" y="6021360"/>
            <a:ext cx="720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91636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572000" y="5373720"/>
                <a:ext cx="1442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012000" y="5445000"/>
                <a:ext cx="1536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48188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744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554920" y="134136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1484280"/>
                <a:ext cx="1400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484360" y="1484280"/>
                <a:ext cx="12430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7389720" y="1557360"/>
                <a:ext cx="17542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783080" y="2565360"/>
            <a:ext cx="3583440" cy="880920"/>
            <a:chOff x="1783080" y="2565360"/>
            <a:chExt cx="3583440" cy="880920"/>
          </a:xfrm>
        </p:grpSpPr>
        <p:sp>
          <p:nvSpPr>
            <p:cNvPr id="455" name=""/>
            <p:cNvSpPr/>
            <p:nvPr/>
          </p:nvSpPr>
          <p:spPr>
            <a:xfrm>
              <a:off x="2556000" y="2852640"/>
              <a:ext cx="22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3080" y="2925720"/>
              <a:ext cx="35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556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788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771640" y="148428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784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5492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60720" y="10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475640" y="2060640"/>
            <a:ext cx="934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851280" y="1413000"/>
                <a:ext cx="197496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796000" y="1557360"/>
                <a:ext cx="16556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54920" y="414972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058760" y="4292640"/>
                <a:ext cx="1368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00200" y="4292640"/>
                <a:ext cx="1211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877080" y="5445000"/>
                <a:ext cx="15634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1" name=""/>
          <p:cNvGrpSpPr/>
          <p:nvPr/>
        </p:nvGrpSpPr>
        <p:grpSpPr>
          <a:xfrm>
            <a:off x="1785240" y="5373720"/>
            <a:ext cx="4214520" cy="880920"/>
            <a:chOff x="1785240" y="5373720"/>
            <a:chExt cx="4214520" cy="880920"/>
          </a:xfrm>
        </p:grpSpPr>
        <p:sp>
          <p:nvSpPr>
            <p:cNvPr id="472" name=""/>
            <p:cNvSpPr/>
            <p:nvPr/>
          </p:nvSpPr>
          <p:spPr>
            <a:xfrm>
              <a:off x="2556000" y="5661000"/>
              <a:ext cx="3095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85240" y="5734080"/>
              <a:ext cx="42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 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    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55600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65164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771640" y="429264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5784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5492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6072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75640" y="4869000"/>
            <a:ext cx="934920" cy="43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780000" y="4221000"/>
                <a:ext cx="2993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04000" y="4365720"/>
                <a:ext cx="17510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 flipH="1">
            <a:off x="4788000" y="1484280"/>
            <a:ext cx="9381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9080" y="10526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076720" y="4292640"/>
            <a:ext cx="9381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9800" y="386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116000" y="404640"/>
                <a:ext cx="12034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116000" y="1917720"/>
                <a:ext cx="1449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87280" y="3645000"/>
                <a:ext cx="1297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168560" y="5302080"/>
                <a:ext cx="16351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2732040" y="404640"/>
            <a:ext cx="1762200" cy="5654880"/>
            <a:chOff x="2732040" y="404640"/>
            <a:chExt cx="1762200" cy="5654880"/>
          </a:xfrm>
        </p:grpSpPr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2778120" y="40464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771640" y="2205000"/>
                  <a:ext cx="126684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732040" y="3645000"/>
                  <a:ext cx="17622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2962440" y="5589720"/>
                  <a:ext cx="11728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095800" y="476280"/>
                <a:ext cx="1451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265720" y="1989000"/>
                <a:ext cx="1357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153040" y="3716280"/>
                <a:ext cx="1574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348160" y="5373720"/>
                <a:ext cx="1481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0" name=""/>
          <p:cNvGrpSpPr/>
          <p:nvPr/>
        </p:nvGrpSpPr>
        <p:grpSpPr>
          <a:xfrm>
            <a:off x="6804000" y="476280"/>
            <a:ext cx="2082960" cy="5938920"/>
            <a:chOff x="6804000" y="476280"/>
            <a:chExt cx="2082960" cy="5938920"/>
          </a:xfrm>
        </p:grpSpPr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6877080" y="198900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6804000" y="476280"/>
                  <a:ext cx="2040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6877080" y="3716280"/>
                  <a:ext cx="200988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7020000" y="5373720"/>
                  <a:ext cx="1635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403280" y="1052640"/>
                <a:ext cx="1420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332000" y="2565360"/>
                <a:ext cx="145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403280" y="4005360"/>
                <a:ext cx="1297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788000" y="1054080"/>
            <a:ext cx="2441520" cy="5079960"/>
            <a:chOff x="4788000" y="1054080"/>
            <a:chExt cx="2441520" cy="507996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4807080" y="1054080"/>
                  <a:ext cx="18478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4788000" y="2565360"/>
                  <a:ext cx="2441520" cy="10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88000" y="4005360"/>
                  <a:ext cx="2097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4859280" y="5589720"/>
                  <a:ext cx="15955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403280" y="5373720"/>
                <a:ext cx="2440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258920" y="549360"/>
                <a:ext cx="35211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187280" y="2133720"/>
                <a:ext cx="3794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87280" y="3573360"/>
                <a:ext cx="32734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58920" y="5300640"/>
                <a:ext cx="26542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648400" y="549360"/>
            <a:ext cx="2693880" cy="5840280"/>
            <a:chOff x="5648400" y="549360"/>
            <a:chExt cx="2693880" cy="5840280"/>
          </a:xfrm>
        </p:grpSpPr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651640" y="549360"/>
                  <a:ext cx="21906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651640" y="2133720"/>
                  <a:ext cx="269064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5648400" y="4005360"/>
                  <a:ext cx="20970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5740560" y="5334120"/>
                  <a:ext cx="190656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(úkony) s KČ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484280"/>
            <a:ext cx="7956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os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a čísla reálnéh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e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 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četně mocnin imaginární jednotk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76500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Početní operace definujeme pro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989000"/>
            <a:ext cx="7956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vě komplexní čísl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 = 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C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álné číslo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vnos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981000"/>
            <a:ext cx="74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rovnají se příslušné části KČ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70972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, y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tak, aby platil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9080" y="5734080"/>
                <a:ext cx="93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6237360"/>
                <a:ext cx="738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908000" y="4653000"/>
            <a:ext cx="1729080" cy="1008000"/>
            <a:chOff x="1908000" y="4653000"/>
            <a:chExt cx="1729080" cy="100800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908000" y="4653000"/>
                  <a:ext cx="16765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1908000" y="5661000"/>
              <a:ext cx="172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00720" y="5156280"/>
                <a:ext cx="1506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19640" y="6164280"/>
                <a:ext cx="766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2411280" y="3716280"/>
            <a:ext cx="2810160" cy="579600"/>
            <a:chOff x="2411280" y="3716280"/>
            <a:chExt cx="2810160" cy="579600"/>
          </a:xfrm>
        </p:grpSpPr>
        <p:sp>
          <p:nvSpPr>
            <p:cNvPr id="156" name=""/>
            <p:cNvSpPr/>
            <p:nvPr/>
          </p:nvSpPr>
          <p:spPr>
            <a:xfrm>
              <a:off x="2411280" y="4292640"/>
              <a:ext cx="280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6000" y="3716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21964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41128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95640" y="3789360"/>
            <a:ext cx="1727280" cy="938520"/>
            <a:chOff x="3995640" y="3789360"/>
            <a:chExt cx="1727280" cy="938520"/>
          </a:xfrm>
        </p:grpSpPr>
        <p:sp>
          <p:nvSpPr>
            <p:cNvPr id="161" name=""/>
            <p:cNvSpPr/>
            <p:nvPr/>
          </p:nvSpPr>
          <p:spPr>
            <a:xfrm>
              <a:off x="3995640" y="4724280"/>
              <a:ext cx="17272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7640" y="4148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66ff33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99564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2292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003640" y="5661000"/>
                <a:ext cx="1022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948360" y="5950080"/>
                <a:ext cx="1978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1260000" y="3068640"/>
            <a:ext cx="4692960" cy="825120"/>
            <a:chOff x="1260000" y="3068640"/>
            <a:chExt cx="4692960" cy="82512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751040" y="3355920"/>
                  <a:ext cx="42019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260000" y="3068640"/>
              <a:ext cx="497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35280" y="4797360"/>
            <a:ext cx="558360" cy="581400"/>
            <a:chOff x="3635280" y="4797360"/>
            <a:chExt cx="558360" cy="581400"/>
          </a:xfrm>
        </p:grpSpPr>
        <p:sp>
          <p:nvSpPr>
            <p:cNvPr id="171" name=""/>
            <p:cNvSpPr/>
            <p:nvPr/>
          </p:nvSpPr>
          <p:spPr>
            <a:xfrm flipV="1">
              <a:off x="3851280" y="4869000"/>
              <a:ext cx="0" cy="50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635280" y="486900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35280" y="537372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81440" y="4797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93080" y="692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1332720" y="333360"/>
            <a:ext cx="5096520" cy="5936760"/>
            <a:chOff x="1332720" y="333360"/>
            <a:chExt cx="5096520" cy="5936760"/>
          </a:xfrm>
        </p:grpSpPr>
        <p:grpSp>
          <p:nvGrpSpPr>
            <p:cNvPr id="177" name=""/>
            <p:cNvGrpSpPr/>
            <p:nvPr/>
          </p:nvGrpSpPr>
          <p:grpSpPr>
            <a:xfrm>
              <a:off x="1332720" y="333360"/>
              <a:ext cx="4664880" cy="830160"/>
              <a:chOff x="1332720" y="333360"/>
              <a:chExt cx="4664880" cy="830160"/>
            </a:xfrm>
          </p:grpSpPr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1979640" y="549360"/>
                    <a:ext cx="401796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9" name=""/>
              <p:cNvSpPr/>
              <p:nvPr/>
            </p:nvSpPr>
            <p:spPr>
              <a:xfrm>
                <a:off x="1332720" y="33336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b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333080" y="1557360"/>
              <a:ext cx="5058360" cy="830160"/>
              <a:chOff x="1333080" y="1557360"/>
              <a:chExt cx="5058360" cy="830160"/>
            </a:xfrm>
          </p:grpSpPr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1908000" y="1773360"/>
                    <a:ext cx="448344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"/>
              <p:cNvSpPr/>
              <p:nvPr/>
            </p:nvSpPr>
            <p:spPr>
              <a:xfrm>
                <a:off x="1333080" y="155736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c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332720" y="2852640"/>
              <a:ext cx="5096520" cy="830520"/>
              <a:chOff x="1332720" y="2852640"/>
              <a:chExt cx="5096520" cy="830520"/>
            </a:xfrm>
          </p:grpSpPr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979640" y="3068640"/>
                    <a:ext cx="444960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"/>
              <p:cNvSpPr/>
              <p:nvPr/>
            </p:nvSpPr>
            <p:spPr>
              <a:xfrm>
                <a:off x="1332720" y="285264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d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332720" y="4149720"/>
              <a:ext cx="4956480" cy="865080"/>
              <a:chOff x="1332720" y="4149720"/>
              <a:chExt cx="4956480" cy="865080"/>
            </a:xfrm>
          </p:grpSpPr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906200" y="4437000"/>
                    <a:ext cx="438300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8" name=""/>
              <p:cNvSpPr/>
              <p:nvPr/>
            </p:nvSpPr>
            <p:spPr>
              <a:xfrm>
                <a:off x="1332720" y="414972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e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04000" y="5445000"/>
              <a:ext cx="4026960" cy="825120"/>
              <a:chOff x="1404000" y="5445000"/>
              <a:chExt cx="4026960" cy="82512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1977840" y="5662440"/>
                    <a:ext cx="345312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"/>
              <p:cNvSpPr/>
              <p:nvPr/>
            </p:nvSpPr>
            <p:spPr>
              <a:xfrm>
                <a:off x="1404000" y="5445000"/>
                <a:ext cx="452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f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93080" y="1916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93080" y="3213000"/>
                <a:ext cx="931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93080" y="4581360"/>
                <a:ext cx="103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93080" y="5805360"/>
                <a:ext cx="10983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00000" y="189000"/>
            <a:ext cx="82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čísla reálného a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981000"/>
            <a:ext cx="72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58920" y="2660760"/>
            <a:ext cx="7885080" cy="930240"/>
            <a:chOff x="1258920" y="2660760"/>
            <a:chExt cx="7885080" cy="930240"/>
          </a:xfrm>
        </p:grpSpPr>
        <p:sp>
          <p:nvSpPr>
            <p:cNvPr id="199" name=""/>
            <p:cNvSpPr/>
            <p:nvPr/>
          </p:nvSpPr>
          <p:spPr>
            <a:xfrm>
              <a:off x="1258920" y="2709720"/>
              <a:ext cx="7885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Určete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k . 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je-li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                    .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7020000" y="2660760"/>
                  <a:ext cx="194472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4365720"/>
                <a:ext cx="65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4941720"/>
                <a:ext cx="747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76360" y="602136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508720" y="357192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... KČ opačné k dané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77336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68360" y="3716280"/>
                <a:ext cx="1886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3716280"/>
                <a:ext cx="1376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68360" y="4365720"/>
                <a:ext cx="56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4941720"/>
                <a:ext cx="1795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67280" y="4941720"/>
                <a:ext cx="1197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4941720"/>
                <a:ext cx="1076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68360" y="6021360"/>
                <a:ext cx="1705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95640" y="6021360"/>
                <a:ext cx="116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5580000" y="1125360"/>
            <a:ext cx="57636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1125360"/>
            <a:ext cx="936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6922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692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54936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e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1486080"/>
            <a:ext cx="71643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653000"/>
            <a:ext cx="75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3502080"/>
            <a:ext cx="144000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3500280"/>
            <a:ext cx="1944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0686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8920" y="306864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z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907920"/>
            <a:ext cx="766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Č opačné k dané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37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rozdíl KČ lze vnímat jako souče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80536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4943520"/>
            <a:ext cx="129564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941720"/>
            <a:ext cx="1801800" cy="5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53737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53737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58Z</dcterms:modified>
  <cp:revision>295</cp:revision>
  <dc:subject/>
  <dc:title>KČ</dc:title>
</cp:coreProperties>
</file>