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AF10-48D6-434A-ACF8-E452C38B4E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06F-F972-4613-9D05-1E20764E73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434-7F82-4961-9D14-D4157CB3B4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32C0-ECE8-46CD-8D93-AFF6550750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660D-3C8B-4D00-961F-6367F574B9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D99-8E47-454F-AAB0-9E464AA1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DF2-5EDE-45D6-8765-668CD041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3F0-6BB3-488D-819B-FB93D518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390-B2F5-45B7-8CA1-76A5AC4C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5D99-BBF6-436E-BBCD-219EAAEE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C7BE-4664-4A16-B0E7-2CB7A950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2592-00AD-4F1B-B2DD-830F7B30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D20F-081D-47E5-8752-7AE4C8E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031B-306E-4B2A-B658-339DCEB9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6543-86C6-466B-B478-7B55146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A991-EA2B-4C49-83AA-7C8CAA2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8D4-B3CD-49E6-8E2D-749EF56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4F06-2E57-4D65-9632-15DFC759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C398-AFB4-4BCE-A9CB-1CC3A72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8739-0768-49A9-AEA1-0498763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F41-07B6-4B8E-85B6-AC018DFF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6F67-EDFF-47A9-A3B4-A3B31EB5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CF6-36A3-4821-961D-A9B12E96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717-A72A-4798-9D1E-C2A31D4F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287-BA0E-40B9-83E3-3441324C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716-6F67-47E4-9FAC-ED3CBD67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239-81EB-4B04-92AA-8D198E9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CDF-43E9-40BB-B79A-A230BD3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876-1EBF-467C-901A-13583CD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0C62-0E9F-4378-B90F-016CA9D7A4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CF8-0B92-472A-87FE-DC7F63A38F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851280" y="472428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SUD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11320" y="287280"/>
                <a:ext cx="2697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526000" y="333360"/>
                <a:ext cx="361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700360" y="1052640"/>
                <a:ext cx="1757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1636560" y="836640"/>
            <a:ext cx="752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797280" y="333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00720" y="1197000"/>
                <a:ext cx="163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700360" y="1701720"/>
                <a:ext cx="172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00720" y="1844640"/>
                <a:ext cx="1600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2700360" y="2349360"/>
                <a:ext cx="12873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995640" y="2494080"/>
                <a:ext cx="1851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2700360" y="2997360"/>
                <a:ext cx="12222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3995640" y="3068640"/>
                <a:ext cx="1596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2700360" y="3645000"/>
                <a:ext cx="1255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3995640" y="3718080"/>
                <a:ext cx="1629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700360" y="4221000"/>
                <a:ext cx="1285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700360" y="5229360"/>
                <a:ext cx="1785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572000" y="5300640"/>
                <a:ext cx="150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AutoShape 20"/>
          <p:cNvSpPr/>
          <p:nvPr/>
        </p:nvSpPr>
        <p:spPr>
          <a:xfrm>
            <a:off x="3724200" y="5229360"/>
            <a:ext cx="289080" cy="3571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678">
                <a:moveTo>
                  <a:pt x="3600" y="0"/>
                </a:moveTo>
                <a:arcTo wR="3600" hR="3600" stAng="16200000" swAng="-5400000"/>
                <a:lnTo>
                  <a:pt x="0" y="23078"/>
                </a:lnTo>
                <a:arcTo wR="3600" hR="3600" stAng="10800000" swAng="-5400000"/>
                <a:lnTo>
                  <a:pt x="18000" y="26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4859280" y="5445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38" name="AutoShape 22"/>
          <p:cNvCxnSpPr>
            <a:stCxn id="536" idx="0"/>
            <a:endCxn id="537" idx="0"/>
          </p:cNvCxnSpPr>
          <p:nvPr/>
        </p:nvCxnSpPr>
        <p:spPr>
          <a:xfrm flipH="1" rot="16200000">
            <a:off x="4327920" y="4755240"/>
            <a:ext cx="216720" cy="1135800"/>
          </a:xfrm>
          <a:prstGeom prst="curvedConnector5">
            <a:avLst>
              <a:gd name="adj1" fmla="val -279367"/>
              <a:gd name="adj2" fmla="val 50000"/>
              <a:gd name="adj3" fmla="val -279367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636560" y="112392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636560" y="1773360"/>
                <a:ext cx="100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1636560" y="241920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1636560" y="3068640"/>
                <a:ext cx="7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1636560" y="371628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1636560" y="429264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19280" y="530208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a 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–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 daných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1187280" y="1052640"/>
                <a:ext cx="3260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4"/>
          <p:cNvSpPr/>
          <p:nvPr/>
        </p:nvSpPr>
        <p:spPr>
          <a:xfrm>
            <a:off x="1619280" y="16286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0072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476360" y="1916280"/>
                <a:ext cx="3951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435640" y="1916280"/>
                <a:ext cx="19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187280" y="3213000"/>
                <a:ext cx="2854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Line 9"/>
          <p:cNvSpPr/>
          <p:nvPr/>
        </p:nvSpPr>
        <p:spPr>
          <a:xfrm>
            <a:off x="1619280" y="429408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140360" y="35020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547640" y="4510080"/>
                <a:ext cx="30099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6372360" y="4508640"/>
                <a:ext cx="1942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2627280" y="5589720"/>
                <a:ext cx="1503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572000" y="4508640"/>
                <a:ext cx="18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1116000" y="189000"/>
                <a:ext cx="251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3"/>
          <p:cNvSpPr/>
          <p:nvPr/>
        </p:nvSpPr>
        <p:spPr>
          <a:xfrm>
            <a:off x="1619280" y="1197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708360" y="47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1476360" y="1197000"/>
                <a:ext cx="3170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4643280" y="1190520"/>
                <a:ext cx="16002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300720" y="1197000"/>
                <a:ext cx="1778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484360" y="2349360"/>
                <a:ext cx="1866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1116000" y="3645000"/>
                <a:ext cx="4014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Line 10"/>
          <p:cNvSpPr/>
          <p:nvPr/>
        </p:nvSpPr>
        <p:spPr>
          <a:xfrm>
            <a:off x="1619280" y="4653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5073480" y="3902040"/>
                <a:ext cx="109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1258920" y="4653000"/>
                <a:ext cx="51134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421320" y="4653000"/>
                <a:ext cx="27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556000" y="5734080"/>
                <a:ext cx="2679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042920" y="404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Postup při určování sudosti či lichosti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jprve určete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zadané funkce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se přímo rovná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d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 vytknutí –1 z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        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ni přímo, ani po vytknutí ne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pak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ní ani sudá, ani 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, zda je daná funkce sudá či lichá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1125360" y="1095480"/>
                <a:ext cx="263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3"/>
              <p:cNvSpPr txBox="1"/>
              <p:nvPr/>
            </p:nvSpPr>
            <p:spPr>
              <a:xfrm>
                <a:off x="1476360" y="1844640"/>
                <a:ext cx="282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Line 5"/>
          <p:cNvSpPr/>
          <p:nvPr/>
        </p:nvSpPr>
        <p:spPr>
          <a:xfrm>
            <a:off x="1619280" y="17733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378000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4211640" y="1916280"/>
                <a:ext cx="1285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AutoShape 8"/>
          <p:cNvSpPr/>
          <p:nvPr/>
        </p:nvSpPr>
        <p:spPr>
          <a:xfrm>
            <a:off x="2771640" y="1052640"/>
            <a:ext cx="2160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4500720" y="1916280"/>
            <a:ext cx="100800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643280" y="234936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1095480" y="3716280"/>
                <a:ext cx="269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476360" y="4435560"/>
                <a:ext cx="3073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5" name="Line 13"/>
          <p:cNvSpPr/>
          <p:nvPr/>
        </p:nvSpPr>
        <p:spPr>
          <a:xfrm>
            <a:off x="1619280" y="43941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3780000" y="371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"/>
              <p:cNvSpPr txBox="1"/>
              <p:nvPr/>
            </p:nvSpPr>
            <p:spPr>
              <a:xfrm>
                <a:off x="4427640" y="4508640"/>
                <a:ext cx="2038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AutoShape 16"/>
          <p:cNvSpPr/>
          <p:nvPr/>
        </p:nvSpPr>
        <p:spPr>
          <a:xfrm>
            <a:off x="2771640" y="3673440"/>
            <a:ext cx="216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6804000" y="4508640"/>
            <a:ext cx="129708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702000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"/>
              <p:cNvSpPr txBox="1"/>
              <p:nvPr/>
            </p:nvSpPr>
            <p:spPr>
              <a:xfrm>
                <a:off x="6516720" y="4508640"/>
                <a:ext cx="1504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"/>
              <p:cNvSpPr txBox="1"/>
              <p:nvPr/>
            </p:nvSpPr>
            <p:spPr>
              <a:xfrm>
                <a:off x="2556000" y="5300640"/>
                <a:ext cx="210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3" name="AutoShape 21"/>
          <p:cNvSpPr/>
          <p:nvPr/>
        </p:nvSpPr>
        <p:spPr>
          <a:xfrm>
            <a:off x="3564000" y="5300640"/>
            <a:ext cx="936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3708360" y="57340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AutoShape 23"/>
          <p:cNvSpPr/>
          <p:nvPr/>
        </p:nvSpPr>
        <p:spPr>
          <a:xfrm>
            <a:off x="2843280" y="530064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8172360" y="2421000"/>
            <a:ext cx="647640" cy="647640"/>
            <a:chOff x="8172360" y="2421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597" name="Object 3"/>
                <p:cNvSpPr txBox="1"/>
                <p:nvPr/>
              </p:nvSpPr>
              <p:spPr>
                <a:xfrm>
                  <a:off x="8315280" y="2494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Oval 26"/>
            <p:cNvSpPr/>
            <p:nvPr/>
          </p:nvSpPr>
          <p:spPr>
            <a:xfrm>
              <a:off x="8172360" y="2421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8172360" y="5734080"/>
            <a:ext cx="647640" cy="647640"/>
            <a:chOff x="8172360" y="573408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00" name="Object 3"/>
                <p:cNvSpPr txBox="1"/>
                <p:nvPr/>
              </p:nvSpPr>
              <p:spPr>
                <a:xfrm>
                  <a:off x="8316720" y="580572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1" name="Oval 29"/>
            <p:cNvSpPr/>
            <p:nvPr/>
          </p:nvSpPr>
          <p:spPr>
            <a:xfrm>
              <a:off x="8172360" y="573408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3"/>
              <p:cNvSpPr txBox="1"/>
              <p:nvPr/>
            </p:nvSpPr>
            <p:spPr>
              <a:xfrm>
                <a:off x="7236000" y="1557360"/>
                <a:ext cx="160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116000" y="262080"/>
                <a:ext cx="2978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403280" y="1486080"/>
                <a:ext cx="3670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Line 5"/>
          <p:cNvSpPr/>
          <p:nvPr/>
        </p:nvSpPr>
        <p:spPr>
          <a:xfrm>
            <a:off x="1619280" y="14144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4086360" y="56664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AutoShape 7"/>
          <p:cNvSpPr/>
          <p:nvPr/>
        </p:nvSpPr>
        <p:spPr>
          <a:xfrm>
            <a:off x="2789280" y="333360"/>
            <a:ext cx="243036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7524720" y="1557360"/>
            <a:ext cx="1297080" cy="144000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440000"/>
              <a:gd name="textAreaBottom" fmla="*/ 1377000 h 1440000"/>
            </a:gdLst>
            <a:ahLst/>
            <a:rect l="textAreaLeft" t="textAreaTop" r="textAreaRight" b="textAreaBottom"/>
            <a:pathLst>
              <a:path w="21600" h="23979">
                <a:moveTo>
                  <a:pt x="3600" y="0"/>
                </a:moveTo>
                <a:arcTo wR="3600" hR="3600" stAng="16200000" swAng="-5400000"/>
                <a:lnTo>
                  <a:pt x="0" y="20379"/>
                </a:lnTo>
                <a:arcTo wR="3600" hR="3600" stAng="10800000" swAng="-5400000"/>
                <a:lnTo>
                  <a:pt x="18000" y="23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740720" y="2494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5076720" y="1557360"/>
                <a:ext cx="20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Rectangle 7"/>
          <p:cNvSpPr/>
          <p:nvPr/>
        </p:nvSpPr>
        <p:spPr>
          <a:xfrm>
            <a:off x="1332000" y="3141720"/>
            <a:ext cx="78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týkat ze zlomku znamená vytýkat buď jen z jeho čitatele či naopak jen z jeho jmenov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menovatel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tejný se jmenovatele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pokud chceme vytýkáním něčeho docílit, musíme vytýkat z čit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1692360" y="5086440"/>
                <a:ext cx="2450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AutoShape 13"/>
          <p:cNvSpPr/>
          <p:nvPr/>
        </p:nvSpPr>
        <p:spPr>
          <a:xfrm>
            <a:off x="2627280" y="5084640"/>
            <a:ext cx="1513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2916360" y="602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979640" y="537372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6" name="Group 16"/>
          <p:cNvGrpSpPr/>
          <p:nvPr/>
        </p:nvGrpSpPr>
        <p:grpSpPr>
          <a:xfrm>
            <a:off x="6948000" y="5372280"/>
            <a:ext cx="1872000" cy="720720"/>
            <a:chOff x="6948000" y="5372280"/>
            <a:chExt cx="1872000" cy="720720"/>
          </a:xfrm>
        </p:grpSpPr>
        <p:grpSp>
          <p:nvGrpSpPr>
            <p:cNvPr id="617" name="Group 17"/>
            <p:cNvGrpSpPr/>
            <p:nvPr/>
          </p:nvGrpSpPr>
          <p:grpSpPr>
            <a:xfrm>
              <a:off x="7235640" y="5372280"/>
              <a:ext cx="647640" cy="647640"/>
              <a:chOff x="723564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18" name="Object 3"/>
                  <p:cNvSpPr txBox="1"/>
                  <p:nvPr/>
                </p:nvSpPr>
                <p:spPr>
                  <a:xfrm>
                    <a:off x="7378560" y="54453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Oval 19"/>
              <p:cNvSpPr/>
              <p:nvPr/>
            </p:nvSpPr>
            <p:spPr>
              <a:xfrm>
                <a:off x="723564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20"/>
            <p:cNvGrpSpPr/>
            <p:nvPr/>
          </p:nvGrpSpPr>
          <p:grpSpPr>
            <a:xfrm>
              <a:off x="7885080" y="5372280"/>
              <a:ext cx="647640" cy="647640"/>
              <a:chOff x="788508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21" name="Object 3"/>
                  <p:cNvSpPr txBox="1"/>
                  <p:nvPr/>
                </p:nvSpPr>
                <p:spPr>
                  <a:xfrm>
                    <a:off x="8029440" y="54439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2" name="Oval 22"/>
              <p:cNvSpPr/>
              <p:nvPr/>
            </p:nvSpPr>
            <p:spPr>
              <a:xfrm>
                <a:off x="788508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23" name="Line 23"/>
            <p:cNvSpPr/>
            <p:nvPr/>
          </p:nvSpPr>
          <p:spPr>
            <a:xfrm flipV="1">
              <a:off x="694836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 flipV="1">
              <a:off x="694800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1187280" y="189000"/>
                <a:ext cx="2538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6" name="Group 3"/>
          <p:cNvGrpSpPr/>
          <p:nvPr/>
        </p:nvGrpSpPr>
        <p:grpSpPr>
          <a:xfrm>
            <a:off x="6732720" y="1197000"/>
            <a:ext cx="647640" cy="647640"/>
            <a:chOff x="6732720" y="1197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27" name="Object 3"/>
                <p:cNvSpPr txBox="1"/>
                <p:nvPr/>
              </p:nvSpPr>
              <p:spPr>
                <a:xfrm>
                  <a:off x="6875640" y="1270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Oval 5"/>
            <p:cNvSpPr/>
            <p:nvPr/>
          </p:nvSpPr>
          <p:spPr>
            <a:xfrm>
              <a:off x="6732720" y="1197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6732720" y="2060640"/>
            <a:ext cx="647640" cy="647640"/>
            <a:chOff x="6732720" y="206064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30" name="Object 3"/>
                <p:cNvSpPr txBox="1"/>
                <p:nvPr/>
              </p:nvSpPr>
              <p:spPr>
                <a:xfrm>
                  <a:off x="6877080" y="213228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Oval 8"/>
            <p:cNvSpPr/>
            <p:nvPr/>
          </p:nvSpPr>
          <p:spPr>
            <a:xfrm>
              <a:off x="6732720" y="206064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6443280" y="404640"/>
            <a:ext cx="1872000" cy="720720"/>
            <a:chOff x="6443280" y="404640"/>
            <a:chExt cx="1872000" cy="720720"/>
          </a:xfrm>
        </p:grpSpPr>
        <p:grpSp>
          <p:nvGrpSpPr>
            <p:cNvPr id="633" name="Group 10"/>
            <p:cNvGrpSpPr/>
            <p:nvPr/>
          </p:nvGrpSpPr>
          <p:grpSpPr>
            <a:xfrm>
              <a:off x="6730920" y="404640"/>
              <a:ext cx="647640" cy="647640"/>
              <a:chOff x="673092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4" name="Object 3"/>
                  <p:cNvSpPr txBox="1"/>
                  <p:nvPr/>
                </p:nvSpPr>
                <p:spPr>
                  <a:xfrm>
                    <a:off x="6873840" y="47772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5" name="Oval 12"/>
              <p:cNvSpPr/>
              <p:nvPr/>
            </p:nvSpPr>
            <p:spPr>
              <a:xfrm>
                <a:off x="673092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3"/>
            <p:cNvGrpSpPr/>
            <p:nvPr/>
          </p:nvGrpSpPr>
          <p:grpSpPr>
            <a:xfrm>
              <a:off x="7380360" y="404640"/>
              <a:ext cx="647640" cy="647640"/>
              <a:chOff x="738036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7" name="Object 3"/>
                  <p:cNvSpPr txBox="1"/>
                  <p:nvPr/>
                </p:nvSpPr>
                <p:spPr>
                  <a:xfrm>
                    <a:off x="7524720" y="47628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8" name="Oval 15"/>
              <p:cNvSpPr/>
              <p:nvPr/>
            </p:nvSpPr>
            <p:spPr>
              <a:xfrm>
                <a:off x="738036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39" name="Line 16"/>
            <p:cNvSpPr/>
            <p:nvPr/>
          </p:nvSpPr>
          <p:spPr>
            <a:xfrm flipV="1">
              <a:off x="644364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 flipH="1" flipV="1">
              <a:off x="644328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1187280" y="1268280"/>
                <a:ext cx="3416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1187280" y="2205000"/>
                <a:ext cx="2162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1187280" y="2781360"/>
                <a:ext cx="2725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1187280" y="3860640"/>
                <a:ext cx="2789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1258920" y="4869000"/>
                <a:ext cx="2695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258920" y="6021360"/>
                <a:ext cx="4075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7" name="Group 24"/>
          <p:cNvGrpSpPr/>
          <p:nvPr/>
        </p:nvGrpSpPr>
        <p:grpSpPr>
          <a:xfrm>
            <a:off x="6732720" y="2997360"/>
            <a:ext cx="647640" cy="647640"/>
            <a:chOff x="6732720" y="2997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48" name="Object 3"/>
                <p:cNvSpPr txBox="1"/>
                <p:nvPr/>
              </p:nvSpPr>
              <p:spPr>
                <a:xfrm>
                  <a:off x="6875640" y="307044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Oval 26"/>
            <p:cNvSpPr/>
            <p:nvPr/>
          </p:nvSpPr>
          <p:spPr>
            <a:xfrm>
              <a:off x="6732720" y="2997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0" name="Group 27"/>
          <p:cNvGrpSpPr/>
          <p:nvPr/>
        </p:nvGrpSpPr>
        <p:grpSpPr>
          <a:xfrm>
            <a:off x="6443280" y="4005360"/>
            <a:ext cx="1872000" cy="720720"/>
            <a:chOff x="6443280" y="4005360"/>
            <a:chExt cx="1872000" cy="720720"/>
          </a:xfrm>
        </p:grpSpPr>
        <p:grpSp>
          <p:nvGrpSpPr>
            <p:cNvPr id="651" name="Group 28"/>
            <p:cNvGrpSpPr/>
            <p:nvPr/>
          </p:nvGrpSpPr>
          <p:grpSpPr>
            <a:xfrm>
              <a:off x="6730920" y="4005360"/>
              <a:ext cx="647640" cy="647640"/>
              <a:chOff x="673092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2" name="Object 3"/>
                  <p:cNvSpPr txBox="1"/>
                  <p:nvPr/>
                </p:nvSpPr>
                <p:spPr>
                  <a:xfrm>
                    <a:off x="6873840" y="407844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3" name="Oval 30"/>
              <p:cNvSpPr/>
              <p:nvPr/>
            </p:nvSpPr>
            <p:spPr>
              <a:xfrm>
                <a:off x="673092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1"/>
            <p:cNvGrpSpPr/>
            <p:nvPr/>
          </p:nvGrpSpPr>
          <p:grpSpPr>
            <a:xfrm>
              <a:off x="7380360" y="4005360"/>
              <a:ext cx="647640" cy="647640"/>
              <a:chOff x="738036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5" name="Object 3"/>
                  <p:cNvSpPr txBox="1"/>
                  <p:nvPr/>
                </p:nvSpPr>
                <p:spPr>
                  <a:xfrm>
                    <a:off x="7524720" y="407700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Oval 33"/>
              <p:cNvSpPr/>
              <p:nvPr/>
            </p:nvSpPr>
            <p:spPr>
              <a:xfrm>
                <a:off x="738036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 flipV="1">
              <a:off x="644364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 flipV="1">
              <a:off x="644328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6732720" y="5013360"/>
            <a:ext cx="647640" cy="647640"/>
            <a:chOff x="6732720" y="5013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60" name="Object 3"/>
                <p:cNvSpPr txBox="1"/>
                <p:nvPr/>
              </p:nvSpPr>
              <p:spPr>
                <a:xfrm>
                  <a:off x="6877080" y="508500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8"/>
            <p:cNvSpPr/>
            <p:nvPr/>
          </p:nvSpPr>
          <p:spPr>
            <a:xfrm>
              <a:off x="6732720" y="5013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2" name="Group 39"/>
          <p:cNvGrpSpPr/>
          <p:nvPr/>
        </p:nvGrpSpPr>
        <p:grpSpPr>
          <a:xfrm>
            <a:off x="6443280" y="5950080"/>
            <a:ext cx="1872000" cy="720720"/>
            <a:chOff x="6443280" y="5950080"/>
            <a:chExt cx="1872000" cy="720720"/>
          </a:xfrm>
        </p:grpSpPr>
        <p:grpSp>
          <p:nvGrpSpPr>
            <p:cNvPr id="663" name="Group 40"/>
            <p:cNvGrpSpPr/>
            <p:nvPr/>
          </p:nvGrpSpPr>
          <p:grpSpPr>
            <a:xfrm>
              <a:off x="6730920" y="5950080"/>
              <a:ext cx="647640" cy="647640"/>
              <a:chOff x="673092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4" name="Object 3"/>
                  <p:cNvSpPr txBox="1"/>
                  <p:nvPr/>
                </p:nvSpPr>
                <p:spPr>
                  <a:xfrm>
                    <a:off x="6873840" y="60231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5" name="Oval 42"/>
              <p:cNvSpPr/>
              <p:nvPr/>
            </p:nvSpPr>
            <p:spPr>
              <a:xfrm>
                <a:off x="673092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3"/>
            <p:cNvGrpSpPr/>
            <p:nvPr/>
          </p:nvGrpSpPr>
          <p:grpSpPr>
            <a:xfrm>
              <a:off x="7380360" y="5950080"/>
              <a:ext cx="647640" cy="647640"/>
              <a:chOff x="738036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7" name="Object 3"/>
                  <p:cNvSpPr txBox="1"/>
                  <p:nvPr/>
                </p:nvSpPr>
                <p:spPr>
                  <a:xfrm>
                    <a:off x="7524720" y="60217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8" name="Oval 45"/>
              <p:cNvSpPr/>
              <p:nvPr/>
            </p:nvSpPr>
            <p:spPr>
              <a:xfrm>
                <a:off x="738036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644364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 flipH="1" flipV="1">
              <a:off x="644328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634160" cy="4505040"/>
        </p:xfrm>
        <a:graphic>
          <a:graphicData uri="http://schemas.openxmlformats.org/drawingml/2006/table">
            <a:tbl>
              <a:tblPr/>
              <a:tblGrid>
                <a:gridCol w="3529080"/>
                <a:gridCol w="410508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ost a lich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á funkce; Lichá funkce; Parita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9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SUDOST  A  LICH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557360"/>
            <a:ext cx="777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ěkteré funkce, které označujeme jako sudé a liché, vykazují jisté druhy symetrie (tuto symetrii nazýváme paritou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nejsou ani sudé, ani liché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47640" y="1197000"/>
            <a:ext cx="7237440" cy="4608360"/>
            <a:chOff x="1547640" y="1197000"/>
            <a:chExt cx="7237440" cy="4608360"/>
          </a:xfrm>
        </p:grpSpPr>
        <mc:AlternateContent>
          <mc:Choice xmlns:a14="http://schemas.microsoft.com/office/drawing/2010/main" Requires="a14">
            <p:sp>
              <p:nvSpPr>
                <p:cNvPr id="144" name="Object 3"/>
                <p:cNvSpPr txBox="1"/>
                <p:nvPr/>
              </p:nvSpPr>
              <p:spPr>
                <a:xfrm>
                  <a:off x="7021440" y="1989000"/>
                  <a:ext cx="17636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Line 4"/>
            <p:cNvSpPr/>
            <p:nvPr/>
          </p:nvSpPr>
          <p:spPr>
            <a:xfrm flipV="1">
              <a:off x="4286160" y="1341360"/>
              <a:ext cx="0" cy="4464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1547640" y="4508640"/>
              <a:ext cx="6121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4213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7381440" y="45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4358880" y="119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76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5868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66108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3492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2700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190800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213080" y="3718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214520" y="2925720"/>
              <a:ext cx="212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213080" y="213372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213080" y="530064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 flipV="1">
              <a:off x="4284360" y="2491920"/>
              <a:ext cx="2808360" cy="280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868720" y="3716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 flipH="1">
              <a:off x="2700000" y="3716280"/>
              <a:ext cx="316692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 flipH="1">
              <a:off x="1907640" y="2924280"/>
              <a:ext cx="475308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781440" y="5084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933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5726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6518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241308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>
              <a:off x="327816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169380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392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925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92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H="1" flipV="1">
              <a:off x="1547640" y="2565360"/>
              <a:ext cx="2735280" cy="27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2700360" y="3715920"/>
              <a:ext cx="0" cy="7938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66108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190800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sud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042920" y="5805360"/>
            <a:ext cx="8101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sudé funkce je souměrný podle osy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181" name="Object 3"/>
                <p:cNvSpPr txBox="1"/>
                <p:nvPr/>
              </p:nvSpPr>
              <p:spPr>
                <a:xfrm>
                  <a:off x="4354560" y="262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Oval 41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5724360" y="189000"/>
            <a:ext cx="259272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70036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356000" y="314172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586728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H="1">
            <a:off x="4284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2700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1908000" y="292392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35456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3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3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6659640" y="292392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H="1">
            <a:off x="4284360" y="2924280"/>
            <a:ext cx="2376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1908000" y="2924280"/>
            <a:ext cx="237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332000" y="981000"/>
            <a:ext cx="6379560" cy="4824000"/>
            <a:chOff x="1332000" y="981000"/>
            <a:chExt cx="6379560" cy="4824000"/>
          </a:xfrm>
        </p:grpSpPr>
        <mc:AlternateContent>
          <mc:Choice xmlns:a14="http://schemas.microsoft.com/office/drawing/2010/main" Requires="a14">
            <p:sp>
              <p:nvSpPr>
                <p:cNvPr id="195" name="Object 3"/>
                <p:cNvSpPr txBox="1"/>
                <p:nvPr/>
              </p:nvSpPr>
              <p:spPr>
                <a:xfrm>
                  <a:off x="6443640" y="1339560"/>
                  <a:ext cx="12679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4"/>
            <p:cNvSpPr/>
            <p:nvPr/>
          </p:nvSpPr>
          <p:spPr>
            <a:xfrm flipV="1">
              <a:off x="4068720" y="1125360"/>
              <a:ext cx="0" cy="4606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1332000" y="3860280"/>
              <a:ext cx="612108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3997080" y="37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65440" y="39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141080" y="98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486072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565308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276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2484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169200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3997080" y="307008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998880" y="2277720"/>
              <a:ext cx="2124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3997080" y="4652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V="1">
              <a:off x="2124000" y="1485720"/>
              <a:ext cx="4319280" cy="4319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4860720" y="3067920"/>
              <a:ext cx="0" cy="72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139640" y="306828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>
              <a:off x="4068360" y="227628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4141440" y="4436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4717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5509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241272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3205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1549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370980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370980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6360" y="3860640"/>
              <a:ext cx="0" cy="79344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5651280" y="227628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2484360" y="386064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3997080" y="5445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41414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H="1">
              <a:off x="3276000" y="465264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H="1">
              <a:off x="2484000" y="544500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1042920" y="189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lich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–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cs-CZ" sz="36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042920" y="58053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liché funkce je souměrný podle počátk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8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231" name="Object 3"/>
                <p:cNvSpPr txBox="1"/>
                <p:nvPr/>
              </p:nvSpPr>
              <p:spPr>
                <a:xfrm>
                  <a:off x="4354560" y="279360"/>
                  <a:ext cx="404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Oval 40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Rectangle 41"/>
          <p:cNvSpPr/>
          <p:nvPr/>
        </p:nvSpPr>
        <p:spPr>
          <a:xfrm>
            <a:off x="5651640" y="189000"/>
            <a:ext cx="327636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2"/>
          <p:cNvSpPr/>
          <p:nvPr/>
        </p:nvSpPr>
        <p:spPr>
          <a:xfrm flipH="1">
            <a:off x="3276720" y="3860640"/>
            <a:ext cx="288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71636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1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1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4861080" y="3068280"/>
            <a:ext cx="0" cy="793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 flipH="1">
            <a:off x="4068360" y="3068640"/>
            <a:ext cx="792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>
            <a:off x="3276720" y="4653000"/>
            <a:ext cx="792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2484360" y="386064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4716360" y="522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651640" y="227628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068360" y="2276640"/>
            <a:ext cx="1582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>
            <a:off x="2484360" y="5445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, zda se jedná o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funkci sudou či lichou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71640" y="1125360"/>
            <a:ext cx="2693880" cy="2304720"/>
            <a:chOff x="971640" y="1125360"/>
            <a:chExt cx="2693880" cy="2304720"/>
          </a:xfrm>
        </p:grpSpPr>
        <p:sp>
          <p:nvSpPr>
            <p:cNvPr id="246" name="Text Box 4"/>
            <p:cNvSpPr/>
            <p:nvPr/>
          </p:nvSpPr>
          <p:spPr>
            <a:xfrm>
              <a:off x="97164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1116000" y="2422440"/>
              <a:ext cx="244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V="1">
              <a:off x="233964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334908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41236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830240" y="1341360"/>
              <a:ext cx="1007640" cy="208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10"/>
          <p:cNvSpPr/>
          <p:nvPr/>
        </p:nvSpPr>
        <p:spPr>
          <a:xfrm>
            <a:off x="162072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708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652720" y="17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48320" y="1125360"/>
            <a:ext cx="2694240" cy="2304720"/>
            <a:chOff x="6448320" y="1125360"/>
            <a:chExt cx="2694240" cy="2304720"/>
          </a:xfrm>
        </p:grpSpPr>
        <p:sp>
          <p:nvSpPr>
            <p:cNvPr id="256" name="Text Box 14"/>
            <p:cNvSpPr/>
            <p:nvPr/>
          </p:nvSpPr>
          <p:spPr>
            <a:xfrm>
              <a:off x="6448320" y="127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93040" y="242244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7816680" y="126972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882612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788940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1" name="AutoShape 19"/>
            <p:cNvCxnSpPr/>
            <p:nvPr/>
          </p:nvCxnSpPr>
          <p:spPr>
            <a:xfrm flipV="1" rot="16200000">
              <a:off x="7128000" y="173664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62" name="Text Box 20"/>
          <p:cNvSpPr/>
          <p:nvPr/>
        </p:nvSpPr>
        <p:spPr>
          <a:xfrm>
            <a:off x="4356000" y="5518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3060360" y="4365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086160" y="508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3"/>
          <p:cNvGrpSpPr/>
          <p:nvPr/>
        </p:nvGrpSpPr>
        <p:grpSpPr>
          <a:xfrm>
            <a:off x="3708360" y="4005360"/>
            <a:ext cx="2592360" cy="2305080"/>
            <a:chOff x="3708360" y="4005360"/>
            <a:chExt cx="2592360" cy="2305080"/>
          </a:xfrm>
        </p:grpSpPr>
        <p:sp>
          <p:nvSpPr>
            <p:cNvPr id="266" name="Text Box 24"/>
            <p:cNvSpPr/>
            <p:nvPr/>
          </p:nvSpPr>
          <p:spPr>
            <a:xfrm>
              <a:off x="3708360" y="415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3852720" y="530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507672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14944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4356000" y="415008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>
              <a:off x="421308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Line 30"/>
            <p:cNvSpPr/>
            <p:nvPr/>
          </p:nvSpPr>
          <p:spPr>
            <a:xfrm>
              <a:off x="421308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>
              <a:off x="493380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93380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971640" y="4005360"/>
            <a:ext cx="2693520" cy="2304720"/>
            <a:chOff x="971640" y="4005360"/>
            <a:chExt cx="2693520" cy="2304720"/>
          </a:xfrm>
        </p:grpSpPr>
        <p:sp>
          <p:nvSpPr>
            <p:cNvPr id="276" name="Text Box 34"/>
            <p:cNvSpPr/>
            <p:nvPr/>
          </p:nvSpPr>
          <p:spPr>
            <a:xfrm>
              <a:off x="971640" y="415008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35"/>
            <p:cNvSpPr/>
            <p:nvPr/>
          </p:nvSpPr>
          <p:spPr>
            <a:xfrm>
              <a:off x="11156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 flipV="1">
              <a:off x="233964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487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Text Box 38"/>
            <p:cNvSpPr/>
            <p:nvPr/>
          </p:nvSpPr>
          <p:spPr>
            <a:xfrm>
              <a:off x="2412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1114200" y="4870800"/>
              <a:ext cx="244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1476000" y="472464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 flipV="1">
              <a:off x="1547640" y="47257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1476000" y="51559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1547640" y="51580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6" name="Text Box 44"/>
          <p:cNvSpPr/>
          <p:nvPr/>
        </p:nvSpPr>
        <p:spPr>
          <a:xfrm>
            <a:off x="8029440" y="544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45"/>
          <p:cNvGrpSpPr/>
          <p:nvPr/>
        </p:nvGrpSpPr>
        <p:grpSpPr>
          <a:xfrm>
            <a:off x="6448320" y="4005360"/>
            <a:ext cx="2694240" cy="2305080"/>
            <a:chOff x="6448320" y="4005360"/>
            <a:chExt cx="2694240" cy="2305080"/>
          </a:xfrm>
        </p:grpSpPr>
        <p:sp>
          <p:nvSpPr>
            <p:cNvPr id="288" name="Text Box 46"/>
            <p:cNvSpPr/>
            <p:nvPr/>
          </p:nvSpPr>
          <p:spPr>
            <a:xfrm>
              <a:off x="6448320" y="415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65930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 flipV="1">
              <a:off x="781668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Text Box 49"/>
            <p:cNvSpPr/>
            <p:nvPr/>
          </p:nvSpPr>
          <p:spPr>
            <a:xfrm>
              <a:off x="88261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50"/>
            <p:cNvSpPr/>
            <p:nvPr/>
          </p:nvSpPr>
          <p:spPr>
            <a:xfrm>
              <a:off x="788940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6659640" y="486900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7956720" y="486900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3708360" y="1125360"/>
            <a:ext cx="2694240" cy="2304720"/>
            <a:chOff x="3708360" y="1125360"/>
            <a:chExt cx="2694240" cy="2304720"/>
          </a:xfrm>
        </p:grpSpPr>
        <p:sp>
          <p:nvSpPr>
            <p:cNvPr id="296" name="Text Box 54"/>
            <p:cNvSpPr/>
            <p:nvPr/>
          </p:nvSpPr>
          <p:spPr>
            <a:xfrm>
              <a:off x="370836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3852720" y="242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 flipV="1">
              <a:off x="507672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14944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4208400" y="141444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6086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235640" y="3357360"/>
            <a:ext cx="1224000" cy="431640"/>
            <a:chOff x="7235640" y="3357360"/>
            <a:chExt cx="1224000" cy="431640"/>
          </a:xfrm>
        </p:grpSpPr>
        <p:grpSp>
          <p:nvGrpSpPr>
            <p:cNvPr id="303" name="Group 61"/>
            <p:cNvGrpSpPr/>
            <p:nvPr/>
          </p:nvGrpSpPr>
          <p:grpSpPr>
            <a:xfrm>
              <a:off x="7423560" y="3357720"/>
              <a:ext cx="423360" cy="388080"/>
              <a:chOff x="74235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3"/>
                  <p:cNvSpPr txBox="1"/>
                  <p:nvPr/>
                </p:nvSpPr>
                <p:spPr>
                  <a:xfrm>
                    <a:off x="7516800" y="3401280"/>
                    <a:ext cx="264240" cy="30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Oval 63"/>
              <p:cNvSpPr/>
              <p:nvPr/>
            </p:nvSpPr>
            <p:spPr>
              <a:xfrm>
                <a:off x="74235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4"/>
            <p:cNvGrpSpPr/>
            <p:nvPr/>
          </p:nvGrpSpPr>
          <p:grpSpPr>
            <a:xfrm>
              <a:off x="7848360" y="3357720"/>
              <a:ext cx="423360" cy="388080"/>
              <a:chOff x="78483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7" name="Object 3"/>
                  <p:cNvSpPr txBox="1"/>
                  <p:nvPr/>
                </p:nvSpPr>
                <p:spPr>
                  <a:xfrm>
                    <a:off x="7942680" y="3400560"/>
                    <a:ext cx="264240" cy="28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Oval 66"/>
              <p:cNvSpPr/>
              <p:nvPr/>
            </p:nvSpPr>
            <p:spPr>
              <a:xfrm>
                <a:off x="78483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67"/>
            <p:cNvSpPr/>
            <p:nvPr/>
          </p:nvSpPr>
          <p:spPr>
            <a:xfrm flipV="1">
              <a:off x="723600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 flipH="1" flipV="1">
              <a:off x="723564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4859280" y="3357720"/>
            <a:ext cx="432000" cy="431640"/>
            <a:chOff x="4859280" y="335772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2" name="Object 3"/>
                <p:cNvSpPr txBox="1"/>
                <p:nvPr/>
              </p:nvSpPr>
              <p:spPr>
                <a:xfrm>
                  <a:off x="4954320" y="340632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Oval 71"/>
            <p:cNvSpPr/>
            <p:nvPr/>
          </p:nvSpPr>
          <p:spPr>
            <a:xfrm>
              <a:off x="4859280" y="335772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2124000" y="3357720"/>
            <a:ext cx="432000" cy="433080"/>
            <a:chOff x="2124000" y="3357720"/>
            <a:chExt cx="432000" cy="433080"/>
          </a:xfrm>
        </p:grpSpPr>
        <mc:AlternateContent>
          <mc:Choice xmlns:a14="http://schemas.microsoft.com/office/drawing/2010/main" Requires="a14">
            <p:sp>
              <p:nvSpPr>
                <p:cNvPr id="315" name="Object 3"/>
                <p:cNvSpPr txBox="1"/>
                <p:nvPr/>
              </p:nvSpPr>
              <p:spPr>
                <a:xfrm>
                  <a:off x="2220120" y="3405600"/>
                  <a:ext cx="269640" cy="31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74"/>
            <p:cNvSpPr/>
            <p:nvPr/>
          </p:nvSpPr>
          <p:spPr>
            <a:xfrm>
              <a:off x="2124000" y="3357720"/>
              <a:ext cx="432000" cy="4330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5"/>
          <p:cNvGrpSpPr/>
          <p:nvPr/>
        </p:nvGrpSpPr>
        <p:grpSpPr>
          <a:xfrm>
            <a:off x="2124000" y="6237360"/>
            <a:ext cx="432000" cy="431640"/>
            <a:chOff x="2124000" y="623736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2219040" y="628596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Oval 77"/>
            <p:cNvSpPr/>
            <p:nvPr/>
          </p:nvSpPr>
          <p:spPr>
            <a:xfrm>
              <a:off x="2124000" y="623736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8"/>
          <p:cNvGrpSpPr/>
          <p:nvPr/>
        </p:nvGrpSpPr>
        <p:grpSpPr>
          <a:xfrm>
            <a:off x="7235640" y="6165720"/>
            <a:ext cx="1224000" cy="432000"/>
            <a:chOff x="7235640" y="6165720"/>
            <a:chExt cx="1224000" cy="432000"/>
          </a:xfrm>
        </p:grpSpPr>
        <p:grpSp>
          <p:nvGrpSpPr>
            <p:cNvPr id="321" name="Group 79"/>
            <p:cNvGrpSpPr/>
            <p:nvPr/>
          </p:nvGrpSpPr>
          <p:grpSpPr>
            <a:xfrm>
              <a:off x="7423560" y="6165720"/>
              <a:ext cx="423360" cy="388440"/>
              <a:chOff x="74235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3"/>
                  <p:cNvSpPr txBox="1"/>
                  <p:nvPr/>
                </p:nvSpPr>
                <p:spPr>
                  <a:xfrm>
                    <a:off x="7516800" y="620928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Oval 81"/>
              <p:cNvSpPr/>
              <p:nvPr/>
            </p:nvSpPr>
            <p:spPr>
              <a:xfrm>
                <a:off x="74235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2"/>
            <p:cNvGrpSpPr/>
            <p:nvPr/>
          </p:nvGrpSpPr>
          <p:grpSpPr>
            <a:xfrm>
              <a:off x="7848360" y="6165720"/>
              <a:ext cx="423360" cy="388440"/>
              <a:chOff x="78483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5" name="Object 3"/>
                  <p:cNvSpPr txBox="1"/>
                  <p:nvPr/>
                </p:nvSpPr>
                <p:spPr>
                  <a:xfrm>
                    <a:off x="7942680" y="620856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Oval 84"/>
              <p:cNvSpPr/>
              <p:nvPr/>
            </p:nvSpPr>
            <p:spPr>
              <a:xfrm>
                <a:off x="78483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27" name="Line 85"/>
            <p:cNvSpPr/>
            <p:nvPr/>
          </p:nvSpPr>
          <p:spPr>
            <a:xfrm flipV="1">
              <a:off x="723600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86"/>
            <p:cNvSpPr/>
            <p:nvPr/>
          </p:nvSpPr>
          <p:spPr>
            <a:xfrm flipH="1" flipV="1">
              <a:off x="723564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76320" y="51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32" name="Text Box 5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1618920" y="405000"/>
              <a:ext cx="1368360" cy="2089080"/>
              <a:chOff x="1618920" y="405000"/>
              <a:chExt cx="1368360" cy="2089080"/>
            </a:xfrm>
          </p:grpSpPr>
          <p:sp>
            <p:nvSpPr>
              <p:cNvPr id="338" name="Line 11"/>
              <p:cNvSpPr/>
              <p:nvPr/>
            </p:nvSpPr>
            <p:spPr>
              <a:xfrm flipH="1" flipV="1">
                <a:off x="1618920" y="1845000"/>
                <a:ext cx="1368360" cy="64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 flipH="1">
                <a:off x="1618920" y="1485000"/>
                <a:ext cx="1152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H="1" flipV="1">
                <a:off x="1834560" y="1197000"/>
                <a:ext cx="936360" cy="287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H="1">
                <a:off x="1834560" y="765720"/>
                <a:ext cx="720360" cy="43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1834560" y="405000"/>
                <a:ext cx="720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6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44" name="Text Box 17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51" name="Text Box 24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Text Box 27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6659640" y="2133720"/>
              <a:ext cx="115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7812000" y="836280"/>
              <a:ext cx="180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812000" y="836640"/>
              <a:ext cx="1081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586872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6448320" y="3429000"/>
            <a:ext cx="2693880" cy="2304720"/>
            <a:chOff x="6448320" y="3429000"/>
            <a:chExt cx="2693880" cy="2304720"/>
          </a:xfrm>
        </p:grpSpPr>
        <p:sp>
          <p:nvSpPr>
            <p:cNvPr id="361" name="Text Box 34"/>
            <p:cNvSpPr/>
            <p:nvPr/>
          </p:nvSpPr>
          <p:spPr>
            <a:xfrm>
              <a:off x="6448320" y="3573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659268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816680" y="3573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882576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7889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AutoShape 39"/>
            <p:cNvCxnSpPr/>
            <p:nvPr/>
          </p:nvCxnSpPr>
          <p:spPr>
            <a:xfrm flipV="1">
              <a:off x="6665400" y="386028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367" name="Text Box 40"/>
          <p:cNvSpPr/>
          <p:nvPr/>
        </p:nvSpPr>
        <p:spPr>
          <a:xfrm>
            <a:off x="846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03056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292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976320" y="3429000"/>
            <a:ext cx="2694240" cy="2305080"/>
            <a:chOff x="976320" y="3429000"/>
            <a:chExt cx="2694240" cy="2305080"/>
          </a:xfrm>
        </p:grpSpPr>
        <p:sp>
          <p:nvSpPr>
            <p:cNvPr id="371" name="Text Box 44"/>
            <p:cNvSpPr/>
            <p:nvPr/>
          </p:nvSpPr>
          <p:spPr>
            <a:xfrm>
              <a:off x="97632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>
              <a:off x="1120680" y="472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2344680" y="357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47"/>
            <p:cNvSpPr/>
            <p:nvPr/>
          </p:nvSpPr>
          <p:spPr>
            <a:xfrm>
              <a:off x="335412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8"/>
            <p:cNvSpPr/>
            <p:nvPr/>
          </p:nvSpPr>
          <p:spPr>
            <a:xfrm>
              <a:off x="2417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H="1">
              <a:off x="1406520" y="4149720"/>
              <a:ext cx="93672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>
              <a:off x="2343240" y="4149720"/>
              <a:ext cx="100800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51"/>
          <p:cNvGrpSpPr/>
          <p:nvPr/>
        </p:nvGrpSpPr>
        <p:grpSpPr>
          <a:xfrm>
            <a:off x="2127240" y="5878440"/>
            <a:ext cx="431640" cy="432000"/>
            <a:chOff x="2127240" y="5878440"/>
            <a:chExt cx="431640" cy="432000"/>
          </a:xfrm>
        </p:grpSpPr>
        <mc:AlternateContent>
          <mc:Choice xmlns:a14="http://schemas.microsoft.com/office/drawing/2010/main" Requires="a14">
            <p:sp>
              <p:nvSpPr>
                <p:cNvPr id="379" name="Object 3"/>
                <p:cNvSpPr txBox="1"/>
                <p:nvPr/>
              </p:nvSpPr>
              <p:spPr>
                <a:xfrm>
                  <a:off x="2222280" y="592704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53"/>
            <p:cNvSpPr/>
            <p:nvPr/>
          </p:nvSpPr>
          <p:spPr>
            <a:xfrm>
              <a:off x="2127240" y="5878440"/>
              <a:ext cx="43164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54"/>
          <p:cNvGrpSpPr/>
          <p:nvPr/>
        </p:nvGrpSpPr>
        <p:grpSpPr>
          <a:xfrm>
            <a:off x="4503600" y="5878440"/>
            <a:ext cx="1224000" cy="432000"/>
            <a:chOff x="4503600" y="5878440"/>
            <a:chExt cx="1224000" cy="432000"/>
          </a:xfrm>
        </p:grpSpPr>
        <p:grpSp>
          <p:nvGrpSpPr>
            <p:cNvPr id="382" name="Group 55"/>
            <p:cNvGrpSpPr/>
            <p:nvPr/>
          </p:nvGrpSpPr>
          <p:grpSpPr>
            <a:xfrm>
              <a:off x="4691160" y="5878440"/>
              <a:ext cx="423720" cy="388440"/>
              <a:chOff x="4691160" y="587844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3"/>
                  <p:cNvSpPr txBox="1"/>
                  <p:nvPr/>
                </p:nvSpPr>
                <p:spPr>
                  <a:xfrm>
                    <a:off x="4784400" y="592200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Oval 57"/>
              <p:cNvSpPr/>
              <p:nvPr/>
            </p:nvSpPr>
            <p:spPr>
              <a:xfrm>
                <a:off x="4691160" y="587844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5115960" y="5878440"/>
              <a:ext cx="423360" cy="388440"/>
              <a:chOff x="5115960" y="587844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3"/>
                  <p:cNvSpPr txBox="1"/>
                  <p:nvPr/>
                </p:nvSpPr>
                <p:spPr>
                  <a:xfrm>
                    <a:off x="5210280" y="592128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Oval 60"/>
              <p:cNvSpPr/>
              <p:nvPr/>
            </p:nvSpPr>
            <p:spPr>
              <a:xfrm>
                <a:off x="5115960" y="587844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Line 61"/>
            <p:cNvSpPr/>
            <p:nvPr/>
          </p:nvSpPr>
          <p:spPr>
            <a:xfrm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 flipH="1"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0" name="Group 63"/>
          <p:cNvGrpSpPr/>
          <p:nvPr/>
        </p:nvGrpSpPr>
        <p:grpSpPr>
          <a:xfrm>
            <a:off x="7599240" y="5878440"/>
            <a:ext cx="432000" cy="433440"/>
            <a:chOff x="7599240" y="587844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7695360" y="592632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Oval 65"/>
            <p:cNvSpPr/>
            <p:nvPr/>
          </p:nvSpPr>
          <p:spPr>
            <a:xfrm>
              <a:off x="7599240" y="587844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3711600" y="3429000"/>
            <a:ext cx="2694240" cy="2305080"/>
            <a:chOff x="3711600" y="3429000"/>
            <a:chExt cx="2694240" cy="2305080"/>
          </a:xfrm>
        </p:grpSpPr>
        <p:sp>
          <p:nvSpPr>
            <p:cNvPr id="394" name="Text Box 67"/>
            <p:cNvSpPr/>
            <p:nvPr/>
          </p:nvSpPr>
          <p:spPr>
            <a:xfrm>
              <a:off x="371160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385596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 flipV="1">
              <a:off x="5079960" y="357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70"/>
            <p:cNvSpPr/>
            <p:nvPr/>
          </p:nvSpPr>
          <p:spPr>
            <a:xfrm>
              <a:off x="608940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71"/>
            <p:cNvSpPr/>
            <p:nvPr/>
          </p:nvSpPr>
          <p:spPr>
            <a:xfrm>
              <a:off x="515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4791240" y="4076640"/>
              <a:ext cx="86328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 flipH="1">
              <a:off x="5651280" y="3645000"/>
              <a:ext cx="360360" cy="143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448320" y="33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86160" y="6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652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6" name="Line 7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14" name="Text Box 15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6804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4483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6593040" y="4941720"/>
            <a:ext cx="244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 flipV="1">
            <a:off x="7816680" y="3789360"/>
            <a:ext cx="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8826120" y="4941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7889400" y="364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7380360" y="4508640"/>
            <a:ext cx="573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7953480" y="4508640"/>
            <a:ext cx="792000" cy="144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7020000" y="3860640"/>
            <a:ext cx="360360" cy="64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1763640" y="2565360"/>
            <a:ext cx="1224000" cy="432000"/>
            <a:chOff x="1763640" y="2565360"/>
            <a:chExt cx="1224000" cy="432000"/>
          </a:xfrm>
        </p:grpSpPr>
        <p:grpSp>
          <p:nvGrpSpPr>
            <p:cNvPr id="431" name="Group 32"/>
            <p:cNvGrpSpPr/>
            <p:nvPr/>
          </p:nvGrpSpPr>
          <p:grpSpPr>
            <a:xfrm>
              <a:off x="1951200" y="2565360"/>
              <a:ext cx="423720" cy="388440"/>
              <a:chOff x="1951200" y="2565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3"/>
                  <p:cNvSpPr txBox="1"/>
                  <p:nvPr/>
                </p:nvSpPr>
                <p:spPr>
                  <a:xfrm>
                    <a:off x="2044440" y="2608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Oval 34"/>
              <p:cNvSpPr/>
              <p:nvPr/>
            </p:nvSpPr>
            <p:spPr>
              <a:xfrm>
                <a:off x="1951200" y="2565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2376000" y="2565360"/>
              <a:ext cx="423360" cy="388440"/>
              <a:chOff x="2376000" y="2565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5" name="Object 3"/>
                  <p:cNvSpPr txBox="1"/>
                  <p:nvPr/>
                </p:nvSpPr>
                <p:spPr>
                  <a:xfrm>
                    <a:off x="2470320" y="2608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" name="Oval 37"/>
              <p:cNvSpPr/>
              <p:nvPr/>
            </p:nvSpPr>
            <p:spPr>
              <a:xfrm>
                <a:off x="2376000" y="2565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38"/>
            <p:cNvSpPr/>
            <p:nvPr/>
          </p:nvSpPr>
          <p:spPr>
            <a:xfrm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40"/>
          <p:cNvGrpSpPr/>
          <p:nvPr/>
        </p:nvGrpSpPr>
        <p:grpSpPr>
          <a:xfrm>
            <a:off x="3708360" y="189000"/>
            <a:ext cx="2694240" cy="2305080"/>
            <a:chOff x="3708360" y="189000"/>
            <a:chExt cx="2694240" cy="2305080"/>
          </a:xfrm>
        </p:grpSpPr>
        <p:sp>
          <p:nvSpPr>
            <p:cNvPr id="440" name="Text Box 41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44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4067280" y="836640"/>
              <a:ext cx="50472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47"/>
            <p:cNvSpPr/>
            <p:nvPr/>
          </p:nvSpPr>
          <p:spPr>
            <a:xfrm flipH="1">
              <a:off x="5579640" y="404640"/>
              <a:ext cx="79236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4572000" y="184464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49"/>
          <p:cNvGrpSpPr/>
          <p:nvPr/>
        </p:nvGrpSpPr>
        <p:grpSpPr>
          <a:xfrm>
            <a:off x="4859280" y="2565360"/>
            <a:ext cx="432000" cy="432000"/>
            <a:chOff x="4859280" y="2565360"/>
            <a:chExt cx="432000" cy="432000"/>
          </a:xfrm>
        </p:grpSpPr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4954320" y="261396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Oval 51"/>
            <p:cNvSpPr/>
            <p:nvPr/>
          </p:nvSpPr>
          <p:spPr>
            <a:xfrm>
              <a:off x="4859280" y="2565360"/>
              <a:ext cx="43200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Group 52"/>
          <p:cNvGrpSpPr/>
          <p:nvPr/>
        </p:nvGrpSpPr>
        <p:grpSpPr>
          <a:xfrm>
            <a:off x="971640" y="3645000"/>
            <a:ext cx="2693880" cy="2376360"/>
            <a:chOff x="971640" y="3645000"/>
            <a:chExt cx="2693880" cy="2376360"/>
          </a:xfrm>
        </p:grpSpPr>
        <p:sp>
          <p:nvSpPr>
            <p:cNvPr id="452" name="Text Box 53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1547640" y="4076640"/>
              <a:ext cx="432000" cy="86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2700360" y="4941720"/>
              <a:ext cx="576360" cy="107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1979640" y="4941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0" name="Group 61"/>
          <p:cNvGrpSpPr/>
          <p:nvPr/>
        </p:nvGrpSpPr>
        <p:grpSpPr>
          <a:xfrm>
            <a:off x="2124000" y="6021360"/>
            <a:ext cx="432000" cy="433440"/>
            <a:chOff x="2124000" y="602136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461" name="Object 3"/>
                <p:cNvSpPr txBox="1"/>
                <p:nvPr/>
              </p:nvSpPr>
              <p:spPr>
                <a:xfrm>
                  <a:off x="2220120" y="606924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Oval 63"/>
            <p:cNvSpPr/>
            <p:nvPr/>
          </p:nvSpPr>
          <p:spPr>
            <a:xfrm>
              <a:off x="2124000" y="602136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3" name="Group 64"/>
          <p:cNvGrpSpPr/>
          <p:nvPr/>
        </p:nvGrpSpPr>
        <p:grpSpPr>
          <a:xfrm>
            <a:off x="3708360" y="3645000"/>
            <a:ext cx="2694240" cy="2316240"/>
            <a:chOff x="3708360" y="3645000"/>
            <a:chExt cx="2694240" cy="2316240"/>
          </a:xfrm>
        </p:grpSpPr>
        <p:sp>
          <p:nvSpPr>
            <p:cNvPr id="464" name="Text Box 65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Freeform 70"/>
            <p:cNvSpPr/>
            <p:nvPr/>
          </p:nvSpPr>
          <p:spPr>
            <a:xfrm flipV="1">
              <a:off x="4500720" y="4149720"/>
              <a:ext cx="165564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0" name="Text Box 71"/>
          <p:cNvSpPr/>
          <p:nvPr/>
        </p:nvSpPr>
        <p:spPr>
          <a:xfrm>
            <a:off x="327780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1" name="Group 72"/>
          <p:cNvGrpSpPr/>
          <p:nvPr/>
        </p:nvGrpSpPr>
        <p:grpSpPr>
          <a:xfrm>
            <a:off x="4427640" y="6021360"/>
            <a:ext cx="1224000" cy="432000"/>
            <a:chOff x="4427640" y="6021360"/>
            <a:chExt cx="1224000" cy="432000"/>
          </a:xfrm>
        </p:grpSpPr>
        <p:grpSp>
          <p:nvGrpSpPr>
            <p:cNvPr id="472" name="Group 73"/>
            <p:cNvGrpSpPr/>
            <p:nvPr/>
          </p:nvGrpSpPr>
          <p:grpSpPr>
            <a:xfrm>
              <a:off x="4615200" y="6021360"/>
              <a:ext cx="423720" cy="388440"/>
              <a:chOff x="4615200" y="6021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3" name="Object 3"/>
                  <p:cNvSpPr txBox="1"/>
                  <p:nvPr/>
                </p:nvSpPr>
                <p:spPr>
                  <a:xfrm>
                    <a:off x="4708440" y="6064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Oval 75"/>
              <p:cNvSpPr/>
              <p:nvPr/>
            </p:nvSpPr>
            <p:spPr>
              <a:xfrm>
                <a:off x="4615200" y="6021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6"/>
            <p:cNvGrpSpPr/>
            <p:nvPr/>
          </p:nvGrpSpPr>
          <p:grpSpPr>
            <a:xfrm>
              <a:off x="5040000" y="6021360"/>
              <a:ext cx="423360" cy="388440"/>
              <a:chOff x="504000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6" name="Object 3"/>
                  <p:cNvSpPr txBox="1"/>
                  <p:nvPr/>
                </p:nvSpPr>
                <p:spPr>
                  <a:xfrm>
                    <a:off x="513432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7" name="Oval 78"/>
              <p:cNvSpPr/>
              <p:nvPr/>
            </p:nvSpPr>
            <p:spPr>
              <a:xfrm>
                <a:off x="504000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79"/>
            <p:cNvSpPr/>
            <p:nvPr/>
          </p:nvSpPr>
          <p:spPr>
            <a:xfrm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H="1"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80" name="Group 81"/>
          <p:cNvGrpSpPr/>
          <p:nvPr/>
        </p:nvGrpSpPr>
        <p:grpSpPr>
          <a:xfrm>
            <a:off x="7235640" y="6021360"/>
            <a:ext cx="1224000" cy="432000"/>
            <a:chOff x="7235640" y="6021360"/>
            <a:chExt cx="1224000" cy="432000"/>
          </a:xfrm>
        </p:grpSpPr>
        <p:grpSp>
          <p:nvGrpSpPr>
            <p:cNvPr id="481" name="Group 82"/>
            <p:cNvGrpSpPr/>
            <p:nvPr/>
          </p:nvGrpSpPr>
          <p:grpSpPr>
            <a:xfrm>
              <a:off x="7423560" y="6021360"/>
              <a:ext cx="423360" cy="388440"/>
              <a:chOff x="74235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2" name="Object 3"/>
                  <p:cNvSpPr txBox="1"/>
                  <p:nvPr/>
                </p:nvSpPr>
                <p:spPr>
                  <a:xfrm>
                    <a:off x="7516800" y="606492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3" name="Oval 84"/>
              <p:cNvSpPr/>
              <p:nvPr/>
            </p:nvSpPr>
            <p:spPr>
              <a:xfrm>
                <a:off x="74235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85"/>
            <p:cNvGrpSpPr/>
            <p:nvPr/>
          </p:nvGrpSpPr>
          <p:grpSpPr>
            <a:xfrm>
              <a:off x="7848360" y="6021360"/>
              <a:ext cx="423360" cy="388440"/>
              <a:chOff x="78483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5" name="Object 3"/>
                  <p:cNvSpPr txBox="1"/>
                  <p:nvPr/>
                </p:nvSpPr>
                <p:spPr>
                  <a:xfrm>
                    <a:off x="794268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6" name="Oval 87"/>
              <p:cNvSpPr/>
              <p:nvPr/>
            </p:nvSpPr>
            <p:spPr>
              <a:xfrm>
                <a:off x="78483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87" name="Line 88"/>
            <p:cNvSpPr/>
            <p:nvPr/>
          </p:nvSpPr>
          <p:spPr>
            <a:xfrm flipV="1">
              <a:off x="723600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89"/>
            <p:cNvSpPr/>
            <p:nvPr/>
          </p:nvSpPr>
          <p:spPr>
            <a:xfrm flipH="1" flipV="1">
              <a:off x="723564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funkční hodnoty pro dané argumenty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093680" y="952560"/>
                <a:ext cx="2697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5580000" y="982800"/>
                <a:ext cx="356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00360" y="1557360"/>
                <a:ext cx="1820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6"/>
          <p:cNvSpPr/>
          <p:nvPr/>
        </p:nvSpPr>
        <p:spPr>
          <a:xfrm>
            <a:off x="1619280" y="1486080"/>
            <a:ext cx="752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3780000" y="982800"/>
                <a:ext cx="1096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0" y="1700280"/>
                <a:ext cx="2131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2700360" y="2205000"/>
                <a:ext cx="175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572000" y="2349360"/>
                <a:ext cx="1913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700360" y="2852640"/>
                <a:ext cx="13190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4067280" y="2997360"/>
                <a:ext cx="1693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2700360" y="3498840"/>
                <a:ext cx="125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4067280" y="3573360"/>
                <a:ext cx="1660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2700360" y="4146480"/>
                <a:ext cx="13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067280" y="4221000"/>
                <a:ext cx="1847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700360" y="4726080"/>
                <a:ext cx="1347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700360" y="5734080"/>
                <a:ext cx="184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572000" y="5805360"/>
                <a:ext cx="1535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3706920" y="5734080"/>
            <a:ext cx="288720" cy="35712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711">
                <a:moveTo>
                  <a:pt x="3600" y="0"/>
                </a:moveTo>
                <a:arcTo wR="3600" hR="3600" stAng="16200000" swAng="-5400000"/>
                <a:lnTo>
                  <a:pt x="0" y="23111"/>
                </a:lnTo>
                <a:arcTo wR="3600" hR="3600" stAng="10800000" swAng="-5400000"/>
                <a:lnTo>
                  <a:pt x="18000" y="26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3851280" y="530064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LICH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932360" y="595008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0" name="AutoShape 23"/>
          <p:cNvCxnSpPr/>
          <p:nvPr/>
        </p:nvCxnSpPr>
        <p:spPr>
          <a:xfrm flipH="1" rot="16200000">
            <a:off x="4337640" y="5247360"/>
            <a:ext cx="216720" cy="1189800"/>
          </a:xfrm>
          <a:prstGeom prst="curvedConnector5">
            <a:avLst>
              <a:gd name="adj1" fmla="val -277204"/>
              <a:gd name="adj2" fmla="val 50000"/>
              <a:gd name="adj3" fmla="val -27720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1619280" y="162864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1619280" y="2278080"/>
                <a:ext cx="100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619280" y="2924280"/>
                <a:ext cx="784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619280" y="3573360"/>
                <a:ext cx="72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19280" y="4221000"/>
                <a:ext cx="78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619280" y="479736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619280" y="580536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0:39Z</dcterms:modified>
  <cp:revision>310</cp:revision>
  <dc:subject/>
  <dc:title>FCE</dc:title>
</cp:coreProperties>
</file>