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0CE4-A1C1-4E19-8BAD-4B33EA2E291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2C0C-D587-4548-A9C5-FCDCB706BD0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AFBC-422A-4209-8425-4D0AA2B38F2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4F2B-95AC-4763-A998-62DEC270A61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5A3A-2C44-4E75-B612-460279EFD63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F611-334E-4BAD-A970-D82AA7F1ECE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BFD3-3DFE-471F-A293-707AEABFB7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D47F-5965-4B48-978F-E66FBAE6A2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FBB2-0E39-435C-8E37-FD7474EAD0C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F6B9-005D-483F-ACAE-45F99C6111F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DA33-371F-470B-B9BC-23C502B64B4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1B9F-7E25-4B85-8A17-994675CEE47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0E34-AD2E-47F5-8A2D-3E21B31AD0D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3A94-C100-48D7-8980-A2DE5E6C193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3C44-DFA9-4805-BB3A-EB37FA92E77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1066-FA0D-4416-A9B8-6BB45A670F0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661A-8F9A-46E4-BB2C-66589AB0470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3CE-DAED-426F-AD36-AD96FE99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5C8-C2DF-45F2-AAC7-BB662317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5DA-8DA9-41E8-9613-B7864CDE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C94-1885-44C5-9B8E-85959548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818-C596-4CC5-8C30-DB49822C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1179-F875-47A0-8246-25F20DA0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528-7136-4B8F-BBF3-D13253AC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CAC-E3BE-43C6-927F-5CC68E6F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E0D-6404-4CFD-BD4E-391BFC76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D74-133D-4699-9C60-19417D09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FD3-3E8A-4D36-8140-2DD3D230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0BF-5986-4B76-AFAE-D7DEC37D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5ADF-6D1F-42D1-9B22-1F39A91E9CA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ÚROKOVÁNÍ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jednoduché úrokov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Object 9"/>
              <p:cNvSpPr txBox="1"/>
              <p:nvPr/>
            </p:nvSpPr>
            <p:spPr>
              <a:xfrm>
                <a:off x="5435640" y="620640"/>
                <a:ext cx="936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3851280" y="816120"/>
                <a:ext cx="1631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z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042920" y="1773360"/>
                <a:ext cx="15843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2627280" y="1557360"/>
                <a:ext cx="1575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9"/>
              <p:cNvSpPr txBox="1"/>
              <p:nvPr/>
            </p:nvSpPr>
            <p:spPr>
              <a:xfrm>
                <a:off x="7020000" y="1557360"/>
                <a:ext cx="19270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1042920" y="2781360"/>
                <a:ext cx="1548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2590920" y="2565360"/>
                <a:ext cx="2473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274920" y="1628640"/>
            <a:ext cx="936720" cy="79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41800" y="2643120"/>
            <a:ext cx="977760" cy="785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4560" y="1630440"/>
            <a:ext cx="129708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79640" y="2638440"/>
            <a:ext cx="121752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5292720" y="2565360"/>
                <a:ext cx="1793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7020000" y="2570040"/>
                <a:ext cx="19270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42920" y="3860640"/>
                <a:ext cx="15778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2627280" y="3645000"/>
                <a:ext cx="2664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4427640" y="3716280"/>
            <a:ext cx="865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3716280"/>
            <a:ext cx="143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9"/>
              <p:cNvSpPr txBox="1"/>
              <p:nvPr/>
            </p:nvSpPr>
            <p:spPr>
              <a:xfrm>
                <a:off x="5292720" y="3645000"/>
                <a:ext cx="1766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7018200" y="3645000"/>
                <a:ext cx="1928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580000" y="2637000"/>
            <a:ext cx="144144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1042920" y="4941720"/>
                <a:ext cx="15778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2627280" y="4726080"/>
                <a:ext cx="2736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427640" y="4797360"/>
            <a:ext cx="865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4797360"/>
            <a:ext cx="143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5280120" y="4726080"/>
                <a:ext cx="1793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7018200" y="4726080"/>
                <a:ext cx="1928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580000" y="3716280"/>
            <a:ext cx="14400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2782800"/>
            <a:ext cx="358560" cy="50328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309">
                <a:moveTo>
                  <a:pt x="3600" y="0"/>
                </a:moveTo>
                <a:arcTo wR="3600" hR="3600" stAng="16200000" swAng="-5400000"/>
                <a:lnTo>
                  <a:pt x="0" y="26709"/>
                </a:lnTo>
                <a:arcTo wR="3600" hR="3600" stAng="10800000" swAng="-5400000"/>
                <a:lnTo>
                  <a:pt x="18000" y="303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3860640"/>
            <a:ext cx="358560" cy="50508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05080"/>
              <a:gd name="textAreaBottom" fmla="*/ 487800 h 505080"/>
            </a:gdLst>
            <a:ahLst/>
            <a:rect l="textAreaLeft" t="textAreaTop" r="textAreaRight" b="textAreaBottom"/>
            <a:pathLst>
              <a:path w="21600" h="30418">
                <a:moveTo>
                  <a:pt x="3600" y="0"/>
                </a:moveTo>
                <a:arcTo wR="3600" hR="3600" stAng="16200000" swAng="-5400000"/>
                <a:lnTo>
                  <a:pt x="0" y="26818"/>
                </a:lnTo>
                <a:arcTo wR="3600" hR="3600" stAng="10800000" swAng="-5400000"/>
                <a:lnTo>
                  <a:pt x="18000" y="3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494172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042920" y="189000"/>
            <a:ext cx="78454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Úrok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a stejné úrokovací doby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se nemě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a vypočítává se stále z téže původní jistin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1773360"/>
            <a:ext cx="503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278280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386064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494172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1628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70172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tknět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1989000"/>
            <a:ext cx="10098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6620040" y="5734080"/>
                <a:ext cx="2336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7093080" y="5373720"/>
                <a:ext cx="163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Object 8"/>
              <p:cNvSpPr txBox="1"/>
              <p:nvPr/>
            </p:nvSpPr>
            <p:spPr>
              <a:xfrm>
                <a:off x="4643280" y="3284640"/>
                <a:ext cx="26895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1935000" y="3214800"/>
                <a:ext cx="27655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979640" y="181080"/>
                <a:ext cx="23209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1908000" y="1117440"/>
                <a:ext cx="239112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1908000" y="2054160"/>
                <a:ext cx="24609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2340000" y="2852640"/>
                <a:ext cx="183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 rot="16200000">
            <a:off x="-849960" y="2082240"/>
            <a:ext cx="417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ednotlivé jistiny tvoří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198900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očáteční jistina je prvním členem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80360" y="3429000"/>
            <a:ext cx="1763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úrok je diferencí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333360"/>
            <a:ext cx="459000" cy="4097520"/>
          </a:xfrm>
          <a:custGeom>
            <a:avLst/>
            <a:gdLst>
              <a:gd name="textAreaLeft" fmla="*/ 22320 w 459000"/>
              <a:gd name="textAreaRight" fmla="*/ 436680 w 459000"/>
              <a:gd name="textAreaTop" fmla="*/ 22320 h 4097520"/>
              <a:gd name="textAreaBottom" fmla="*/ 4075200 h 4097520"/>
            </a:gdLst>
            <a:ahLst/>
            <a:rect l="textAreaLeft" t="textAreaTop" r="textAreaRight" b="textAreaBottom"/>
            <a:pathLst>
              <a:path w="21600" h="192690">
                <a:moveTo>
                  <a:pt x="3600" y="0"/>
                </a:moveTo>
                <a:arcTo wR="3600" hR="3600" stAng="16200000" swAng="-5400000"/>
                <a:lnTo>
                  <a:pt x="0" y="189090"/>
                </a:lnTo>
                <a:arcTo wR="3600" hR="3600" stAng="10800000" swAng="-5400000"/>
                <a:lnTo>
                  <a:pt x="18000" y="192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76000" y="2349360"/>
            <a:ext cx="431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21440" y="2781000"/>
            <a:ext cx="1440" cy="647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3429000"/>
            <a:ext cx="432000" cy="172872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728720"/>
              <a:gd name="textAreaBottom" fmla="*/ 1707840 h 1728720"/>
            </a:gdLst>
            <a:ahLst/>
            <a:rect l="textAreaLeft" t="textAreaTop" r="textAreaRight" b="textAreaBottom"/>
            <a:pathLst>
              <a:path w="21600" h="86382">
                <a:moveTo>
                  <a:pt x="3600" y="0"/>
                </a:moveTo>
                <a:arcTo wR="3600" hR="3600" stAng="16200000" swAng="-5400000"/>
                <a:lnTo>
                  <a:pt x="0" y="82782"/>
                </a:lnTo>
                <a:arcTo wR="3600" hR="3600" stAng="10800000" swAng="-5400000"/>
                <a:lnTo>
                  <a:pt x="18000" y="86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16720" y="3284640"/>
            <a:ext cx="719280" cy="108108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81080"/>
              <a:gd name="textAreaBottom" fmla="*/ 1046160 h 1081080"/>
            </a:gdLst>
            <a:ahLst/>
            <a:rect l="textAreaLeft" t="textAreaTop" r="textAreaRight" b="textAreaBottom"/>
            <a:pathLst>
              <a:path w="21600" h="32459">
                <a:moveTo>
                  <a:pt x="3600" y="0"/>
                </a:moveTo>
                <a:arcTo wR="3600" hR="3600" stAng="16200000" swAng="-5400000"/>
                <a:lnTo>
                  <a:pt x="0" y="28859"/>
                </a:lnTo>
                <a:arcTo wR="3600" hR="3600" stAng="10800000" swAng="-5400000"/>
                <a:lnTo>
                  <a:pt x="18000" y="324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6000" y="3933720"/>
            <a:ext cx="43164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5229360"/>
            <a:ext cx="8028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i jednoduchém úrokování roste hodnota jistiny lineárně (pozvolna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íklady jsou velmi jednoduché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8"/>
              <p:cNvSpPr txBox="1"/>
              <p:nvPr/>
            </p:nvSpPr>
            <p:spPr>
              <a:xfrm>
                <a:off x="3276720" y="4508640"/>
                <a:ext cx="40510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48360" y="4365720"/>
            <a:ext cx="360360" cy="647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647640"/>
              <a:gd name="textAreaBottom" fmla="*/ 630360 h 647640"/>
            </a:gdLst>
            <a:ahLst/>
            <a:rect l="textAreaLeft" t="textAreaTop" r="textAreaRight" b="textAreaBottom"/>
            <a:pathLst>
              <a:path w="21600" h="38802">
                <a:moveTo>
                  <a:pt x="3600" y="0"/>
                </a:moveTo>
                <a:arcTo wR="3600" hR="3600" stAng="16200000" swAng="-5400000"/>
                <a:lnTo>
                  <a:pt x="0" y="35202"/>
                </a:lnTo>
                <a:arcTo wR="3600" hR="3600" stAng="10800000" swAng="-5400000"/>
                <a:lnTo>
                  <a:pt x="18000" y="388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á je tržní hodnota směnky s nominální hodnotou 120 000,- Kč po 5 letech při úročení 1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2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5 le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5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3"/>
              <p:cNvSpPr txBox="1"/>
              <p:nvPr/>
            </p:nvSpPr>
            <p:spPr>
              <a:xfrm>
                <a:off x="1116000" y="5084640"/>
                <a:ext cx="25750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3"/>
              <p:cNvSpPr txBox="1"/>
              <p:nvPr/>
            </p:nvSpPr>
            <p:spPr>
              <a:xfrm>
                <a:off x="3660840" y="5087880"/>
                <a:ext cx="302400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3"/>
              <p:cNvSpPr txBox="1"/>
              <p:nvPr/>
            </p:nvSpPr>
            <p:spPr>
              <a:xfrm>
                <a:off x="6640560" y="5303880"/>
                <a:ext cx="22780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á byla nominální hodnota směnky, jejíž tržní hodnota je po 10 letech 51 000,- Kč při 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51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5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5292720" y="234936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4788000" y="3357720"/>
                <a:ext cx="3027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3"/>
              <p:cNvSpPr txBox="1"/>
              <p:nvPr/>
            </p:nvSpPr>
            <p:spPr>
              <a:xfrm>
                <a:off x="5292720" y="5145120"/>
                <a:ext cx="2289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3"/>
              <p:cNvSpPr txBox="1"/>
              <p:nvPr/>
            </p:nvSpPr>
            <p:spPr>
              <a:xfrm>
                <a:off x="4788000" y="4437000"/>
                <a:ext cx="1909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t xml:space="preserve">1,5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kolik let vzroste hodnota směnky z 10 000,- Kč na 100 000,- Kč při 1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0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2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3"/>
              <p:cNvSpPr txBox="1"/>
              <p:nvPr/>
            </p:nvSpPr>
            <p:spPr>
              <a:xfrm>
                <a:off x="4789440" y="220500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3"/>
              <p:cNvSpPr txBox="1"/>
              <p:nvPr/>
            </p:nvSpPr>
            <p:spPr>
              <a:xfrm>
                <a:off x="4140360" y="3932280"/>
                <a:ext cx="24271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5005440" y="6165720"/>
                <a:ext cx="13348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3"/>
              <p:cNvSpPr txBox="1"/>
              <p:nvPr/>
            </p:nvSpPr>
            <p:spPr>
              <a:xfrm>
                <a:off x="4140360" y="3068640"/>
                <a:ext cx="37065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3"/>
              <p:cNvSpPr txBox="1"/>
              <p:nvPr/>
            </p:nvSpPr>
            <p:spPr>
              <a:xfrm>
                <a:off x="4500720" y="4724280"/>
                <a:ext cx="1663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3"/>
              <p:cNvSpPr txBox="1"/>
              <p:nvPr/>
            </p:nvSpPr>
            <p:spPr>
              <a:xfrm>
                <a:off x="4716360" y="5661000"/>
                <a:ext cx="139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3"/>
              <p:cNvSpPr txBox="1"/>
              <p:nvPr/>
            </p:nvSpPr>
            <p:spPr>
              <a:xfrm>
                <a:off x="6588000" y="4941720"/>
                <a:ext cx="79056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7862760" y="3357720"/>
                <a:ext cx="1254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3"/>
              <p:cNvSpPr txBox="1"/>
              <p:nvPr/>
            </p:nvSpPr>
            <p:spPr>
              <a:xfrm>
                <a:off x="6534000" y="5661000"/>
                <a:ext cx="7081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 je úročena směnka, jejíž hodnota za 4 roky vzrostla 40 000,- Kč na 5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4 rok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4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5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859280" y="220500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4282920" y="3860640"/>
                <a:ext cx="22910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3"/>
              <p:cNvSpPr txBox="1"/>
              <p:nvPr/>
            </p:nvSpPr>
            <p:spPr>
              <a:xfrm>
                <a:off x="4930920" y="6080040"/>
                <a:ext cx="15523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6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3"/>
              <p:cNvSpPr txBox="1"/>
              <p:nvPr/>
            </p:nvSpPr>
            <p:spPr>
              <a:xfrm>
                <a:off x="4346640" y="3068640"/>
                <a:ext cx="34336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3"/>
              <p:cNvSpPr txBox="1"/>
              <p:nvPr/>
            </p:nvSpPr>
            <p:spPr>
              <a:xfrm>
                <a:off x="4282920" y="4724280"/>
                <a:ext cx="18828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3"/>
              <p:cNvSpPr txBox="1"/>
              <p:nvPr/>
            </p:nvSpPr>
            <p:spPr>
              <a:xfrm>
                <a:off x="4859280" y="5589720"/>
                <a:ext cx="11448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3"/>
              <p:cNvSpPr txBox="1"/>
              <p:nvPr/>
            </p:nvSpPr>
            <p:spPr>
              <a:xfrm>
                <a:off x="6546960" y="4968720"/>
                <a:ext cx="79056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3"/>
              <p:cNvSpPr txBox="1"/>
              <p:nvPr/>
            </p:nvSpPr>
            <p:spPr>
              <a:xfrm>
                <a:off x="7835760" y="3284640"/>
                <a:ext cx="1308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3"/>
              <p:cNvSpPr txBox="1"/>
              <p:nvPr/>
            </p:nvSpPr>
            <p:spPr>
              <a:xfrm>
                <a:off x="6516720" y="5589720"/>
                <a:ext cx="6001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41–6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Rozlišujeme dva druhy úrokování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7280" y="1484280"/>
            <a:ext cx="7596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Jednoduché úrokování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žití AP v praxi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užití výjimečné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cenné papíry, směnk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547640" y="3860640"/>
            <a:ext cx="759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Složené úroková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žití GP v prax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raxi daleko častěji využíva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běžné účty, půjčk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2707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4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avidelně na konci roku je úročena, a to buď v jednoduchém či složeném úrokování, jednorázově uložená částka, tzv. jistina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jistin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dob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ací období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91840" y="259920"/>
            <a:ext cx="76518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8000" y="765000"/>
            <a:ext cx="7236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3596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dměna (např. finančního ústavu) uvedená     v Kč za zapůjčenou částk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05080" y="2521080"/>
            <a:ext cx="7738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Jistin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763640" y="3139920"/>
            <a:ext cx="7309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45240" indent="-3452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apůjčená či uložená peněžní část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načen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cs-CZ" sz="2800" spc="-1" strike="noStrike" baseline="-25000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počáteční (původní) jisti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1.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2.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n-tého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konečná jisti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900000" y="1916280"/>
            <a:ext cx="7485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še úroku závisí na veličinách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ací období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47280" y="2133360"/>
            <a:ext cx="7596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5652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likož se v hodinách matematiky zaměřujeme na nejjednodušší typy příkladů finanční matematiky, bude ve všech příkladech toto období  </a:t>
            </a: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jeden rok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187280" y="4005360"/>
            <a:ext cx="7651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547640" y="4653000"/>
            <a:ext cx="7596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ýše odměny ze zapůjčené jisti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a úrokovací období (1 rok, per annum: zkratka – p.a.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yjádřená v procentec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1,5 %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.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87280" y="189000"/>
            <a:ext cx="756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dob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547640" y="836640"/>
            <a:ext cx="759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2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oba, na kterou je jistina zapůjčena či ulože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90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cento je jedna setina ze základu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76964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počtěte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 % z 59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0 % z 6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5 % z 8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7 % z 2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99072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% z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4067280" y="1557360"/>
                <a:ext cx="2514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9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4067280" y="2276640"/>
                <a:ext cx="2514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4067280" y="3068640"/>
                <a:ext cx="2539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8"/>
              <p:cNvSpPr txBox="1"/>
              <p:nvPr/>
            </p:nvSpPr>
            <p:spPr>
              <a:xfrm>
                <a:off x="4016520" y="3835440"/>
                <a:ext cx="14475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2871720" y="5416560"/>
                <a:ext cx="1452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4356000" y="5373720"/>
                <a:ext cx="1038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5435640" y="5373720"/>
                <a:ext cx="1038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5580000" y="3789360"/>
                <a:ext cx="1295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6934320" y="400536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92320" y="3968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rok za stejné úrokovací doby se nemění a vypočítává se stále z téže původní jistin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116000" y="692280"/>
            <a:ext cx="7802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JEDNODUCHÉ ÚROKOVÁNÍ</a:t>
            </a:r>
            <a:endParaRPr b="0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9167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966960" y="765000"/>
            <a:ext cx="817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aká je tržní hodnota dluhopisu s nominální hodnotou 40 000,- Kč po 4 letech při úročení 10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966960" y="1700280"/>
            <a:ext cx="817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971640" y="2276640"/>
            <a:ext cx="198432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1763640" y="2276640"/>
            <a:ext cx="23050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708360" y="2997360"/>
          <a:ext cx="5257800" cy="194436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1049400"/>
                <a:gridCol w="968400"/>
                <a:gridCol w="1008000"/>
              </a:tblGrid>
              <a:tr h="57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635280" y="4292640"/>
            <a:ext cx="13226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0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216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4149720"/>
            <a:ext cx="707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3380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56720" y="4292640"/>
            <a:ext cx="1008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3068640"/>
            <a:ext cx="12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nominální hodnota dluhopis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221000"/>
            <a:ext cx="5257800" cy="720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03640" y="5084640"/>
                <a:ext cx="4895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0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9" name="Rectangle 22"/>
          <p:cNvSpPr/>
          <p:nvPr/>
        </p:nvSpPr>
        <p:spPr>
          <a:xfrm>
            <a:off x="1042920" y="57340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vzroste za 4 roky hodnota dluhopisu na 56 000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20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28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640" y="3068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úrok (10 %) / Kč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7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2:27Z</dcterms:modified>
  <cp:revision>96</cp:revision>
  <dc:subject/>
  <dc:title>ÚROKOVÁNÍ</dc:title>
</cp:coreProperties>
</file>