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D05-9C59-4406-BEEF-477DC8BC94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DAA-F2AA-4B67-9381-BAC20BD24D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C553-BC5E-4E70-8008-B888209993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5B8C-466E-406F-BE0C-0A2132BA91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C77-EDD3-458D-B502-629F27DA0A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637-CE8D-4592-946E-EE5508B6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BAA-57AD-481D-A85D-BD5E5EB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B12-C9EF-427A-B22B-3B793914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360-E1A1-40DD-899B-279724C6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0DE3-B649-4F56-B111-C95E40B4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7047-6422-4232-B91E-4BEC9FED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683B-95F2-4448-AB10-CB5EDF89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3CD-0878-4DD2-AD8B-D585160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4AF-9C11-44B4-8F54-76D09C78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4769-4585-4D46-9941-6E03278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B404-C0A9-4A68-8AB1-8DC4807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25B-C044-4B03-A085-253A9DD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C188-BEAE-455A-874F-B052386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099-F9E5-4667-9D1B-0F8FEEA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863-A3ED-4F11-B7D9-85FBA743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3AB-863B-4272-8FB9-96A48652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DBA4-330E-416F-B282-E3DE0F4F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663-35A0-414E-9A2E-BA908DB0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2B9-E481-4F52-AF5E-E0A04B3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4D8-79F9-4257-913A-5B3B04B4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F51-D38F-4F24-A451-DD12330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CC9-B50D-47C9-9ACB-945DCC84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39A-3371-4FF8-9900-7500985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5F2-A713-4DC7-B831-43A0779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4DE0-F01F-4605-A1AC-E67BF943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309-0B31-4E64-8BFF-AE8D3187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29560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042920" y="189000"/>
                <a:ext cx="317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Line 5"/>
          <p:cNvSpPr/>
          <p:nvPr/>
        </p:nvSpPr>
        <p:spPr>
          <a:xfrm>
            <a:off x="1619280" y="134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lze vyjádřit pomocí prvního a difer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419800" y="1521000"/>
                <a:ext cx="3251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796000" y="5877000"/>
                <a:ext cx="306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403280" y="2492280"/>
                <a:ext cx="527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403280" y="3645000"/>
            <a:ext cx="52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03280" y="3716280"/>
                <a:ext cx="193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03280" y="4797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3860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386064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640" y="45799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421956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0000" y="40766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4941720"/>
                <a:ext cx="1309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268360" y="55166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6156360" y="3716280"/>
                <a:ext cx="216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81800" y="4292640"/>
                <a:ext cx="9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995640" y="3933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005000"/>
            <a:ext cx="2592360" cy="1655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212840" y="239760"/>
                <a:ext cx="245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Line 5"/>
          <p:cNvSpPr/>
          <p:nvPr/>
        </p:nvSpPr>
        <p:spPr>
          <a:xfrm>
            <a:off x="1763640" y="1413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763640" y="1628640"/>
                <a:ext cx="3600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763640" y="278136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1835280" y="3068640"/>
                <a:ext cx="209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35280" y="4221000"/>
            <a:ext cx="20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108240" y="4309920"/>
                <a:ext cx="819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3059280" y="4797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0360" y="558972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 není jednoznačně určen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3213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321300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95640" y="3932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357192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356000" y="342900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211640" y="6093000"/>
            <a:ext cx="4681440" cy="72720"/>
            <a:chOff x="4211640" y="6093000"/>
            <a:chExt cx="4681440" cy="72720"/>
          </a:xfrm>
        </p:grpSpPr>
        <p:sp>
          <p:nvSpPr>
            <p:cNvPr id="275" name=""/>
            <p:cNvSpPr/>
            <p:nvPr/>
          </p:nvSpPr>
          <p:spPr>
            <a:xfrm>
              <a:off x="4211640" y="616572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1640" y="609300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4067280" y="4797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ustava – nekonečně mnoho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692360" y="1557360"/>
                <a:ext cx="3632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692360" y="2781360"/>
            <a:ext cx="367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619280" y="2997360"/>
                <a:ext cx="1539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1908000" y="4076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050920" y="4365720"/>
                <a:ext cx="1049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3203640" y="4365720"/>
            <a:ext cx="59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u prvního členu pomocí soustavy rovnic není možné dopočít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5877000"/>
            <a:ext cx="66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– 1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elze jednoznačně urč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1214280" y="23976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3492360" y="2924280"/>
                <a:ext cx="1150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492360" y="3605040"/>
                <a:ext cx="64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2556000" y="6453360"/>
            <a:ext cx="6408360" cy="72720"/>
            <a:chOff x="2556000" y="6453360"/>
            <a:chExt cx="6408360" cy="72720"/>
          </a:xfrm>
        </p:grpSpPr>
        <p:sp>
          <p:nvSpPr>
            <p:cNvPr id="290" name=""/>
            <p:cNvSpPr/>
            <p:nvPr/>
          </p:nvSpPr>
          <p:spPr>
            <a:xfrm>
              <a:off x="2556000" y="652608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6000" y="645336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1157400" y="239760"/>
                <a:ext cx="2685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Line 5"/>
          <p:cNvSpPr/>
          <p:nvPr/>
        </p:nvSpPr>
        <p:spPr>
          <a:xfrm>
            <a:off x="1835280" y="141300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835280" y="1700280"/>
                <a:ext cx="3960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835280" y="2852640"/>
            <a:ext cx="38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835280" y="3068640"/>
                <a:ext cx="2259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35280" y="41497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2987640" y="4508640"/>
                <a:ext cx="108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4284720" y="3716280"/>
                <a:ext cx="102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6516720" y="3068640"/>
                <a:ext cx="2128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7308720" y="3571920"/>
                <a:ext cx="1177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24720" y="4076640"/>
                <a:ext cx="9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5445000"/>
                <a:ext cx="3032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21164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11640" y="3429000"/>
            <a:ext cx="208908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187280" y="260280"/>
                <a:ext cx="225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1692360" y="1413000"/>
            <a:ext cx="1798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692360" y="1700280"/>
                <a:ext cx="3566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692360" y="285264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763640" y="3068640"/>
                <a:ext cx="199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763640" y="4149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292640"/>
                <a:ext cx="957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3924360" y="371628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6156360" y="2852640"/>
                <a:ext cx="1673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6804000" y="3645000"/>
                <a:ext cx="1374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6948360" y="4508640"/>
                <a:ext cx="119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067280" y="5516640"/>
                <a:ext cx="3033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92436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3429000"/>
            <a:ext cx="2016360" cy="1512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1187280" y="260280"/>
                <a:ext cx="343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Line 5"/>
          <p:cNvSpPr/>
          <p:nvPr/>
        </p:nvSpPr>
        <p:spPr>
          <a:xfrm>
            <a:off x="1835280" y="1341360"/>
            <a:ext cx="280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1692360" y="1557360"/>
                <a:ext cx="546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763640" y="2708280"/>
            <a:ext cx="54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763640" y="2781360"/>
                <a:ext cx="2457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763640" y="3860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771640" y="5157720"/>
                <a:ext cx="1181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4284720" y="285264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6804000" y="393372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7451640" y="4508640"/>
                <a:ext cx="1376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5651640" y="5877000"/>
                <a:ext cx="325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763640" y="3933720"/>
                <a:ext cx="2227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835280" y="501336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140360" y="3933720"/>
                <a:ext cx="100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987640" y="5661000"/>
                <a:ext cx="88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145120" y="4078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33840" y="40780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78560" y="44370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05480" y="429408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3650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5120" y="479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116000" y="333360"/>
                <a:ext cx="317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Line 5"/>
          <p:cNvSpPr/>
          <p:nvPr/>
        </p:nvSpPr>
        <p:spPr>
          <a:xfrm>
            <a:off x="1706400" y="1434960"/>
            <a:ext cx="259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633680" y="1577880"/>
                <a:ext cx="52686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633680" y="2730600"/>
            <a:ext cx="53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1633680" y="2801880"/>
                <a:ext cx="206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33680" y="388296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425680" y="3954600"/>
                <a:ext cx="1343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24000" y="5300640"/>
                <a:ext cx="1670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2627280" y="5805360"/>
                <a:ext cx="9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729400" y="5894280"/>
                <a:ext cx="273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865680" y="2801880"/>
                <a:ext cx="973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871880" y="29480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160960" y="29476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05320" y="3306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232240" y="316404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8400" y="32346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2714760" y="4459320"/>
                <a:ext cx="85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871880" y="3666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90520" y="239760"/>
                <a:ext cx="2552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763640" y="1413000"/>
                <a:ext cx="35989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763640" y="3141720"/>
            <a:ext cx="367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1763640" y="3213000"/>
                <a:ext cx="32749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00360" y="5661000"/>
                <a:ext cx="1311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5219640" y="3213000"/>
                <a:ext cx="666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5364000" y="4437000"/>
                <a:ext cx="1737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940360" y="4869000"/>
                <a:ext cx="1212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6156360" y="6095880"/>
                <a:ext cx="281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979640" y="4437000"/>
                <a:ext cx="1998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 flipV="1">
            <a:off x="3994200" y="465408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82920" y="4654440"/>
            <a:ext cx="180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27640" y="5013360"/>
            <a:ext cx="142920" cy="144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354560" y="48704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941000"/>
            <a:ext cx="144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2916360" y="6165720"/>
                <a:ext cx="98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6084720" y="5300640"/>
                <a:ext cx="8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763640" y="43657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558972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94200" y="537480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19280" y="2781360"/>
            <a:ext cx="576360" cy="5047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1042920" y="58680"/>
                <a:ext cx="238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Line 5"/>
          <p:cNvSpPr/>
          <p:nvPr/>
        </p:nvSpPr>
        <p:spPr>
          <a:xfrm>
            <a:off x="1619280" y="106668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1547640" y="1139760"/>
                <a:ext cx="360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19280" y="2147760"/>
            <a:ext cx="35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1619280" y="2205000"/>
                <a:ext cx="2293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76360" y="4076640"/>
                <a:ext cx="3673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619280" y="3284640"/>
                <a:ext cx="335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"/>
              <p:cNvSpPr txBox="1"/>
              <p:nvPr/>
            </p:nvSpPr>
            <p:spPr>
              <a:xfrm>
                <a:off x="4068720" y="2205000"/>
                <a:ext cx="219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5076720" y="3573360"/>
                <a:ext cx="50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995640" y="4581360"/>
                <a:ext cx="3265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6443640" y="1989000"/>
                <a:ext cx="2160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7632720" y="4724280"/>
                <a:ext cx="151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"/>
              <p:cNvSpPr txBox="1"/>
              <p:nvPr/>
            </p:nvSpPr>
            <p:spPr>
              <a:xfrm>
                <a:off x="7380360" y="5157720"/>
                <a:ext cx="12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flipH="1">
            <a:off x="4571640" y="2722680"/>
            <a:ext cx="2305080" cy="7920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1547640" y="5359320"/>
                <a:ext cx="1872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3419640" y="564804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19640" y="586440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80" idx="1"/>
          </p:cNvCxnSpPr>
          <p:nvPr/>
        </p:nvCxnSpPr>
        <p:spPr>
          <a:xfrm flipH="1" flipV="1" rot="10800000">
            <a:off x="1618920" y="3033360"/>
            <a:ext cx="2160" cy="714960"/>
          </a:xfrm>
          <a:prstGeom prst="curvedConnector5">
            <a:avLst>
              <a:gd name="adj1" fmla="val -14400000"/>
              <a:gd name="adj2" fmla="val 49974"/>
              <a:gd name="adj3" fmla="val -14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708360" y="5300640"/>
                <a:ext cx="160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1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7"/>
              <p:cNvSpPr txBox="1"/>
              <p:nvPr/>
            </p:nvSpPr>
            <p:spPr>
              <a:xfrm>
                <a:off x="3708360" y="5805360"/>
                <a:ext cx="1846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2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5580000" y="5373720"/>
                <a:ext cx="1168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580000" y="5805360"/>
                <a:ext cx="1728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3708360" y="5734080"/>
            <a:ext cx="3024360" cy="72720"/>
            <a:chOff x="3708360" y="5734080"/>
            <a:chExt cx="3024360" cy="72720"/>
          </a:xfrm>
        </p:grpSpPr>
        <p:sp>
          <p:nvSpPr>
            <p:cNvPr id="405" name=""/>
            <p:cNvSpPr/>
            <p:nvPr/>
          </p:nvSpPr>
          <p:spPr>
            <a:xfrm>
              <a:off x="3708360" y="580680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573408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08360" y="6669000"/>
            <a:ext cx="3600360" cy="72720"/>
            <a:chOff x="3708360" y="6669000"/>
            <a:chExt cx="3600360" cy="72720"/>
          </a:xfrm>
        </p:grpSpPr>
        <p:sp>
          <p:nvSpPr>
            <p:cNvPr id="408" name=""/>
            <p:cNvSpPr/>
            <p:nvPr/>
          </p:nvSpPr>
          <p:spPr>
            <a:xfrm>
              <a:off x="3708360" y="6669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8360" y="674172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416720" cy="51069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AP, mezi prvním a libovolným členem AP,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AP; Vztah mezi prvním a libovolným členem AP; Vztah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20356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06864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A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 kolik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3.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692360" y="14130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16000" y="26028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557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619280" y="2637000"/>
                <a:ext cx="2519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979640" y="3357720"/>
                <a:ext cx="2190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08000" y="4078440"/>
                <a:ext cx="2044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908000" y="4726080"/>
                <a:ext cx="138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557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364000" y="2637000"/>
                <a:ext cx="35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5364000" y="3357720"/>
                <a:ext cx="2667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51640" y="4005360"/>
                <a:ext cx="2885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508720" y="5229360"/>
                <a:ext cx="1388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651640" y="4581360"/>
                <a:ext cx="2008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403280" y="5877000"/>
                <a:ext cx="3616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364000" y="26028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116000" y="260280"/>
                <a:ext cx="18334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19280" y="1628640"/>
                <a:ext cx="2154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781280" y="2403360"/>
                <a:ext cx="189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24200" y="2906640"/>
                <a:ext cx="949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619280" y="3645000"/>
                <a:ext cx="2448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403280" y="4797360"/>
                <a:ext cx="1535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2200" y="4292640"/>
                <a:ext cx="208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5734080"/>
                <a:ext cx="325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940360" y="141300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796000" y="1628640"/>
                <a:ext cx="2263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580000" y="2349360"/>
                <a:ext cx="21178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508720" y="2852640"/>
                <a:ext cx="1533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24360" y="3645000"/>
                <a:ext cx="2740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940360" y="479736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56360" y="4292640"/>
                <a:ext cx="2446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364000" y="5734080"/>
                <a:ext cx="354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5"/>
          <p:cNvSpPr/>
          <p:nvPr/>
        </p:nvSpPr>
        <p:spPr>
          <a:xfrm>
            <a:off x="1835280" y="162864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258920" y="404640"/>
                <a:ext cx="1701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3"/>
          <p:cNvSpPr/>
          <p:nvPr/>
        </p:nvSpPr>
        <p:spPr>
          <a:xfrm>
            <a:off x="4500720" y="331920"/>
            <a:ext cx="374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716360" y="22780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003640" y="3068640"/>
                <a:ext cx="186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03640" y="378936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572000" y="1484280"/>
                <a:ext cx="3506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76520" y="5445000"/>
                <a:ext cx="3068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516720" y="3860640"/>
                <a:ext cx="64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5076720" y="4508640"/>
                <a:ext cx="102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5"/>
          <p:cNvSpPr/>
          <p:nvPr/>
        </p:nvSpPr>
        <p:spPr>
          <a:xfrm>
            <a:off x="1692360" y="148428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116000" y="26028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476360" y="1916280"/>
                <a:ext cx="2376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76360" y="3284640"/>
                <a:ext cx="1644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619280" y="2708280"/>
                <a:ext cx="2044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258920" y="5084640"/>
                <a:ext cx="33606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3419640" y="3316320"/>
                <a:ext cx="64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403280" y="3787920"/>
                <a:ext cx="1535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Line 5"/>
          <p:cNvSpPr/>
          <p:nvPr/>
        </p:nvSpPr>
        <p:spPr>
          <a:xfrm>
            <a:off x="5724360" y="148428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219640" y="331920"/>
                <a:ext cx="167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651640" y="19162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580000" y="3284640"/>
                <a:ext cx="14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796000" y="2708280"/>
                <a:ext cx="204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5508720" y="5084640"/>
                <a:ext cx="33256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7308720" y="3316320"/>
                <a:ext cx="6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508720" y="3787920"/>
                <a:ext cx="135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619280" y="90792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333360"/>
                <a:ext cx="2943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709640" y="2743200"/>
                <a:ext cx="2336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908000" y="3444840"/>
                <a:ext cx="189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124000" y="4092480"/>
                <a:ext cx="1131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5670720" y="202392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634000" y="2743200"/>
                <a:ext cx="24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994360" y="3246480"/>
                <a:ext cx="22287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597640" y="4813200"/>
                <a:ext cx="1352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940360" y="4237200"/>
                <a:ext cx="1825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224160" y="5587920"/>
                <a:ext cx="31035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746360" y="2023920"/>
                <a:ext cx="3287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708360" y="4113360"/>
                <a:ext cx="647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033640" y="4545000"/>
                <a:ext cx="10224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>
            <a:off x="1619280" y="1339920"/>
            <a:ext cx="12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042920" y="18900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547640" y="1557360"/>
                <a:ext cx="219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58920" y="2205000"/>
                <a:ext cx="2446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58920" y="2708280"/>
                <a:ext cx="1643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401840" y="3933720"/>
                <a:ext cx="2265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690560" y="5014800"/>
                <a:ext cx="106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401840" y="4510080"/>
                <a:ext cx="215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14560" y="5878440"/>
                <a:ext cx="306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403280" y="3213000"/>
                <a:ext cx="1278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987640" y="2787480"/>
                <a:ext cx="57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5"/>
          <p:cNvSpPr/>
          <p:nvPr/>
        </p:nvSpPr>
        <p:spPr>
          <a:xfrm>
            <a:off x="5437080" y="1341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076720" y="189000"/>
                <a:ext cx="196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5364000" y="1557360"/>
                <a:ext cx="2337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5797440" y="2205000"/>
                <a:ext cx="2227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508720" y="2708280"/>
                <a:ext cx="1423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435640" y="3933720"/>
                <a:ext cx="2228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146560" y="5014800"/>
                <a:ext cx="1646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146560" y="45100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75280" y="5950080"/>
                <a:ext cx="36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5437080" y="3213000"/>
                <a:ext cx="1278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308720" y="2787480"/>
                <a:ext cx="57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30Z</dcterms:modified>
  <cp:revision>318</cp:revision>
  <dc:subject/>
  <dc:title>Posloupnosti</dc:title>
</cp:coreProperties>
</file>