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8074-3DC4-43C6-B237-DCD042DAC1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3488-393A-40BC-8BBF-3C5ADDC0DCE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85CE-112D-4A99-8B34-A36F5B496D7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857A-122E-4E09-A183-4407142F7B9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2404-A4C9-4856-8338-11D4E5C2FEA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39D3-2E2E-4901-A0AC-844CE23E807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7AA-E23C-491A-A1E4-01377534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E0E-7A7D-4F29-A0FB-B261A373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833-E152-4C08-AC1E-90D0A6B1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615-B7BF-4DB0-AFF8-766A3558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49E8-36FA-4E15-B1CD-C91D2D9E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2005-DC58-4DDC-B6A1-73A68BAE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5921-577E-46B4-B57E-2E8C1A2A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0FF7-DC86-4E3E-8F8D-D48A27A0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523C-4412-4A87-A523-1D168E43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F355-A976-4B26-8902-84BF899B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EEA9-BE46-45E5-845C-ADAA055B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8A10-3281-4312-8B7E-9C1CB0D1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5A07-8D86-438D-9343-5FB4AE54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A7AC-EFBD-4FAE-93BB-FC264B3F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C2C5-ED1D-4884-A48B-D43F1B46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88BB-D49F-42CD-B176-71C4A344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8A3C-E1C9-4287-9E90-51E567D5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9F6-77A3-4B5B-9CCB-54872744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613-E828-460F-A30B-2EE6465E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B500-0599-42FE-A755-750E0C62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0A5-AAB1-4F2C-81B2-BB25CFA2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51BA-1E38-4700-859A-EF98C58D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E478-FB72-4EE1-9126-D3F1B451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09C0-2F12-4099-9DAF-36325286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40EB-EF38-4C2C-9618-3AECA5DA6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8D39-1D5C-43FA-A7E7-74F56A5DC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1042920" y="69228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prvních jedenácti členů GP se rovná 683. Vypočítejte první a poslední člen, když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1/2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042920" y="191628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024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042920" y="3500280"/>
            <a:ext cx="81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yroste-li z jednoho zrna za rok průměrně 16 zrn, jaké množství zrn vyroste z jednoho zrna za 10 let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042920" y="479736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e přibližně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,33 . 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r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47640" y="162864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Součet sudých členů a lichých členů musí dát dohromady součet všech členů dané posloupnosti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042920" y="549360"/>
            <a:ext cx="8101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P o šesti členech má součet všech členů roven 63 a součet sudých členů  je 42. Určete tuto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042920" y="1700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47640" y="443700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Součet sudých členů a lichých členů musí dát dohromady součet všech členů dané posloupnosti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042920" y="3284640"/>
            <a:ext cx="8101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sedmičlenné GP je součet prvních tří členů 26 a posledních tří 2 106. Určete tuto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042920" y="4437000"/>
            <a:ext cx="810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P 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6/7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= –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1042920" y="242100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325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1 600 = 0                  vložte 5 čísel tak, aby vznikla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042920" y="4579920"/>
            <a:ext cx="81010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136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1 024 = 0                  vložte 3 čísla tak, aby vznikla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1042920" y="357192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ledaná pětice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0; 20; 40; 80; 16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042920" y="57340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ledaná trojice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6; 32; 64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042920" y="333360"/>
            <a:ext cx="810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4 a 108 vložte 2 čísla tak, aby s danými čísly tvořila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042920" y="148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ledaná dvojice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2; 3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1042920" y="227664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pěti členů GP, jestliže krajní sčítance tvoří čísla 6 a 1 536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042920" y="342756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 04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042920" y="333360"/>
            <a:ext cx="8101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čtyř členů GP, jestliže krajní sčítance tvoří čísla 8 a 216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042920" y="148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2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042920" y="4221000"/>
            <a:ext cx="810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2 a 4 096 vložte deset čísel tak, aby s danými čísly tvořila GP. Určete součet vložených člen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042920" y="5877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09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104292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5 a 640 vložte tolik čísel, aby s danými čísly tvořila GP a součet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vložených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ů byl 63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042920" y="148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8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5; 10; 20; 40; 80; 160; 320; 64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47640" y="1339920"/>
            <a:ext cx="7596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Opět použijte: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 </a:t>
            </a:r>
            <a:r>
              <a:rPr b="1" i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ale zároveň si uvědomte, že součet všech čísel získáme sečtením vložených a krajních členů dohromady, tzn.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  <a:ea typeface="Times New Roman"/>
              </a:rPr>
              <a:t>n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= 630 +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+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  <a:ea typeface="Times New Roman"/>
              </a:rPr>
              <a:t>n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042920" y="3139920"/>
            <a:ext cx="8101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vádr, jehož hrany tvoří GP, má povrch 78 cm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a součet hran, které procházejí jedním vrcholem, je  13 cm. Určete objem kvádr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042920" y="472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 = 27 cm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4724280"/>
            <a:ext cx="7596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bc = 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 = 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b +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bc +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c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+ 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 +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ezapomeňte zafixovat délku prostřední hrany, protože pak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/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  a  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1042920" y="404640"/>
            <a:ext cx="8101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prvních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ů GP je 6 141, první člen je 3 a poslední 3 072. Vypočítejte počet členů součtu a kvocient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042920" y="184464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 2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 1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47640" y="198900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Použijte vzorec pro součet, pro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-tý člen a nezapomeňte, že platí i „staré“ vzorce pro mocniny: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 </a:t>
            </a:r>
            <a:r>
              <a:rPr b="1" i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042920" y="3860640"/>
            <a:ext cx="8101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prvních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ů GP je 16 400, poslední člen je 10 935 a kvocient 3. Vypočítejte počet členů součtu a první člen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042920" y="544500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1042920" y="333360"/>
            <a:ext cx="810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terá GP má tu vlastnost, že součet prvních osmi členů je 82 krát větší než součet prvních čtyř členů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042920" y="1486080"/>
            <a:ext cx="8101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233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Úloha má tři řeše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2332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1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+ 3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2332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2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3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2332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3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1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1413000"/>
            <a:ext cx="7596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82 </a:t>
            </a:r>
            <a:r>
              <a:rPr b="1" lang="en-US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1 (delší vzorec pro součet), protože         pro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 by platilo 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2 </a:t>
            </a:r>
            <a:r>
              <a:rPr b="1" lang="en-US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zniklou rovnici řešte pomocí substituce: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042920" y="378936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terá GP má tu vlastnost, že součet prvních osmi členů je 17 krát větší než součet prvních čtyř členů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042920" y="4941720"/>
            <a:ext cx="81010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1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+ 2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2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2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3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1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44974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příklady 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u pro součet několika prvních členů GP a příklady pro samostatné řešení (u složitějších je přiložen návod)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; Součet členů G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součet G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900000" y="260280"/>
            <a:ext cx="82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daný počet prvních členů G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1403280" y="1052640"/>
                <a:ext cx="3834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Line 5"/>
          <p:cNvSpPr/>
          <p:nvPr/>
        </p:nvSpPr>
        <p:spPr>
          <a:xfrm>
            <a:off x="1979640" y="170028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2413080" y="2924280"/>
                <a:ext cx="259704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2340000" y="4292640"/>
                <a:ext cx="280980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940360" y="4365720"/>
                <a:ext cx="27748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5867280" y="5661000"/>
                <a:ext cx="3060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41 406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49" name="Rectangle 3"/>
          <p:cNvSpPr/>
          <p:nvPr/>
        </p:nvSpPr>
        <p:spPr>
          <a:xfrm>
            <a:off x="1763640" y="1916280"/>
            <a:ext cx="374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součet 10 člen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5"/>
          <p:cNvSpPr/>
          <p:nvPr/>
        </p:nvSpPr>
        <p:spPr>
          <a:xfrm>
            <a:off x="1619280" y="1197000"/>
            <a:ext cx="36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1763640" y="2133720"/>
                <a:ext cx="256212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1835280" y="3429000"/>
                <a:ext cx="289692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763640" y="5516640"/>
                <a:ext cx="135252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4" name="Rectangle 3"/>
          <p:cNvSpPr/>
          <p:nvPr/>
        </p:nvSpPr>
        <p:spPr>
          <a:xfrm>
            <a:off x="3780000" y="1268280"/>
            <a:ext cx="31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jprve určete GP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6732720" y="1125360"/>
                <a:ext cx="2082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6659640" y="1916280"/>
                <a:ext cx="15984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6730920" y="2924280"/>
                <a:ext cx="13622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7020000" y="3860640"/>
                <a:ext cx="1224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1042920" y="189000"/>
                <a:ext cx="41623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5"/>
          <p:cNvSpPr/>
          <p:nvPr/>
        </p:nvSpPr>
        <p:spPr>
          <a:xfrm>
            <a:off x="1763640" y="102564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4716360" y="4076640"/>
                <a:ext cx="2030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4716360" y="4869000"/>
                <a:ext cx="1884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4789440" y="5661000"/>
                <a:ext cx="14223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4" name="Rectangle 3"/>
          <p:cNvSpPr/>
          <p:nvPr/>
        </p:nvSpPr>
        <p:spPr>
          <a:xfrm>
            <a:off x="1763640" y="1197000"/>
            <a:ext cx="31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jprve určete GP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4716360" y="1197000"/>
                <a:ext cx="1462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1116000" y="404640"/>
                <a:ext cx="39657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5076720" y="1700280"/>
                <a:ext cx="87804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⇓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4859280" y="3284640"/>
                <a:ext cx="1708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5364000" y="2781360"/>
                <a:ext cx="365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5"/>
          <p:cNvSpPr/>
          <p:nvPr/>
        </p:nvSpPr>
        <p:spPr>
          <a:xfrm>
            <a:off x="1547640" y="765000"/>
            <a:ext cx="352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971640" y="189000"/>
                <a:ext cx="4194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1474920" y="909720"/>
                <a:ext cx="22651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1762200" y="1630440"/>
                <a:ext cx="14986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1906560" y="2206800"/>
                <a:ext cx="11336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1889280" y="2854440"/>
                <a:ext cx="1170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1619280" y="3502080"/>
                <a:ext cx="2082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1906560" y="4149720"/>
                <a:ext cx="22669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971640" y="5157720"/>
                <a:ext cx="1787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2916360" y="5157720"/>
                <a:ext cx="2303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826920" y="5689440"/>
                <a:ext cx="12718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2771640" y="5661000"/>
                <a:ext cx="15447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H="1">
            <a:off x="1763280" y="4797360"/>
            <a:ext cx="576360" cy="289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82920" y="4797360"/>
            <a:ext cx="649080" cy="216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5857920" y="189000"/>
                <a:ext cx="28828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5666760" y="1484280"/>
            <a:ext cx="3202920" cy="5796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P1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/32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5867280" y="2060640"/>
                <a:ext cx="28800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5943600" y="3141720"/>
                <a:ext cx="32004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 767,968 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172120" y="4280040"/>
            <a:ext cx="3763800" cy="5796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P2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1/32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 </a:t>
            </a:r>
            <a:r>
              <a:rPr b="0" i="1" lang="en-US" sz="2800" spc="-1" strike="noStrike" baseline="30000">
                <a:solidFill>
                  <a:srgbClr val="dddddd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5568840" y="4856040"/>
                <a:ext cx="35751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5580000" y="5877000"/>
                <a:ext cx="31654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  <m:sup/>
                            </m:sSubSup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922,656 2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1" name="Object 7"/>
              <p:cNvSpPr txBox="1"/>
              <p:nvPr/>
            </p:nvSpPr>
            <p:spPr>
              <a:xfrm>
                <a:off x="1187280" y="189000"/>
                <a:ext cx="4097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2340000" y="2278080"/>
                <a:ext cx="65149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P1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431 655 76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P1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858 993 4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6732720" y="549360"/>
                <a:ext cx="2170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 5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7"/>
              <p:cNvSpPr txBox="1"/>
              <p:nvPr/>
            </p:nvSpPr>
            <p:spPr>
              <a:xfrm>
                <a:off x="1116000" y="1628640"/>
                <a:ext cx="4064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1547640" y="4437000"/>
                <a:ext cx="7332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285</m:t>
                    </m:r>
                    <m:r>
                      <m:rPr>
                        <m:lit/>
                        <m:nor/>
                      </m:rPr>
                      <m:t xml:space="preserve">04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>
                <a:off x="1187280" y="3789360"/>
                <a:ext cx="4294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3492360" y="6021360"/>
                <a:ext cx="53769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441 4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7"/>
              <p:cNvSpPr txBox="1"/>
              <p:nvPr/>
            </p:nvSpPr>
            <p:spPr>
              <a:xfrm>
                <a:off x="1187280" y="5445000"/>
                <a:ext cx="4132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8920" y="1268280"/>
            <a:ext cx="76341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říklady pro samostatné řešení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79640" y="4114800"/>
            <a:ext cx="7164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Geometrická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8:21Z</dcterms:modified>
  <cp:revision>324</cp:revision>
  <dc:subject/>
  <dc:title>Posloupnosti</dc:title>
</cp:coreProperties>
</file>