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1B23-1C14-4E63-9206-DCEDA76723F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FB5B-AA3D-4A66-B4BF-4735EA6B702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9617-B2AA-4480-BE5D-8C44068FCF3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B600-54EA-433B-B6F3-8BC6A57F7D9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8BF8-92F7-4027-8CA7-D35500020DD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1080-FECD-4367-A94B-A66E81AE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AAE0-04CA-4F83-A512-D56C091E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BEDF-A706-4BBC-B7FF-55D89EE0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DBAF-068A-4D12-9E95-C015397E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CF73-1BDA-4DB4-8033-78CD89C1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5288-0B5D-4ED3-84F7-F6E4EABF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59CE-4477-4509-9174-706A9CD4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B496-0D5D-4B47-8440-3F9A6215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13C3-FD9E-4131-AD97-94D17B4F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2826-69C3-4C1A-B45A-3F20D3C6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D4E6-9B0A-4EF4-9C28-513B48CB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0A24-003C-44E6-8C49-856CB09D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363A-77A9-4163-A923-13E4A821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C39C-8051-490D-B1F3-1E52EA1D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2C6E-96E7-4471-B07F-B261B59A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74E2-CE85-4B9E-BC60-F7E625ED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E268-9C24-43D9-BC5F-D41E1783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E1B6-4E74-4BD8-8646-5C0036DF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8D4-19AC-476F-A843-06EA9AD8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5F64-486B-4A60-8B3E-1C02767F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CDAB-20B0-4BAC-A24B-2EA559FE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1A4-72ED-49BC-B323-4B3A02C4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8CD7-5AAF-4958-B019-5D3F8365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CC0A-7F3B-4F84-AE13-873D5EA1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9477-70F6-493A-AB77-7FC64D5F7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038D-F998-468E-BEDA-469F6A255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 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1116000" y="765000"/>
                <a:ext cx="3013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1116000" y="2349360"/>
                <a:ext cx="29494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4"/>
              <p:cNvSpPr txBox="1"/>
              <p:nvPr/>
            </p:nvSpPr>
            <p:spPr>
              <a:xfrm>
                <a:off x="5565600" y="779400"/>
                <a:ext cx="24544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3203640" y="2997360"/>
                <a:ext cx="565776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 8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7"/>
              <p:cNvSpPr txBox="1"/>
              <p:nvPr/>
            </p:nvSpPr>
            <p:spPr>
              <a:xfrm>
                <a:off x="1116000" y="4365720"/>
                <a:ext cx="31449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3206880" y="5300640"/>
                <a:ext cx="54766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900000" y="260280"/>
            <a:ext cx="82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čtěte daný počet prvních členů A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7"/>
              <p:cNvSpPr txBox="1"/>
              <p:nvPr/>
            </p:nvSpPr>
            <p:spPr>
              <a:xfrm>
                <a:off x="1403280" y="1052640"/>
                <a:ext cx="4129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3057480" y="2852640"/>
                <a:ext cx="5765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5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800</m:t>
                    </m:r>
                    <m:r>
                      <m:t xml:space="preserve">/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7164360" y="1341360"/>
                <a:ext cx="16369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7"/>
              <p:cNvSpPr txBox="1"/>
              <p:nvPr/>
            </p:nvSpPr>
            <p:spPr>
              <a:xfrm>
                <a:off x="1403280" y="2276640"/>
                <a:ext cx="4162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4140360" y="4365720"/>
                <a:ext cx="4698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7"/>
              <p:cNvSpPr txBox="1"/>
              <p:nvPr/>
            </p:nvSpPr>
            <p:spPr>
              <a:xfrm>
                <a:off x="1403280" y="3789360"/>
                <a:ext cx="4327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3635280" y="5877000"/>
                <a:ext cx="51976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7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7"/>
              <p:cNvSpPr txBox="1"/>
              <p:nvPr/>
            </p:nvSpPr>
            <p:spPr>
              <a:xfrm>
                <a:off x="1403280" y="5300640"/>
                <a:ext cx="4394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187280" y="2708280"/>
            <a:ext cx="795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hodnotu hledané členu A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1187280" y="105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4. vzorce pro AP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435640" y="1413000"/>
            <a:ext cx="216000" cy="287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32720" y="1413000"/>
            <a:ext cx="287280" cy="287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84720" y="1413000"/>
            <a:ext cx="214560" cy="287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971640" y="260280"/>
                <a:ext cx="176688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Line 5"/>
          <p:cNvSpPr/>
          <p:nvPr/>
        </p:nvSpPr>
        <p:spPr>
          <a:xfrm>
            <a:off x="1476360" y="198900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059280" y="260280"/>
            <a:ext cx="60847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kud bude platit aritmetický průměr pro pořadí členů, musí platit také pro hodnoty členů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258920" y="2205000"/>
            <a:ext cx="403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pořad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1403280" y="3500280"/>
                <a:ext cx="253836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1403280" y="4365720"/>
                <a:ext cx="22287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403280" y="5229360"/>
                <a:ext cx="2011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3419640" y="5445000"/>
                <a:ext cx="6807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5" name="Rectangle 3"/>
          <p:cNvSpPr/>
          <p:nvPr/>
        </p:nvSpPr>
        <p:spPr>
          <a:xfrm>
            <a:off x="1258920" y="6181560"/>
            <a:ext cx="7885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tnáctý člen dané AP má hodnotu 31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5292720" y="1989000"/>
                <a:ext cx="11462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6443640" y="2276640"/>
                <a:ext cx="6811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Rectangle 3"/>
          <p:cNvSpPr/>
          <p:nvPr/>
        </p:nvSpPr>
        <p:spPr>
          <a:xfrm>
            <a:off x="7380360" y="220500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258920" y="2852640"/>
            <a:ext cx="45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hodnoty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64000" y="1989000"/>
            <a:ext cx="100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59640" y="2276640"/>
            <a:ext cx="504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34" idx="2"/>
            <a:endCxn id="250" idx="1"/>
          </p:cNvCxnSpPr>
          <p:nvPr/>
        </p:nvCxnSpPr>
        <p:spPr>
          <a:xfrm rot="5400000">
            <a:off x="5193720" y="1855800"/>
            <a:ext cx="505440" cy="194400"/>
          </a:xfrm>
          <a:prstGeom prst="curvedConnector5">
            <a:avLst>
              <a:gd name="adj1" fmla="val 28296"/>
              <a:gd name="adj2" fmla="val 105194"/>
              <a:gd name="adj3" fmla="val 28296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35" idx="2"/>
            <a:endCxn id="250" idx="3"/>
          </p:cNvCxnSpPr>
          <p:nvPr/>
        </p:nvCxnSpPr>
        <p:spPr>
          <a:xfrm rot="5400000">
            <a:off x="6378480" y="1707120"/>
            <a:ext cx="505440" cy="49140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36" idx="2"/>
            <a:endCxn id="251" idx="0"/>
          </p:cNvCxnSpPr>
          <p:nvPr/>
        </p:nvCxnSpPr>
        <p:spPr>
          <a:xfrm flipH="1" rot="16200000">
            <a:off x="6271200" y="1621080"/>
            <a:ext cx="562680" cy="720000"/>
          </a:xfrm>
          <a:prstGeom prst="curvedConnector5">
            <a:avLst>
              <a:gd name="adj1" fmla="val 25416"/>
              <a:gd name="adj2" fmla="val 49974"/>
              <a:gd name="adj3" fmla="val 25416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435640" y="1268280"/>
            <a:ext cx="21600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59640" y="1268280"/>
            <a:ext cx="28728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12000" y="1268280"/>
            <a:ext cx="28872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1020600" y="260280"/>
                <a:ext cx="166860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Line 5"/>
          <p:cNvSpPr/>
          <p:nvPr/>
        </p:nvSpPr>
        <p:spPr>
          <a:xfrm>
            <a:off x="1476360" y="198900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258920" y="2205000"/>
            <a:ext cx="403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pořad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"/>
              <p:cNvSpPr txBox="1"/>
              <p:nvPr/>
            </p:nvSpPr>
            <p:spPr>
              <a:xfrm>
                <a:off x="1332000" y="3573360"/>
                <a:ext cx="21049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4"/>
              <p:cNvSpPr txBox="1"/>
              <p:nvPr/>
            </p:nvSpPr>
            <p:spPr>
              <a:xfrm>
                <a:off x="1332000" y="4437000"/>
                <a:ext cx="22287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3635280" y="4653000"/>
                <a:ext cx="7732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,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64" name="Rectangle 3"/>
          <p:cNvSpPr/>
          <p:nvPr/>
        </p:nvSpPr>
        <p:spPr>
          <a:xfrm>
            <a:off x="1258920" y="5734080"/>
            <a:ext cx="7885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vanáctý člen dané AP má hodnotu 3,5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5369040" y="1989000"/>
                <a:ext cx="9921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4"/>
              <p:cNvSpPr txBox="1"/>
              <p:nvPr/>
            </p:nvSpPr>
            <p:spPr>
              <a:xfrm>
                <a:off x="6443640" y="2292480"/>
                <a:ext cx="6811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Rectangle 3"/>
          <p:cNvSpPr/>
          <p:nvPr/>
        </p:nvSpPr>
        <p:spPr>
          <a:xfrm>
            <a:off x="7380360" y="220500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258920" y="2852640"/>
            <a:ext cx="45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hodnoty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64000" y="1989000"/>
            <a:ext cx="100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59640" y="2276640"/>
            <a:ext cx="504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55" idx="2"/>
            <a:endCxn id="269" idx="1"/>
          </p:cNvCxnSpPr>
          <p:nvPr/>
        </p:nvCxnSpPr>
        <p:spPr>
          <a:xfrm rot="5400000">
            <a:off x="5121720" y="1783440"/>
            <a:ext cx="649800" cy="194400"/>
          </a:xfrm>
          <a:prstGeom prst="curvedConnector5">
            <a:avLst>
              <a:gd name="adj1" fmla="val 33203"/>
              <a:gd name="adj2" fmla="val 105194"/>
              <a:gd name="adj3" fmla="val 33203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56" idx="2"/>
            <a:endCxn id="269" idx="3"/>
          </p:cNvCxnSpPr>
          <p:nvPr/>
        </p:nvCxnSpPr>
        <p:spPr>
          <a:xfrm rot="5400000">
            <a:off x="6270120" y="1671480"/>
            <a:ext cx="649800" cy="41832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57" idx="2"/>
            <a:endCxn id="270" idx="0"/>
          </p:cNvCxnSpPr>
          <p:nvPr/>
        </p:nvCxnSpPr>
        <p:spPr>
          <a:xfrm flipH="1" rot="16200000">
            <a:off x="6180840" y="1531800"/>
            <a:ext cx="705240" cy="756360"/>
          </a:xfrm>
          <a:prstGeom prst="curvedConnector5">
            <a:avLst>
              <a:gd name="adj1" fmla="val 50919"/>
              <a:gd name="adj2" fmla="val 50000"/>
              <a:gd name="adj3" fmla="val 50919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74" name="Rectangle 3"/>
          <p:cNvSpPr/>
          <p:nvPr/>
        </p:nvSpPr>
        <p:spPr>
          <a:xfrm>
            <a:off x="3059280" y="981000"/>
            <a:ext cx="608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435640" y="1268280"/>
            <a:ext cx="21600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268280"/>
            <a:ext cx="28728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12000" y="1268280"/>
            <a:ext cx="28872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7"/>
              <p:cNvSpPr txBox="1"/>
              <p:nvPr/>
            </p:nvSpPr>
            <p:spPr>
              <a:xfrm>
                <a:off x="971640" y="260280"/>
                <a:ext cx="176688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" name="Line 5"/>
          <p:cNvSpPr/>
          <p:nvPr/>
        </p:nvSpPr>
        <p:spPr>
          <a:xfrm>
            <a:off x="1476360" y="198900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258920" y="2205000"/>
            <a:ext cx="403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pořad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5276880" y="1989000"/>
                <a:ext cx="11779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6443640" y="2276640"/>
                <a:ext cx="6811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Rectangle 3"/>
          <p:cNvSpPr/>
          <p:nvPr/>
        </p:nvSpPr>
        <p:spPr>
          <a:xfrm>
            <a:off x="7380360" y="220500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1258920" y="2852640"/>
            <a:ext cx="554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hodnoty ne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64000" y="1989000"/>
            <a:ext cx="100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59640" y="2276640"/>
            <a:ext cx="504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75" idx="2"/>
            <a:endCxn id="285" idx="1"/>
          </p:cNvCxnSpPr>
          <p:nvPr/>
        </p:nvCxnSpPr>
        <p:spPr>
          <a:xfrm rot="5400000">
            <a:off x="5121720" y="1783440"/>
            <a:ext cx="649800" cy="194400"/>
          </a:xfrm>
          <a:prstGeom prst="curvedConnector5">
            <a:avLst>
              <a:gd name="adj1" fmla="val 33203"/>
              <a:gd name="adj2" fmla="val 105194"/>
              <a:gd name="adj3" fmla="val 33203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6" idx="2"/>
            <a:endCxn id="285" idx="3"/>
          </p:cNvCxnSpPr>
          <p:nvPr/>
        </p:nvCxnSpPr>
        <p:spPr>
          <a:xfrm rot="5400000">
            <a:off x="6306480" y="1634760"/>
            <a:ext cx="649800" cy="49140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77" idx="2"/>
            <a:endCxn id="286" idx="0"/>
          </p:cNvCxnSpPr>
          <p:nvPr/>
        </p:nvCxnSpPr>
        <p:spPr>
          <a:xfrm flipH="1" rot="16200000">
            <a:off x="6180840" y="1531800"/>
            <a:ext cx="705240" cy="756360"/>
          </a:xfrm>
          <a:prstGeom prst="curvedConnector5">
            <a:avLst>
              <a:gd name="adj1" fmla="val 50919"/>
              <a:gd name="adj2" fmla="val 50000"/>
              <a:gd name="adj3" fmla="val 50919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90" name="Rectangle 3"/>
          <p:cNvSpPr/>
          <p:nvPr/>
        </p:nvSpPr>
        <p:spPr>
          <a:xfrm>
            <a:off x="3059280" y="981000"/>
            <a:ext cx="608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6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3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1258920" y="5950080"/>
            <a:ext cx="7885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řicátý člen dané AP má hodnotu 15,2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1476360" y="3500280"/>
                <a:ext cx="26668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4"/>
              <p:cNvSpPr txBox="1"/>
              <p:nvPr/>
            </p:nvSpPr>
            <p:spPr>
              <a:xfrm>
                <a:off x="1692360" y="4149720"/>
                <a:ext cx="23367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4"/>
              <p:cNvSpPr txBox="1"/>
              <p:nvPr/>
            </p:nvSpPr>
            <p:spPr>
              <a:xfrm>
                <a:off x="1692360" y="4654440"/>
                <a:ext cx="15350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4"/>
              <p:cNvSpPr txBox="1"/>
              <p:nvPr/>
            </p:nvSpPr>
            <p:spPr>
              <a:xfrm>
                <a:off x="1620720" y="5230800"/>
                <a:ext cx="1241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,8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5364000" y="3500280"/>
                <a:ext cx="25210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4"/>
              <p:cNvSpPr txBox="1"/>
              <p:nvPr/>
            </p:nvSpPr>
            <p:spPr>
              <a:xfrm>
                <a:off x="5435640" y="4076640"/>
                <a:ext cx="27399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5435640" y="4581360"/>
                <a:ext cx="25588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5435640" y="5157720"/>
                <a:ext cx="1716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435640" y="1268280"/>
            <a:ext cx="21600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59640" y="1268280"/>
            <a:ext cx="28728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12000" y="1268280"/>
            <a:ext cx="28872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7"/>
              <p:cNvSpPr txBox="1"/>
              <p:nvPr/>
            </p:nvSpPr>
            <p:spPr>
              <a:xfrm>
                <a:off x="1020600" y="260280"/>
                <a:ext cx="166860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4" name="Line 5"/>
          <p:cNvSpPr/>
          <p:nvPr/>
        </p:nvSpPr>
        <p:spPr>
          <a:xfrm>
            <a:off x="1476360" y="198900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258920" y="2205000"/>
            <a:ext cx="403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pořad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4"/>
              <p:cNvSpPr txBox="1"/>
              <p:nvPr/>
            </p:nvSpPr>
            <p:spPr>
              <a:xfrm>
                <a:off x="1332000" y="3429000"/>
                <a:ext cx="21366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5867280" y="5013360"/>
                <a:ext cx="2259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8099280" y="5013360"/>
                <a:ext cx="6811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9" name="Rectangle 3"/>
          <p:cNvSpPr/>
          <p:nvPr/>
        </p:nvSpPr>
        <p:spPr>
          <a:xfrm>
            <a:off x="1258920" y="5950080"/>
            <a:ext cx="7885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vacátý člen dané AP má hodnotu 16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5354640" y="1989000"/>
                <a:ext cx="1022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6443640" y="2292480"/>
                <a:ext cx="6811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Rectangle 3"/>
          <p:cNvSpPr/>
          <p:nvPr/>
        </p:nvSpPr>
        <p:spPr>
          <a:xfrm>
            <a:off x="7380360" y="220500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1258920" y="2852640"/>
            <a:ext cx="45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hodnoty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64000" y="1989000"/>
            <a:ext cx="100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59640" y="2276640"/>
            <a:ext cx="504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00" idx="2"/>
            <a:endCxn id="314" idx="1"/>
          </p:cNvCxnSpPr>
          <p:nvPr/>
        </p:nvCxnSpPr>
        <p:spPr>
          <a:xfrm rot="5400000">
            <a:off x="5121720" y="1783440"/>
            <a:ext cx="649800" cy="194400"/>
          </a:xfrm>
          <a:prstGeom prst="curvedConnector5">
            <a:avLst>
              <a:gd name="adj1" fmla="val 33203"/>
              <a:gd name="adj2" fmla="val 105194"/>
              <a:gd name="adj3" fmla="val 33203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301" idx="2"/>
            <a:endCxn id="314" idx="3"/>
          </p:cNvCxnSpPr>
          <p:nvPr/>
        </p:nvCxnSpPr>
        <p:spPr>
          <a:xfrm rot="5400000">
            <a:off x="6270120" y="1671480"/>
            <a:ext cx="649800" cy="41832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2" idx="2"/>
            <a:endCxn id="315" idx="0"/>
          </p:cNvCxnSpPr>
          <p:nvPr/>
        </p:nvCxnSpPr>
        <p:spPr>
          <a:xfrm flipH="1" rot="16200000">
            <a:off x="6180840" y="1531800"/>
            <a:ext cx="705240" cy="756360"/>
          </a:xfrm>
          <a:prstGeom prst="curvedConnector5">
            <a:avLst>
              <a:gd name="adj1" fmla="val 50919"/>
              <a:gd name="adj2" fmla="val 50000"/>
              <a:gd name="adj3" fmla="val 50919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19" name="Rectangle 3"/>
          <p:cNvSpPr/>
          <p:nvPr/>
        </p:nvSpPr>
        <p:spPr>
          <a:xfrm>
            <a:off x="3059280" y="981000"/>
            <a:ext cx="608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8360" y="3933720"/>
            <a:ext cx="129708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5651640" y="3716280"/>
                <a:ext cx="21985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4"/>
              <p:cNvSpPr txBox="1"/>
              <p:nvPr/>
            </p:nvSpPr>
            <p:spPr>
              <a:xfrm>
                <a:off x="4859280" y="4221000"/>
                <a:ext cx="24145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4067280" y="3500280"/>
                <a:ext cx="43344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4" name="Object 7"/>
              <p:cNvSpPr txBox="1"/>
              <p:nvPr/>
            </p:nvSpPr>
            <p:spPr>
              <a:xfrm>
                <a:off x="1042920" y="549360"/>
                <a:ext cx="4291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5003640" y="907920"/>
                <a:ext cx="345132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7"/>
              <p:cNvSpPr txBox="1"/>
              <p:nvPr/>
            </p:nvSpPr>
            <p:spPr>
              <a:xfrm>
                <a:off x="971640" y="1844640"/>
                <a:ext cx="4160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5003640" y="2421000"/>
                <a:ext cx="316404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7"/>
              <p:cNvSpPr txBox="1"/>
              <p:nvPr/>
            </p:nvSpPr>
            <p:spPr>
              <a:xfrm>
                <a:off x="1042920" y="3645000"/>
                <a:ext cx="4094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4"/>
              <p:cNvSpPr txBox="1"/>
              <p:nvPr/>
            </p:nvSpPr>
            <p:spPr>
              <a:xfrm>
                <a:off x="4756320" y="4186080"/>
                <a:ext cx="295092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1042920" y="4869000"/>
                <a:ext cx="465156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4"/>
              <p:cNvSpPr txBox="1"/>
              <p:nvPr/>
            </p:nvSpPr>
            <p:spPr>
              <a:xfrm>
                <a:off x="5003640" y="5516640"/>
                <a:ext cx="35578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2" name="Object 7"/>
              <p:cNvSpPr txBox="1"/>
              <p:nvPr/>
            </p:nvSpPr>
            <p:spPr>
              <a:xfrm>
                <a:off x="1187280" y="333360"/>
                <a:ext cx="38656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"/>
              <p:cNvSpPr txBox="1"/>
              <p:nvPr/>
            </p:nvSpPr>
            <p:spPr>
              <a:xfrm>
                <a:off x="5219640" y="1125360"/>
                <a:ext cx="2952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7"/>
              <p:cNvSpPr txBox="1"/>
              <p:nvPr/>
            </p:nvSpPr>
            <p:spPr>
              <a:xfrm>
                <a:off x="1116000" y="1844640"/>
                <a:ext cx="4095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7"/>
              <p:cNvSpPr txBox="1"/>
              <p:nvPr/>
            </p:nvSpPr>
            <p:spPr>
              <a:xfrm>
                <a:off x="1076400" y="3643200"/>
                <a:ext cx="40273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4"/>
              <p:cNvSpPr txBox="1"/>
              <p:nvPr/>
            </p:nvSpPr>
            <p:spPr>
              <a:xfrm>
                <a:off x="5202360" y="4221000"/>
                <a:ext cx="25621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7"/>
              <p:cNvSpPr txBox="1"/>
              <p:nvPr/>
            </p:nvSpPr>
            <p:spPr>
              <a:xfrm>
                <a:off x="1187280" y="5084640"/>
                <a:ext cx="40309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5219640" y="2421000"/>
                <a:ext cx="3059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4"/>
              <p:cNvSpPr txBox="1"/>
              <p:nvPr/>
            </p:nvSpPr>
            <p:spPr>
              <a:xfrm>
                <a:off x="5219640" y="5734080"/>
                <a:ext cx="32371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416720" cy="38782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příklady I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u pro součet několika prvních členů A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čet členů AP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2708280"/>
            <a:ext cx="795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čtěte prvních padesát členů A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18728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pro součet AP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7"/>
              <p:cNvSpPr txBox="1"/>
              <p:nvPr/>
            </p:nvSpPr>
            <p:spPr>
              <a:xfrm>
                <a:off x="1187280" y="189000"/>
                <a:ext cx="17686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2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Line 5"/>
          <p:cNvSpPr/>
          <p:nvPr/>
        </p:nvSpPr>
        <p:spPr>
          <a:xfrm>
            <a:off x="1692360" y="133992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619280" y="2276640"/>
                <a:ext cx="28814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1601640" y="3571920"/>
                <a:ext cx="32022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5713560" y="2781360"/>
                <a:ext cx="32511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5580000" y="3429000"/>
                <a:ext cx="25941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5580000" y="4005360"/>
                <a:ext cx="3105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⋅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5580000" y="4581360"/>
                <a:ext cx="2849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2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580000" y="5157720"/>
                <a:ext cx="20098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1601640" y="4579920"/>
                <a:ext cx="3557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6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619280" y="5229360"/>
                <a:ext cx="24908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1619280" y="5877000"/>
                <a:ext cx="22413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2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995640" y="3787920"/>
            <a:ext cx="649440" cy="647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41440" y="328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4571640" y="4365720"/>
            <a:ext cx="1079640" cy="1008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258920" y="1268280"/>
            <a:ext cx="3744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součet 50 člen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5219640" y="1268280"/>
            <a:ext cx="3745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 součtu potřebujeme první a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ed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Object 7"/>
              <p:cNvSpPr txBox="1"/>
              <p:nvPr/>
            </p:nvSpPr>
            <p:spPr>
              <a:xfrm>
                <a:off x="1042920" y="333360"/>
                <a:ext cx="154008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1" name="Line 5"/>
          <p:cNvSpPr/>
          <p:nvPr/>
        </p:nvSpPr>
        <p:spPr>
          <a:xfrm>
            <a:off x="1619280" y="1484280"/>
            <a:ext cx="108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598760" y="3772080"/>
                <a:ext cx="31320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5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5797440" y="3770280"/>
                <a:ext cx="25210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5796000" y="4508640"/>
                <a:ext cx="31068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5775480" y="5159520"/>
                <a:ext cx="2228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5738760" y="5807160"/>
                <a:ext cx="17542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1598760" y="4543560"/>
                <a:ext cx="34160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1546200" y="5192640"/>
                <a:ext cx="2595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1509840" y="5894280"/>
                <a:ext cx="18856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70" name="Rectangle 3"/>
          <p:cNvSpPr/>
          <p:nvPr/>
        </p:nvSpPr>
        <p:spPr>
          <a:xfrm>
            <a:off x="3780000" y="189000"/>
            <a:ext cx="536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jprve musíme určit samotnou AP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3852720" y="1035000"/>
                <a:ext cx="21924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4159080" y="1717560"/>
                <a:ext cx="16797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3851280" y="2133720"/>
                <a:ext cx="14619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3924360" y="2565360"/>
                <a:ext cx="12049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6732720" y="1052640"/>
                <a:ext cx="215424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7021440" y="1700280"/>
                <a:ext cx="16066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6877080" y="2133720"/>
                <a:ext cx="11682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1116000" y="549360"/>
                <a:ext cx="27846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7"/>
              <p:cNvSpPr txBox="1"/>
              <p:nvPr/>
            </p:nvSpPr>
            <p:spPr>
              <a:xfrm>
                <a:off x="1116000" y="2349360"/>
                <a:ext cx="33418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5796000" y="549360"/>
                <a:ext cx="199224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5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3419640" y="2997360"/>
                <a:ext cx="554976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3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7"/>
              <p:cNvSpPr txBox="1"/>
              <p:nvPr/>
            </p:nvSpPr>
            <p:spPr>
              <a:xfrm>
                <a:off x="1116000" y="4365720"/>
                <a:ext cx="32432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3402000" y="5300640"/>
                <a:ext cx="508644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1187280" y="2708280"/>
            <a:ext cx="795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čtěte prvních sto členů A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5" name="Object 7"/>
              <p:cNvSpPr txBox="1"/>
              <p:nvPr/>
            </p:nvSpPr>
            <p:spPr>
              <a:xfrm>
                <a:off x="1042920" y="260280"/>
                <a:ext cx="18655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Line 5"/>
          <p:cNvSpPr/>
          <p:nvPr/>
        </p:nvSpPr>
        <p:spPr>
          <a:xfrm>
            <a:off x="1808280" y="135720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619280" y="1484280"/>
                <a:ext cx="27399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384200" y="2779560"/>
                <a:ext cx="3594240" cy="10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5796000" y="1700280"/>
                <a:ext cx="31050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5580000" y="2349360"/>
                <a:ext cx="2629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5580000" y="2924280"/>
                <a:ext cx="33624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5580000" y="3500280"/>
                <a:ext cx="2629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9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5580000" y="4076640"/>
                <a:ext cx="20829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1380960" y="3859200"/>
                <a:ext cx="3808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5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1403280" y="4581360"/>
                <a:ext cx="28814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1403280" y="5373720"/>
                <a:ext cx="24559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4121280" y="2960640"/>
            <a:ext cx="718920" cy="720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85800" y="24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88000" y="3499920"/>
            <a:ext cx="792000" cy="792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Object 7"/>
              <p:cNvSpPr txBox="1"/>
              <p:nvPr/>
            </p:nvSpPr>
            <p:spPr>
              <a:xfrm>
                <a:off x="1042920" y="260280"/>
                <a:ext cx="19303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Line 5"/>
          <p:cNvSpPr/>
          <p:nvPr/>
        </p:nvSpPr>
        <p:spPr>
          <a:xfrm>
            <a:off x="1692360" y="1413000"/>
            <a:ext cx="1295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547640" y="3068640"/>
                <a:ext cx="3345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5799240" y="3067200"/>
                <a:ext cx="2628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5818320" y="3840120"/>
                <a:ext cx="28494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5781600" y="4491000"/>
                <a:ext cx="2629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5729400" y="5138640"/>
                <a:ext cx="18270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1509840" y="3840120"/>
                <a:ext cx="34160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1455840" y="4489560"/>
                <a:ext cx="2311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9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1438200" y="5191200"/>
                <a:ext cx="20271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0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3635280" y="260280"/>
                <a:ext cx="23367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3811680" y="942840"/>
                <a:ext cx="20826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3851280" y="1519200"/>
                <a:ext cx="13161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3975120" y="2095560"/>
                <a:ext cx="9856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6697800" y="241200"/>
                <a:ext cx="219060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6856560" y="942840"/>
                <a:ext cx="1971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6659640" y="1519200"/>
                <a:ext cx="13507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4:52Z</dcterms:modified>
  <cp:revision>321</cp:revision>
  <dc:subject/>
  <dc:title>Posloupnosti</dc:title>
</cp:coreProperties>
</file>