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83D4-FC4C-4500-B7FD-B6D0A92679A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9D89-E96B-4907-ADA7-81AFA022AE6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CCA0-851C-4645-B24E-79B22662999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úročený vklad + 2. zúročený vklad + ... + poslední zúročený vkl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72C1-FAE4-4609-B84D-FE3E8303173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9C99-95BD-405C-989B-7971B4A0F65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112E-4FFD-44EA-BE64-B95654ED5D6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1995-FF9C-4058-AC62-470F768C7A4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0A6D-411A-48FA-9D61-3D978639DE5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5AF5-039E-4083-B771-B1020B40CBE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2AC3-99AA-4666-AC04-D48E1A482EF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DC4D-CFF4-485C-A9BC-CB6A313C948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FE08-21EA-4F37-9A63-BCA1DD1A6D7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2B02-1DCC-4946-A16E-E19FC797E29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3AF5-E391-4ABC-B7E0-971BE8EF5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FBA2-1B90-4A11-93BA-93EE88FE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758C-2A18-4E22-80E1-82C635D1E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A1B7-190F-4AAF-B6FD-F9A4CE180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AC52-2F44-4C66-B873-9656B8EC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C8FB-EFC5-4589-9E5C-ADDFE0CE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2E31-4F62-4D03-BB8F-07A499EF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A758-F889-4893-B90D-51DA7FEF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0170-D649-4030-B79D-C722F73F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332C-399E-4330-BF3E-B827EADC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8874-4F51-4E3F-BC65-1B2535CD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7612-3DDD-435D-A466-E19CD3B3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B3ED-7815-4604-B9E3-545897B0E429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ecff"/>
                </a:solidFill>
                <a:latin typeface="Times New Roman"/>
              </a:rPr>
              <a:t>STŘÁDÁNÍ</a:t>
            </a:r>
            <a:endParaRPr b="0" lang="en-US" sz="8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788000" y="4572000"/>
            <a:ext cx="4356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Užití  GP  v praxi</a:t>
            </a:r>
            <a:endParaRPr b="0" lang="en-US" sz="3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815840" y="3284640"/>
            <a:ext cx="29437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součet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n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členů GP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20"/>
              <p:cNvSpPr txBox="1"/>
              <p:nvPr/>
            </p:nvSpPr>
            <p:spPr>
              <a:xfrm>
                <a:off x="4643280" y="3141720"/>
                <a:ext cx="25210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q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23"/>
              <p:cNvSpPr txBox="1"/>
              <p:nvPr/>
            </p:nvSpPr>
            <p:spPr>
              <a:xfrm>
                <a:off x="2916360" y="4870440"/>
                <a:ext cx="352728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5"/>
              <p:cNvSpPr txBox="1"/>
              <p:nvPr/>
            </p:nvSpPr>
            <p:spPr>
              <a:xfrm>
                <a:off x="1258920" y="1197000"/>
                <a:ext cx="57452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/>
                    </m:sSubSup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  <m:sup/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/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5"/>
              <p:cNvSpPr txBox="1"/>
              <p:nvPr/>
            </p:nvSpPr>
            <p:spPr>
              <a:xfrm>
                <a:off x="1182600" y="2060640"/>
                <a:ext cx="71154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elková nastřádaná částk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050920" y="2133720"/>
            <a:ext cx="633744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987640" y="2637000"/>
            <a:ext cx="0" cy="72072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771640" y="4941720"/>
            <a:ext cx="3816360" cy="1584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70160" y="371628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= ar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70520" y="4149720"/>
            <a:ext cx="7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= r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92480" y="4221000"/>
            <a:ext cx="54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(každý následující sčítanec – člen GP je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 krát větší)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5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30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1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1187280" y="1628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Ze základního vzorce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který vyjadřuje velikost nastřádané částky po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letech,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odvodíme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obecné vztahy pro výpočet velikostí veličin: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901800" indent="-444600">
              <a:lnSpc>
                <a:spcPct val="120000"/>
              </a:lnSpc>
              <a:spcBef>
                <a:spcPts val="20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klad, anuita, </a:t>
            </a: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901800" indent="-444600">
              <a:lnSpc>
                <a:spcPct val="120000"/>
              </a:lnSpc>
              <a:spcBef>
                <a:spcPts val="20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čet let, po které vklady střádáme, </a:t>
            </a: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VZORC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3" name="Object 23"/>
              <p:cNvSpPr txBox="1"/>
              <p:nvPr/>
            </p:nvSpPr>
            <p:spPr>
              <a:xfrm>
                <a:off x="1476360" y="836640"/>
                <a:ext cx="18352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4" name="Rectangle 3"/>
          <p:cNvSpPr/>
          <p:nvPr/>
        </p:nvSpPr>
        <p:spPr>
          <a:xfrm>
            <a:off x="1476360" y="189000"/>
            <a:ext cx="12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= 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24000" y="1197000"/>
            <a:ext cx="216000" cy="28728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87280"/>
              <a:gd name="textAreaBottom" fmla="*/ 276840 h 287280"/>
            </a:gdLst>
            <a:ahLst/>
            <a:rect l="textAreaLeft" t="textAreaTop" r="textAreaRight" b="textAreaBottom"/>
            <a:pathLst>
              <a:path w="21600" h="28716">
                <a:moveTo>
                  <a:pt x="3600" y="0"/>
                </a:moveTo>
                <a:arcTo wR="3600" hR="3600" stAng="16200000" swAng="-5400000"/>
                <a:lnTo>
                  <a:pt x="0" y="25116"/>
                </a:lnTo>
                <a:arcTo wR="3600" hR="3600" stAng="10800000" swAng="-5400000"/>
                <a:lnTo>
                  <a:pt x="18000" y="287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23"/>
              <p:cNvSpPr txBox="1"/>
              <p:nvPr/>
            </p:nvSpPr>
            <p:spPr>
              <a:xfrm>
                <a:off x="3995640" y="2959200"/>
                <a:ext cx="5763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1258920" y="765000"/>
            <a:ext cx="7273800" cy="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3"/>
              <p:cNvSpPr txBox="1"/>
              <p:nvPr/>
            </p:nvSpPr>
            <p:spPr>
              <a:xfrm>
                <a:off x="1692360" y="1773360"/>
                <a:ext cx="18349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476360" y="5084640"/>
                <a:ext cx="281772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23"/>
              <p:cNvSpPr txBox="1"/>
              <p:nvPr/>
            </p:nvSpPr>
            <p:spPr>
              <a:xfrm>
                <a:off x="1488960" y="2708280"/>
                <a:ext cx="20829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23"/>
              <p:cNvSpPr txBox="1"/>
              <p:nvPr/>
            </p:nvSpPr>
            <p:spPr>
              <a:xfrm>
                <a:off x="1765440" y="3789360"/>
                <a:ext cx="18637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23"/>
              <p:cNvSpPr txBox="1"/>
              <p:nvPr/>
            </p:nvSpPr>
            <p:spPr>
              <a:xfrm>
                <a:off x="3995640" y="3789360"/>
                <a:ext cx="11541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3618360" y="1125360"/>
            <a:ext cx="553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trany nejprve zaměníme pro lepší orientac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23"/>
              <p:cNvSpPr txBox="1"/>
              <p:nvPr/>
            </p:nvSpPr>
            <p:spPr>
              <a:xfrm>
                <a:off x="5148360" y="3860640"/>
                <a:ext cx="132084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4140360" y="3789360"/>
            <a:ext cx="1008000" cy="934920"/>
          </a:xfrm>
          <a:prstGeom prst="line">
            <a:avLst/>
          </a:prstGeom>
          <a:ln w="1908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4140360" y="3789360"/>
            <a:ext cx="1008000" cy="934920"/>
          </a:xfrm>
          <a:prstGeom prst="line">
            <a:avLst/>
          </a:prstGeom>
          <a:ln w="1908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7" name="Object 23"/>
              <p:cNvSpPr txBox="1"/>
              <p:nvPr/>
            </p:nvSpPr>
            <p:spPr>
              <a:xfrm>
                <a:off x="1908000" y="620640"/>
                <a:ext cx="16560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8" name="Rectangle 3"/>
          <p:cNvSpPr/>
          <p:nvPr/>
        </p:nvSpPr>
        <p:spPr>
          <a:xfrm>
            <a:off x="1403280" y="189000"/>
            <a:ext cx="12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= 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987640" y="692280"/>
            <a:ext cx="216000" cy="2174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17440"/>
              <a:gd name="textAreaBottom" fmla="*/ 207000 h 217440"/>
            </a:gdLst>
            <a:ahLst/>
            <a:rect l="textAreaLeft" t="textAreaTop" r="textAreaRight" b="textAreaBottom"/>
            <a:pathLst>
              <a:path w="21600" h="21744">
                <a:moveTo>
                  <a:pt x="3600" y="0"/>
                </a:moveTo>
                <a:arcTo wR="3600" hR="3600" stAng="16200000" swAng="-5400000"/>
                <a:lnTo>
                  <a:pt x="0" y="18144"/>
                </a:lnTo>
                <a:arcTo wR="3600" hR="3600" stAng="10800000" swAng="-5400000"/>
                <a:lnTo>
                  <a:pt x="18000" y="217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58920" y="620640"/>
            <a:ext cx="7273800" cy="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23"/>
              <p:cNvSpPr txBox="1"/>
              <p:nvPr/>
            </p:nvSpPr>
            <p:spPr>
              <a:xfrm>
                <a:off x="3780000" y="1584360"/>
                <a:ext cx="1584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,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a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4375440" y="2997360"/>
            <a:ext cx="267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neznámá v exponentu </a:t>
            </a:r>
            <a:r>
              <a:rPr b="0" lang="en-US" sz="2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rovnici logaritmujem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23"/>
              <p:cNvSpPr txBox="1"/>
              <p:nvPr/>
            </p:nvSpPr>
            <p:spPr>
              <a:xfrm>
                <a:off x="4809960" y="4005360"/>
                <a:ext cx="43340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žijeme vzorec: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23"/>
              <p:cNvSpPr txBox="1"/>
              <p:nvPr/>
            </p:nvSpPr>
            <p:spPr>
              <a:xfrm>
                <a:off x="4786200" y="4863960"/>
                <a:ext cx="93672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log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5867280" y="5084640"/>
                <a:ext cx="307656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23"/>
              <p:cNvSpPr txBox="1"/>
              <p:nvPr/>
            </p:nvSpPr>
            <p:spPr>
              <a:xfrm>
                <a:off x="1619280" y="2205000"/>
                <a:ext cx="21463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23"/>
              <p:cNvSpPr txBox="1"/>
              <p:nvPr/>
            </p:nvSpPr>
            <p:spPr>
              <a:xfrm>
                <a:off x="1979640" y="2997360"/>
                <a:ext cx="21463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23"/>
              <p:cNvSpPr txBox="1"/>
              <p:nvPr/>
            </p:nvSpPr>
            <p:spPr>
              <a:xfrm>
                <a:off x="1332000" y="3789360"/>
                <a:ext cx="31827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23"/>
              <p:cNvSpPr txBox="1"/>
              <p:nvPr/>
            </p:nvSpPr>
            <p:spPr>
              <a:xfrm>
                <a:off x="1187280" y="4726080"/>
                <a:ext cx="335448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23"/>
              <p:cNvSpPr txBox="1"/>
              <p:nvPr/>
            </p:nvSpPr>
            <p:spPr>
              <a:xfrm>
                <a:off x="1116000" y="1339920"/>
                <a:ext cx="17287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3923280" y="8366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záměna stra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787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ŘEŠENÉ  PŘÍKLADY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80920" y="228600"/>
            <a:ext cx="7988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1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Kolik nastřádáme pravidelnými ročními vklady 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10 000,- Kč placenými vždy počátkem roku               za 5 let při 2,5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99640" y="2438280"/>
            <a:ext cx="7969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10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5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2,5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23"/>
              <p:cNvSpPr txBox="1"/>
              <p:nvPr/>
            </p:nvSpPr>
            <p:spPr>
              <a:xfrm>
                <a:off x="971640" y="5300640"/>
                <a:ext cx="233028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23"/>
              <p:cNvSpPr txBox="1"/>
              <p:nvPr/>
            </p:nvSpPr>
            <p:spPr>
              <a:xfrm>
                <a:off x="3203640" y="5300640"/>
                <a:ext cx="3801960" cy="11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25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25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23"/>
              <p:cNvSpPr txBox="1"/>
              <p:nvPr/>
            </p:nvSpPr>
            <p:spPr>
              <a:xfrm>
                <a:off x="6967440" y="5587920"/>
                <a:ext cx="217656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877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3457080" y="3932280"/>
            <a:ext cx="727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40720" y="3933720"/>
            <a:ext cx="1349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025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807732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2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Kolik musíme ukládat počátkem každého roku, abychom za 20 let nastřádali 1 000 000,- Kč         při 3,5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787896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20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= 1 000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3,5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23"/>
              <p:cNvSpPr txBox="1"/>
              <p:nvPr/>
            </p:nvSpPr>
            <p:spPr>
              <a:xfrm>
                <a:off x="1116000" y="5300640"/>
                <a:ext cx="223848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23"/>
              <p:cNvSpPr txBox="1"/>
              <p:nvPr/>
            </p:nvSpPr>
            <p:spPr>
              <a:xfrm>
                <a:off x="3348000" y="5373720"/>
                <a:ext cx="361944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00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3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35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35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23"/>
              <p:cNvSpPr txBox="1"/>
              <p:nvPr/>
            </p:nvSpPr>
            <p:spPr>
              <a:xfrm>
                <a:off x="6997680" y="5589720"/>
                <a:ext cx="21463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 165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3457080" y="3932280"/>
            <a:ext cx="727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40720" y="3933720"/>
            <a:ext cx="1349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035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3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a jak dlouho nastřádám 150 000,- Kč pravidelnými počátkem roku placenými vklady 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18 000,- Kč při 2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16"/>
              <p:cNvSpPr txBox="1"/>
              <p:nvPr/>
            </p:nvSpPr>
            <p:spPr>
              <a:xfrm>
                <a:off x="1042920" y="5013360"/>
                <a:ext cx="305928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878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= 150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 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= 18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2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68000" y="386064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51640" y="3860640"/>
            <a:ext cx="115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02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16"/>
              <p:cNvSpPr txBox="1"/>
              <p:nvPr/>
            </p:nvSpPr>
            <p:spPr>
              <a:xfrm>
                <a:off x="4067280" y="5084640"/>
                <a:ext cx="345600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0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2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16"/>
              <p:cNvSpPr txBox="1"/>
              <p:nvPr/>
            </p:nvSpPr>
            <p:spPr>
              <a:xfrm>
                <a:off x="7596360" y="5805360"/>
                <a:ext cx="1388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et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7802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PŘÍKLADY  NA  PROCVIČENÍ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914400" y="457200"/>
            <a:ext cx="822960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olik nastřádáme pravidelnými ročními vklady 5 000,- Kč placenými vždy počátkem roku za 6 let při 9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8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olik nastřádáme za 10 let pravidelnými počátkem roku placenými vklady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4 000,- Kč při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a) 8 % p.a., b) 10 % p.a., c) 12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2286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41 002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5943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375 492,- Kč, b) 420 748,- Kč, c) 471 710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cecff"/>
                </a:solidFill>
                <a:uFillTx/>
                <a:latin typeface="Times New Roman"/>
              </a:rPr>
              <a:t>Nejjednodušší případ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, 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kterým se budeme zabývat v hodinách matematik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2356920"/>
            <a:ext cx="777240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0" indent="-44280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ravidelně ve stejných časových  intervalech ukládáme stále stejnou částku, tzv. vklad (anuita)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914400" y="457200"/>
            <a:ext cx="822960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6.</a:t>
            </a:r>
            <a:r>
              <a:rPr b="0" lang="cs-CZ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olik musíme ukládat počátkem každého roku, abychom za 5 let nastřádali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 000 000,- Kč při 9,5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8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7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olik musíme ukládat počátkem každého roku, abychom za 10 let nastřádali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500 000,- Kč při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a) 7 % p.a., b) 9 % p.a., c) 11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0" y="2286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51 084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0" y="5943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33 821,- Kč, b) 30 193,- Kč, c) 26 938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914400" y="4762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nastřádám 400 000,- Kč pravidelnými počátkem roku placenými vklady 40 000,- Kč při 10,5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8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nastřádám 120 000,- Kč pravidelnými počátkem roku placenými vklady 10 000,- Kč při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) 5 % p.a., b) 10 % p.a., c) 15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594360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700" spc="-1" strike="noStrike">
                <a:solidFill>
                  <a:srgbClr val="ffff00"/>
                </a:solidFill>
                <a:latin typeface="Times New Roman"/>
              </a:rPr>
              <a:t>a) 9 let a 3 měs., b) 7 let a 9 měs., c) 6 let a 9 měs.</a:t>
            </a:r>
            <a:r>
              <a:rPr b="0" lang="en-US" sz="27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7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0" y="243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6 let a 8 měsíců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3, s. 70–7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Důležité pojmy: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285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73200" indent="-673200">
              <a:lnSpc>
                <a:spcPct val="10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nastřádaná částka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10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vklad, anuita</a:t>
            </a: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10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ková míra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10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čitel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6518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Nastřádaná částka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a</a:t>
            </a:r>
            <a:r>
              <a:rPr b="0" i="1" lang="cs-CZ" sz="3200" spc="-1" strike="noStrike" u="sng" baseline="-25000">
                <a:solidFill>
                  <a:srgbClr val="ffff00"/>
                </a:solidFill>
                <a:uFillTx/>
                <a:latin typeface="Times New Roman"/>
              </a:rPr>
              <a:t>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92000" y="830160"/>
            <a:ext cx="71960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0" indent="-44280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finanční hodnota, kterou nastřádáme, (naspoříme) po 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úrokovacích obdobích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1187280" y="1989000"/>
            <a:ext cx="765180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Vklad, anuita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1692360" y="2506680"/>
            <a:ext cx="71960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2800" indent="-44280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avidelně ukládaná částka, vždy počátkem úrokovacího obdob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187280" y="3629160"/>
            <a:ext cx="7651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roková míra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p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1692360" y="4148280"/>
            <a:ext cx="71960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2800" indent="-44280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ýše odměny vyjádřená v procentech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1187280" y="4941720"/>
            <a:ext cx="765180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ročitel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4"/>
              <p:cNvSpPr txBox="1"/>
              <p:nvPr/>
            </p:nvSpPr>
            <p:spPr>
              <a:xfrm>
                <a:off x="2268360" y="5661000"/>
                <a:ext cx="194472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182880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Označení definovaných veličin odpovídá označení v MFCHT:</a:t>
            </a:r>
            <a:br>
              <a:rPr sz="3200"/>
            </a:b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trana 29, Vzorce finanční aritmetiky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920" y="456840"/>
            <a:ext cx="765648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Ukázkový příklad: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Rectangle 22"/>
          <p:cNvSpPr/>
          <p:nvPr/>
        </p:nvSpPr>
        <p:spPr>
          <a:xfrm>
            <a:off x="1257480" y="1268280"/>
            <a:ext cx="7886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olik nastřádáme pravidelnými ročními vklady         10 000,- Kč placenými vždy počátkem roku               za 4 roky při 5 % p.a.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1258920" y="2708280"/>
            <a:ext cx="752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Zápis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Rectangle 22"/>
          <p:cNvSpPr/>
          <p:nvPr/>
        </p:nvSpPr>
        <p:spPr>
          <a:xfrm>
            <a:off x="1258920" y="3357720"/>
            <a:ext cx="1152360" cy="25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Rectangle 22"/>
          <p:cNvSpPr/>
          <p:nvPr/>
        </p:nvSpPr>
        <p:spPr>
          <a:xfrm>
            <a:off x="2050920" y="3357720"/>
            <a:ext cx="2521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10 000,-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Rectangle 22"/>
          <p:cNvSpPr/>
          <p:nvPr/>
        </p:nvSpPr>
        <p:spPr>
          <a:xfrm>
            <a:off x="2050920" y="3932280"/>
            <a:ext cx="2521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4 rok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" name="Rectangle 22"/>
          <p:cNvSpPr/>
          <p:nvPr/>
        </p:nvSpPr>
        <p:spPr>
          <a:xfrm>
            <a:off x="2050920" y="4508640"/>
            <a:ext cx="2521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5 % p.a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3564000" y="4508640"/>
            <a:ext cx="255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4" name="Rectangle 22"/>
          <p:cNvSpPr/>
          <p:nvPr/>
        </p:nvSpPr>
        <p:spPr>
          <a:xfrm>
            <a:off x="4427640" y="4508640"/>
            <a:ext cx="2555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= 1,05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050920" y="5084640"/>
            <a:ext cx="2521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260280"/>
            <a:ext cx="83534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13080" y="763560"/>
            <a:ext cx="655308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26880" y="260280"/>
            <a:ext cx="27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úroky (5 %) / Kč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40720" y="692280"/>
            <a:ext cx="753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1. rok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48720" y="692280"/>
            <a:ext cx="753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2. rok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33080" y="692280"/>
            <a:ext cx="753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3. rok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09440" y="692280"/>
            <a:ext cx="753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4. rok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0" y="1195560"/>
            <a:ext cx="36036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vkladu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03640" y="1195560"/>
            <a:ext cx="36036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úroku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2360" y="407664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Times New Roman"/>
              </a:rPr>
              <a:t>1. vklad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2360" y="465300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Times New Roman"/>
              </a:rPr>
              <a:t>2. vklad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2360" y="522936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Times New Roman"/>
              </a:rPr>
              <a:t>3. vklad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2360" y="580536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Times New Roman"/>
              </a:rPr>
              <a:t>4. vklad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46560" y="407520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0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46560" y="465120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0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46560" y="522756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0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46560" y="580248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0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11280" y="1268280"/>
            <a:ext cx="65534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260280"/>
            <a:ext cx="0" cy="5904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47640" y="3860640"/>
            <a:ext cx="0" cy="23036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410920" y="260280"/>
            <a:ext cx="1800" cy="5904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059280" y="763560"/>
            <a:ext cx="1440" cy="5400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40752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3860640"/>
            <a:ext cx="83534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1195560"/>
            <a:ext cx="36036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vkladu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11280" y="4435560"/>
            <a:ext cx="835344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80000" y="40752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32720" y="4075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08360" y="1195560"/>
            <a:ext cx="0" cy="4968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355640" y="763560"/>
            <a:ext cx="1800" cy="5400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03640" y="3427560"/>
            <a:ext cx="0" cy="2736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51640" y="1195560"/>
            <a:ext cx="0" cy="4968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00720" y="763560"/>
            <a:ext cx="0" cy="5400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20000" y="3427560"/>
            <a:ext cx="0" cy="2736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427560"/>
            <a:ext cx="0" cy="2736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17080" y="1195560"/>
            <a:ext cx="0" cy="4968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8964720" y="260280"/>
            <a:ext cx="1440" cy="5904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34275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76720" y="34275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1195560"/>
            <a:ext cx="36036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úroku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28360" y="3427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56000" y="3427560"/>
            <a:ext cx="129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59280" y="3427560"/>
            <a:ext cx="649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26560" y="407520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0,06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6000" y="1195560"/>
            <a:ext cx="36036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vkladu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00720" y="3427560"/>
            <a:ext cx="2016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40720" y="34275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92000" y="3427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72360" y="3427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1,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459640" y="1195560"/>
            <a:ext cx="36036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vkladu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56000" y="40752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,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5013360"/>
            <a:ext cx="83534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280" y="5589720"/>
            <a:ext cx="835344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11280" y="6164280"/>
            <a:ext cx="835344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49080" y="4075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04360" y="37861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93080" y="1195560"/>
            <a:ext cx="36036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úroku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46512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24360" y="40752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24360" y="46512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24360" y="52275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49080" y="4651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8360" y="40752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8360" y="46512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8360" y="52275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8360" y="58039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812720" y="4076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68360" y="37879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812720" y="4651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68360" y="43624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812720" y="5227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49080" y="37879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20000" y="40752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,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20000" y="46512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,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3860640"/>
            <a:ext cx="8353440" cy="23036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000" y="458136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6253200"/>
            <a:ext cx="8459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 daných podmínek nastřádáme za 4 roky 45 256,– Kč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0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ODVOZENÍ  VZORCE  (střádání)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2880" y="1484280"/>
            <a:ext cx="7970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14776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Jednotlivé vklady se neúročí stejně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945720" indent="-49752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214776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klad z prvního roku „vynese“ rozhodně více, než vklad vložen rok poslední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14776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o úročení vkladů za jednotlivá období využijeme vzorce z předešlé kapitoly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úrokování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23"/>
              <p:cNvSpPr txBox="1"/>
              <p:nvPr/>
            </p:nvSpPr>
            <p:spPr>
              <a:xfrm>
                <a:off x="3780000" y="4005360"/>
                <a:ext cx="180000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3780000" y="4005360"/>
            <a:ext cx="647640" cy="79200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792000"/>
              <a:gd name="textAreaBottom" fmla="*/ 760680 h 792000"/>
            </a:gdLst>
            <a:ahLst/>
            <a:rect l="textAreaLeft" t="textAreaTop" r="textAreaRight" b="textAreaBottom"/>
            <a:pathLst>
              <a:path w="21600" h="26412">
                <a:moveTo>
                  <a:pt x="3600" y="0"/>
                </a:moveTo>
                <a:arcTo wR="3600" hR="3600" stAng="16200000" swAng="-5400000"/>
                <a:lnTo>
                  <a:pt x="0" y="22812"/>
                </a:lnTo>
                <a:arcTo wR="3600" hR="3600" stAng="10800000" swAng="-5400000"/>
                <a:lnTo>
                  <a:pt x="18000" y="264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71640" y="522936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konečná jistin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určována vždy za 1 rok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84720" y="5229360"/>
            <a:ext cx="48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očáteční jistin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klad na počátku jednotlivých obdob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843280" y="4797360"/>
            <a:ext cx="1225440" cy="503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88000" y="4005360"/>
            <a:ext cx="288720" cy="79200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792000"/>
              <a:gd name="textAreaBottom" fmla="*/ 777960 h 792000"/>
            </a:gdLst>
            <a:ahLst/>
            <a:rect l="textAreaLeft" t="textAreaTop" r="textAreaRight" b="textAreaBottom"/>
            <a:pathLst>
              <a:path w="21600" h="59205">
                <a:moveTo>
                  <a:pt x="3600" y="0"/>
                </a:moveTo>
                <a:arcTo wR="3600" hR="3600" stAng="16200000" swAng="-5400000"/>
                <a:lnTo>
                  <a:pt x="0" y="55605"/>
                </a:lnTo>
                <a:arcTo wR="3600" hR="3600" stAng="10800000" swAng="-5400000"/>
                <a:lnTo>
                  <a:pt x="18000" y="59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48200" y="4797360"/>
            <a:ext cx="1639800" cy="5032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5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2920" y="138924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Times New Roman"/>
              </a:rPr>
              <a:t>1. vkla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2920" y="203688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Times New Roman"/>
              </a:rPr>
              <a:t>2. vkla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2920" y="268452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Times New Roman"/>
              </a:rPr>
              <a:t>3. vkla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2920" y="333216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Times New Roman"/>
              </a:rPr>
              <a:t>4. vkla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18200" y="141300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0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18200" y="206064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0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18200" y="270828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0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18200" y="335592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0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92360" y="1195560"/>
            <a:ext cx="0" cy="2592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14130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19556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84464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08360" y="14130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04360" y="14130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155280" y="141300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0,06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82920" y="1413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,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13992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0" y="3787920"/>
            <a:ext cx="914400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76000" y="14130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33080" y="11239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08360" y="19875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80000" y="14130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80000" y="2060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80000" y="27082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77440" y="2060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17080" y="14130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17080" y="2060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17080" y="27082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17080" y="33559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885800" y="14130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741440" y="11239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885800" y="2060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741440" y="1771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850880" y="27097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49080" y="11239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93080" y="1413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,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2062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,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49360" y="3932280"/>
            <a:ext cx="4592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...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celková nastřádaná částk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47640" y="404640"/>
            <a:ext cx="404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Times New Roman"/>
              </a:rPr>
              <a:t>vklad a z něj vzniklé úrok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84360" y="1195560"/>
            <a:ext cx="0" cy="2592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32000" y="1195560"/>
            <a:ext cx="0" cy="2592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84720" y="1195560"/>
            <a:ext cx="0" cy="2592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56360" y="1195560"/>
            <a:ext cx="0" cy="2592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16200000">
            <a:off x="5274360" y="-2674080"/>
            <a:ext cx="287640" cy="7451640"/>
          </a:xfrm>
          <a:custGeom>
            <a:avLst/>
            <a:gdLst>
              <a:gd name="textAreaLeft" fmla="*/ 0 w 287640"/>
              <a:gd name="textAreaRight" fmla="*/ 103680 w 287640"/>
              <a:gd name="textAreaTop" fmla="*/ 194040 h 7451640"/>
              <a:gd name="textAreaBottom" fmla="*/ 7257600 h 745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20"/>
              <p:cNvSpPr txBox="1"/>
              <p:nvPr/>
            </p:nvSpPr>
            <p:spPr>
              <a:xfrm>
                <a:off x="0" y="1268280"/>
                <a:ext cx="13795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1692360" y="1195560"/>
            <a:ext cx="7451640" cy="649080"/>
          </a:xfrm>
          <a:prstGeom prst="rect">
            <a:avLst/>
          </a:prstGeom>
          <a:solidFill>
            <a:srgbClr val="00172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20"/>
              <p:cNvSpPr txBox="1"/>
              <p:nvPr/>
            </p:nvSpPr>
            <p:spPr>
              <a:xfrm>
                <a:off x="1979640" y="1268280"/>
                <a:ext cx="49068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 000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,05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5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62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 Kč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1692360" y="1844640"/>
            <a:ext cx="7451640" cy="649440"/>
          </a:xfrm>
          <a:prstGeom prst="rect">
            <a:avLst/>
          </a:prstGeom>
          <a:solidFill>
            <a:srgbClr val="00172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20"/>
              <p:cNvSpPr txBox="1"/>
              <p:nvPr/>
            </p:nvSpPr>
            <p:spPr>
              <a:xfrm>
                <a:off x="1979640" y="1916280"/>
                <a:ext cx="4535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 000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,05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57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 Kč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1692360" y="2492280"/>
            <a:ext cx="7451640" cy="649440"/>
          </a:xfrm>
          <a:prstGeom prst="rect">
            <a:avLst/>
          </a:prstGeom>
          <a:solidFill>
            <a:srgbClr val="00172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20"/>
              <p:cNvSpPr txBox="1"/>
              <p:nvPr/>
            </p:nvSpPr>
            <p:spPr>
              <a:xfrm>
                <a:off x="2046240" y="2550960"/>
                <a:ext cx="4402080" cy="5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 000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,0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  025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Kč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1692360" y="3139920"/>
            <a:ext cx="7451640" cy="649440"/>
          </a:xfrm>
          <a:prstGeom prst="rect">
            <a:avLst/>
          </a:prstGeom>
          <a:solidFill>
            <a:srgbClr val="00172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20"/>
              <p:cNvSpPr txBox="1"/>
              <p:nvPr/>
            </p:nvSpPr>
            <p:spPr>
              <a:xfrm>
                <a:off x="2046240" y="3211560"/>
                <a:ext cx="4402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 000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,05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Kč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7164360" y="1195560"/>
            <a:ext cx="197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. vklad se úročí nejdéle a proto „vynese“ největší část zisku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20"/>
              <p:cNvSpPr txBox="1"/>
              <p:nvPr/>
            </p:nvSpPr>
            <p:spPr>
              <a:xfrm>
                <a:off x="0" y="1916280"/>
                <a:ext cx="15922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20"/>
              <p:cNvSpPr txBox="1"/>
              <p:nvPr/>
            </p:nvSpPr>
            <p:spPr>
              <a:xfrm>
                <a:off x="0" y="2563920"/>
                <a:ext cx="161784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20"/>
              <p:cNvSpPr txBox="1"/>
              <p:nvPr/>
            </p:nvSpPr>
            <p:spPr>
              <a:xfrm>
                <a:off x="468360" y="2995560"/>
                <a:ext cx="1587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20"/>
              <p:cNvSpPr txBox="1"/>
              <p:nvPr/>
            </p:nvSpPr>
            <p:spPr>
              <a:xfrm>
                <a:off x="0" y="3211560"/>
                <a:ext cx="13525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0" y="1195560"/>
            <a:ext cx="9144000" cy="2592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5"/>
              <p:cNvSpPr txBox="1"/>
              <p:nvPr/>
            </p:nvSpPr>
            <p:spPr>
              <a:xfrm>
                <a:off x="1979640" y="4724280"/>
                <a:ext cx="574524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/>
                    </m:sSubSup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  <m:sup/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/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7164360" y="2492280"/>
            <a:ext cx="197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Naopak poslední vklad  „vynese“ pouze jeden úrok z vkladu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48360" y="1413000"/>
            <a:ext cx="223920" cy="914400"/>
          </a:xfrm>
          <a:custGeom>
            <a:avLst/>
            <a:gdLst>
              <a:gd name="textAreaLeft" fmla="*/ 143280 w 223920"/>
              <a:gd name="textAreaRight" fmla="*/ 224280 w 223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5400" y="3600"/>
                  <a:pt x="0" y="3600"/>
                </a:cubicBezTo>
                <a:cubicBezTo>
                  <a:pt x="54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948360" y="2708280"/>
            <a:ext cx="223920" cy="914400"/>
          </a:xfrm>
          <a:custGeom>
            <a:avLst/>
            <a:gdLst>
              <a:gd name="textAreaLeft" fmla="*/ 143280 w 223920"/>
              <a:gd name="textAreaRight" fmla="*/ 224280 w 223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6200"/>
                </a:lnTo>
                <a:cubicBezTo>
                  <a:pt x="10800" y="17100"/>
                  <a:pt x="5400" y="18000"/>
                  <a:pt x="0" y="18000"/>
                </a:cubicBezTo>
                <a:cubicBezTo>
                  <a:pt x="5400" y="18000"/>
                  <a:pt x="10800" y="18900"/>
                  <a:pt x="10800" y="198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573408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čítance seřazeny tak, aby měli postupně vzrůstající hodnotu, tj. od posledního vkladu až po první vklad a z nich vzniklých úroků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50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UserXP</cp:lastModifiedBy>
  <dcterms:modified xsi:type="dcterms:W3CDTF">2013-05-28T11:37:07Z</dcterms:modified>
  <cp:revision>97</cp:revision>
  <dc:subject/>
  <dc:title>Posloupnosti</dc:title>
</cp:coreProperties>
</file>