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DDB1-62EE-48A1-9E2D-DDB5DEBD981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C628-B164-4ACB-8849-BE8A32A3A9C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7E10-9911-42EA-B345-7C8B450EA2D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6BF4-6D3C-4989-9AAE-38A3E791A1D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695D-FEF6-43F8-9B42-BCC9DF7449A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2085-BE42-425E-9CD7-55BD025AE36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DC21-9368-48B8-B327-2C2E0ED4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C046-6FEE-4D46-8455-DEF517C4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864-407A-450D-BCE2-6007285C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1DBF-C766-4282-B5EC-E2924A186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5F53-F6A6-4646-ACEA-8C8CA7C5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B9E2-5C20-48D5-993D-AD2829F7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44EB-36B1-4BD3-85CB-56E14617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5AA7-2FC2-4FBD-8E66-A71274AE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D2CC-C49A-41A9-B1F1-B488F895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55BC-648A-45AC-AF23-195FBD93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D6A6-90AC-476A-AC83-B6549FC5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3EFF-E3AC-4F74-9636-7235D61E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FCE7-8919-4507-9868-DCD1345A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62B9-EA95-4C8D-BC88-52B9AE14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F01F-0246-4239-94EA-ABF5401D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6F26-218B-4EF7-B0A6-E8A0F75A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0917-E8AD-4782-903F-BC6B90A2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7C49-CDC9-48DF-882F-6FAD0661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2ED-1DE9-4E76-AE95-1E43F495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5ABF-589B-41F6-86AE-21047A4E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DE80-C5C6-4ED5-B493-2CDDBEA6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BB28-7BF9-4304-B9F7-3A08D5DD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5F1-248E-4C69-88BD-2198D351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0E61-37B3-4404-B218-2C7A1A3C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859B-ECC9-441C-8E09-E4F53690B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4AEC-A6FF-4375-B4DA-5D6E3EAC5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900000" y="260280"/>
            <a:ext cx="82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kořeny rovnice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34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64 = 0  vložte 9 čísel tak, aby s kořeny rovnice tvořila A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1547640" y="2637000"/>
                <a:ext cx="979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7"/>
              <p:cNvSpPr txBox="1"/>
              <p:nvPr/>
            </p:nvSpPr>
            <p:spPr>
              <a:xfrm>
                <a:off x="1692360" y="3716280"/>
                <a:ext cx="1458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7"/>
              <p:cNvSpPr txBox="1"/>
              <p:nvPr/>
            </p:nvSpPr>
            <p:spPr>
              <a:xfrm>
                <a:off x="2268360" y="4581360"/>
                <a:ext cx="4572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Rectangle 3"/>
          <p:cNvSpPr/>
          <p:nvPr/>
        </p:nvSpPr>
        <p:spPr>
          <a:xfrm>
            <a:off x="2268360" y="3645000"/>
            <a:ext cx="3313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 čísel, která hled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6084720" y="2781360"/>
                <a:ext cx="23385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4"/>
              <p:cNvSpPr txBox="1"/>
              <p:nvPr/>
            </p:nvSpPr>
            <p:spPr>
              <a:xfrm>
                <a:off x="6227640" y="3556080"/>
                <a:ext cx="211788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6211800" y="4132440"/>
                <a:ext cx="15336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6427800" y="4708440"/>
                <a:ext cx="9493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1979640" y="3357720"/>
            <a:ext cx="144360" cy="1079280"/>
          </a:xfrm>
          <a:custGeom>
            <a:avLst/>
            <a:gdLst>
              <a:gd name="textAreaLeft" fmla="*/ 0 w 144360"/>
              <a:gd name="textAreaRight" fmla="*/ 52200 w 144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332000" y="5373720"/>
            <a:ext cx="781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aných devět čísel tvoří množinu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7"/>
              <p:cNvSpPr txBox="1"/>
              <p:nvPr/>
            </p:nvSpPr>
            <p:spPr>
              <a:xfrm>
                <a:off x="1411200" y="4510080"/>
                <a:ext cx="849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4"/>
              <p:cNvSpPr txBox="1"/>
              <p:nvPr/>
            </p:nvSpPr>
            <p:spPr>
              <a:xfrm>
                <a:off x="1547640" y="1268280"/>
                <a:ext cx="2664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1258920" y="1916280"/>
                <a:ext cx="29941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4427640" y="1916280"/>
                <a:ext cx="28558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3132000" y="5950080"/>
                <a:ext cx="52945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3"/>
          <p:cNvSpPr/>
          <p:nvPr/>
        </p:nvSpPr>
        <p:spPr>
          <a:xfrm>
            <a:off x="900000" y="189000"/>
            <a:ext cx="82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olik členů AP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0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5 musíme sečíst, aby byl součet  –17 325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"/>
              <p:cNvSpPr txBox="1"/>
              <p:nvPr/>
            </p:nvSpPr>
            <p:spPr>
              <a:xfrm>
                <a:off x="1836720" y="1773360"/>
                <a:ext cx="469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2987640" y="765000"/>
            <a:ext cx="129708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2268360" y="1557360"/>
                <a:ext cx="22417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2557440" y="1628640"/>
            <a:ext cx="432000" cy="4334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29080" y="1125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4"/>
              <p:cNvSpPr txBox="1"/>
              <p:nvPr/>
            </p:nvSpPr>
            <p:spPr>
              <a:xfrm>
                <a:off x="5902200" y="1484280"/>
                <a:ext cx="32418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5902200" y="907920"/>
                <a:ext cx="28083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4"/>
              <p:cNvSpPr txBox="1"/>
              <p:nvPr/>
            </p:nvSpPr>
            <p:spPr>
              <a:xfrm>
                <a:off x="5940360" y="1916280"/>
                <a:ext cx="24782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4"/>
              <p:cNvSpPr txBox="1"/>
              <p:nvPr/>
            </p:nvSpPr>
            <p:spPr>
              <a:xfrm>
                <a:off x="5940360" y="2349360"/>
                <a:ext cx="19335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76" name=""/>
          <p:cNvCxnSpPr>
            <a:stCxn id="268" idx="1"/>
          </p:cNvCxnSpPr>
          <p:nvPr/>
        </p:nvCxnSpPr>
        <p:spPr>
          <a:xfrm flipV="1" rot="10800000">
            <a:off x="2071080" y="982440"/>
            <a:ext cx="902160" cy="791280"/>
          </a:xfrm>
          <a:prstGeom prst="curvedConnector2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77" name="Object 4"/>
              <p:cNvSpPr txBox="1"/>
              <p:nvPr/>
            </p:nvSpPr>
            <p:spPr>
              <a:xfrm>
                <a:off x="971640" y="2565360"/>
                <a:ext cx="439236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32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5435640" y="2925720"/>
                <a:ext cx="5572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4"/>
              <p:cNvSpPr txBox="1"/>
              <p:nvPr/>
            </p:nvSpPr>
            <p:spPr>
              <a:xfrm>
                <a:off x="900000" y="3492360"/>
                <a:ext cx="34527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4650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4"/>
              <p:cNvSpPr txBox="1"/>
              <p:nvPr/>
            </p:nvSpPr>
            <p:spPr>
              <a:xfrm>
                <a:off x="900000" y="3933720"/>
                <a:ext cx="32068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465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4211640" y="4076640"/>
                <a:ext cx="650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4"/>
              <p:cNvSpPr txBox="1"/>
              <p:nvPr/>
            </p:nvSpPr>
            <p:spPr>
              <a:xfrm>
                <a:off x="1258920" y="4508640"/>
                <a:ext cx="31021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93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4"/>
              <p:cNvSpPr txBox="1"/>
              <p:nvPr/>
            </p:nvSpPr>
            <p:spPr>
              <a:xfrm>
                <a:off x="4716360" y="4653000"/>
                <a:ext cx="17449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88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1908000" y="5157720"/>
                <a:ext cx="23702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∓</m:t>
                        </m:r>
                        <m:r>
                          <m:rPr>
                            <m:lit/>
                            <m:nor/>
                          </m:rPr>
                          <m:t xml:space="preserve">16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4643280" y="5137200"/>
                <a:ext cx="12211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5940360" y="5137200"/>
                <a:ext cx="7318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4572000" y="5713560"/>
                <a:ext cx="149868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4"/>
              <p:cNvSpPr txBox="1"/>
              <p:nvPr/>
            </p:nvSpPr>
            <p:spPr>
              <a:xfrm>
                <a:off x="5940360" y="5722920"/>
                <a:ext cx="7318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4"/>
              <p:cNvSpPr txBox="1"/>
              <p:nvPr/>
            </p:nvSpPr>
            <p:spPr>
              <a:xfrm>
                <a:off x="6372360" y="4508640"/>
                <a:ext cx="17780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3852720" y="1844640"/>
            <a:ext cx="576360" cy="57636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91" name=""/>
          <p:cNvCxnSpPr>
            <a:stCxn id="290" idx="0"/>
          </p:cNvCxnSpPr>
          <p:nvPr/>
        </p:nvCxnSpPr>
        <p:spPr>
          <a:xfrm flipH="1" flipV="1" rot="5400000">
            <a:off x="4733640" y="656640"/>
            <a:ext cx="577080" cy="176112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 flipV="1">
            <a:off x="4284720" y="5497200"/>
            <a:ext cx="288720" cy="1429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84720" y="5713560"/>
            <a:ext cx="288720" cy="14256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187280" y="621036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třeba sečíst prvních 90 členů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900000" y="189000"/>
            <a:ext cx="82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olik členů AP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6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4  musíme sečíst, aby byl součet  9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1403280" y="2060640"/>
                <a:ext cx="469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2987640" y="765000"/>
            <a:ext cx="50472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1835280" y="1881360"/>
                <a:ext cx="2160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2124000" y="1989000"/>
            <a:ext cx="358920" cy="3603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24000" y="1484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5905440" y="3429000"/>
                <a:ext cx="27748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5867280" y="2852640"/>
                <a:ext cx="28083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4"/>
              <p:cNvSpPr txBox="1"/>
              <p:nvPr/>
            </p:nvSpPr>
            <p:spPr>
              <a:xfrm>
                <a:off x="5905440" y="3860640"/>
                <a:ext cx="24782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4"/>
              <p:cNvSpPr txBox="1"/>
              <p:nvPr/>
            </p:nvSpPr>
            <p:spPr>
              <a:xfrm>
                <a:off x="5905440" y="4292640"/>
                <a:ext cx="1763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05" name=""/>
          <p:cNvCxnSpPr>
            <a:stCxn id="297" idx="1"/>
          </p:cNvCxnSpPr>
          <p:nvPr/>
        </p:nvCxnSpPr>
        <p:spPr>
          <a:xfrm flipV="1" rot="10800000">
            <a:off x="1637640" y="982800"/>
            <a:ext cx="1335600" cy="1078200"/>
          </a:xfrm>
          <a:prstGeom prst="curvedConnector2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06" name="Object 4"/>
              <p:cNvSpPr txBox="1"/>
              <p:nvPr/>
            </p:nvSpPr>
            <p:spPr>
              <a:xfrm>
                <a:off x="1403280" y="2708280"/>
                <a:ext cx="32400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4643280" y="2997360"/>
                <a:ext cx="557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1258920" y="3573360"/>
                <a:ext cx="2663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4"/>
              <p:cNvSpPr txBox="1"/>
              <p:nvPr/>
            </p:nvSpPr>
            <p:spPr>
              <a:xfrm>
                <a:off x="1258920" y="4024440"/>
                <a:ext cx="24256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4"/>
              <p:cNvSpPr txBox="1"/>
              <p:nvPr/>
            </p:nvSpPr>
            <p:spPr>
              <a:xfrm>
                <a:off x="3924360" y="4149720"/>
                <a:ext cx="650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4"/>
              <p:cNvSpPr txBox="1"/>
              <p:nvPr/>
            </p:nvSpPr>
            <p:spPr>
              <a:xfrm>
                <a:off x="1619280" y="4581360"/>
                <a:ext cx="245916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2268360" y="5805360"/>
                <a:ext cx="3096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4"/>
              <p:cNvSpPr txBox="1"/>
              <p:nvPr/>
            </p:nvSpPr>
            <p:spPr>
              <a:xfrm>
                <a:off x="2484360" y="5805360"/>
                <a:ext cx="720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4"/>
              <p:cNvSpPr txBox="1"/>
              <p:nvPr/>
            </p:nvSpPr>
            <p:spPr>
              <a:xfrm>
                <a:off x="3635280" y="5805360"/>
                <a:ext cx="7556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4"/>
              <p:cNvSpPr txBox="1"/>
              <p:nvPr/>
            </p:nvSpPr>
            <p:spPr>
              <a:xfrm>
                <a:off x="4284720" y="5805360"/>
                <a:ext cx="720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3348000" y="2133720"/>
            <a:ext cx="576360" cy="5760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16" idx="6"/>
          </p:cNvCxnSpPr>
          <p:nvPr/>
        </p:nvCxnSpPr>
        <p:spPr>
          <a:xfrm>
            <a:off x="3943440" y="2422080"/>
            <a:ext cx="1924560" cy="772200"/>
          </a:xfrm>
          <a:prstGeom prst="curvedConnector5">
            <a:avLst>
              <a:gd name="adj1" fmla="val 59232"/>
              <a:gd name="adj2" fmla="val 50000"/>
              <a:gd name="adj3" fmla="val 59232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 flipH="1">
            <a:off x="2555640" y="5589720"/>
            <a:ext cx="144360" cy="28728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35280" y="5589720"/>
            <a:ext cx="144720" cy="2887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1187280" y="621036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třeba sečíst prvních 6 členů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4"/>
              <p:cNvSpPr txBox="1"/>
              <p:nvPr/>
            </p:nvSpPr>
            <p:spPr>
              <a:xfrm>
                <a:off x="4859280" y="836640"/>
                <a:ext cx="18684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4"/>
              <p:cNvSpPr txBox="1"/>
              <p:nvPr/>
            </p:nvSpPr>
            <p:spPr>
              <a:xfrm>
                <a:off x="4821120" y="1398600"/>
                <a:ext cx="1832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5003640" y="1771560"/>
                <a:ext cx="10112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4"/>
              <p:cNvSpPr txBox="1"/>
              <p:nvPr/>
            </p:nvSpPr>
            <p:spPr>
              <a:xfrm>
                <a:off x="5003640" y="2131920"/>
                <a:ext cx="8510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4"/>
              <p:cNvSpPr txBox="1"/>
              <p:nvPr/>
            </p:nvSpPr>
            <p:spPr>
              <a:xfrm>
                <a:off x="7020000" y="836640"/>
                <a:ext cx="18064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4"/>
              <p:cNvSpPr txBox="1"/>
              <p:nvPr/>
            </p:nvSpPr>
            <p:spPr>
              <a:xfrm>
                <a:off x="7128000" y="1368360"/>
                <a:ext cx="1547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7128000" y="1801800"/>
                <a:ext cx="1042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4"/>
              <p:cNvSpPr txBox="1"/>
              <p:nvPr/>
            </p:nvSpPr>
            <p:spPr>
              <a:xfrm>
                <a:off x="1619280" y="5157720"/>
                <a:ext cx="26622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3780000" y="260280"/>
            <a:ext cx="2376360" cy="506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88000" y="836640"/>
            <a:ext cx="4176720" cy="1728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500"/>
                            </p:stCondLst>
                            <p:childTnLst>
                              <p:par>
                                <p:cTn id="7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0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3"/>
          <p:cNvSpPr/>
          <p:nvPr/>
        </p:nvSpPr>
        <p:spPr>
          <a:xfrm>
            <a:off x="1042920" y="1844640"/>
            <a:ext cx="8101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trany pravoúhlého trojúhelníka tvoří AP, přičemž delší z odvěsen měří        12 cm. Vypočtěte zbylé strany, obvod   a obsah trojúhelníka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116000" y="189000"/>
            <a:ext cx="802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trany trojúhelníka obvykle značíme: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ale protože tvoří AP, přejdeme ke značení: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4"/>
              <p:cNvSpPr txBox="1"/>
              <p:nvPr/>
            </p:nvSpPr>
            <p:spPr>
              <a:xfrm>
                <a:off x="1116000" y="189000"/>
                <a:ext cx="21258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4"/>
              <p:cNvSpPr txBox="1"/>
              <p:nvPr/>
            </p:nvSpPr>
            <p:spPr>
              <a:xfrm>
                <a:off x="2124000" y="4857840"/>
                <a:ext cx="3841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1763640" y="1486080"/>
            <a:ext cx="1297080" cy="3384360"/>
          </a:xfrm>
          <a:prstGeom prst="rtTriangl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1116000" y="189000"/>
            <a:ext cx="802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o rostoucí AP je diference kladná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proto seřadíme strany nejlépe od nejkratší (kratší z odvěsen) po nejdelší (přepona)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4"/>
              <p:cNvSpPr txBox="1"/>
              <p:nvPr/>
            </p:nvSpPr>
            <p:spPr>
              <a:xfrm>
                <a:off x="1116000" y="3357720"/>
                <a:ext cx="4129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4"/>
              <p:cNvSpPr txBox="1"/>
              <p:nvPr/>
            </p:nvSpPr>
            <p:spPr>
              <a:xfrm>
                <a:off x="2195640" y="2278080"/>
                <a:ext cx="4125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9" name="Rectangle 3"/>
          <p:cNvSpPr/>
          <p:nvPr/>
        </p:nvSpPr>
        <p:spPr>
          <a:xfrm>
            <a:off x="1116000" y="189000"/>
            <a:ext cx="802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rojici, která tvoří AP, nejlépe vyjádříme zafixováním prostředního (druhého) členu – viz zadání, protože první pak bude o diferenci menší, poslední (třetí) o diferenci větš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96040" y="5259240"/>
            <a:ext cx="35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ejkratší = kratší z odvěse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78920" y="184464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ejdelší = přepon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4"/>
              <p:cNvSpPr txBox="1"/>
              <p:nvPr/>
            </p:nvSpPr>
            <p:spPr>
              <a:xfrm>
                <a:off x="1476360" y="3357720"/>
                <a:ext cx="85716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2482920" y="4869000"/>
                <a:ext cx="135900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4"/>
              <p:cNvSpPr txBox="1"/>
              <p:nvPr/>
            </p:nvSpPr>
            <p:spPr>
              <a:xfrm>
                <a:off x="2627280" y="2276640"/>
                <a:ext cx="135900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4"/>
              <p:cNvSpPr txBox="1"/>
              <p:nvPr/>
            </p:nvSpPr>
            <p:spPr>
              <a:xfrm>
                <a:off x="3205080" y="189000"/>
                <a:ext cx="2160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4"/>
              <p:cNvSpPr txBox="1"/>
              <p:nvPr/>
            </p:nvSpPr>
            <p:spPr>
              <a:xfrm>
                <a:off x="1116000" y="765000"/>
                <a:ext cx="15494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2700360" y="692280"/>
                <a:ext cx="136692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8" name="Rectangle 3"/>
          <p:cNvSpPr/>
          <p:nvPr/>
        </p:nvSpPr>
        <p:spPr>
          <a:xfrm>
            <a:off x="5219640" y="1197000"/>
            <a:ext cx="39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jprve musíme ovšem určit délky stran, pro které platí Pythagorova věta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4"/>
              <p:cNvSpPr txBox="1"/>
              <p:nvPr/>
            </p:nvSpPr>
            <p:spPr>
              <a:xfrm>
                <a:off x="5292720" y="1484280"/>
                <a:ext cx="2733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: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4"/>
              <p:cNvSpPr txBox="1"/>
              <p:nvPr/>
            </p:nvSpPr>
            <p:spPr>
              <a:xfrm>
                <a:off x="5180040" y="2219400"/>
                <a:ext cx="34560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4"/>
              <p:cNvSpPr txBox="1"/>
              <p:nvPr/>
            </p:nvSpPr>
            <p:spPr>
              <a:xfrm>
                <a:off x="3560760" y="2781360"/>
                <a:ext cx="55832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d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d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4"/>
              <p:cNvSpPr txBox="1"/>
              <p:nvPr/>
            </p:nvSpPr>
            <p:spPr>
              <a:xfrm>
                <a:off x="6012000" y="3430440"/>
                <a:ext cx="15364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 flipV="1">
            <a:off x="3708360" y="2854080"/>
            <a:ext cx="432000" cy="4316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292720" y="2854080"/>
            <a:ext cx="431640" cy="4316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948360" y="2854080"/>
            <a:ext cx="432000" cy="4316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8712360" y="2854080"/>
            <a:ext cx="431640" cy="4316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6300720" y="3933720"/>
                <a:ext cx="8557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4"/>
              <p:cNvSpPr txBox="1"/>
              <p:nvPr/>
            </p:nvSpPr>
            <p:spPr>
              <a:xfrm>
                <a:off x="3780000" y="4869000"/>
                <a:ext cx="7077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4"/>
              <p:cNvSpPr txBox="1"/>
              <p:nvPr/>
            </p:nvSpPr>
            <p:spPr>
              <a:xfrm>
                <a:off x="3851280" y="2276640"/>
                <a:ext cx="8557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4"/>
              <p:cNvSpPr txBox="1"/>
              <p:nvPr/>
            </p:nvSpPr>
            <p:spPr>
              <a:xfrm>
                <a:off x="5153040" y="4495680"/>
                <a:ext cx="23302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4"/>
              <p:cNvSpPr txBox="1"/>
              <p:nvPr/>
            </p:nvSpPr>
            <p:spPr>
              <a:xfrm>
                <a:off x="7529400" y="4495680"/>
                <a:ext cx="885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2" name="Rectangle 3"/>
          <p:cNvSpPr/>
          <p:nvPr/>
        </p:nvSpPr>
        <p:spPr>
          <a:xfrm>
            <a:off x="1116000" y="5877000"/>
            <a:ext cx="8028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trany trojúhelníka mají délky 9 cm, 12 cm, 15 cm. Obvod trojúhelníka je 36 cm, obsah 54 cm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4"/>
              <p:cNvSpPr txBox="1"/>
              <p:nvPr/>
            </p:nvSpPr>
            <p:spPr>
              <a:xfrm>
                <a:off x="5148360" y="4869000"/>
                <a:ext cx="16221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6804000" y="5084640"/>
                <a:ext cx="885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1476360" y="3357720"/>
                <a:ext cx="85716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1332000" y="4437000"/>
            <a:ext cx="86328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908000" y="4653000"/>
            <a:ext cx="71640" cy="71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2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58920" y="1268280"/>
            <a:ext cx="763416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říklady pro samostatné řešení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79640" y="4114800"/>
            <a:ext cx="7164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ritmetická posloup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1042920" y="260280"/>
            <a:ext cx="810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které AP o deseti členech je součet prostředních dvou členů 55 a součin krajních členů 250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1042920" y="2421000"/>
            <a:ext cx="810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AP, v níž  5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7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90  a součet prvních tří členů je dvanác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1042920" y="1413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1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50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5;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2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5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1042920" y="357336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1042920" y="4653000"/>
            <a:ext cx="810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AP, v níž prvních pět členů dává součet 30 a součet jejich čtverců je 220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1042920" y="5805360"/>
            <a:ext cx="81010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1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;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2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0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1042920" y="476280"/>
            <a:ext cx="8101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pětičlenné AP je součin druhého a čtvrtého členu roven osmi pětinám součinu krajních členů. Součet druhých mocnin všech členů je 220. Určete tuto posloupnos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1042920" y="2347920"/>
            <a:ext cx="810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1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,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2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2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>
              <a:spcBef>
                <a:spcPts val="700"/>
              </a:spcBef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3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´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0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´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2,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4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´´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10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´´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042920" y="4292640"/>
            <a:ext cx="8101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AP  30, 27, 24, ... najděte člen, který se rovná jedné osmině součtu všech předcházejících členů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1042920" y="530064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5;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3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6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3"/>
          <p:cNvSpPr/>
          <p:nvPr/>
        </p:nvSpPr>
        <p:spPr>
          <a:xfrm>
            <a:off x="1042920" y="404640"/>
            <a:ext cx="810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Železné roury jsou srovnány v 10 řadách nad sebou tak, že vrchní řada má 15 trubek a každá další řada o 1 více. Kolik je všech trubek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1042920" y="1844640"/>
            <a:ext cx="810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95 kusů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1042920" y="3213000"/>
            <a:ext cx="810108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Teplota Země přibývá o 1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 na 33 m. Jak velká je teplota v šachtě hluboké 1015 m, je-li v hloubce 25 m stálá teplota +9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700"/>
              </a:spcBef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ávo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Teplota tvoří pořadí členů, hloubka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šachty jejich hodnot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1042920" y="5589720"/>
            <a:ext cx="8101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+39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°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1042920" y="3645000"/>
            <a:ext cx="81010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terý člen posloupnosti přirozených čísel se rovná součtu všech předcházejících členů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700"/>
              </a:spcBef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ávod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Uvědomte si nejprve vše, co znáte o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sloupnosti přirozených číse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1042920" y="333360"/>
            <a:ext cx="810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kořeny rovnice 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12 = 0  vložte          13 čísel tak, aby s kořeny rovnice tvořila prvních patnáct členů A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1042920" y="5518080"/>
            <a:ext cx="810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4"/>
              <p:cNvSpPr txBox="1"/>
              <p:nvPr/>
            </p:nvSpPr>
            <p:spPr>
              <a:xfrm>
                <a:off x="1619280" y="1844640"/>
                <a:ext cx="69022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416720" cy="38782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 – příklady II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i zadání příkladů pouze s výsledky pro samostatné procvičení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1042920" y="333360"/>
            <a:ext cx="8101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rozměry kvádru, které tvoří tři po sobě jdoucí členy AP a jejichž součet je 18 cm, je-li objem kvádru 120 cm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1042920" y="1773360"/>
            <a:ext cx="81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 cm; 6 cm; 10 cm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nebo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10 cm; 6 cm; 2 c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1042920" y="2997360"/>
            <a:ext cx="8101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ete strany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obecného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trojúhelníka, které se dají vyjádřit třemi po sobě jdoucími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přirozenými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čísly, je-li obsah trojúhelní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ávo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Pro vyjádření obsahu trojúhelníka použijte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Heronův vzorec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1042920" y="5805360"/>
            <a:ext cx="81010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5 cm; 6 cm; 7 c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4"/>
              <p:cNvSpPr txBox="1"/>
              <p:nvPr/>
            </p:nvSpPr>
            <p:spPr>
              <a:xfrm>
                <a:off x="4932360" y="4005360"/>
                <a:ext cx="15843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21–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1–13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187280" y="2205000"/>
            <a:ext cx="7956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P – příklady se zamyšlení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2" name="Object 7"/>
              <p:cNvSpPr txBox="1"/>
              <p:nvPr/>
            </p:nvSpPr>
            <p:spPr>
              <a:xfrm>
                <a:off x="1474920" y="1341360"/>
                <a:ext cx="1665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 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Rectangle 3"/>
          <p:cNvSpPr/>
          <p:nvPr/>
        </p:nvSpPr>
        <p:spPr>
          <a:xfrm>
            <a:off x="1619280" y="6165720"/>
            <a:ext cx="752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to členů dané AP dává součet 24 85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4"/>
              <p:cNvSpPr txBox="1"/>
              <p:nvPr/>
            </p:nvSpPr>
            <p:spPr>
              <a:xfrm>
                <a:off x="1619280" y="3645000"/>
                <a:ext cx="34336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1619280" y="4292640"/>
                <a:ext cx="31050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9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5796000" y="3573360"/>
                <a:ext cx="2557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5867280" y="4149720"/>
                <a:ext cx="24829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7"/>
              <p:cNvSpPr txBox="1"/>
              <p:nvPr/>
            </p:nvSpPr>
            <p:spPr>
              <a:xfrm>
                <a:off x="3635280" y="1268280"/>
                <a:ext cx="1403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1619280" y="1916280"/>
                <a:ext cx="1566720" cy="44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 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7"/>
              <p:cNvSpPr txBox="1"/>
              <p:nvPr/>
            </p:nvSpPr>
            <p:spPr>
              <a:xfrm>
                <a:off x="3635280" y="1844640"/>
                <a:ext cx="1535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7"/>
              <p:cNvSpPr txBox="1"/>
              <p:nvPr/>
            </p:nvSpPr>
            <p:spPr>
              <a:xfrm>
                <a:off x="1547640" y="2492280"/>
                <a:ext cx="1764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 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7"/>
              <p:cNvSpPr txBox="1"/>
              <p:nvPr/>
            </p:nvSpPr>
            <p:spPr>
              <a:xfrm>
                <a:off x="3635280" y="2492280"/>
                <a:ext cx="16336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7"/>
              <p:cNvSpPr txBox="1"/>
              <p:nvPr/>
            </p:nvSpPr>
            <p:spPr>
              <a:xfrm>
                <a:off x="5651640" y="1844640"/>
                <a:ext cx="12747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5867280" y="4653000"/>
                <a:ext cx="17892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1598760" y="5013360"/>
                <a:ext cx="22269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5291280" y="1484280"/>
            <a:ext cx="215640" cy="1224000"/>
          </a:xfrm>
          <a:custGeom>
            <a:avLst/>
            <a:gdLst>
              <a:gd name="textAreaLeft" fmla="*/ 0 w 215640"/>
              <a:gd name="textAreaRight" fmla="*/ 7776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042920" y="260280"/>
            <a:ext cx="810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prvních sto přirozených čísel, jejichž zbytek po dělení číslem pět je jedna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900000" y="260280"/>
            <a:ext cx="82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všech přirozených dvojciferných číse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042920" y="6093000"/>
            <a:ext cx="81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oučet všech přirozených dvojciferných čísel je 4 905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5724360" y="2852640"/>
                <a:ext cx="32148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9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5776920" y="3664080"/>
                <a:ext cx="29955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1403280" y="3860640"/>
                <a:ext cx="284976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3268800" y="5535720"/>
                <a:ext cx="113184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7"/>
              <p:cNvSpPr txBox="1"/>
              <p:nvPr/>
            </p:nvSpPr>
            <p:spPr>
              <a:xfrm>
                <a:off x="1403280" y="836640"/>
                <a:ext cx="11080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7"/>
              <p:cNvSpPr txBox="1"/>
              <p:nvPr/>
            </p:nvSpPr>
            <p:spPr>
              <a:xfrm>
                <a:off x="1403280" y="1341360"/>
                <a:ext cx="1141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1403280" y="1916280"/>
                <a:ext cx="114300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7"/>
              <p:cNvSpPr txBox="1"/>
              <p:nvPr/>
            </p:nvSpPr>
            <p:spPr>
              <a:xfrm>
                <a:off x="2987640" y="1341360"/>
                <a:ext cx="12430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5761080" y="4292640"/>
                <a:ext cx="18986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9" name="Rectangle 3"/>
          <p:cNvSpPr/>
          <p:nvPr/>
        </p:nvSpPr>
        <p:spPr>
          <a:xfrm>
            <a:off x="1187280" y="2852640"/>
            <a:ext cx="352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oslední dvojciferné čísl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1411200" y="3267000"/>
                <a:ext cx="1174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1474920" y="4508640"/>
                <a:ext cx="29224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2043000" y="5030640"/>
                <a:ext cx="23385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5757840" y="1376280"/>
                <a:ext cx="27399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6516720" y="1484280"/>
            <a:ext cx="503280" cy="3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0360" y="1916280"/>
            <a:ext cx="287280" cy="3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01080" y="1916280"/>
            <a:ext cx="216000" cy="2887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836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284720" y="2276280"/>
            <a:ext cx="1582560" cy="3313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00360" y="981000"/>
            <a:ext cx="216000" cy="122400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900000" y="260280"/>
            <a:ext cx="824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všech přirozených trojciferných čísel, která končí číslicí 6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258920" y="6093000"/>
            <a:ext cx="788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Čísla daných vlastností dávají součet 49 59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5724360" y="2852640"/>
                <a:ext cx="32148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9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5746680" y="3573360"/>
                <a:ext cx="33973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1403280" y="3860640"/>
                <a:ext cx="284976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3492360" y="5516640"/>
                <a:ext cx="113220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7"/>
              <p:cNvSpPr txBox="1"/>
              <p:nvPr/>
            </p:nvSpPr>
            <p:spPr>
              <a:xfrm>
                <a:off x="1467000" y="1123920"/>
                <a:ext cx="1271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7"/>
              <p:cNvSpPr txBox="1"/>
              <p:nvPr/>
            </p:nvSpPr>
            <p:spPr>
              <a:xfrm>
                <a:off x="1450800" y="1628640"/>
                <a:ext cx="1336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7"/>
              <p:cNvSpPr txBox="1"/>
              <p:nvPr/>
            </p:nvSpPr>
            <p:spPr>
              <a:xfrm>
                <a:off x="1467000" y="2203560"/>
                <a:ext cx="130644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3033720" y="1628640"/>
                <a:ext cx="1440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5724360" y="4221000"/>
                <a:ext cx="22323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59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91" name="Rectangle 3"/>
          <p:cNvSpPr/>
          <p:nvPr/>
        </p:nvSpPr>
        <p:spPr>
          <a:xfrm>
            <a:off x="1332000" y="2924280"/>
            <a:ext cx="396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oslední číslo dané vlastnosti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7"/>
              <p:cNvSpPr txBox="1"/>
              <p:nvPr/>
            </p:nvSpPr>
            <p:spPr>
              <a:xfrm>
                <a:off x="1457280" y="3338640"/>
                <a:ext cx="13716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1332000" y="4437000"/>
                <a:ext cx="34560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1476360" y="5013360"/>
                <a:ext cx="33624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5757840" y="1376280"/>
                <a:ext cx="27399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6516720" y="1484280"/>
            <a:ext cx="503280" cy="3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40360" y="1916280"/>
            <a:ext cx="287280" cy="3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01080" y="1916280"/>
            <a:ext cx="216000" cy="2887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88000" y="836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4720" y="1268280"/>
            <a:ext cx="216000" cy="122400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endCxn id="197" idx="2"/>
          </p:cNvCxnSpPr>
          <p:nvPr/>
        </p:nvCxnSpPr>
        <p:spPr>
          <a:xfrm flipV="1">
            <a:off x="4624560" y="2096640"/>
            <a:ext cx="1297440" cy="3656880"/>
          </a:xfrm>
          <a:prstGeom prst="curvedConnector5">
            <a:avLst>
              <a:gd name="adj1" fmla="val 50652"/>
              <a:gd name="adj2" fmla="val 49995"/>
              <a:gd name="adj3" fmla="val 50652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900000" y="260280"/>
            <a:ext cx="824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všech přirozených čísel, která jsou dělitelná číslem 7 a přitom jsou větší než 1 000, ale zároveň jsou také menší než 1 50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258920" y="6093000"/>
            <a:ext cx="788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Čísla daných vlastností dávají součet 89 964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7165800" y="2347920"/>
                <a:ext cx="13082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877080" y="1916280"/>
            <a:ext cx="216000" cy="122364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3640"/>
              <a:gd name="textAreaBottom" fmla="*/ 119196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>
                <a:off x="1476360" y="1700280"/>
                <a:ext cx="3165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: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2</m:t>
                        </m:r>
                        <m:r>
                          <m:t xml:space="preserve">,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7"/>
              <p:cNvSpPr txBox="1"/>
              <p:nvPr/>
            </p:nvSpPr>
            <p:spPr>
              <a:xfrm>
                <a:off x="1403280" y="2205000"/>
                <a:ext cx="15336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0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7"/>
              <p:cNvSpPr txBox="1"/>
              <p:nvPr/>
            </p:nvSpPr>
            <p:spPr>
              <a:xfrm>
                <a:off x="1403280" y="2708280"/>
                <a:ext cx="15368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01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7"/>
              <p:cNvSpPr txBox="1"/>
              <p:nvPr/>
            </p:nvSpPr>
            <p:spPr>
              <a:xfrm>
                <a:off x="1403280" y="3500280"/>
                <a:ext cx="457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3267000" y="5099040"/>
                <a:ext cx="1305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1403280" y="4149720"/>
                <a:ext cx="33400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9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1835280" y="4653000"/>
                <a:ext cx="28591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1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9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3467160" y="5605560"/>
                <a:ext cx="9619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5364000" y="4076640"/>
                <a:ext cx="3213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72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5435640" y="4724280"/>
                <a:ext cx="3708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9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5435640" y="5227560"/>
                <a:ext cx="20811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96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7"/>
              <p:cNvSpPr txBox="1"/>
              <p:nvPr/>
            </p:nvSpPr>
            <p:spPr>
              <a:xfrm>
                <a:off x="1835280" y="3500280"/>
                <a:ext cx="2836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00</m:t>
                        </m:r>
                        <m:r>
                          <m:t xml:space="preserve">: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4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4572000" y="1700280"/>
                <a:ext cx="22860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3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0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7"/>
              <p:cNvSpPr txBox="1"/>
              <p:nvPr/>
            </p:nvSpPr>
            <p:spPr>
              <a:xfrm>
                <a:off x="4643280" y="3500280"/>
                <a:ext cx="23814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4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900000" y="260280"/>
            <a:ext cx="82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všech trojciferných přirozených čísel, která jsou dělitelná číslem 9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258920" y="6093000"/>
            <a:ext cx="788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Čísla daných vlastností dávají součet 55 35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7"/>
              <p:cNvSpPr txBox="1"/>
              <p:nvPr/>
            </p:nvSpPr>
            <p:spPr>
              <a:xfrm>
                <a:off x="6532560" y="1844640"/>
                <a:ext cx="12762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6227640" y="1484280"/>
            <a:ext cx="216000" cy="122400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7"/>
              <p:cNvSpPr txBox="1"/>
              <p:nvPr/>
            </p:nvSpPr>
            <p:spPr>
              <a:xfrm>
                <a:off x="1476360" y="3357720"/>
                <a:ext cx="457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5219640" y="4005360"/>
                <a:ext cx="34322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5292720" y="4653000"/>
                <a:ext cx="3489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5310360" y="5227560"/>
                <a:ext cx="21906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5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7"/>
              <p:cNvSpPr txBox="1"/>
              <p:nvPr/>
            </p:nvSpPr>
            <p:spPr>
              <a:xfrm>
                <a:off x="1476360" y="1268280"/>
                <a:ext cx="27068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: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7"/>
              <p:cNvSpPr txBox="1"/>
              <p:nvPr/>
            </p:nvSpPr>
            <p:spPr>
              <a:xfrm>
                <a:off x="1476360" y="1844640"/>
                <a:ext cx="13381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1476360" y="2421000"/>
                <a:ext cx="13082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7"/>
              <p:cNvSpPr txBox="1"/>
              <p:nvPr/>
            </p:nvSpPr>
            <p:spPr>
              <a:xfrm>
                <a:off x="1908000" y="3429000"/>
                <a:ext cx="9144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7"/>
              <p:cNvSpPr txBox="1"/>
              <p:nvPr/>
            </p:nvSpPr>
            <p:spPr>
              <a:xfrm>
                <a:off x="4211640" y="1268280"/>
                <a:ext cx="19242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3193920" y="5025960"/>
                <a:ext cx="1305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1403280" y="4076640"/>
                <a:ext cx="31510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1763640" y="4579920"/>
                <a:ext cx="27129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3390840" y="5459400"/>
                <a:ext cx="11160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900000" y="260280"/>
            <a:ext cx="82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čísla  – 5 a 20 vložte 4 čísla tak, aby s danými čísly tvořila A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7"/>
              <p:cNvSpPr txBox="1"/>
              <p:nvPr/>
            </p:nvSpPr>
            <p:spPr>
              <a:xfrm>
                <a:off x="1547640" y="1484280"/>
                <a:ext cx="1141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7"/>
              <p:cNvSpPr txBox="1"/>
              <p:nvPr/>
            </p:nvSpPr>
            <p:spPr>
              <a:xfrm>
                <a:off x="1682640" y="2187720"/>
                <a:ext cx="243000" cy="15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7"/>
              <p:cNvSpPr txBox="1"/>
              <p:nvPr/>
            </p:nvSpPr>
            <p:spPr>
              <a:xfrm>
                <a:off x="2268360" y="3860640"/>
                <a:ext cx="48924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Rectangle 3"/>
          <p:cNvSpPr/>
          <p:nvPr/>
        </p:nvSpPr>
        <p:spPr>
          <a:xfrm>
            <a:off x="2330280" y="2690640"/>
            <a:ext cx="33134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 čísla, která hled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6218280" y="1971720"/>
                <a:ext cx="20826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6216480" y="2763720"/>
                <a:ext cx="21542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6180120" y="3413160"/>
                <a:ext cx="13510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4"/>
              <p:cNvSpPr txBox="1"/>
              <p:nvPr/>
            </p:nvSpPr>
            <p:spPr>
              <a:xfrm>
                <a:off x="6362640" y="4059360"/>
                <a:ext cx="9493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2041560" y="2332080"/>
            <a:ext cx="216000" cy="122400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332000" y="5589720"/>
            <a:ext cx="781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anou čtveřici tvoří čísla: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5651640" y="5589720"/>
                <a:ext cx="230004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7"/>
              <p:cNvSpPr txBox="1"/>
              <p:nvPr/>
            </p:nvSpPr>
            <p:spPr>
              <a:xfrm>
                <a:off x="1476360" y="3789360"/>
                <a:ext cx="750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6:56Z</dcterms:modified>
  <cp:revision>323</cp:revision>
  <dc:subject/>
  <dc:title>Posloupnosti</dc:title>
</cp:coreProperties>
</file>