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84C0-D8FC-45A5-A88A-A548252050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B61B-F7C4-4567-B6D3-0EF97B2C611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55B2-1847-41FE-8DAB-A94956DBE5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B68F-38D4-4347-9EC1-16662971E4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7658-4A86-4516-8D39-8938E161C2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57E7-FFCC-4E8C-B9C8-4BFECF78CE5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2177-A296-4FA7-94D1-323CE49675A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5BD7-B9AC-4108-8696-478BB6C250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4128-382D-4B5C-9772-3CA1CC8B20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19C1-FCA9-4B4C-8ED0-C72400563F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E770-588B-4B6A-AE9B-E2CC7E485C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E78F-A132-4D7D-8E62-78BFEF65D0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8E4E-148E-46A8-A273-C75803B4ABB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5682-F1D0-4FBD-AAF6-FF669DD201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38A-02FA-4D24-A1CA-7D586E57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65D-FCDE-4BC8-9BF7-4A867D44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4EC-A45A-47CF-BEB7-BC5295B3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8FE-3125-4ADC-A6CB-97E8538C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61C-4933-4C97-9E26-505FA819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0A8-80B2-4623-8ECF-D9166C03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EE0-44EA-420E-9104-1CB57E5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D1B-85FD-4769-9BB4-AC5A9F26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26E-AFDD-45A7-A39E-4B537271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446-D88D-439D-91E7-B4802A2C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1F9-42AF-4FF2-A6C9-9D15B75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02C-5F76-45E1-B626-7CE6911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9468-14E9-476E-894C-F602DCB807C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UMOŘOVÁNÍ DLUHU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Užití GP v praxi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dluhu, jenž můžeme z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 umořit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ční splátka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dluh splácí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7080" y="979560"/>
            <a:ext cx="360360" cy="35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788000" y="2276640"/>
                <a:ext cx="633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258920" y="76500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43280" y="4365720"/>
                <a:ext cx="32860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4716360" y="3068640"/>
                <a:ext cx="1238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0"/>
              <p:cNvSpPr txBox="1"/>
              <p:nvPr/>
            </p:nvSpPr>
            <p:spPr>
              <a:xfrm>
                <a:off x="1476360" y="836640"/>
                <a:ext cx="2160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0"/>
              <p:cNvSpPr txBox="1"/>
              <p:nvPr/>
            </p:nvSpPr>
            <p:spPr>
              <a:xfrm>
                <a:off x="1835280" y="1989000"/>
                <a:ext cx="21603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0"/>
              <p:cNvSpPr txBox="1"/>
              <p:nvPr/>
            </p:nvSpPr>
            <p:spPr>
              <a:xfrm>
                <a:off x="2050920" y="2997360"/>
                <a:ext cx="2403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716360" y="3141720"/>
                <a:ext cx="1127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87280" y="765000"/>
                <a:ext cx="18720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83664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69228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4437000"/>
                <a:ext cx="34621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908000" y="1268280"/>
            <a:ext cx="216000" cy="2178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800"/>
              <a:gd name="textAreaBottom" fmla="*/ 207360 h 217800"/>
            </a:gdLst>
            <a:ahLst/>
            <a:rect l="textAreaLeft" t="textAreaTop" r="textAreaRight" b="textAreaBottom"/>
            <a:pathLst>
              <a:path w="21600" h="21780">
                <a:moveTo>
                  <a:pt x="3600" y="0"/>
                </a:moveTo>
                <a:arcTo wR="3600" hR="3600" stAng="16200000" swAng="-5400000"/>
                <a:lnTo>
                  <a:pt x="0" y="18180"/>
                </a:lnTo>
                <a:arcTo wR="3600" hR="3600" stAng="10800000" swAng="-5400000"/>
                <a:lnTo>
                  <a:pt x="18000" y="21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87280" y="1700280"/>
                <a:ext cx="2108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260360" y="2565360"/>
                <a:ext cx="2397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76720" y="3009960"/>
            <a:ext cx="217440" cy="29052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290520"/>
              <a:gd name="textAreaBottom" fmla="*/ 280080 h 290520"/>
            </a:gdLst>
            <a:ahLst/>
            <a:rect l="textAreaLeft" t="textAreaTop" r="textAreaRight" b="textAreaBottom"/>
            <a:pathLst>
              <a:path w="21600" h="28848">
                <a:moveTo>
                  <a:pt x="3600" y="0"/>
                </a:moveTo>
                <a:arcTo wR="3600" hR="3600" stAng="16200000" swAng="-5400000"/>
                <a:lnTo>
                  <a:pt x="0" y="25248"/>
                </a:lnTo>
                <a:arcTo wR="3600" hR="3600" stAng="10800000" swAng="-5400000"/>
                <a:lnTo>
                  <a:pt x="18000" y="28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1332000" y="3500280"/>
                <a:ext cx="2396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700360" y="1771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4720" y="2203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3"/>
              <p:cNvSpPr txBox="1"/>
              <p:nvPr/>
            </p:nvSpPr>
            <p:spPr>
              <a:xfrm>
                <a:off x="3851280" y="3573360"/>
                <a:ext cx="874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2340000" y="4437000"/>
                <a:ext cx="2108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1692360" y="5229360"/>
                <a:ext cx="21081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5148360" y="765000"/>
                <a:ext cx="23446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25280" y="5950080"/>
            <a:ext cx="660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hledáme převrácenou hodnotu pravé strany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 vhodné mít levou stranu také ve tvaru jednoduchého zlom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6443640" y="1557360"/>
                <a:ext cx="2292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5981760" y="2421000"/>
                <a:ext cx="3162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797440" y="3357720"/>
                <a:ext cx="3346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3"/>
              <p:cNvSpPr txBox="1"/>
              <p:nvPr/>
            </p:nvSpPr>
            <p:spPr>
              <a:xfrm>
                <a:off x="3851280" y="3573360"/>
                <a:ext cx="851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ý dluh umořím za 7 let pravidelnými ročními anuitami 15 000,- Kč při 2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789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0"/>
              <p:cNvSpPr txBox="1"/>
              <p:nvPr/>
            </p:nvSpPr>
            <p:spPr>
              <a:xfrm>
                <a:off x="1116000" y="5013360"/>
                <a:ext cx="23655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457080" y="357192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0720" y="357336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0"/>
              <p:cNvSpPr txBox="1"/>
              <p:nvPr/>
            </p:nvSpPr>
            <p:spPr>
              <a:xfrm>
                <a:off x="3421080" y="5013360"/>
                <a:ext cx="2924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0"/>
              <p:cNvSpPr txBox="1"/>
              <p:nvPr/>
            </p:nvSpPr>
            <p:spPr>
              <a:xfrm>
                <a:off x="6300720" y="5300640"/>
                <a:ext cx="2166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02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zaplatili dluh 90 000,- Kč za 10 let při 21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789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0 000,- Kč</a:t>
            </a:r>
            <a:r>
              <a:rPr b="0" lang="en-US" sz="3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1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1042920" y="4581360"/>
                <a:ext cx="25192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162440" y="5854680"/>
            <a:ext cx="750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šimněte si, že splátka je vždy větší než část, kterou si „bere“ banka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21 % z 90 000,- Kč, tzn. 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18 9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8360" y="342756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2360" y="342900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1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2"/>
              <p:cNvSpPr txBox="1"/>
              <p:nvPr/>
            </p:nvSpPr>
            <p:spPr>
              <a:xfrm>
                <a:off x="3564000" y="4581360"/>
                <a:ext cx="330840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2"/>
              <p:cNvSpPr txBox="1"/>
              <p:nvPr/>
            </p:nvSpPr>
            <p:spPr>
              <a:xfrm>
                <a:off x="6804000" y="4869000"/>
                <a:ext cx="216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0 000,- Kč při 15 % p.a. pravidelnými ročními anuitami 9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789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5 % z 5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 5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6"/>
              <p:cNvSpPr txBox="1"/>
              <p:nvPr/>
            </p:nvSpPr>
            <p:spPr>
              <a:xfrm>
                <a:off x="1042920" y="5084640"/>
                <a:ext cx="29336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528360" y="285120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12360" y="285264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3924360" y="5084640"/>
                <a:ext cx="37432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9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6"/>
              <p:cNvSpPr txBox="1"/>
              <p:nvPr/>
            </p:nvSpPr>
            <p:spPr>
              <a:xfrm>
                <a:off x="7596360" y="5734080"/>
                <a:ext cx="1547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00 000,- Kč při 17 % p.a. pravidelnými ročními anuitami 3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0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7 % z 20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4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5562720"/>
            <a:ext cx="787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a daných podmínek dluh nelze splatit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1440" y="29224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85080" y="292428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aký dluh umořím za 20 let pravidelnými ročními anuitami 6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17 % p.a.,  b) 12 % p.a.,  c) 7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při 11 % p.a. zaplatili dluh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80 000,- Kč za a) 5 let, b) 7 let, c) 9 let?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2666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337 666,- Kč, b) 448 167,- Kč, c) 635 641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48 703,- Kč, b) 38 199,- Kč, c) 32 508,- Kč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235692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plácení dluhu a z něho plynoucích úroků pravidelnými, stále stejně velkými částkami, po dobu několika úrokovacích období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500 000,- Kč při  8 % p.a. pravidelnými ročními anuitam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 50 000,- Kč, b) 70 000,- Kč, c) 100 000,- Kč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100 000,- Kč pravidelnými ročními anuitami 15 000,- Kč při  a) 17 % p.a., b) 12 % p.a., c) 8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24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20 let a 11 měsíců, b) 11 let, c) 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5516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500" spc="-1" strike="noStrike">
                <a:solidFill>
                  <a:srgbClr val="ffff00"/>
                </a:solidFill>
                <a:latin typeface="Times New Roman"/>
              </a:rPr>
              <a:t>a) dluh nelze splatit, b) 14 let a 2 měsíce, c) 9 let a 11 měsíců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8–8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oční splátka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luh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852480"/>
            <a:ext cx="7556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musíme splatit (umořit) za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206064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ční splátka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2624040"/>
            <a:ext cx="7556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placená částka, vždy konc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86064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32000" y="4354560"/>
            <a:ext cx="7556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515772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7684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8028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116000" y="126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jak dlouho umoříme (splatíme) dluh 5 000,- Kč   při úročení 10 % p.a. ročními anuitami (splátkami)      1 150,- Kč placenými koncem roku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270828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187280" y="342900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979640" y="342900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00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979640" y="400536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1979640" y="4508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7069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5007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,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979640" y="5084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2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50920" y="1125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50920" y="198900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0920" y="285264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3718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0920" y="4581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544500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276720" y="1268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41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  5 0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134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34136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1341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1341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237360"/>
            <a:ext cx="817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daných podmínek umoříme dluh za necelých 6 le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205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220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21589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205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30700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  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3067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3067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6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067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86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070080"/>
            <a:ext cx="117180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070080"/>
            <a:ext cx="129528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30700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 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9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8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9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86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39337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93372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93372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97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  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7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47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98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5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0560" y="4797360"/>
            <a:ext cx="1204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797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4797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66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6.   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66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3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47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5661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5661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566244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1270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1319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299556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4726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897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1341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05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131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067200"/>
            <a:ext cx="23241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941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93372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6064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797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24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661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87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32880" y="1341360"/>
            <a:ext cx="1131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45"/>
              <p:cNvSpPr txBox="1"/>
              <p:nvPr/>
            </p:nvSpPr>
            <p:spPr>
              <a:xfrm>
                <a:off x="5867280" y="1989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45"/>
              <p:cNvSpPr txBox="1"/>
              <p:nvPr/>
            </p:nvSpPr>
            <p:spPr>
              <a:xfrm>
                <a:off x="5867280" y="112536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45"/>
              <p:cNvSpPr txBox="1"/>
              <p:nvPr/>
            </p:nvSpPr>
            <p:spPr>
              <a:xfrm>
                <a:off x="5867280" y="285120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45"/>
              <p:cNvSpPr txBox="1"/>
              <p:nvPr/>
            </p:nvSpPr>
            <p:spPr>
              <a:xfrm>
                <a:off x="5867280" y="371808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45"/>
              <p:cNvSpPr txBox="1"/>
              <p:nvPr/>
            </p:nvSpPr>
            <p:spPr>
              <a:xfrm>
                <a:off x="5867280" y="464652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45"/>
              <p:cNvSpPr txBox="1"/>
              <p:nvPr/>
            </p:nvSpPr>
            <p:spPr>
              <a:xfrm>
                <a:off x="5867280" y="5445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r>
                          <m:t xml:space="preserve">1,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50"/>
              <p:cNvSpPr txBox="1"/>
              <p:nvPr/>
            </p:nvSpPr>
            <p:spPr>
              <a:xfrm>
                <a:off x="6804000" y="1054080"/>
                <a:ext cx="8031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50"/>
              <p:cNvSpPr txBox="1"/>
              <p:nvPr/>
            </p:nvSpPr>
            <p:spPr>
              <a:xfrm>
                <a:off x="6804000" y="1916280"/>
                <a:ext cx="9921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50"/>
              <p:cNvSpPr txBox="1"/>
              <p:nvPr/>
            </p:nvSpPr>
            <p:spPr>
              <a:xfrm>
                <a:off x="6804000" y="2781360"/>
                <a:ext cx="1035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50"/>
              <p:cNvSpPr txBox="1"/>
              <p:nvPr/>
            </p:nvSpPr>
            <p:spPr>
              <a:xfrm>
                <a:off x="6804000" y="4508640"/>
                <a:ext cx="803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550"/>
              <p:cNvSpPr txBox="1"/>
              <p:nvPr/>
            </p:nvSpPr>
            <p:spPr>
              <a:xfrm>
                <a:off x="6804000" y="5373720"/>
                <a:ext cx="771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53"/>
              <p:cNvSpPr txBox="1"/>
              <p:nvPr/>
            </p:nvSpPr>
            <p:spPr>
              <a:xfrm>
                <a:off x="7164360" y="3933720"/>
                <a:ext cx="255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667640" y="260280"/>
            <a:ext cx="1476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konec roku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5280" y="304920"/>
            <a:ext cx="2190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utečná splát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3800" y="304920"/>
            <a:ext cx="752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10%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04920"/>
            <a:ext cx="927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ui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04920"/>
            <a:ext cx="10220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zač. roku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304920"/>
            <a:ext cx="587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260280"/>
            <a:ext cx="33112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344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umořování dluhu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258920" y="1125360"/>
                <a:ext cx="60102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luh = součet všech skutečných spláte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1268280"/>
            <a:ext cx="5400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2349360"/>
            <a:ext cx="0" cy="648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852640"/>
            <a:ext cx="294624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0"/>
              <p:cNvSpPr txBox="1"/>
              <p:nvPr/>
            </p:nvSpPr>
            <p:spPr>
              <a:xfrm>
                <a:off x="4664160" y="2709720"/>
                <a:ext cx="252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792520" y="4821120"/>
                <a:ext cx="37764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924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2340000" y="3284640"/>
                <a:ext cx="749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5:19Z</dcterms:modified>
  <cp:revision>95</cp:revision>
  <dc:subject/>
  <dc:title>Posloupnosti</dc:title>
</cp:coreProperties>
</file>