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922-5A1C-402E-8677-DE86D14EA9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EC7-F4CF-44EA-9C11-E867B4C3AD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92DE-E2E2-470C-949E-329A231DF3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CB7-081B-4DC3-A6D0-22EADFEE69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4BD-3C37-4034-957E-E52DF6A94D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9A5-AC21-4617-8CB9-2D3C24863F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3AC-B01B-4584-A343-FEA5FA1C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1CF-C73F-43AB-9A3A-54378E8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AAE-D0CF-4813-B82F-8D2498B5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89E-D3DB-4430-8E07-90BF791C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438F-124E-42EA-87FA-F14F14C5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0D3-2FBC-4A1C-94B1-DCE4A7EC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6864-375D-4A4F-B9CB-759D07F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FDA7-B8F4-4DA4-AE0D-A26B4DB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F20F-ADF2-49B6-B2CA-A4CF74E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CCB6-95F3-4EDC-A792-BEEC03F1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02B3-635C-4DEA-8C5A-1791D82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BC9-CC19-4493-A96B-D8D780A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CEA-BAA6-4AF4-BB8F-FBE16FC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9B37-3D7C-4FE7-BFD3-A92E164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8BCB-EE9A-42E5-AE5F-EDCFE42C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7C2-AB64-49D3-BA47-8F4236FA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25A-BC41-4292-9543-50C4C113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2BB-1E33-473A-88C4-0E3C2068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F20-BB1C-4456-8F99-10616D7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698-4635-4842-9D8A-2E81B4F1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194-AEE5-4924-B92D-C782BC7B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40D-AB2D-437C-8711-1485206D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BB4-3330-4E51-AB62-2C3DBCA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E0D-D780-408C-BD10-84C5643B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7E8A-D255-4C65-AEF2-3EEF30BF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C600-E21E-42C0-B530-7B86C2B2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934920" y="165240"/>
                <a:ext cx="231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1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348000" y="260280"/>
                <a:ext cx="3102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835280" y="177336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835280" y="263700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835280" y="342900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1413000"/>
                <a:ext cx="61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3205080" y="2205000"/>
                <a:ext cx="7905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916360" y="1773360"/>
                <a:ext cx="5554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363680" y="53355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4917960"/>
                <a:ext cx="117324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3924360" y="5300640"/>
                <a:ext cx="11048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7380360" y="5300640"/>
                <a:ext cx="704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87640" y="1773360"/>
            <a:ext cx="504720" cy="9014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66">
                <a:moveTo>
                  <a:pt x="3600" y="0"/>
                </a:moveTo>
                <a:arcTo wR="3600" hR="3600" stAng="16200000" swAng="-5400000"/>
                <a:lnTo>
                  <a:pt x="0" y="34966"/>
                </a:lnTo>
                <a:arcTo wR="3600" hR="3600" stAng="10800000" swAng="-5400000"/>
                <a:lnTo>
                  <a:pt x="18000" y="38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128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4680" y="242100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03640" y="5300640"/>
                <a:ext cx="15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6516720" y="5516640"/>
                <a:ext cx="871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97440" y="256536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716360" y="2565360"/>
                <a:ext cx="555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861080" y="3068640"/>
                <a:ext cx="906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724360" y="3429000"/>
                <a:ext cx="849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6516720" y="3429000"/>
                <a:ext cx="555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788000" y="256536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42900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903240" y="84240"/>
                <a:ext cx="2382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9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348000" y="260280"/>
                <a:ext cx="2579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835280" y="1484280"/>
                <a:ext cx="525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835280" y="234792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835280" y="3139920"/>
                <a:ext cx="5270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916360" y="1916280"/>
                <a:ext cx="64440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908000" y="407664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340000" y="1484280"/>
                <a:ext cx="5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1258920" y="465300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332000" y="52293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43280" y="4751280"/>
                <a:ext cx="120636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484360" y="148428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1280" y="1773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38640" y="22766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3564000" y="2276640"/>
                <a:ext cx="965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4500720" y="2276640"/>
                <a:ext cx="585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5076720" y="2781360"/>
                <a:ext cx="6429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665680" y="3139920"/>
                <a:ext cx="966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6588000" y="3141720"/>
                <a:ext cx="584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643280" y="2276640"/>
            <a:ext cx="505080" cy="9014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38">
                <a:moveTo>
                  <a:pt x="3600" y="0"/>
                </a:moveTo>
                <a:arcTo wR="3600" hR="3600" stAng="16200000" swAng="-5400000"/>
                <a:lnTo>
                  <a:pt x="0" y="34938"/>
                </a:lnTo>
                <a:arcTo wR="3600" hR="3600" stAng="10800000" swAng="-5400000"/>
                <a:lnTo>
                  <a:pt x="18000" y="38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14172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995640" y="5229360"/>
                <a:ext cx="28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6804000" y="5229360"/>
                <a:ext cx="1171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7956720" y="5229360"/>
                <a:ext cx="70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903240" y="165240"/>
                <a:ext cx="2382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5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3298680" y="260280"/>
                <a:ext cx="26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83672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1836720" y="278136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1836720" y="3573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1909800" y="45100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268360" y="1557360"/>
                <a:ext cx="642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413080" y="1557360"/>
            <a:ext cx="504720" cy="1297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297080"/>
              <a:gd name="textAreaBottom" fmla="*/ 1272600 h 1297080"/>
            </a:gdLst>
            <a:ahLst/>
            <a:rect l="textAreaLeft" t="textAreaTop" r="textAreaRight" b="textAreaBottom"/>
            <a:pathLst>
              <a:path w="21600" h="55486">
                <a:moveTo>
                  <a:pt x="3600" y="0"/>
                </a:moveTo>
                <a:arcTo wR="3600" hR="3600" stAng="16200000" swAng="-5400000"/>
                <a:lnTo>
                  <a:pt x="0" y="51886"/>
                </a:lnTo>
                <a:arcTo wR="3600" hR="3600" stAng="10800000" swAng="-5400000"/>
                <a:lnTo>
                  <a:pt x="18000" y="55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7280" y="21337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díl není definová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551808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900000" y="260280"/>
                <a:ext cx="2644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Line 8"/>
          <p:cNvSpPr/>
          <p:nvPr/>
        </p:nvSpPr>
        <p:spPr>
          <a:xfrm>
            <a:off x="1547640" y="105264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3564000" y="404640"/>
                <a:ext cx="3624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1763640" y="1125360"/>
                <a:ext cx="525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763640" y="198900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763640" y="2781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763640" y="357336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268360" y="1125360"/>
                <a:ext cx="819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68360" y="198900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2297160" y="2781360"/>
                <a:ext cx="96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2268360" y="3573360"/>
                <a:ext cx="105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836720" y="4438800"/>
                <a:ext cx="2635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32000" y="1341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220500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276720" y="2997360"/>
                <a:ext cx="701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276720" y="3789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31960" y="5396040"/>
                <a:ext cx="16750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4284720" y="5373720"/>
                <a:ext cx="2511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7740720" y="5805360"/>
                <a:ext cx="804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276720" y="1198440"/>
            <a:ext cx="718920" cy="32385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3238560"/>
              <a:gd name="textAreaBottom" fmla="*/ 3203640 h 3238560"/>
            </a:gdLst>
            <a:ahLst/>
            <a:rect l="textAreaLeft" t="textAreaTop" r="textAreaRight" b="textAreaBottom"/>
            <a:pathLst>
              <a:path w="21600" h="97265">
                <a:moveTo>
                  <a:pt x="3600" y="0"/>
                </a:moveTo>
                <a:arcTo wR="3600" hR="3600" stAng="16200000" swAng="-5400000"/>
                <a:lnTo>
                  <a:pt x="0" y="93665"/>
                </a:lnTo>
                <a:arcTo wR="3600" hR="3600" stAng="10800000" swAng="-5400000"/>
                <a:lnTo>
                  <a:pt x="18000" y="97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8920" y="2349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4440" y="285444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403280" y="5661000"/>
                <a:ext cx="2025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6732720" y="5516640"/>
                <a:ext cx="938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6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042920" y="189000"/>
                <a:ext cx="2351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3276720" y="404640"/>
                <a:ext cx="3917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6364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774800" y="2827440"/>
                <a:ext cx="536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763640" y="3789360"/>
                <a:ext cx="536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268360" y="1557360"/>
                <a:ext cx="79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782880" y="2421000"/>
                <a:ext cx="8924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835280" y="465300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59280" y="1916280"/>
                <a:ext cx="819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716360" y="2781360"/>
                <a:ext cx="83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508720" y="3355920"/>
                <a:ext cx="8920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251400" y="27082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47640" y="566100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620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6372360" y="3716280"/>
                <a:ext cx="83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349800" y="184464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278136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371628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1168560" y="368280"/>
                <a:ext cx="26222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322960" y="687240"/>
                <a:ext cx="19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258920" y="2565360"/>
                <a:ext cx="2413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222880" y="2719440"/>
                <a:ext cx="2095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200240" y="4213080"/>
                <a:ext cx="2343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5305320" y="4430880"/>
                <a:ext cx="1990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067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geometrická posloupnost, kvocient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eometr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71640" y="90792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1640" y="1700280"/>
            <a:ext cx="81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rčete hmotnost jádra atomu po dvou minutách štěpné reakce, když se štěpením jeho hmotnost každých 20 s sníží na polovinu. Původní hmotnost jádra atomu byla 3 mg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90000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hmotnost za 2 min, což je 120 s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162720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čase 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2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4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6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12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621036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Za 2 min se hmotnost jádra sníží na 3/64 = 0,046 875 mg.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92720" y="83664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68360" y="83664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hmotno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39920"/>
            <a:ext cx="217440" cy="432108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4321080"/>
              <a:gd name="textAreaBottom" fmla="*/ 4310640 h 4321080"/>
            </a:gdLst>
            <a:ahLst/>
            <a:rect l="textAreaLeft" t="textAreaTop" r="textAreaRight" b="textAreaBottom"/>
            <a:pathLst>
              <a:path w="21600" h="428573">
                <a:moveTo>
                  <a:pt x="3600" y="0"/>
                </a:moveTo>
                <a:arcTo wR="3600" hR="3600" stAng="16200000" swAng="-5400000"/>
                <a:lnTo>
                  <a:pt x="0" y="424973"/>
                </a:lnTo>
                <a:arcTo wR="3600" hR="3600" stAng="10800000" swAng="-5400000"/>
                <a:lnTo>
                  <a:pt x="18000" y="428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84280"/>
            <a:ext cx="360360" cy="468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680000"/>
              <a:gd name="textAreaBottom" fmla="*/ 4662720 h 4680000"/>
            </a:gdLst>
            <a:ahLst/>
            <a:rect l="textAreaLeft" t="textAreaTop" r="textAreaRight" b="textAreaBottom"/>
            <a:pathLst>
              <a:path w="21600" h="280261">
                <a:moveTo>
                  <a:pt x="3600" y="0"/>
                </a:moveTo>
                <a:arcTo wR="3600" hR="3600" stAng="16200000" swAng="-5400000"/>
                <a:lnTo>
                  <a:pt x="0" y="276661"/>
                </a:lnTo>
                <a:arcTo wR="3600" hR="3600" stAng="10800000" swAng="-5400000"/>
                <a:lnTo>
                  <a:pt x="18000" y="280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7020000" y="4148280"/>
                <a:ext cx="142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9240" y="573264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voc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88000" y="6019920"/>
            <a:ext cx="230508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8960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onent kvocientu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1844640"/>
            <a:ext cx="504720" cy="3384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384720"/>
              <a:gd name="textAreaBottom" fmla="*/ 3360240 h 3384720"/>
            </a:gdLst>
            <a:ahLst/>
            <a:rect l="textAreaLeft" t="textAreaTop" r="textAreaRight" b="textAreaBottom"/>
            <a:pathLst>
              <a:path w="21600" h="144765">
                <a:moveTo>
                  <a:pt x="3600" y="0"/>
                </a:moveTo>
                <a:arcTo wR="3600" hR="3600" stAng="16200000" swAng="-5400000"/>
                <a:lnTo>
                  <a:pt x="0" y="141165"/>
                </a:lnTo>
                <a:arcTo wR="3600" hR="3600" stAng="10800000" swAng="-5400000"/>
                <a:lnTo>
                  <a:pt x="18000" y="144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348000" y="1771560"/>
                <a:ext cx="26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987640" y="2421000"/>
                <a:ext cx="671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95640" y="3284640"/>
                <a:ext cx="1439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050920" y="4246560"/>
                <a:ext cx="16574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708360" y="3213000"/>
                <a:ext cx="1346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708360" y="4221000"/>
                <a:ext cx="1344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995640" y="5229360"/>
                <a:ext cx="11098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7380360" y="1916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380360" y="2924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3708360" y="1413000"/>
                <a:ext cx="1343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708360" y="2276640"/>
                <a:ext cx="13143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G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vocie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708360" y="4221000"/>
                <a:ext cx="265608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geometrická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16000" y="260280"/>
                <a:ext cx="1795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Line 8"/>
          <p:cNvSpPr/>
          <p:nvPr/>
        </p:nvSpPr>
        <p:spPr>
          <a:xfrm>
            <a:off x="1692360" y="1052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03640" y="404640"/>
                <a:ext cx="3232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340000" y="1052640"/>
                <a:ext cx="555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340000" y="350028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203640" y="1268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3203640" y="213372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203640" y="292428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203640" y="3716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16360" y="5445000"/>
                <a:ext cx="1104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3995640" y="5445000"/>
                <a:ext cx="1406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292720" y="5805360"/>
                <a:ext cx="63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276720" y="1125360"/>
            <a:ext cx="504720" cy="3024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024360"/>
              <a:gd name="textAreaBottom" fmla="*/ 2999880 h 3024360"/>
            </a:gdLst>
            <a:ahLst/>
            <a:rect l="textAreaLeft" t="textAreaTop" r="textAreaRight" b="textAreaBottom"/>
            <a:pathLst>
              <a:path w="21600" h="129354">
                <a:moveTo>
                  <a:pt x="3600" y="0"/>
                </a:moveTo>
                <a:arcTo wR="3600" hR="3600" stAng="16200000" swAng="-5400000"/>
                <a:lnTo>
                  <a:pt x="0" y="125754"/>
                </a:lnTo>
                <a:arcTo wR="3600" hR="3600" stAng="10800000" swAng="-5400000"/>
                <a:lnTo>
                  <a:pt x="18000" y="129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4560" y="2276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0080" y="27748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7020000" y="5661000"/>
                <a:ext cx="1886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8120" y="285912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971640" y="260280"/>
                <a:ext cx="2414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2" name="Line 8"/>
          <p:cNvSpPr/>
          <p:nvPr/>
        </p:nvSpPr>
        <p:spPr>
          <a:xfrm>
            <a:off x="1692360" y="105264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476520" y="404640"/>
                <a:ext cx="3265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340000" y="1052640"/>
                <a:ext cx="673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340000" y="3500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132000" y="126828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132000" y="2133720"/>
                <a:ext cx="108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3132000" y="2924280"/>
                <a:ext cx="9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132000" y="3716280"/>
                <a:ext cx="1022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48000" y="1197000"/>
            <a:ext cx="936720" cy="302400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024000"/>
              <a:gd name="textAreaBottom" fmla="*/ 2978280 h 3024000"/>
            </a:gdLst>
            <a:ahLst/>
            <a:rect l="textAreaLeft" t="textAreaTop" r="textAreaRight" b="textAreaBottom"/>
            <a:pathLst>
              <a:path w="21600" h="69712">
                <a:moveTo>
                  <a:pt x="3600" y="0"/>
                </a:moveTo>
                <a:arcTo wR="3600" hR="3600" stAng="16200000" swAng="-5400000"/>
                <a:lnTo>
                  <a:pt x="0" y="66112"/>
                </a:lnTo>
                <a:arcTo wR="3600" hR="3600" stAng="10800000" swAng="-5400000"/>
                <a:lnTo>
                  <a:pt x="18000" y="69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547640" y="522936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8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16Z</dcterms:modified>
  <cp:revision>328</cp:revision>
  <dc:subject/>
  <dc:title>Posloupnosti</dc:title>
</cp:coreProperties>
</file>