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80C9-9554-438B-BE51-25C98BFB52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690A-D723-4C6D-B9CB-6FCB501487C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F575-F3CD-4596-AA75-20DAA59AE96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4BC7-74C8-4BBD-A127-491893400D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BCAA-3A18-412C-899C-9EF767CA6E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DFC0-3B2B-4109-A534-2B066607C9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C101-84DE-4560-857F-EF272BC9BB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E57D-34C6-42FF-9590-0E2D9927A3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29EC-E710-46D5-A871-39419C21A70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C04-031D-49C4-A44F-576A1814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E07-7139-47F8-875D-67B70811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5C4-844D-413E-BBA0-6DAD7903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E68-8157-4124-BA9F-8FC807E5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C4A-13CA-4EDE-89AA-73D03C70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9F3-586A-4276-8483-98E55ED3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5D9-7C27-4DE2-9FAD-26F91B2A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B1B-F800-4C1A-92E8-2C1AE482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00C-9FF4-4613-84BA-6523B5F4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DAC-2AE4-4A66-B7C3-7B6CF166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28F-E9F8-498E-ADAF-CB149E06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D90-154D-4E04-960E-9C3E8E99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44DE-6ED9-42A1-BDDC-267F70E85551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ně silniční, z nemovitosti, z převodu nemovitosti, popla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1 – Silniční daň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silniční daň, kterou má povinnost platit účetní jednotka, pokud v podnikání používá motorová vozid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musí zaplatit silniční daň i za své zaměstnance, kteří využili pro služební cesty svá soukromá vozid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silniční daně – 531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2 – Daň z nemov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to daň se účtuje, jestli-že má účetní jednotka vlastní nemovit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daně z nemovitosti – 532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8 – Ostatní daně a poplat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třeba kol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lniční znám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ň z převodu nemovit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dická da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rovací daň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dálničních známek – 538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PD – Nákup kolků (spotře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úD – Předpis silniční da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PD – Úhrada daně z nemov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. VúD – Předpis daně z převodu nemov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5:51Z</dcterms:modified>
  <cp:revision>18</cp:revision>
  <dc:subject/>
  <dc:title>Účtování nákladů</dc:title>
</cp:coreProperties>
</file>