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90EA-A038-4D84-951B-765CD1422F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2489-F74F-489D-813B-7206E768567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3255-4CEE-40BC-9A27-0C20EBA8091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8759-A84B-422C-A542-3EA435F490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2ECD-F069-4749-8D9B-85B6886454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C739-A895-4D18-A14A-5FE21B27898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C162-7091-42E8-BAD3-09A5F3CC61B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609A-ECFD-4E00-B2F2-644E513BDA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249C-EB79-4611-AA53-5A087B0B5A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305C-2C21-4DF5-8333-4A267D0131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8967-12AF-4109-BFE3-90BBBB4EC3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8031-473F-4958-B50B-16B50DC521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FD9D-83CA-4781-98B1-1C800146CB3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C842-0DEB-4DFA-9004-6AD6CBE8EB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9A1-B4F0-4B0E-91DC-50375BFB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0AB-8067-41FC-9B5D-A8AB8A97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909-0B09-4044-9610-D5FF2AE4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120-BC81-4D51-ACD8-764ADEDC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2E3-EB12-4443-AD99-008E5A68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4AD-E918-4B24-8A6C-492724E0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AC3-AC26-48EB-8179-8FDAF143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486-6113-40B8-9CB7-BEB3AE3C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B38-76EA-4957-B63B-52FE99AC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0F0-DCAE-4974-966A-BD23AA10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36E6-DE9B-43DB-945D-B119F586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260-4411-4D1F-A461-86E81FE4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D074-F58F-4A1C-968F-5D6212835780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8 – Ostatní provozní náklad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ické zhodnocení u DHM, jehož částka nepřesáhne Kč 40 000,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jištění odpovědnosti za šk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jištění majetku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Instalace klimatizace do služebního auta – (15 000,-- Kč) – 548/2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9 – Manka a škod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í se zde manka a škody u provozního majetku (dlouhodobý majetek, zásob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i inventarizaci bylo zjištěno manko u zboží – 549/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Manko u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Klimatizace do auta – 18 000,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pohledávky za odběr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P – Smluvní pokuta od dodav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ZC prodaného 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rodaný materi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zůstatková cena, dary, pokuty a pená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Times New Roman"/>
              </a:rPr>
              <a:t>541 – Zůstatková cena prodaného DHM a DNM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ZC prodávaného DHM a DNM. U odpisovaného majetku se zde účtuje rozdíl mezi vstupní cenou a jeho oprávk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ůstatková cena prodávaného stroje 541/0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U neodpisovaného majetku účtujeme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Prodaný pozemek 541/0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2 – Prodaný materiál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 se zde úbytek materiálu, který byl prodán. Úbytek se zaúčtuje (v případě nákupu materiálu) v pořizovacích cená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Prodaný přebytečný materiál – 542/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3 - Dar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dary, které účetní jednotka poskytla jinému subjek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ry mohou mít peněžní formu, ale může se jednat i o věcné dary, např. počítače , auto, zboží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Peněžní dar zdrav. zařízení – 543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44 – Smluvní pokuty a pená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í se zde smluvní pokuty a úroky z prodlení a penále, které vyplývají ze smluvních vztahů. Například musíme uhradit úroky z prodlení, pokud nezaplatíme dodavateli včas dlužnou část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úhrada smluvní pokuty – 544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5 – Ostatní pokuty a penál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pokuty a penále, které nám udělili státní instituce, např. FÚ, zdravotní pojišťovny, správa sociálního zabezpečení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pokuty od FÚ za nedostatky v účetnictví – 545/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6 – Odpis pohledávek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zaúčtujeme např. nedobytnou pohledáv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Odpis pohledávky za odběrateli – 546/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04Z</dcterms:modified>
  <cp:revision>18</cp:revision>
  <dc:subject/>
  <dc:title>Účtování nákladů</dc:title>
</cp:coreProperties>
</file>