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6857-1BEC-4A13-9CBE-E492E00E84BB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0275-07C8-4512-A9C9-D4FC66F2798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B118-87EA-487E-A37E-FBF455B3E5D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2CB4-FAEF-44E2-B10B-524138197C2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21DC-138C-4EF4-8E81-252CCC08185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3F5F-0C9B-4A28-88BF-34F46347DA5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6FE1-365A-441B-9DD5-D299D27E5C55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1052-0AD3-4713-80DC-EE714ADBF1B2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5FAB-1388-4D71-A854-FD436AE3656A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0DCA-F78F-4B28-AF5F-2447224EC95F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4193-7589-438F-B5E8-2A48C275EFB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1078-FE20-4A25-ADF7-7C48ECFDAC12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B26-9EA7-41D3-8E4C-3DEB0C41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616-B76D-4E10-AC58-7C42BDFC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791-4547-429E-9AAB-D33D6BC7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9E7C-98E0-4FAE-9AB7-DEA1CDD1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0838-7E5A-4B32-9DA0-6F24A42B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3C0A-34A8-4590-BF4A-692A9661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54D5-4A27-4DA7-904C-F5525F8A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0FDB-BA81-4B8A-A479-587DDC98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2DB3-71BE-4AE1-9570-37DBBA4C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A9E4-7443-4FAA-B231-90180491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8890-1538-4F77-A915-998985F1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B13-3256-42C9-9641-F343E409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C027-6B45-444A-B4EA-DCC41C3F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AD1F-E934-42DD-887A-78AAB3CA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EA4D-F890-4ECA-906F-C1F5D481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8A15-2EBB-4BA0-A4A1-63A23699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AF3B-6063-4BE2-87BA-31CCBA29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140-1DDD-45B0-A890-E95A937B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636-DE01-42E9-A801-6576A41C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A78-4F0C-46CD-BDB0-170ACEF9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5C3-7A73-4D89-85A2-D4FCFAE5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B35-CF32-458A-8B8E-E90E6F7A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AD4-A3B7-4200-B39A-454813FE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D33-CB39-4CD9-AAD5-B40643A4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B735-89B8-4046-81E1-5364F060AF1A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C9C5-F33C-4EEA-AD57-D4F65218A54E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9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eprava zboží vlastním au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Aktivace stroje ve vl. náklade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obalů na sklad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20800" y="365040"/>
            <a:ext cx="6781680" cy="8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ktiv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8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80600" y="435096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Účtování výnosů – učtová sk. 62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Účtová sk. 62 – Aktiva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135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ktivace představuje přírůstek majetku             (tj. zvýšení stavu aktiv) v důsledku vlastní činnos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ktivace se účtuje ve vlastních nákladec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dle toho, který druh majetku aktivací vzniká, používáme tyto účt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1 – Aktivace materiálu a zbož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2 – Aktivace vnitropodnikových služ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3 – Aktivace dlouhodobého nehmotného majet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4 – Aktivace dlouhodobého hmotného majet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21 – Aktivace materiálu a zboží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nto účet se využívá v případě, ž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firma vyrábí obaly pro své výrobk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účtován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- Přírůstek vlastních obalů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12/6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21 – Aktivace materiálu a zboží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vé výrobky prodává ve vlastních (podnikových) prodejnách. Předáním do prodejen, se mění (majetková složka) výrobky na zboží. Musí být zaúčtován úbytek výrobků a přírůstek zboží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účtová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Úbytek výrobků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13/1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Převodky na vyrobené a předané zboží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31/6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Předání zboží na prodejnu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32/13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9900"/>
                </a:solidFill>
                <a:latin typeface="Garamond"/>
              </a:rPr>
              <a:t>622 – Aktivace vnitropodnikových služeb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nto účet se používá např. tehdy, jestliže má firma vlastní dopravní prostředky, kterými si sama přepravuje materiál, zboží atd. Jedná se    o tzv. vnitropodnikovou služb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účtování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Doprava mater. vl. podnikovými aut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111/6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9900"/>
                </a:solidFill>
                <a:latin typeface="Garamond"/>
              </a:rPr>
              <a:t>623 – Aktivace dlouhodobého nehmotného majetku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002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Účet 623 – Aktivace dlouhodobého nehmotného majetku se používá tehdy, jestliže si sami vytvoříme tento majete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př. pokud se jedná o účetní program zaúčtujem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Aktivace účet. programu ve vl. nákl.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041/6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Zařazení do užíván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013/04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9900"/>
                </a:solidFill>
                <a:latin typeface="Garamond"/>
              </a:rPr>
              <a:t>624 – Aktivace dlouhodobého hmotného majetku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čet 624 – Aktivace dlouhodobého hmotného majetku použijeme, jestliže si sami vyrobíme (postavíme) stroje, přístroje, budovy at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 případě, že jsme si sami postavili garáž zaúčtuje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úD – Aktivace garáže ve vl. nákladech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042/62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úD – Zařazení garáže do uží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021/04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46Z</dcterms:modified>
  <cp:revision>22</cp:revision>
  <dc:subject/>
  <dc:title>Účtování výnosů</dc:title>
</cp:coreProperties>
</file>