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BD72D-6272-4D75-93A6-DFE3BFED61B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1B814-157A-4187-8774-B6E051AC0C44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F7DC2-D0D5-40BC-9079-97D285F68BC8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22685-3B6D-49C7-8719-3F360B1EF1F2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7DD08-3ED7-431A-B58B-565F81A01691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582C8-0199-4B87-8066-7BD5AF7EFB29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30802-5C15-41DB-8C25-A6B55AB2AD10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EBDDA-1369-44E2-96F8-929A63352E24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FFEB6-82FE-4058-BF60-7111B8527FED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7908B-5C3F-4076-A8A9-0048F3CB38E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63C36-A093-4A05-AE4F-3F4400510B84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46795-6BA2-496A-B85B-F9F7D6422DF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6E18-9E18-4FC8-911B-99E132D6F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FB66-06B1-4128-8701-EA11A4032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3501-5E3C-4832-93B7-84770AB30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880A-51E0-4A9F-BA0E-2F495F357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8F755-AD0B-4FC1-AE49-59EE8E0E0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BFD0A-5B1D-46A7-AD0C-AC3E59D4D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C3917-7848-4C2C-8CB3-CC3C47E12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092CF-DA12-429B-BEAE-A37374B59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EEFDE-629A-4D06-83B4-8D0D4547D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AD262-30A1-4A7F-8557-4C14AA185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260BD-51D0-4A7B-9AED-E5E1FC0E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BC62-3166-4102-A808-422FA3791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F848E-4B02-4F6D-8C86-BA8670D8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421CF-C2B6-440E-B0DF-A648AD88A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045BF-9C8A-4B5C-959D-044413271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33087-3EC5-49FE-8C96-C531E2E0A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74FD8-6CCA-4D57-B97A-EC85CB682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EB7D97-0095-4321-BD55-9DACC91E6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F1E662-204D-4263-9E7C-E84022670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D86BE4-D4EB-4B3F-BE7B-3647B1561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A4B274-0591-4F7D-8FCB-CF9B87E98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0D54D8-BEB1-4F0B-AD33-292E91847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385E-3B38-4EFF-BCB5-1E52F8E23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FA4D8E-43CE-44B6-8456-CC6CD8360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97ADEC-38AB-4600-BE0E-80E2EDF5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466B4A-E7D0-4EF6-BE84-2530810EF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B1692E-6C9B-472D-9999-52A2148C3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F2081F-F1B2-49D5-9C39-B66F6621A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E496F3-A283-4F4E-B205-69EE5D473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8F8A64-8474-4327-B7CE-7ED6891D6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2CA0-F60D-4D80-9FC0-3D245D6BD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DEAD-07DB-48C4-8134-B42F9C971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63AB-95A5-4F47-9A28-76F055E08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EEF9-4C1F-41BA-8203-8099B4273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4197-7576-4B2F-9AE4-3722B987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F5C0-178B-4AA9-A834-52254F34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5F719-8CFC-4D32-A2C5-661C0775802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6150F-1D0A-4252-9FF9-C5E5A0FF613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DD4AF-25BE-44A1-A750-0D5D5029F57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4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/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Vysvětlete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Definujte náklady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Rozdíl mezi náklady a výdaji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áklady a vý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áklady, výdaje, spotřeb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0000"/>
                </a:solidFill>
                <a:latin typeface="Comic Sans MS"/>
              </a:rPr>
              <a:t>Charakteristika nákladů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Nákla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Náklady představují peněžní vyjádření spotřeby živé a zvěcnělé práce, která byla vynaložena v souvislosti s činností účetní jednotk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Na základě nákladů a výnosů zjišťujeme hospodářský výsledek účetní jednotk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omic Sans MS"/>
              </a:rPr>
              <a:t>Náklady je třeba odlišovat od výdajů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ýdaje jsou úbytkem peněžních prostředků bez vazby na konkrétní výkony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ýdaje se přeměňují v náklady jen tehdy, jestliže vynaložený majetek vstupuje bezprostředně do tvorby výrobku, práce či služb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6" name="Picture 4" descr=""/>
          <p:cNvPicPr/>
          <p:nvPr/>
        </p:nvPicPr>
        <p:blipFill>
          <a:blip r:embed="rId1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Příklad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kup materiálu v hotovosti představuje výdaj peněžních prostředků, ale nákladem bude až samotná spotřeba materiálu (je zde časový nesoulad mezi výdajem a nákladem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Účtujeme následovně (způsob A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1. VPD - nákup materiálu (bez vedlejších výdajů)     112/21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2. Výdejka – spotřeba materiálu 501/11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kud by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tní jednotka nakoupila materiál, který bude ihned spotřebován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ak se jedná současně o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ýdaj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 náklad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klad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Účetní jednotka nakoupila za hotové kancelářské potřeby, které byly ihned použit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účtujeme následovně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PD – nákup kancelářských potřeb 501/21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76584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Další příklad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kup kolků v hotovosti, které nebyly použity, zaúčtujeme, jako úbytek peněžních prostředků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PD – nákup kolků 213/21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(protože zatím nebyly použity, nejedná se o náklad)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mile tyto kolky použijeme, tak se jedná o náklad a zaúčtujem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ÚD – spotřeba kolků 538/21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kud bychom nakoupily kolky, které ihned použijeme, tak se jedná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o výdaj a souběžně i nákla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aúčtujem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PD – nákup kolků – 538/2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4:22:20Z</dcterms:created>
  <dc:creator>mirek</dc:creator>
  <dc:description/>
  <dc:language>en-US</dc:language>
  <cp:lastModifiedBy>Igor</cp:lastModifiedBy>
  <dcterms:modified xsi:type="dcterms:W3CDTF">2014-09-13T15:44:57Z</dcterms:modified>
  <cp:revision>30</cp:revision>
  <dc:subject/>
  <dc:title>Náklady</dc:title>
</cp:coreProperties>
</file>