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157D-8879-4F7C-893D-39221A253F2C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C584-CB44-4CEE-91B9-313EA7D7409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80F8-06A0-4B4D-BB26-D18FE1FFBF7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4928-2AC7-4885-89BA-F2DD802AFE93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7764-6920-47CC-BAEA-F7FE3106C65E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4D35-E70A-46C6-8853-277660B87FE1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88CE-55BC-44A7-A918-C743B5201E38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02F5-CA7D-42B7-9937-56F5EE2EF746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F464-05C4-4CD4-BC3F-F38E57BE79B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F5B7-BFFF-49C4-8C85-C4D6405A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103C-04D4-4BDD-A2B9-E999CC9D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91A3-BE19-4026-8B6A-75AE027F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FF97-72EA-4649-AF20-346CCBCD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310D-44C2-4DEC-A40D-CA1838D3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49EA-489A-488A-8454-01ACBDF0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6A48-C06D-4487-9103-52244189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8840-D7A0-40C2-B4CD-C73BC016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7937-6815-409C-A71A-17E2854F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E2F9-1B9B-41F3-8523-7E392E55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4D2A-F0D2-4B78-A3A1-C72DE8F3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55EC-7150-4099-903C-E5E23F34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F4BF-B76D-435F-A15B-99563507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B1E8-32B1-44F6-93AF-C88A891A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CA93-2A01-4EFD-B9BC-51984E95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2C30-EE85-4767-B4B3-86FD34520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95E6-E5F9-4257-ABEA-5D753F60A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3150-2A78-41E8-B30B-293F65A1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2865-73DE-4C52-8EED-5D420E9B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AEEB-438E-4639-A586-989905E8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5AD2-08EF-4373-886B-F641388C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8490-E9D4-47D3-9F30-187F968E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0485-19AF-4CAC-9036-A3F98F8F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B53F-324B-4133-A1B2-5E911F67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DA70-8FF1-459F-83D5-8EFB58CFD3F2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C947-E812-4F90-B0BF-8784B3E5122E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Výukový materiál zpracován v rámci projektu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EU peníze školá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Registrační číslo projektu: CZ.1.07/1.5.00/34.0208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666600"/>
            </a:outerShdw>
          </a:effectLst>
        </p:spPr>
      </p:pic>
      <p:graphicFrame>
        <p:nvGraphicFramePr>
          <p:cNvPr id="99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722600" y="365040"/>
            <a:ext cx="6779880" cy="81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rž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6666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800" spc="-1" strike="noStrike">
                <a:solidFill>
                  <a:srgbClr val="999900"/>
                </a:solidFill>
                <a:latin typeface="Garamond"/>
              </a:rPr>
              <a:t>Účtování provozních výnosů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80600" y="4352400"/>
            <a:ext cx="645012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Účtování výnosů – učtová sk. 60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9900"/>
                </a:solidFill>
                <a:latin typeface="Garamond"/>
              </a:rPr>
              <a:t>601 – Tržby za vlastní výrobky</a:t>
            </a: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 tomto účtu účtujeme prodej našich vlastních výrobků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odej se může uskutečnit v hotovosti, nebo můžeme výrobky vyfakturovat odběratelů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klady účtování: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PD – Tržba za výrobky – 211/6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aV - Tržba za výrobky – 311/6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602 – Tržby z prodeje služeb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 tomto účtu evidujeme námi poskytnuté služby např. poradenské služby, pronájem budov at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klady účtování: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PD – Poskytnuté poradenské služby (hrazené v hotovosti) –  211/60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aV – Pronájem budovy – 311/60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604 – Tržba za zboží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Účtujeme zde prodej zboží (které jsme nakoupili a v nezměněném stavu prodáváme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klady účtování: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PD – Tržba z prodeje zboží – 211/6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aV - Tržba za prodané zboží – 311/6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Zaúčtujte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aV – Prodej výrobk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PD – Tržba z prodeje zbož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aV – Pronájem garáž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Ing. Pavel Štohl – Učebnice účetnictví  2. díl pro střední školy a veřejnost, vydavatel vzdělávací středisko          Ing. Pavel Štohl, 20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8:22:54Z</dcterms:created>
  <dc:creator>Ing. David Holzbauer</dc:creator>
  <dc:description/>
  <dc:language>en-US</dc:language>
  <cp:lastModifiedBy>Igor</cp:lastModifiedBy>
  <dcterms:modified xsi:type="dcterms:W3CDTF">2014-09-13T15:48:59Z</dcterms:modified>
  <cp:revision>16</cp:revision>
  <dc:subject/>
  <dc:title>Účtování výnosů</dc:title>
</cp:coreProperties>
</file>