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ED3BF-31ED-4DBD-870A-78479ECB35B7}" type="slidenum">
              <a:rPr b="0" lang="cs-CZ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3B7AC-160C-45B5-86E2-56556B0CA815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E21CB-97DC-4EFD-B771-3365B878BB86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D76F7-EE8B-4B95-BF58-E575EFDEE2B3}" type="slidenum">
              <a:rPr b="0" lang="cs-CZ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18E08-9A1F-453B-98A8-6526EFA9C172}" type="slidenum">
              <a:rPr b="0" lang="cs-CZ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7B4DF-CDB8-4B6C-BFAA-F474022AACF1}" type="slidenum">
              <a:rPr b="0" lang="cs-CZ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CB4F7-21EF-421E-A630-45EC258A9B75}" type="slidenum">
              <a:rPr b="0" lang="cs-CZ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B4E4A-6E9F-4F3D-8937-B85591241902}" type="slidenum">
              <a:rPr b="0" lang="cs-CZ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9C59D-BD11-4C02-9EF7-0AAF2A83A90B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838D-6ABA-45D2-A8A6-C738D29F3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0CF0-055C-4D5B-B15F-EF6423A1C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5F9D-7855-4C84-8C2E-2C17CC681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0288-61E3-43E5-9783-F65C03744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D472-32DD-4AFF-9ACA-AE74D5226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E93D-BF05-4AE2-92B2-77B395BB8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D6F5-B663-4CD4-9284-A4B14DAFC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B09D-F4BA-4A8C-B98A-F4ED29BCF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3650-9925-4302-99D7-67192BEEC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1B05-7C08-4643-8935-0AF0553CC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A02D-C6D1-49DB-A035-407F23CF8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BB82-44D4-4BC3-BE11-907C1F415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9CB5A-71C0-431C-8B91-82C01CAED220}" type="slidenum">
              <a:rPr b="0" lang="cs-CZ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Výukový materiál zpracován v rámci projektu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EU peníze školá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Registrační číslo projektu: CZ.1.07/1.5.00/34.0208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3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  <a:effectLst>
            <a:outerShdw dist="45929" dir="2028877" blurRad="0" rotWithShape="0">
              <a:srgbClr val="666600"/>
            </a:outerShdw>
          </a:effectLst>
        </p:spPr>
      </p:pic>
      <p:graphicFrame>
        <p:nvGraphicFramePr>
          <p:cNvPr id="54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539640" y="4724280"/>
          <a:ext cx="7561440" cy="11908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. roční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1/2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1722600" y="365040"/>
            <a:ext cx="6779880" cy="814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7" name=""/>
          <p:cNvGraphicFramePr/>
          <p:nvPr/>
        </p:nvGraphicFramePr>
        <p:xfrm>
          <a:off x="468360" y="1413000"/>
          <a:ext cx="7991280" cy="411300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784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Náklady a výnos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 výnos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Změna stav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666600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999900"/>
                </a:solidFill>
                <a:latin typeface="Garamond"/>
              </a:rPr>
              <a:t>Účtování provozních výnosů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80600" y="4352400"/>
            <a:ext cx="6450120" cy="12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Účtování výnosů – učtová sk. 61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9900"/>
                </a:solidFill>
                <a:latin typeface="Garamond"/>
              </a:rPr>
              <a:t>611 – Změna stavu nedokončené výroby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Na tomto účet evidujeme přírůstek a úbytek nedokončené výrob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Nedokončená výroba – jedná se o rozpracované výrobky, které ještě neprošly všemi stupni výroby (nenachází se ve skladu odbytu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Příklady účtování: 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VúD – přírůstek nedokončené výroby 121/61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VúD – úbytek nedokončené výroby 611/12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999900"/>
                </a:solidFill>
                <a:latin typeface="Garamond"/>
              </a:rPr>
              <a:t>612 – Změna stavu polotovarů vlastní výroby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Na tomto účtu se eviduje přírůstek a úbytek polotovarů vlastní výrob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Účtujeme podobně jako nedokončenou výrobu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olotovary můžeme prod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říklady účtování: 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VúD – přírůstek polotovarů 122/61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VúD – úbytek polotovarů 612/12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999900"/>
                </a:solidFill>
                <a:latin typeface="Garamond"/>
              </a:rPr>
              <a:t>613 – Změna stavu výrobků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Na tomto účtu se eviduje přírůstek a úbytek již hotových výrobků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říklady účtování: 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VúD – přírůstek výrobků 123/61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VúD – úbytek výrobků 613/12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999900"/>
                </a:solidFill>
                <a:latin typeface="Garamond"/>
              </a:rPr>
              <a:t>Zaúčtujte: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599840"/>
            <a:ext cx="8507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VúD – Přírůstek nedokončené výrob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VúD – Úbytek nedokončené výrob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VúD – Přírůstek výrobků na skladě odbyt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VúD – Úbytek polotovarů vlast. výrob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Zdroj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Ing. Pavel Štohl – Učebnice účetnictví 2. díl pro střední školy a veřejnost, vydavatel vzdělávací středisko          Ing. Pavel Štohl, 201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7T08:22:54Z</dcterms:created>
  <dc:creator>Ing. David Holzbauer</dc:creator>
  <dc:description/>
  <dc:language>en-US</dc:language>
  <cp:lastModifiedBy>Igor</cp:lastModifiedBy>
  <dcterms:modified xsi:type="dcterms:W3CDTF">2014-09-13T15:49:12Z</dcterms:modified>
  <cp:revision>19</cp:revision>
  <dc:subject/>
  <dc:title>Účtování výnosů</dc:title>
</cp:coreProperties>
</file>