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2EAD-1AF0-4CD7-806F-CC8C3CFE20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60E5-A884-4ED1-9EF2-3D49A2562840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09E6-C6F0-43CB-B59A-6AD7AB36B988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D593-2679-49CF-BBEB-7D65114A659B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4EDB-7E21-43FC-B184-5E8E24032C3E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0D98-9097-49B0-AB6C-BD89DCB1F2B3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D5F7-379C-4F70-866F-E48D9B264515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A70F-A388-4017-ABBE-4C6903A22DD3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87F7-20E6-4F8E-A8A1-B0D2C48DC229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993F-BDBC-4EE7-9F77-79D520BA4BED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BBC2-62FE-4E81-BD23-DE563AC5B5DA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673-8DDF-480B-B7A7-D0CD5E07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192-30F6-4E40-AE87-E33745BA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F88-C34C-4B95-B36C-4F44CA1E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FB5-0D86-42D6-8D7B-CDB4F610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2927-8465-400C-95A3-6262BF03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9CEA-8884-4ADD-BF12-E9DC1990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9E92-930A-48E2-AA38-50D92D00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E5C5-875D-4B4A-98B5-48676EEF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8FD2-338D-4A3F-A58F-8924E66D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43C1-0AEE-494F-9FE4-119D1F8B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C87C-41BB-4DF8-8D93-9D7E63F1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E00-C6BF-4181-9D02-726FCCD9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4876-A0E7-4B46-BF9B-87D84FDB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C6F6-C50F-4899-BB8C-F454E56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B2F6-BE3F-4C12-8351-BAADCEF4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AF76-51BA-48AB-8EB6-7A4A1ADE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B36A-A1ED-4D05-BA31-69125EEA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0FCF3-0E12-4650-A2B1-B141BA0A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24820-B1B2-434B-A8CF-B31219F1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3FE06-AC78-438C-A23C-34E4D8A7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5927C-CDDA-4F93-81FA-4235FA85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60021-D007-4838-A480-74575F57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541-3AB3-4ADC-B1E6-DC05210B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AA653-051F-4504-B63C-CCA1D82A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9F089-42DB-474C-8201-34CEEAED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88DA8-4F46-4161-ADFF-3060BF74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D7A86-2D3A-4626-93F5-6FFF5A29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048E3-A7DA-4A15-8C1D-485F3783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39E7A-26E2-4007-9356-70F3390C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CE7E1-BF38-4ACE-944F-C51E4626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435-9E7E-4D33-BA4F-07509D4D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516-DD8B-4CF0-8E7E-828920E3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0E1-02C7-4D2A-B656-9F022071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5F6-07B5-4D7C-8629-400A6F71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4BD-8F8C-4803-BB73-FBC830D6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CBA-DA57-45E1-8EA5-7741B841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AE16-39FB-4F71-8DF2-B6EB88C2A1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1000-4DE2-4923-849C-16598DE1C2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65EC-F144-4670-B9D3-9A67ADE8DB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jsou zásady účtování výnosů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rčete nedaňové náklad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daňově uznatelný a neuznatelný ná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Zásady účtová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6584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se účtují na účtech páté účtové tří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růstek nákladů na nákladových účtech se účtuje na straně MD, snížení nákladů se účtuje na straně D, případně na straně MD s minusovým znaménk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. Náklady se účtují do období s nímž věcně a časově souvisí (musíme rozlišovat náklady tohoto období a náklady příštího období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. Na jednotlivých nákladových účtech účtujeme narůstajícím způsobem. Na nákladových účtech nejsou počáteční stav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. Při uzavírání účetních knih se zůstatky jednotlivých nákladových účtů převedou na 710 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čet zisků a ztrát, a to na stranu M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íklad převod účtů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1 - Spotřeba materiálů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2 - Spotřeba energi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694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. Do účtového rozvrhu (který si sestavuje účetní jednotka sama) si zařadíme pouze nákladové účty, které budeme v průběhu účetního období potřebovat a vytvoříme si k nim analytické úč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 – Spotřeba materiálu (syntetický úč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1 – Spotřeba základního materiál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2 – Spotřeba kancelářských potř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3 – Spotřeba pohonných hm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4 – Drobný hmotný majetek 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U nákladových účtů se musí analytická evidence přizpůsobit ZD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 na účet 538 – Ostatní daně a poplatky účtujeme mimo jiné spotřebu kolků (daňově uznatelný náklad), ale i daň dědickou, či darovací (daňově neuznatelný náklad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 účtového rozvrhu si zařadíme např. tyto analytické účt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1 – Spotřeba kolků  (daňově 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2 – Darovací a dědická daň (daňově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3 – Daň z převodu nemovitosti (pokud je tato daň zaplacena, tak jde o daňově uznatelný náklad, v opačném případě se jedná o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7. Do nákladů můžeme zahrnou pouze ty náklady, které se týkají účetní jednotk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vatel poskytne svému zaměstnanci služební telefon, může mu určit limit na volání např. 500,-- Kč (měsíčně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nec tento limit překročí, musí částku (nad 500,--Kč) uhradit svému zaměstnavatel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ato částka pak není pro firmu nákl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6:23:26Z</dcterms:created>
  <dc:creator>Ing. David Holzbauer</dc:creator>
  <dc:description/>
  <dc:language>en-US</dc:language>
  <cp:lastModifiedBy>Igor</cp:lastModifiedBy>
  <dcterms:modified xsi:type="dcterms:W3CDTF">2014-09-13T15:47:08Z</dcterms:modified>
  <cp:revision>8</cp:revision>
  <dc:subject/>
  <dc:title>Zásady účtování nákladů</dc:title>
</cp:coreProperties>
</file>