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67D3-D347-42AE-9DB7-00677DBF42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1592-2DD6-445C-8695-52876A02F91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681E-A6AC-4BE9-AB3F-9536060DDFC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3996-DC05-4CD1-BF6E-FE0762CF8D3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6257-BFB2-417E-A0D5-8688BFC4ABE7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9D37-C9B4-49CB-8A39-1E86A709EDB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4DEC-8965-435C-BB45-33A4990E157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13CF-5C0A-4079-98FC-1740123368A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AC72-2B04-45FF-851D-3B4EB4E373B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7F0B-75BC-4908-BEF9-E72FE7CE728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CC23-46A8-4AA4-9C82-504E36656A0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6FA-F1DD-45F9-A353-DB49D26C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467-AB3F-44A7-AE2C-1549A692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A6DA4-DDE9-4082-9C6B-CC54DA11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037FA-9888-4D66-A4AF-E26E7D19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48FD4-36C4-411B-A344-27639C8E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590B7-4882-47D9-9E4E-F471DCE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55F84-C8D7-4133-BE59-0D55BC45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4CFF7-AD09-4735-B816-3FB04837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55A12-69CD-4BE7-B76D-BA14C21F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4F0D1-2C1F-4784-979E-4DEE1B4D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4C5D6-CD51-4488-BC4B-25FFAA04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FC90C-F7F3-4090-856A-17F4B4AD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8DC-2793-4B1D-A8FA-88D84B09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2EB64-646C-4AEC-BE61-ACE62D63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6D620-4772-4E83-A428-97B6C2DA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5088A-CC80-4BF6-A0AD-81F9609E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53122-A2F7-4E4A-8372-397351A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B6C5C-78A2-4653-AD22-E20D4E41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88754-936E-4F7D-AC41-AF177E92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A752C-5481-476C-BBA5-8885102A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CF401-04AC-4D9D-B8B2-514AA93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9C19B-14D6-4170-AAB2-DF5BAB74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0DF96-57D3-4A0E-9D61-F3B3FEBD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4F9-37C5-4F4F-8C50-6F305A14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E4C8F-2901-40E4-9322-6B04BF8C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71A93-BD69-4DF0-B272-AC0BEA88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658A4-F795-46DF-847A-E1BCEA0F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4B778-F559-4C72-B0E8-4647429A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A0A1D-37E9-4126-B911-37961901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23A39-27F9-4DAC-BCA1-79C8DFA0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8AF24-512C-4863-8492-3DA09A1E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EDD3C-8222-4864-BA0F-EB96C89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06FFB-802B-4336-B397-D6B6E46D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07EA9-F6A2-492B-BACF-2CC1ED7B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0750-789B-4E39-9AA8-7831AF5D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510D1-3511-4A28-BCC8-A9620675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E7096-40F0-4A36-8848-575363A5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C58B2-8166-4859-9A32-2B62095C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DB65A-05F0-47B4-8219-D662183F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1B5BB-D822-48E2-A8E8-E58A218E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1A3F6-2689-4801-A5A5-826084E3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F4851-3B08-47E0-B2DB-355BF200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D3568-80A3-4A12-8400-48BF149E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A3357-AE74-4EC8-AF63-C3131482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D0465-35E8-4788-9BE5-2B274CDB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ED11-E39B-4A8B-9381-B10B1483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BB7DF-4F94-4571-8C8A-7BE35A37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159C4-FAE2-4C84-B7FA-D61EE750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CFE7A-219F-4C7A-AD79-5EA97EB3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513DB-7E0A-4C48-91DE-A83A15A0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D1A6D-F119-4D7A-954F-2533456A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16736-D150-430A-B50D-2314214C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5B03C-BB93-43B6-93CD-F9510850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F4011-166B-4BFB-A049-5EA86C52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C6007-8BEF-4092-B522-2D91EC32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4F62D-05B4-4CA1-A6EA-8FBFFD1A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78AB-C216-4EC5-AB6A-81273F13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FADEB-EA45-4B05-9E21-3638F0A1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DD67A-587C-468A-96A8-942B0F9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C2B58-5947-45A3-9825-979AA702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6A6CD-A256-4222-BF31-C032505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D2266-ECB4-4B7D-9D32-4842FDDC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CA73E-1A30-4880-B412-75A86DC6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C6C72-04EF-41E9-99A9-371A1F1E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1E79FB-3895-4D5B-92F4-58360115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7F7D4B-39E7-4941-981C-45402221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7B8E40-5787-4B6D-80E3-8221613E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5266-2415-4630-BA75-F9E0D882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08A707-F2A7-4FDA-BF82-D6D394DF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9C7786-303A-4CB2-AD58-A7C7447B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9A0086-F470-4D71-85DA-EB14CF82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1F8AC5-802E-4EFD-BE94-A31F759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DEFE5D-1B6F-49B0-86DE-E080946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9D6AF3-1E3B-4A65-B0E3-D0A75F3E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C1DEF7-D317-4577-A15A-826D909D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E0D0F9-69EF-4EE1-B0BF-A73BD37B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7FA5BC-8435-4E7E-A5FA-FAC65378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AC423-8A35-4C4E-822D-D167B45B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9E4B-214C-44F7-9B3A-A9CA1484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6C7B6-1F8C-45FF-9312-9DE1D861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A9E65-ED9C-4D51-8DFD-83C1752F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A0D65-D709-4B17-B81E-08D5ED30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2A127-CA50-4287-BC03-16E5F6AB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261C5-160E-431B-A6E9-82D9B056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F9636-1728-4897-978F-7B49676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EC81A-16E6-456F-8F1D-B45DAA72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D34ED-0C9E-4B03-B445-4954F50C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933AB-9CDB-4FD6-8227-0C5493B5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6F6CB-EF4C-466B-A2A7-F2066853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1ADB-B226-4A89-901A-857D60A2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0B364-0EA9-4058-BDAF-53F3CA89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7982A-C1FC-4AC6-B3C3-D0E0A221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AD5ED-F126-4868-AABF-22257885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D6F18-2B6B-411E-A3B4-C7A3C0AE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34D527-82F7-4E00-BB6B-6FB7BF4F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659AA-6920-4636-A0C1-7E11257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3F830-4C92-4973-BA4A-4A586E9D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2050F-379C-4646-AB2F-F7FFB040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5EDD3-662A-4C7E-BC67-9DC2E86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AAE1D-480F-4FA0-AAB9-91C5DDA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0CA-920F-4679-9F00-00A1C17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A9A41-9198-467B-B498-FD02FE83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C7F25-CF82-4883-9F72-C159EC1B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13813-57B6-418A-833D-F973228E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EF1CF-6E27-449F-A57E-025C55FB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2ED9F1-BECD-422E-B692-2FC03633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515EBF-7BD1-4498-BC73-488AF2E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0AABC-C027-4561-80B2-2569D6AC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182FC-9DFC-48B3-BDD3-67216173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7BE718-F831-4630-9AEB-66491A95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7CEBB1-2F9C-42A2-AB24-2A5A9AE4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575-58E7-4157-A09D-D11C3558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E7B4-EDFE-4941-A4FB-A70F874F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D500CE-9531-4F6C-B9F2-20AFCB1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6F3434-91E8-4E7A-9E69-6E3CF55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D85B9-886F-4962-95EE-109D1AB4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FD82C-CDEC-4698-AF00-16A75726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7E609-B489-4D3B-A951-18910CF9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1AF24-C941-43C3-9B48-7E61EF80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6D2EE-8672-48AA-99E1-06265CC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37F775-891E-46EC-B2A1-2B69581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68775-BD87-4315-B478-E4E990B2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6ED0F-C843-4478-A54E-3C3B04EA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EB9C-B170-465F-9C18-41BA3116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5D2A9-9D01-4B25-B333-6B458D1A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28781-60A9-48E7-9511-6F1256FC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2B893E-ED53-4A4C-A5AB-8BD30BCF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37637-C539-481F-8384-29580790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C72F97-5BA7-4BF4-AFDC-285D3C09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728A45-402B-442F-9B09-A3CB8D4B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47502-4354-4F97-89F8-B8B8CF9B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43016-B3B9-4820-ACE9-0DC997EE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6482F-39BF-41ED-9E57-E8211027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C49E71-951C-4F52-A988-BFCA9EB0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6A16-3B45-46AC-A67B-DDDAE253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81B6E-12EC-41FC-B6D9-41434C4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B94B7-90D1-476A-A016-D4587A11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38C3B5-806F-40B6-8E76-30EEE842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47648-27E0-4478-87BC-E9B1D7F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D2288-1673-4EC0-9AA7-7EF5132B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196916-288A-4AB4-BA2B-19123E53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FF250-51D5-4039-965C-B26F53F3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1DB0B-2106-4D1E-88E2-45468D10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F8B2B-D9E6-4FE8-90B0-F79A328F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B0F28-9685-4192-A227-751A12C5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7E42-FF30-44D4-8F25-2B786F5D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464BC-C7F8-479D-9CD5-7E7C4B89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A3C97-F0F7-412D-9A81-76794939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C481A-3687-4773-A060-A743A34E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3C1D24-10BE-4AB6-A39E-FE2B4600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11476-6833-435E-80D3-C9E651A9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74E1E-A3B6-4F27-8779-7261F4C5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7BE407-A0F5-42B7-BAA1-1412FAD2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D1ADB6-76EC-4968-A351-FDE1B03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7F70C-23C2-482B-B85E-DA5E1F1F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ACB63-92D5-43E2-85E2-8F5EF23A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F1A4-C07E-4B00-8364-96C7DCCF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3D6E0D-DBA1-4D6B-A63B-03A38B84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7901E8-E4D2-4BFB-A4B9-4C84A71F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84CD21-4566-48F2-A297-4FD0C4C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79AE3-485B-4778-BE0A-74D0963F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5F3BB-6686-4E2F-9967-B917CC73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E498D4-8854-4CDF-9840-4CFDFCC7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853EB3-591E-4EB7-8DF4-536CFD9E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BD29B0-D632-4BAF-88FF-519A2089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7B1FCC-1C00-49FC-80D3-B58CF7C6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0028EF-12A9-4E41-8B66-AF5E4D0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7B01-7D38-4FCD-825F-1A743944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A2D27B-8322-4E22-88BF-F2CBABFD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6E35FF-6972-4A60-8FE3-2589C361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389EB-F21A-453E-84AB-F10C1CCF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1B6C8F-7818-40D5-A297-CDB68B69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F8A5E4-868D-4DE1-9F33-91ABD88E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3260DD-1BE8-43E9-80FD-1AB50B3C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9793B3-B8E5-4B3E-ADAF-47D657CC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9C07C4-F6B5-4F75-AC80-9B58C1D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6E7DFB-DEFD-46CC-90A5-E6A3570A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864FAF-0A00-4804-9F56-EE7628F1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C981-B86F-4A71-B5F1-53282E1C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E7CD0D-4BDE-4255-A613-9F6501EC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70EC87-A498-44C1-AAE9-116BCCE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EAE9A9-CC1D-4A38-B3E1-76FC06D7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0A4316-1B13-43F9-B904-02C2A8A1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757194-D408-4356-A15B-09DCAB3B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FBC8F0-E856-4BD3-94A8-A0C66FCC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6061C-C79A-4292-B69D-F8467C21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3DF76E-5DDC-4EA8-B03C-8AFEEF91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26D8A1-82E5-4A31-B8B0-F76A8F8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E8A505-7615-48CE-8188-E7434401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EDCB-FA50-43FC-BE2D-C9432643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BAB7F4-1F2D-47A2-BA20-7BBE4455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F62D99-EA25-4EEB-A603-8152C47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77A3F3-5B2B-4679-B380-4643ADBF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466D80-C52C-4864-9B14-46284109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7EC864-759C-4102-8C70-D3CFFC45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990EC6-A6A1-44B8-8B61-A8AD27B5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D468B3-9676-4CEB-B090-93C8131A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6D0D66-75E9-457C-9AD0-630F29A1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E5CA6C-F173-4DC4-92D6-5887156F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6B4DFA-1820-4E28-B725-8BF8F041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3547-6230-4A8C-8510-15274612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FFA8E9-1268-4828-8340-B8DE6675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FFAC62-A9D2-40C4-A7FC-48A7CCE9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9C86A5-1509-4F78-8C34-02CC009A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3202BE-2558-4C9A-BF4C-E859EF0D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6BCB3F-B76C-4F61-88C5-A2AC529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6A4706-8150-4D0A-9E58-0A61491C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98783D-36DF-4738-B75D-617A561A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CC6E44-D0A9-4A90-A05B-A5ABEE9C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69E9AD-E227-4474-BCFD-3E66E540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E37430-D75A-4710-9109-FED990AF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3C8F-B4B2-4023-B760-5D5E9C16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CCA429-FEAE-46F3-A4E1-E0D690D6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690E4F-D06B-444B-968B-374399C0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1BE65D-65C2-41DD-B732-DBDC6A04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FC10B8-8707-4BE0-A8D8-58994074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1589F6-1331-4379-83C8-43E64645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4DE106-DA7D-4769-8A35-ED361587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114A8D-0AE2-4367-832C-D76986FF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581DFB-B836-4CB9-A449-9402117E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2CD653-AC27-4AB6-B61F-BDCDB4B9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EA0759-97A6-43DF-97FA-16910729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E7D-1384-461C-9184-CE17849F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27F9-7BB1-46EA-BC64-11022984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A9538F-63EB-43FD-9D21-9571ABEE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A4F5D25-1FBF-40D4-9762-9308EE6E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7084EE-940C-494C-B193-83977014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2BA7901-29F9-4720-BF23-1A665FB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E9A5604-FCAF-46E5-83F0-EAC63082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7557659-CD32-40D8-B3BA-BFEEADCD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8274B98-383A-4FA3-843D-16048564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EA0484C-3A6B-486D-953E-630705D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75BF43C-6F7B-42DE-997B-FDF8F72A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256D6CE-9491-4C86-B8C2-DE9D350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7847-D334-45EE-9C99-2AE2B3F7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63AB0FE-61FC-4C5F-82F7-6C21CF12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03A2131-2B70-4D6C-B46B-11A46E8C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12D9C23-0A4A-42F0-A9F8-8FE89A93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0BEA-B671-4628-86DE-0C9164D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86B4-0DB3-49A8-A348-FE002071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3C6F-3E05-4B6B-8758-740BF681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3F4C-DC27-41F3-8143-F9089071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7222-DACC-4C8B-8F89-BAD2132E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51B2-35CD-4F08-862B-2A3D3051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0431-6069-4B17-95AD-D2A8AC5F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B0D63-065E-43C1-912E-CF37D2D5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94B-D092-44F6-8D10-6CF3D733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C634-3804-41E0-90DC-464DDEF3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864E-3073-4E4A-A423-1E923C8C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D8F15-17C0-4A2E-A023-5A51F280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3E3C-C28F-4A7C-A4E2-EC0142F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0DC9-8F02-4352-92BF-0B53A195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33D7C-1201-4C62-95DD-01B94412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9195F-C0D1-4600-915A-C62C893C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4B0AA-E23A-4372-B095-4205E717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0B2C2-B58F-4D4A-8D24-82492AF1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9F8A4-A540-4105-B155-291AB53F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0AF-3FE2-4C47-925F-EA7FA85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0A9E-131B-4574-906A-175E0233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074B2-01AC-44EB-84E7-A355996D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30FEE-F3F5-42D2-AC7B-6C5A3F7A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EC4EE-4ECD-4C41-B2EA-1FAEE34E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4CA32-D674-465C-B607-019B21FB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81207-128F-4797-AE1B-F47B9211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A55EE-1986-4F25-84BC-D90EAC5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692C1-68AD-455E-88B4-4ED9627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4993-DE3C-4654-958B-1991646E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C06BB-54FB-47B8-B815-0019671D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570-ED5C-4689-BC7D-63C2207F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4458E-A179-42D0-BA82-88926F3F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799D2-72B8-498F-86E9-9A587539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F0D3A-C203-4D63-ADFC-9B35825E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587CC-28CB-4B94-8D76-A75D471D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9333-9A6B-460E-9173-C62BDACC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0F8C8-909F-4B51-84D7-FBD36113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E6A27-42BC-4954-A9EA-C34F3C3A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8E218-B000-4961-BC14-604037F5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A3580-6060-40F5-84B0-BE244D36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82A6C-5671-4FAC-A2A6-71C4AB3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830-79B7-447A-97E8-B298FDF0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3A03E-797C-4044-939F-6B69D18C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59A64-9398-4202-9F86-BB9D5379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28403-5C11-43D9-A715-D1B7BED4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29D8D-74DC-4734-87CA-71DF0746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569C2-E1C3-4254-968C-D9E70C8A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43B14-EC0F-4DDB-B57B-0B365957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569E5-4556-4BFD-B707-CAC2C2C7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A5D1D-4CB7-4DA8-873F-990E6768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49A09-2AD4-4895-8223-811D33CA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AAE77-FE3C-4AB9-AA22-84714CF8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238-97C0-4BD9-A805-275779FC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CBF05-5C72-4E9D-841E-C5CA6CD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7661-0736-468E-BEDB-804DF86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0C975-7834-48CC-BFD2-C9B36477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57BB2-BF34-4619-A7FA-16B5F337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456AD-2A44-46E3-AB52-5050F80D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E0FAE-9E59-4DB8-A70B-0FDB3974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3951E-AC9D-40A1-80A6-CB0A08C2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584D0-0981-444C-BA8E-526C6633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C7841-94E6-43B6-92F9-66344486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46B38-C076-49DD-BA1F-C6117145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871-BA6A-42A4-AB6C-6109C3EA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926AC-D226-472A-AF13-6962406A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0BBCA-6A14-4285-BF49-495015E0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82DD-02F7-4759-823B-9AC7C629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CB48E-33AE-45CC-9AD7-3FD43769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66298-2962-42B3-BACB-90C83647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2472F-FF0D-4A54-8509-78CFC3D9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9255C-BDB7-4FE3-9A36-94029533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64875-DAE2-4518-9903-CD4F3F5C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4782A-4E28-4D0B-AE87-E311FE41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C8010-BFBD-42A6-B2A3-91F9901A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E12F-6C96-4243-8B80-2815A5A33C4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F0D6-6428-44FD-8F8A-F7683C6EE7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CE57-D150-424A-978C-0BF69D34FC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A5BB-1DE8-4EE9-9EF8-3AA2FE7D86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3407-9A62-40A4-B6E0-E1A22834D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D06B-9110-4603-8A61-F604A2EAE4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ED68-D4E8-4FE0-8740-F18742C189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75D1-E774-4641-AAEE-4C4E50DF50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DA6A-35B5-4CE7-99B2-08F62F1440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6D6B-2CC0-4BC4-A389-A50B233999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6F70-235E-4672-B53D-70E66496B6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7D0A-632D-4992-95B2-1D8CFF9E7AF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E52C-7311-4CD7-AF8F-112B6B0A3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18A4-83EA-4337-AAFB-41082E2E45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3FDE-6E7C-4B1B-ABC4-899845496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CD04-61E0-44EF-8ECD-9503C34B73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868B-B51D-4053-8076-BCC757AF74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5BF7-9A68-4C73-94CB-F5D5B176B1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62B-698F-4679-8BEA-EC83FBE2A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EB64-DD05-4236-A756-D919B28FF9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F6C-E23F-4BC2-B048-13E2FDF08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33A9-CBFF-4386-BBCF-F9FB3B4DB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2E28-8654-42DA-BB7D-42D37C9B98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AB7C-61A4-4EE1-B63A-D396079385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A1C0-1925-4B8F-9DB0-B64516A08F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3616-209B-4A6A-80FE-3416D5B8F8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tržby,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provozní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1 – Tržby z prodeje dlouhodobého nehmotného a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náš DHM a DNM, který prodáváme např. z důvodu nevyužití (pořídili jsme nové auto a staré prodám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podnik. vozidla – 3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stroje v hotovosti – 2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42 – Tržby z prodeje materiál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v případě prodeje materiálu (např. z důvodu nadměrného množství zásob materiálu, nebo v případě, že přecházíme na jinou výrobu a tento materiál se stává pro nás nepoužitelný atd.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materiálu – 3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materiálu v hotovosti – 2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4 – Smluvní pokuty a úroky z prodl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fakturujeme svým odběratelům smluvní pokutu a úroky z prodl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za nesplnění podmínek vyplývající z kupní smlouvy (např. neuhradili včas naši faktur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Smluvní pokuta odběrateli – 311/64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6 – Výnosy z odepsaných pohledáv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í se zde úhrady pohledávek, které již byly odepsané (v minulosti jsme je již zaúčtovali do nákladů na účet 546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odběratele – 221/6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8 – Ostatní provozní výno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účtujeme např. čerpání dotace na úhradu provozních nákladů (dotace na mzdu absolventa), výnosy z prodeje cenin, přebytky zásob při inventarizačních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bytek na materiálu – 112/64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Dotace na mzdu absolventa – 346/648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Smluvní pokuta odběrate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Dotace na mzdu absolv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Prodej vyřazeného au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PD – Prodej materiál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27Z</dcterms:modified>
  <cp:revision>24</cp:revision>
  <dc:subject/>
  <dc:title>Účtování výnosů</dc:title>
</cp:coreProperties>
</file>