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0E41-5FBE-4AAE-AE6D-FB986D8185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E8A9-9CCB-4928-A186-97D7D93001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70EF-B313-4B96-BECF-524BFA3529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0857-CC08-4077-B28B-4F87DFBDFF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0F1E-72D8-474F-BED5-CD2D4D2B3B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A528-DF7F-423B-8894-F934084A05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8666-91C0-4F8A-9675-CCFE0821A7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6466-91DA-458C-BAA0-9CF450865E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96E9-6FFC-47D3-B0E9-EBEFC60531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30A7-8180-4EE8-8D37-0B7D6DA034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92F-9173-4B04-B6E8-03D89BE8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B0B-2445-4A90-907C-75694053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46D-4960-44E8-A553-F5B24B8A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492-0D3D-479E-BD0C-19EBF47D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E38-C331-4A5F-B8E9-F12D49BB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4BE-A545-4B5E-A936-ABFCCE4D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121-23C8-44AE-8887-26DFEF44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A61-B8EE-4CBA-BBDA-081548C5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5B0-C636-439C-A2C5-82E989BE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A7D-2744-4051-A4E5-60D2E047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82C-39F9-40F2-86EA-4948B90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B15-E043-4119-A116-F35399A7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0D63-D197-40FC-A10B-CD2A623CF6DC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opravy, cestovné, služby, re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11- Opravy a udržování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účtu účtujeme veškeré opravy a udržování (například opravy DM, vymalování místnost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oprava počítače – 511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2 - Cestovné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áklady, které jsou spojeny s uskutečněním služební ce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tří zde např. jízdné, ubytování, stravné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Vyúčtování služební cesty 512/3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 případě, že zaměstnanec obdržel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zálohu na služební ce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3 – Náklady na reprezent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výdaje za pohoštění (občerstven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lze uplatnit odpočet 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- Nákup občerstvení – 513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8 – Ostatní služb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poštovních zná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inz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fonn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k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obné technické zhodnocení u D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jem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ci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PD – Úhrada nájemného – 518/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Úhrada inz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Pronájem kancelá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Oprava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poštovních známek (spotře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- Občerst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42Z</dcterms:modified>
  <cp:revision>17</cp:revision>
  <dc:subject/>
  <dc:title>Účtování nákladů</dc:title>
</cp:coreProperties>
</file>