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3FC3-9D1E-4ED6-9FBF-6B5E810D62D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3294-25E7-49A2-B3F5-CE4B7A979B4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08B7-0B41-4A6B-90FD-29715F9DD29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3E9F-C075-4AAC-96F9-43E93874968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E47D-C370-4204-A655-8ED7FDC5987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8FF9-0BEF-4C3E-861C-D030E7DE62D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1599-1524-42F5-8B19-9472633F9CC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BC05-D89C-4E0B-B9A4-06BC5C7A822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C027-8EFA-470E-A62B-8BFC713B391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BF7F-1D79-4FEF-9750-0E802902648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FCBD-0E19-4DE5-854E-BCBE80FC1EA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A71A-2F87-43A0-B456-DDE2441F0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A888-814E-4FEE-BE79-C7298382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D2FA-C086-4F02-8020-6F1B3924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5FF1-F755-4B11-9DC5-5EFF91C99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C6AC-7F16-456D-9A74-02B46ADF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004E-77EB-4704-A24D-2A1B88F5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688C-96DF-4898-9E2D-66FEB22B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3874-BD87-4395-8ECA-F2B0EB07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8FC0-5526-4170-8361-DD5DFD84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BEBF-EE35-497D-B9CC-D9ABA2EF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B999-0072-4851-AAB1-2CA5D648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1CF7-E2EF-461B-91EB-EBECD8B3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8222-7957-453B-A8CF-46E757D775BE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, úroky, kurzová ztráta,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finančních nákladů</a:t>
            </a: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– účtová sk. 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330033"/>
                </a:solidFill>
                <a:latin typeface="Times New Roman"/>
              </a:rPr>
              <a:t>561 – Prodané cenné papíry a podíl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ento účet zaúčtujeme pořizovací cenu CP v případě jejich prode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úbytek CP v důsledku prodeje – 561/2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62 - Úrok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ná se o úroky, které účetní jednotka musí uhradit, například úroky z poskytnutého úvěru (pokud nejsou součásti pořizovací ceny D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bú – úroky z úvěru – 562/2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0033"/>
                </a:solidFill>
                <a:latin typeface="Times New Roman"/>
              </a:rPr>
              <a:t>563 – Kurzové ztrát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ujeme zde ztrátu, která nám vznikla v důsledku pohybu kurzů Kč k cizím měná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užíváme pokud máme valutovou pokladu a pohledávky či závazky v cizích měná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 valutové pokladně máme 100 Euro, při kurzu 1 Euro/25,70 Kč. K 31.12. kurz dle ČNB 1 Euro/25,6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díl zaúčtujeme následně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úD – kurzová ztráta ve valutové pokladně – 563/211.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68 – Ostatní finanční nákla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např. poplatky za vedení účtu, za jednotlivé transakce, poplatky za odeslání Vbú, za výběry v hotovosti z bankomatů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bú – bankovní poplatky – 568/2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0033"/>
                </a:solidFill>
                <a:latin typeface="Times New Roman"/>
              </a:rPr>
              <a:t>569 – Manka a škody na finančním majetku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např. pokladní schodek, který jsme zjistili při inventarizaci, či škody na finančním majet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okladní schodek – 569/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bú – Poplatek za odeslání výpi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bú – Úroky z úvě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okladní schod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rodané 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9:27:15Z</dcterms:created>
  <dc:creator>Ing. David Holzbauer</dc:creator>
  <dc:description/>
  <dc:language>en-US</dc:language>
  <cp:lastModifiedBy>Igor</cp:lastModifiedBy>
  <dcterms:modified xsi:type="dcterms:W3CDTF">2014-09-13T15:45:10Z</dcterms:modified>
  <cp:revision>15</cp:revision>
  <dc:subject/>
  <dc:title>Účtování nákladů</dc:title>
</cp:coreProperties>
</file>