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2CB7-0EF6-42EC-ABD4-07FC798338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59E9-6AAA-4881-AC75-00AAC452ABE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2D61-3BF2-4145-A404-221D68E5459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4BB6-767A-4956-A025-998E86F9CFA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FE09-108B-4CD8-8DA9-8C0994F596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5A30-B536-4085-BAE0-B0183C5784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1CC9-FA4B-4141-8307-EA17A52E22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F3E3-3168-43A6-B220-173D3CC16C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F0A1-0B13-4FE5-9817-FEF79612F0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41B3-D0C5-4FEF-9472-7DE550650D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34F4-99F0-4FA2-A45C-CF258002DC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41D-EE4A-430E-897B-1A056C50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9C1-AFEC-4F03-BE6E-E71CCFBD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9F3-2341-4722-BFA3-334F4339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D61-1C86-4BE4-ADBD-8639A3E0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55E-1DFA-456D-BC60-AB93D05E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210-87F1-4255-A5BF-84A78CB2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71A-9A8C-4E00-826A-32F5CD1E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17F-0340-492D-B852-7BB958D2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E5C-B143-4350-A5DF-7B03A814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C99-F258-48FE-B06E-F815123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169-5D7C-4DF1-A814-6145A52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C31-30AA-4EB6-90A6-C00C26EC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B89D-C5BB-4F3B-A132-0C2078136CA9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dpisy, rezervy, opravné polo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sk.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51 – Odpisy dlouhodobého HM a N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 zachyc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čet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pisy DHM a DN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výrobního stroje – 551/0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zřizovacích výdajů – 551/0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2 – Tvorba a zúčtování zákonných rezerv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tvorbu (zrušení) rezerv, a to např. na opravu DHM (od 2. odpisové skupiny), dle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na opravu střechy –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 (po opravě střechy)– 451/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4 – Tvorba a zúčtování ostatních rezerv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účet používáme pro tvorbu a čerpání rezerv, které nesplňují podmínky Z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opravu majetku, který se nachází v            1. odpisové skupině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splatnou daň z příj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záruční opra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na opravu počítače – 554/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čerpání rezervy – 459/5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8 – Tvorba a zúčtování zákonných opravných polože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zachycení tvorby a zrušení opravných položek k pohledávkám (viz. neuhrazené pohledávky), které splňují podmínky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Tvorba opravné položky k pohledávce, která je 6. měsíců po splatnosti – 558/3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9 – Tvorba a zúčtování opravných polože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zachycení tvorby a zrušení opravných položek k zásobám, DM, pohledávkám, které nesplňují podmínky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opravné položky k materiálu – 559/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Tvorba zákonn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pravná položka k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výrobního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účetního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Čerpání zákonn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17Z</dcterms:modified>
  <cp:revision>18</cp:revision>
  <dc:subject/>
  <dc:title>Účtování nákladů</dc:title>
</cp:coreProperties>
</file>