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FDF3-782B-4569-8019-B2295F6AAB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FB8-F9BC-402C-AEDF-3CCB60B9C36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648-0FC1-408D-8EE6-1C6122DC39F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258E-9C1E-4E0F-B3AD-CD05C1ED9F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726-57F1-465A-BDB0-86110A9748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478-CCE9-4762-A826-A7FADE2092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2ED-F7B8-4A8B-97CA-5D8B3D40E6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3F6-B3B4-41D7-9A18-C19148A8EC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D092-80CE-4EB6-84D4-B08D2A4DD2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5D43-1DAC-40A3-9558-33AD9C6D67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218-3A5B-4EA8-8A12-55D9DDB6EE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BEB8-E0D5-43EF-B45E-6B80366727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D7D-4C4A-4800-BA6B-9A4C2F3B11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5FE-7160-48F3-9009-F0512C48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FFE-0312-4A55-A11D-E0F852F9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C3B-56EF-4983-A2C0-4385520D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BE4-6CEB-42FE-955C-9C50A6DC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9BF-9CDF-4A15-8FA4-A7480F45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CD20-3A36-4CC8-9562-14D1FFA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898B-9EC7-4CC5-8AA7-AAE2FAE4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D1D7-4D30-4CBA-BC70-54759BA1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2CB6-DC67-4CE5-8096-DBB4F25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46FD-53A8-4BFD-8619-1AD72D2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AB5A-6869-4313-8170-0D7552C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D77-001C-4275-9025-46F6E67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B89B-4746-4D11-A081-6B8D3B7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A92-31B4-4E5C-8857-BBE47C9D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674-C2E3-4683-A3DE-1BF5F76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E3C0-C2B8-4405-AE6B-675B34F1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6E3D-7C98-44A3-99DE-A030AFBD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57A2-CE42-4499-9851-8A3B272C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7E22-0903-4AAE-8950-A62F21CD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D946-96F5-4346-A60D-4407C276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A6E9-3828-4B96-8849-009AADA5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726F-D8B5-45EB-B185-6CDC26E1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729-FF43-485C-971E-34284C7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B27C-0A75-4575-A410-7AD5D82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4217-C226-4009-B00E-869C13C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19E9-7AAB-432C-A873-9BA418EA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0650-8EF4-454D-A975-05A48AA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E32C-E266-4EDE-B38F-06AD30A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3E22-FEE7-4680-905B-F70841AB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F9BB-7B97-407B-9A09-8099A99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0A2E-A959-407A-A460-B283FAE9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F54B-2114-4BAE-9935-17171CC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91D1-9B7B-460D-ABC6-FD7C7EC3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073-A5B7-4EDC-8AC7-D15096E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89FE-E5B8-428C-A09E-10F78E2F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49D4-C93F-4F4F-AE90-6EDCDF54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800F-5CAA-4F00-9706-8BC0EBCB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5C13-E056-4DB1-9EE2-ECC9593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A49F-233C-4BF1-B26A-EF24C63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1038-8A8F-4DD0-95A1-7B98492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8BE9-7C75-44EC-9146-65BBBFFC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EA64-C5FC-4505-8DB1-85647E5C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23F1-BF91-4EC3-973D-BC1EE675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01382-2169-41D0-B19A-355D065D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22C-9EBF-49AA-BBA9-99B75D4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F296D-097D-4195-865D-2189ED15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F5633-7C43-470F-B1B8-55C38BA1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0B385-AA62-4F49-819B-C777D2B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BB042-5D6D-4D88-A16A-AA53DFC8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BD477-3FB6-479F-865C-7C372969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23F72-BEB0-4A52-8198-DCD75B6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F3DD0-A7CA-4236-B131-C967C5EF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031B2-A9AD-4718-853B-E39B117D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6AF0C-B255-43AE-9A81-2CC1CAA4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F2197-E314-483A-99EB-8CEDDFFA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52C-7F2D-4271-8A18-14400B96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BC8A4-BF17-4CB9-A492-5650D031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420-367E-4174-86B3-796E412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B66-3417-4DE5-999B-B4A7076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99B-A148-437B-B4EF-30B419B2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54EF-3929-490D-BF5A-68CB0285A2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97FF-4461-4A9A-864B-3D57746620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A35D-333F-4B11-B699-1BC03EF15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DE8-417E-4865-9D8A-A875D03174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1E0-438D-47EC-AD22-0045EE35F6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39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dle místa vz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jedná se o členění výnosů podle hospodářských středis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to jsou 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představuj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nosy provozní, finanční výnosy a mimořádné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nosy můžeme členit podle několika krité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1. Podle výnosových druh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výnosů, dle účtové osno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dle směrné účtové osnovy si účetní jednotka sestaví účtový rozvrh, kde bude mít např. tyto skupi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 – Tržba za vlastní výkony 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1 – Tržba za vlastní výrob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2 – Tržba z prodeje služ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4 – Tržba z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 – Změna stavu zásob vlastní čin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1 – Změna stavu nedokončené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2 – Změna stavu polotov. vlastní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3 – Změna stavu výrobků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Podle vykazování hospodářského      výsled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1992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z hlavní činnosti, např. prodejem výrobků, zboží, služeb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ých skupinách 60.-6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Prodej zboží – 2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při pohybu peněz, např. přijaté úroky z vkladů, dividendy z akcií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vkladů – 21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nenadále, např. přijaté náhrady od pojišťovny ze šk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náhrady za škodu od pojišťovny –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34Z</dcterms:modified>
  <cp:revision>15</cp:revision>
  <dc:subject/>
  <dc:title>Výnosy</dc:title>
</cp:coreProperties>
</file>