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852-10CB-4806-AC45-9E62585DB8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942E-173A-423F-BD34-7D7B9E6069C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DFC1-9E54-4231-B308-9B5DB1D4811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9D80-A4CC-4D33-BEA6-AF6B9223EAE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BC7B-17B5-40C0-B043-A54ECA8B4B6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AFA7-ACC7-41BD-A7EC-67BA15786837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149A-A20D-4774-AC7C-A95233BB8C9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B5B-DAF8-4371-92D8-198E62D7F01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9F49-F87E-4961-8C0C-B78247F0F29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AEEF-98A3-48A0-9721-641D9E3B3D4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B967-44DC-4E64-A412-32C43D03EBD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C9E-E06D-4C75-9619-C2EC3DD7735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3A49-E85F-40E5-9EE3-2511EF507F8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D2B6-576A-4028-9BD4-FD6147C68E1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BAD-B77F-454B-B3F9-61BB4FC3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3C1-C450-498C-BA6C-A52A0EF3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4860-ACF1-499B-906C-775707AE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A5B98-785C-49DB-8AE2-6E3014B1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A78FF-8402-4973-A2D4-D6E19D16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E6262-E2A3-4A05-B47D-52EF66ED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2A050-8C0E-43DB-90E5-06326098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56DAC-5228-43D9-BC2D-5E780DE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DCE19-02C5-4E91-947F-ADD0843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0C1FB-E40D-4A88-95BB-DD99FBC3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D4E10-7775-4458-BAF3-53C6EC5A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918A1-7BC2-4C4E-862D-6AAE8F40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AB1-8BB8-43D4-9C6F-7DA89046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9A5C2-32C9-442F-B0EE-78B1D580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4EC8C-4AF6-4DF5-825B-D4597B9D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F5FC9-9B83-4648-B078-D1E1B17F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8D861-14FD-497A-9EFD-9B054FF4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91906-EAAB-424A-8084-9EA923D1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95534-D101-42D9-9D39-0BBB2B5E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9BEEB-00EB-48EB-980D-8EBF082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46882-91A4-4FA2-B2E9-EA55123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47D96-5874-427B-8A0E-F059FD82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CB805-8DF8-432A-87DB-21CDCF48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951-BEBE-4713-A687-5410C1F3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0A1E1-E478-4F17-B8D6-265A9CD5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493F-CCE3-431D-AC86-7F851E5D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7C5D2-F3F6-4865-82C1-45064AB6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85317-32D9-44DF-A98B-1213940B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42D54-F4A1-4D0F-A6AC-32976859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3230B-7B45-401C-9965-85B708B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429D1-DDF4-4445-AD60-A2D345B1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C6E92-6695-4B08-882D-CF3D9C49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65080-4FA5-4142-BBE2-E84122C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D82F-F295-4E86-823D-40B7A0E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523E-A813-46C8-91D7-5B350D55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90A61-3FE1-452F-9C00-A896973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E785F-0211-4177-9187-163434ED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9A255-F893-4A7D-963C-D8C5B27E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9A9E6-D192-4705-8C71-72C4305D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25226-E26A-4D72-B777-957499D5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9D165-54C5-4F73-9053-9E194B01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065A5-00E4-48A6-AB93-A637D93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5A51C-EB44-4C53-A383-B8449AF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7D668-FD30-4409-82A3-4249D4F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48E68-FD33-40E8-886D-A56D593E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F875-2A04-4322-B143-13C19BB2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B6A29-FE65-4B6D-BB32-47F7DA72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9CADD-0958-419D-888C-45A7D57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FC9D8-3F42-4838-AA45-EFE249AD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58268-D4FF-41DA-8787-43036A2F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6B6C4-FE6A-46FE-9044-B64149A2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F5184-1E37-48C4-8099-66AC3A83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D48A2-4953-43D1-B4DF-CCE5CFC1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8603F-3238-410C-B215-7500283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551B8-9342-4887-90ED-B03526E2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B583F-2F0A-4D5C-AB87-FD329423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98B9-C792-4598-8A26-4AFF6DD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983E9-7289-4992-A7E2-2E1260C7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80A4B-6C29-4205-9032-7455309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AEA2F-C19F-4ED5-AEC7-3B58B14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10993-2647-4306-A869-6DEE0AA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FF132-937B-4142-A6BC-280CCB12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78386-68F8-4F40-AA8B-BDCD599C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1F426-AAAF-424F-9AD7-9D6FF7AE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A3BA5E-89FD-4474-B967-10C65AB4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99E060-0272-4F51-9AE3-FF3F90C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69AEA7-FE9A-4A08-8DD7-28FC07A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BEA2-CA7C-4190-BB08-3C57F609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5A4936-8BE0-4A79-B41D-0B268CD5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C7E8E1-1978-44DF-9FF4-4B0B2A9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40C66B-EA53-40B7-9B32-9C3FAD3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24C569-0213-4EDD-B65F-8058681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4B8335-8F23-42B2-B01A-8109F9C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FFF6AC-5587-4B87-B3B4-715E510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59EECA-7937-4210-8416-7014C8C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EEC49D-8980-4484-A12D-C53D2107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DD892E-972B-4537-8D14-5A382DC0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2D256-815C-458A-87C3-F594A18D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E92E-82C0-4531-95CE-1A42828A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37562-8A9B-43AD-A02C-EE407930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D30ED-5E5A-4753-AB69-DC41FBB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7647C-F73F-4357-9197-58624F3E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8F453-DB1F-443C-A3F1-94A351E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0B9B7-8582-460D-85EC-5A2B9793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22BAC-3131-49E9-9FCD-3A4AF7B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23F6B-D5C2-4FA4-83B3-DC810C6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6144D-A971-40D2-9A73-3959528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972A0-4696-4B81-894C-8153595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E2D65-B8CC-4672-ADAC-26A45C77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D5AE-411E-4660-A6B2-CEC9B225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1FF80-77A3-40F2-B2BE-3E9C9973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63BF7-ED0E-46B6-B721-A5D5BC50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C6206-0CB3-44D9-8805-BE7B5208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B2B97-057C-48F9-BD0C-5CE285D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C0308-BA06-4A5C-A4C1-B286EE1F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500E3-B295-4717-893D-A965B4B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A6E91-69F0-42FC-8563-BD3BEBE5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1079C-54C7-4F1E-BBE9-71A799D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594E7-05D9-4A5F-B2E9-777AAA34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722D9-7C5E-45F2-8A33-0C6764B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8E79-A9EE-4C2F-81F9-33E3A965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1A05C-22D7-4AAC-9933-42FEFEEA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72B35-2C09-4574-8D18-EDA5BED9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A0A83-6AF4-4AB1-B8CB-5A5070B3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4D2E0-0B07-456B-9FBB-7AFC7F90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76756-2342-4E50-8DAC-7E6BE9A9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7E0EA-0896-4C5A-B7A9-D823808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DC3A9-1EB6-4163-A18A-85C234F6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CF3340-4205-4235-8ABB-F48D32A2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91993-A716-49CB-8CB7-7266C67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FFE37-BEFD-47C0-A5D6-F48B496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476-C323-451E-8053-4E585F55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E3A4-242A-434F-862B-401B7A7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42DEB-E84D-40AE-97F8-24C60D30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7BDD7-F301-43F0-81CE-F75C72B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0DE66-8F4E-4CEB-B747-F3488B4B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D2B46-B06C-4452-A385-DA600CCA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00FC7-B198-4772-A219-D2510A9E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B2A92-F9A5-451C-B5CB-232266C1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D8BFA-F106-4F8A-9930-09F6C076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FC081-22C1-4026-852D-6649266A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6CF30-0303-4ABA-B4B0-4A1D358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58988-3CF2-4C9E-A384-90933F47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D925-A10D-4959-8DE7-5F04F36D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BE2C2C-BBBA-4CB2-B98C-67FC126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B0272-B667-4D24-B290-395A79C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F5D78-450A-4D78-8FEB-79EF8D9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0F5DB-27FA-4FDF-9FAF-9D5D983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F1143-8E65-40A1-B5F6-66945AD4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44CE29-BC2E-4A30-9CAA-C44AE816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FC8F3-C6E5-4E4F-AFBF-A22EB518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48789-4D40-49A3-B3E8-65EADF9B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CB59D-3DC9-4760-A67B-3026FE5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66B65-D002-4CA5-A000-2E9DB3CD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9F4-2D39-41F0-A5C0-9FD3F3AE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6DBAC-3F25-453C-8670-3E657DBC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69634-6E4B-48DF-A13D-28C0353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F700D-1343-4CD3-A54D-F9477E6F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DBB0A-F149-4FDD-ACE6-648349FC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54A06-F43A-4762-A1AF-01410AD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25038-6329-412C-8893-3A6386C7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53925-2B04-4891-848F-901B9C3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F8E6C-1380-4452-A62F-AEF81FE7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E23A8-0A13-4631-8FFA-7632A4BB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19C94-24C4-4118-823D-7B617115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6DB2-24FA-4035-9F92-1833BD0C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3501D3-40B0-45F3-86EC-361CC30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3A735-D35E-4B8F-9F37-84C2BBD0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3F22F-301F-42A3-9450-3AF9D470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41C5E0-76B1-47A8-89CF-6C81EEDB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503E3-CB3F-4703-9F73-A5E6AFEA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8C842-2A0F-40BD-B842-F46FD7EC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0B4A9-591F-455D-B4BC-4F3E2FFB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0FBBB-F057-4986-86B2-C7315685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486DD-C95A-47B2-A9B1-7C67FE4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46055-D5BF-4486-869D-38062DFD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17E7-2385-4F1D-9935-38C48BE9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00B3A-863E-4532-9CA0-002D12CC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D47B4-536A-43FB-8732-3F084A7D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FC29B-2919-4DB8-95E1-75D7B349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2AC7B-377D-4F91-9E2A-BADC2EF6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3A5A79-9DE2-40C4-BBE3-8AC493D8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62CD1-9B53-49D1-B7CA-205EE3E8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A5934-69B1-4227-8F33-4B53DE04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13926-680D-4A0E-A00A-263EB275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2A68D-8B20-428C-BF75-489AF2B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9852C-DD56-4EA0-A06F-4DD5CC8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6A34-0C23-4FC8-8796-BAFC9B13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53DA7-12CC-4983-9BA6-15B9739D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72BCC-0F31-4081-A305-E6E1A95C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349F7-CEE8-405E-A702-7D6105FF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169DDF-CE44-4C56-A8D2-6C5BD347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BC0950-8E70-4D2A-9694-034890A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F392A2-CEAB-4925-8FF7-9E4D856F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E3581-B9E9-47D3-A1AC-7517D21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75C39F-9B2C-4439-9AB2-9036DD8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A89660-64DA-49AC-9C60-E1F611F6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5AF2CC-16F5-4486-8788-DB5B3831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B835-AA7F-490D-880E-1428161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B04660-D5B7-486F-9F02-B12EFEF5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04D0F0-22DA-4B48-B3D7-AF4CF470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33D25B-365E-484E-89D9-D888F6A2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784789-B660-46C4-A59F-50750BAE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B5E4CC-8B63-45EF-946F-54F718DC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B717BE-0DA5-4874-BBBB-404147BE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4D299C-8B9C-4101-A4F0-B1372E3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1796F-255B-48A2-A03E-AC149F47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62F7B-B85D-4422-8737-6F92CD3D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79A53A-8330-4648-93A7-7206D1D4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52EE-BEC4-449F-A3D0-73E79EB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B57D04-02EA-4103-943C-51D1DC01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49F61F-CE8C-4041-A69E-9ABE3ED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BEDEF3-D7B3-43F6-819D-C070160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77970-A493-43AC-A23F-7860AF1F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BA8059-16E7-40A8-9630-94D97684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E3DDD-315B-4520-A540-4A117963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1635CA-7239-444F-BC45-136E0832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9C1F9-7A6C-4647-9A2E-7D66D289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7D481C-97FB-4E20-801C-D22C0B42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5C372-E1F4-4A67-AD9D-EE9F52A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C343-4862-47CD-B2C8-EAD47F24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23C2E5-794B-484F-8540-3F68D62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287406-F09A-43D1-A01E-A0A3BFAF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4217AB-C411-4884-BB3D-F7AE7772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9F3DEF-2C75-4D4D-B6EA-5D72A1FA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318272-8333-452D-AE0F-1A6D712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383E1-185B-4DDA-860F-A09EBF0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A36224-2B55-4AEE-A45C-B023771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F857DE-53C1-4946-B6BA-F871923C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53C77C-AB28-498C-A15F-67AD1E1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368526-8925-46D6-A986-0D9D4CE3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1D45-D682-45F4-8BAB-36CE1ADC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7FFDC8-E6D2-4E48-BDCE-5322A8F2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001BAF-B7B1-4304-8717-9BAC1433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1AE126-34CA-419A-947B-A06F2E89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F477F5-6B8C-40F8-A582-FA266A0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A8ADDB-0267-464B-8F6E-2A5C0CE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295AA3-A0B0-49A2-8D94-3833BBB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A1D217-AF67-4902-B59F-0C6D2A6E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A34B9C-0A26-40E1-B720-FD6F0A8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05E02A-026C-464B-8C05-DA75303A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924EDD-23A5-40D5-8ED6-6123DFF1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BCC-E05C-43D7-AB27-5042D152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7A9A-93E5-45A5-8A9D-F242E6FB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D23DC0-5C1C-447A-AC34-0C08AF24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F7018F0-AB55-4376-9231-C6165645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0BE2DFA-CB93-4F38-8FDA-09633481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F7E12B5-5620-4D8E-9307-5515EF54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088133A-3D68-4DD0-BF79-7783DDFA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1874D44-5C89-42F8-AD4E-A71055AA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48C7304-0A9E-4119-97A3-4FF9D20A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55A1F3B-E995-4B0A-A1A2-702A1E80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DF11D29-0058-414D-BEE0-5925F4F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990596-0F0E-46AD-B3A2-30D64C1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DC67-DF48-4867-864E-9EA2C63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F2366C-C069-4B56-8149-AC2B19B8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3B93479-309C-4AA2-A980-57566B7A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BB92AFE-CD03-4630-85E3-AE971DE9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11D1-7722-4D51-A833-105FFCF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A750-25B1-46A2-A3CD-8A3F17BF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2157-191D-4177-B970-2DC33C0A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B6BD-11FA-4E8C-B6FE-94DF66E9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C5AA3-E9E1-4290-AF7F-863C3831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09B2-26A7-4AC5-81EA-BB3410DE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05E9-A5F8-4C51-9C57-977C49A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D07F-859F-47AE-8463-23D16AAD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9D8-B507-494C-A92E-94AB66A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30A7-EE0E-490C-8EDF-F865287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0A3A-C5AB-4527-9191-23D85630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728A-C3E8-41B6-AB1E-E48F9767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E6014-6B17-4DF0-B9AA-6DBC1AAF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6F49-14A4-4468-92CC-5AF3135C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65B01-5DE5-4735-8C48-7ABACBC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0AA4-F4F3-465F-BD8B-339DB75B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5C28-92C6-4563-86E8-9E029B80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3B76-8D46-4D6F-B96B-C993F165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322D5-2381-4195-8C98-E03741B6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801-2D09-460C-B239-9E742B9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54BD-3D07-461A-9F0F-5F0DB613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251C-A191-40AA-9B07-345E0E48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1B92-B8F3-4A9A-AC02-A8395C6E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36EF-5E63-4659-9726-821B6367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A987-BCC4-4D5F-9893-E904CBB4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BE2C-E38A-4643-9EEB-FBF574A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F657-FD4B-4A2B-A7CA-70B1599D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1C6C-FFDB-4704-AD59-1521E82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81FA-D423-4E2F-8DCC-38F7C11D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3698-6C0D-4487-9A5D-BD66C120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7EF-1177-4236-9DEB-C0753E39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865B-A270-4B10-A1DF-0CD91F65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776F-8DBE-4746-BC70-F7F10ACB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2FE11-4B53-47BC-9FD7-1F249E2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84A4F-5A89-4502-985A-D26C463F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0FBA-63B3-4BA1-8BE0-4C96359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5EBD-5988-4846-91FC-E8850D1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57D2-1029-4FF1-A99E-EDEBDCC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2C4C7-CC41-4179-8544-3DD9DE9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8E60-C3F4-48F7-B3DA-5E013B6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1D6B0-455E-420D-8E8C-1D56961E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AF1-C150-428F-BB7B-599FA641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B2CD-4573-4EF6-B081-351FC441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B0052-926C-4B1C-A01B-94E73D13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BAB6-680D-4C67-9189-11696BED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94833-0C52-4CFD-967A-30D79BD1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969E1-17AD-46AF-8400-05424B5C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5A030-003F-4CB5-817B-34E3BEF6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8B29-E6B2-4AC3-B412-B5642AF3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BAEF2-CCFA-411A-BAFC-F6C8BA69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4D6F7-7E5D-4FD1-8360-B124EDA8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5BFA7-4CC2-49FD-B442-3E46AF9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6D5-166B-4032-86D0-02A43FB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B8B1-6F0D-47E5-B595-BB554B0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6EDD4-BD41-480D-9DB9-2F4D950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5F0D7-507C-453C-9D7D-925E1593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3D7CF-52CB-49DB-AB68-C5E9F0A5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F33B-AFA4-4FD5-A121-D911A11E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CF93C-7329-46D6-8B92-2790C560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AD998-D080-494C-8B2A-4A50E858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C2804-301F-450F-81CD-A4A6FEF6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6008-417E-4E94-BF94-331BE6A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AF3F-07EA-47A3-A2E7-023BF8A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AC8-2BDB-4569-87A7-4C0262F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85376-A283-43B3-8160-17333E21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8CD0-DFC0-4FF0-AA7B-6300649C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007E0-4374-4CB7-8CBF-EE185164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FE37-6439-41BA-BF4D-D6A1D382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F2B02-DBE3-4261-A397-1CE5CBA7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7693-583A-4B8D-A289-A968DD62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B9559-F1EE-427E-A924-D6BF4734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6E860-5304-4322-92D1-E48712FE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FF839-2478-4D60-BF8F-EF532174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90DDE-1C9C-4369-B664-4B6009AF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E42-C3C7-4E63-956B-9A2AB2AA022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2AEC-8B9F-45EA-B22E-C1C50DCAB5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0D4-D85E-4E67-A857-80ED28E5FD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83B-5426-4CA6-841B-410B1F1B4C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02A6-E583-478E-87B3-21C3949E9C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6DD-2824-418E-BB35-E9C2737022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E57-ED81-44A1-BF69-95049A8C1B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5BF7-3BFC-4B95-9730-C177A65809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3E1-A5D3-4E7B-9012-4A0A730165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ED16-6ACD-45EE-B99D-EEC1F0D42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8EBB-E095-4ED8-8928-52EE5C6F1D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065-5ACE-458B-87F9-1773BFB914F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71C2-86B4-410A-A859-9CF225E4F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5246-6941-4CDB-99F5-A34330EA1F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85D5-9381-41F5-9CD6-307E3A0EAA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B86A-ED02-4CF9-B507-7DDDBB980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C18A-94D6-4545-93CC-40E022B384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011E-DE5C-4496-94C0-1BD3C9A44D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346-6001-4F6F-B796-4E8278CFA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7B47-6B31-4FBC-B855-225D3D9E83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DD07-A553-4E0C-80EC-2F37947031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E20B-4D39-46FA-AD09-B0FEF1B14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5CAE-64FA-443D-8D9E-1EA6D7690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E30F-9696-45BD-8822-7D8A77E2B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4BCA-6578-45D9-9ED2-F05F6A4BAB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5DBE-DC59-4AE2-8A0D-2E63AC6EF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8 – Ostatní 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323640" y="182880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ento účet se používá např. tehdy, pokud zaměstnanci předepíšeme k úhradě pokladní schod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k úhradě pokladního schodku - 335/66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88 – Ostatn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107640" y="1828800"/>
            <a:ext cx="85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omto účtu se účtuje např. nárok na náhradu škody (která byla zaúčtována do mimořádných nákladů), dále opravy výnosů minulých účetních období (pokud se jedná o nevýznamné částky)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řiznané náhrady od pojišťovny – 378/688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Prodej cenných papír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Úroky z běžného úč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Předpis k úhradě pokladního          schod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Kurzový zisk ve valutové      pokladn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výnosy, úroky, kurzové rozdíly, přeceně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finančních a mimořádný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3356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6.-6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1 – Tržby z prodeje cenných papírů a podíl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cenné papíry (např. akcie, dluhopisy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akcií – 311 (378)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akcií v hotovosti – 211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2 – Úro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se účtují úroky z běžného účtu, z terminovaných vkladů, z poskytnutých půjček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běžného účtu – 22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úroků z poskytnuté půjč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íkov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– 355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můžeme použít tehdy, pokud máme devizov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vizové účty nebo valutovou pokladnu (obchodujeme se zahraničí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ledávky a 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které jsou vyjádřeny v cizích měnách se přepočítávají na českou korun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v den vystavení (přijetí) faktury dle kurzovního lístku ČNB. Pokud v době úhrady je kurz odlišný (pro nás výhodnější) vzniká nám kurzový zi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rzový zisk může vzniknou taktéž na konci účetního období, kdy se pohledávky, závazky, valutová pokladna a devizový účet, přepočítává na českou měnu dle kurzu ČN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zboží do zahraničí  1 100,--  3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zahr.odběrat.   1 180,--  221/3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Kurzový rozdíl                       80,--  311/6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4 – Výnosy z přecenění cenných papír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4360" y="1484280"/>
            <a:ext cx="77040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při přeceňování cenných papírů na reálnou hodnotu (tržní hodnotu – dle burzy, nebo znalecký posudek) na konci účetního obdob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ceňování s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netýká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P držených do splatnosti, vlastních akcií či vlastních podílů a CP představující účast s rozhodujícím nebo podstatným vlivem (majetkové účasti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cenění akcií (k obchodování) – 251/6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5 – Výnosy z dlouhodobého finančního majet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6 – Výnosy z krátkodobého finančního majet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yto účty se účtují např. přijaté podíly na zisk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u a.s. dividendy). Podle toho, zda máme akcie k obchodování (krátkodobý majetek) nebo akcie v dlouhodobém majetku, zaúčtujeme dividendy na účet 665 nebo 666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odílů na zisku – 315/665 (6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Přijaté dividendy – 221/3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19Z</dcterms:modified>
  <cp:revision>36</cp:revision>
  <dc:subject/>
  <dc:title>Účtování výnosů</dc:title>
</cp:coreProperties>
</file>