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171-7898-4218-AC6F-B0C3FF47A7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AC42-C086-4E78-9A3D-5B6064BD5A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0AA8-08DB-4282-A74C-E88ABACA69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F03-FF6C-4A04-9582-E8171F2140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548-C75E-4127-8C79-9DD7A0811C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3F5-2CDA-4B09-A234-9C952CED53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E230-90D6-4743-BB5E-3C1685AEE1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9E57-21C3-45B3-9016-06368BF5AD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7AF-6BA8-4991-9E65-09A73D3020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CF39-D390-433A-839F-9B713F728DA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A52-A958-46EB-831D-1123D394B85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BA9E-8CF5-4680-9F91-8434C06F01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58A3-1BF9-43BE-93C9-24D4B3440B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7CB1-46D2-40EC-A8DB-610CBE9E0DB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0D38-C34E-4158-BCF5-C250AECD7C5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CB3-1164-4897-927E-ECDBF2402E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54AA-7BB0-4ABC-9F61-385D698110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FB7-7C1C-45B8-83CF-70DA9440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DD7-63D9-40E1-8F50-2A930ECD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128-E413-48A6-BFAE-F92EAF18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CB0-EED3-425B-B3BE-2C4E0DFA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9433-C042-4DC9-9072-662C928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294D-F7E4-4DB5-8AD5-2A85EA78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E010-B720-4472-926C-AF378FE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B0B-B8F1-45EF-B7C2-1202922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B1CD-BFF8-464D-BF74-C6FB43F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119-149B-493A-BF2C-17BA713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5CA9-7002-4B95-896B-51EF97B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3B6-7F20-483B-A4E6-591D3D04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AC96-8EAE-4AB6-9E75-7EEB06F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2391-4930-4953-889D-9BC27F2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50D8-D60A-42CC-9681-57592A4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DCD1-D3CD-490E-A62C-CB5D3E7E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9414-D45D-4067-A80A-0638CA78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16973-FCE1-40A9-A118-761A16E6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B9C90-7C39-4F1F-BD74-FADB6310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7B510-EF2B-40E5-A0D1-B984E23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54FBE-302B-4D7B-A7F6-BA796A4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FE5F3-C2D5-47E7-9B44-4E9D637B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2D3-42CD-4F74-B4D0-46A7B3FB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D40F2-DB6F-4594-A458-2C2E450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C2F28-1C25-4F93-B424-9BE1D5B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3D2C9-75BC-457A-B1DF-2BBEC1A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6FCB8-BC1E-479C-820C-73B6849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FEAB5-2945-4BF0-B4E3-050BE1A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369F7-1FD1-41D2-96AE-8C4F5593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64A79-DDDD-436C-AE1A-7A4152B6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6D4-50F9-4614-A4FB-CF47F283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386-D985-44DF-A91C-AF92EA68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D41-CA7C-4FC8-87BD-AC5F4A5D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828-2B13-4B89-A21E-8D8E310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65C-0B51-4ABD-A69B-02DEA9C6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348-F36B-4449-86AF-9D8B4E2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6E31-19C5-45CF-9460-CFE074797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8F36-8166-4441-BBC8-49E89DC46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2D97-E6AE-407E-B10C-F3CBD074B0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4. Podle kalku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Přímé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lze přesně určit spotřebu na kalkulační jedn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u základního materiálu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kolová mzda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Nepřímé náklady (režijní)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nelze přímo určit na jednici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energie (osvětlení)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. Podle místa vzni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edná se o členění nákladů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odle hospodářských středis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é středisko je relativně samostatně hospodařící vnitropodnikový útvar, který sleduje své náklady, výnosy a zjišťuje výsledek hospoda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 vnitropodnikových útvarů (HS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sprá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výro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dopra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odbytu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 základě těchto informací se provádí hodnocení hospodárnosti a efektivnosti jednotlivých výkon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áklady hospodářského střediska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ze rozdělit n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rvot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převzaté z finančního účetnictv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druhotné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vznikající ze styků s ostatními středi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Daňově účinné nákl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jsou dle ZDP daňově uznatelné (slouží na dosažení a zajištění příjmů „výnosů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a zaměstnanců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21/3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1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2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8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hrada silniční daně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1/21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daňově neúčinné nákl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ZDP neuznává jako daňově účin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robněji budeme řešit pří výpočtu dan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kup občerstve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3/2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ta od FÚ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5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ovací daň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8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3/22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 členíme náklady podle vztahu k objemu výrob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é máme náklady podle vykazování hospodářského výsledk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Členění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můžeme členit podle několika kritérií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1. Podle nákladových druh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náklad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e účtové osno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 Na základě účtové osnovy si účetní jednotka sestaví účtový rozvr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 – Spotřebované nákup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1 – 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2 – Spotřeba e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3 – Spotřeba ostatních neskladovatelných dodáve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4 – Prodané zbož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 –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2 – Cestovn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3 – Náklady na reprezenta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8 – Ostatní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2. Podle vykazování hospodářského výsled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voz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é skupiny 50 až 5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atří zde náklady, které souvisí s běžnou podnikatelskou činností (souvisí se  zajištěním provozu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stov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dpisy D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ové nákla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ištění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Finanč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á skupiny 56 až 5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se týkají finančního majet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ceni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roky z úvěrů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ankovní poplat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rz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ztrát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ladní schod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řizovací ceny prodaných C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) Mimořádné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jsou neočekávané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nepředvídateln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kody v důsledku živelných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ro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na změnu met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orba mimořádných rezer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3. Podle vztahu k objemu výrob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fixní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neměnné) - nejsou závislé na objemu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atří zde např.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aňové 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držba a správa budov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ilní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proměnlivé) - mění se s objemem výkonu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mzdy výrobních dělní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oc. a zdrav. pojištění, které hradí firma za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yto dělník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41Z</dcterms:modified>
  <cp:revision>26</cp:revision>
  <dc:subject/>
  <dc:title>Náklady</dc:title>
</cp:coreProperties>
</file>