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56F9-30A0-4AF5-84D5-BD12E342B5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D587-B9EB-4796-82CE-F9747C9E1F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E65A-6F08-4B55-8157-DE20C60FBF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7076-0E86-41F8-9523-21DF7B7BFF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9F55-4770-4BE8-BC3B-F8F818BAEE3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47FF-2668-4063-9496-10812B6D5E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2F93-6A7E-466B-8864-D91C7CBE98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4A6C-29B0-4CD3-930C-BB2CE6A913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0F04-B504-457C-B5D9-C25C35EA89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4227-D1D1-4DA5-9320-B8726A601E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BAEF-11A8-48E5-AEAF-C116222F56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E2AA-CF8E-4E52-94D4-642C508F62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1471-60C1-4EDB-AEA9-877290B9F6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15B-AD87-4C52-BD9A-DD0BD02A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3EC-3D8F-4CE1-A044-91DDAED5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8B1-A815-4CCB-9E59-301934CD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97B-7624-41DC-AB02-6EAF01F0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C2B-6902-43B5-889B-68C46988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D60-082E-40A4-AEEF-5F394A65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C8F-5B05-4C59-9FED-C2F08538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66F-8BDC-4242-8A0A-D5846D4F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9FC-F08E-45BD-97FA-567E3ED4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6C7-FB07-4396-9F26-3D8AE37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BC9-4860-4FDE-88CD-BF5FCC60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18D-56E5-45A9-8023-E09BB87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DC8-DB93-411A-BA9E-F7B5CC356FE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8 – Ostatní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ek na stravování, který převyšuje 55 % z hodnoty stravné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– 528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zaměst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společ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ákonné soc. a zdr.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do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nad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hrubá mzda, sociální pojištění, sociální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1 – Mzdové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(zaměstnancům) ze závislé či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zaměstnanců – 521/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22 – Příjmy společníků a členů družstva ze      závislé činnost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ze závislé činnosti společníkům (pracující ve společ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společníků – 522/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4 – Zákonné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dravotní a sociální pojištění, které je povinen hradit zaměstnavatel za své zaměst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oc. a zdrav. poj. – 524/3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soc. a zdrav. poj. – 33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5 – Ostatní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ky na penzijní připojištění a zdravotní pojištění, které zaměstnavatel poskytuje svým zaměstnanc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26 – Sociální náklady individuálního podnikate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náklady na zdravotní a sociální pojištění podnikat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účet používá OSV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zdrav. poj. za OSVČ – 52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7 – Zákonné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náklady, které byly vynaloženy za účelem vytvoření pracovních a sociálních podmínek a péče o zdraví zaměstnanc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např. o příspěvek na stravování       (a to do výše 55 % z hodnoty strav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-  527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55Z</dcterms:modified>
  <cp:revision>16</cp:revision>
  <dc:subject/>
  <dc:title>Účtování nákladů</dc:title>
</cp:coreProperties>
</file>