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164-A161-417D-A8F9-1C45C18670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EB59-18FF-48B3-936B-232E8E561AD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6F4-0EB3-4EB5-AAAF-7227DCD01CD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667-1CAF-4021-9449-2F1D528123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A93F-1548-46A7-AE57-BB0421DEAF8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604-66D5-49E6-902C-AEBF399155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7130-EF8F-4F34-B282-34CCAC88847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A54-A56F-4F9C-8097-8638C4196D8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72EA-6F90-4897-9450-C15F11E0CF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0937-6778-484F-A4FB-4291515DF23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15A0-8F34-48B5-AC67-488078871F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8BA-CEBC-42C0-860E-F182E59F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098-ECBA-4F3E-9B12-5711C48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D34-3B9C-4CFC-A5D4-68795547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179-B89D-4FB9-99A3-B747234F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E6B-6738-453C-B450-AF67FF16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1354-4EE0-43AD-982A-ADE58DF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E620-814D-4E7D-ADA2-6CEB9CE3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2924-DF0B-4857-8F13-5BB65799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BE2F-7218-4429-9AFD-9614552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CBB1-BDE4-45B2-A75C-C785436E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4794-A5D0-4C90-8B59-2E32016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6DD-25F0-4D29-A1A2-31014E5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0B2-B2F6-43E1-AE99-5569A71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2DCF-D519-4D52-A36A-8DD5AF7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312-74B5-4266-938D-380F9124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3ED0-2C5D-452E-BD4D-10202DE9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3644-9E96-4DF5-B81C-3A57977F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E08D6-53AB-40EB-B08F-59E76166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9CAA0-4BBC-4ED5-9E15-3588C0D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F1076-5ED2-4EA0-B402-67054BF7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58274-A0F1-492A-A8A8-4BCC1969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6D93B-051F-4CA6-97EC-15F552A3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086-D9C2-41CB-9758-3AF45DEC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38B30-5538-47A8-A50B-226A822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A2208-06B7-4009-A6BD-9247201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56EC6-32AB-409E-8F12-BCC1725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CA28F-992B-462C-BC26-7280D5B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6F0C6-27E8-4495-BD71-982CAC86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CDC05-47D5-47E7-AB97-C52681E2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9FE6E-72A3-4AD6-90E1-4904DB9A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BDA-D551-4131-A392-793BF0C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AA2-AC3A-4F35-87BF-BF7BE796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1D8-CD69-4629-AA6F-2274900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B4F-B030-48B2-AB05-B4CA3B5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D15-31D5-4F90-A53B-21C2599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728-10BE-424E-BE08-E804B73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C5F2-AE8C-4212-B1D3-CB3CC5ACE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484-8081-4297-A2B3-09482AC46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052-B45F-4672-9F7F-7DDCEBD35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dej, tr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rodej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rodej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prodává svůj dlouhodobý majetek (který není ještě zcela odepsán) musí zaúčtovat zůstatkovou cenu na účet 541 – Zůstatková cena prodaného DHM a DNM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62064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 z prodeje se zaúčtuje na účet 641 – Tržba z prodeje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stup při vyřazení v důsledku prode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řádný odpis za část roku (poloviční odpi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ou cena (VC – opráv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majetku z evidence (V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auto jehož VC – 300 000 Kč, oprávky činily 160 000 Kč, a odpis za část tohoto roku činí 30 000 Kč. Auto prodala odběrateli za 13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110 000 Kč  54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0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130 000 Kč  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436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prodává neodpisovaný dlouhodobý majetek (např. pozemek) 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    541/03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budovu jejíž VC – 2 000 000 Kč, oprávky činily 950 000 Kč, a odpis za část tohoto roku činí 50 000 Kč. Budovu prodala za 1 29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prodala obraz, jehož                VC – 80 000 Kč, prodejní cena činila 1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56Z</dcterms:modified>
  <cp:revision>50</cp:revision>
  <dc:subject/>
  <dc:title>Náklady</dc:title>
</cp:coreProperties>
</file>