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17EC-C5E7-49C4-B9A7-5972DF486F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6D9-E0FB-4ABA-8667-C6E4CA55D16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1D1F-369E-48DD-86DC-7099B9D58C5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FB33-E999-447B-84CE-AB92FCC20B0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C0FA-3D3C-4C2F-AD08-95C7FF1A6B6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9B49-27C7-4A96-A46F-80466784F83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1B72-A794-443F-BC57-4DEC02A7CE9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6537-2661-447B-A9B6-BCB7CF0BF90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5A9F-D7E8-47A7-9E33-5B47EB63DB8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99B1-7049-4037-9E01-6E01E89552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54EE-4CF0-4823-8BDC-C871B86371E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2FAD-5C21-4530-8D17-D0E8D4E7A3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3EBD-D690-40D6-9063-C37A002D708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A2C0-2A6D-44B1-B194-6E9ECE592B6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8F33-F3CB-4237-AD77-1FEA7B527F0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C062-2337-4467-9AD2-6A5D523CC0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12F6-B795-4249-8F0E-AFFB40FA681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0B74-D857-4AE6-95F9-1ACD3327D4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F02-0BA4-4CD8-95D7-758864D64AA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873-D12F-4585-B6D0-DBBA754F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2D6-DEBB-43B2-A753-B77A8A44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602-2139-4DEB-9490-FA6E2F3C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C11-4A07-4014-84E5-2989859E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434A-47F8-4564-807F-85301192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1918-FE3D-4567-BF50-DFC261B3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9AF-4ED7-4F86-8C5D-9B0129F9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BE2E-73D2-436F-B552-482A15D3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2DE6-225A-4F37-A185-6231458B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2DD6-5EE6-4D71-BA0A-C2BC3152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5DED-A0AA-4830-BE81-74DB2FAB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ABC-A1EA-45C4-9700-C7E3AF6D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58DC-6F2C-4042-AAC4-6C16DF0A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2C1E-E4B0-4A11-9CDF-C5E6A4E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A781-2EDB-4EEE-B058-6F6E4A23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7F2C-7EE0-4482-8DBE-34AB7A91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A64E-777A-4E1C-B49A-056961F7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C5A78-0396-4C59-A1E9-AD1FD152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53234-85F5-4C67-8BBF-508C2209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A53F4-EC97-4CD0-8DF5-1B4BB998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3DC64-0BEC-4B02-9EFD-85E284E7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A455A-9ADF-47FC-8414-AD7D03F2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E8F-826A-4DD6-B795-C56C45FE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75970-3F72-42BF-9E7E-E79C77E4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F71E4-2918-462E-B00B-58DFE2E6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4641F-7789-4DFF-94B7-9C4BDD8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BE97E-5055-4596-B2E0-5F47D485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F5817-CEE1-4BB1-8EAD-804EB489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58FBD-4719-4542-BC75-6CFAFA71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59C2E-174C-406A-AD5F-BA064D4F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195-A4C9-4D96-83F4-64738D4C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40E-D4FC-41F2-87E7-4C93B8B9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55A-CD03-4C0C-B490-3C66F4F2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367-76DA-4529-81C8-A0D22A4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576-DE91-4841-A8A2-A02D49D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174-E624-46FB-9DAE-539CB9B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EB46-B0BD-4076-B779-5ACE52751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20DF-2247-4B91-93D8-B0A94FEE11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E61E-BA35-45D2-BF69-664884C2A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pis     =    Vstupní cena x sazba (v 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3276720" y="4005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76360" y="1125360"/>
          <a:ext cx="6335640" cy="390708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2560"/>
              </a:tblGrid>
              <a:tr h="3589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 odpisová saz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 roce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 letech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 vstupní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rovnoměrné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rovnoměr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prvním roce        odpis =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stupní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koefici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dalších letech     odpis =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2 x Zůstatková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 – n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počet let odpi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4572000" y="335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427640" y="4797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187280" y="1125360"/>
          <a:ext cx="6193080" cy="3818160"/>
        </p:xfrm>
        <a:graphic>
          <a:graphicData uri="http://schemas.openxmlformats.org/drawingml/2006/table">
            <a:tbl>
              <a:tblPr/>
              <a:tblGrid>
                <a:gridCol w="2529000"/>
                <a:gridCol w="1220760"/>
                <a:gridCol w="1222560"/>
                <a:gridCol w="1220760"/>
              </a:tblGrid>
              <a:tr h="35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eficient pro zrychlené 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ůstat,.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zrychleného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zrychle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6560" y="7461000"/>
            <a:ext cx="7696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aňovým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ý odpis, 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daňový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aňové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(příloha 1)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při pořízení dlouhodobého hmotného majetku zvolí jednu ze dvou meto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ovnoměr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rychle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volenou metodu musí dodržet do konce odepisování (v průběhu let odepisování změna není možná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 pokračovat až podle rozhodnutí podnikate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případě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technického zhodnoce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ouhodobého majetku (přístavba, rekonstrukce, generální oprava stroje, zabudování klimatizace do auta apod. dražší než 40.000,- v jednom roce) se zvyšuje hodnota dlouhodobého majetku a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pisy se provádí ze zvýšené cen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ové skupin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ý hmotný majetek se rozděluje do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 odpisových skupin,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to podle předpokládané doby životnost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68360" y="836640"/>
          <a:ext cx="7488360" cy="4397400"/>
        </p:xfrm>
        <a:graphic>
          <a:graphicData uri="http://schemas.openxmlformats.org/drawingml/2006/table">
            <a:tbl>
              <a:tblPr/>
              <a:tblGrid>
                <a:gridCol w="1008000"/>
                <a:gridCol w="1224000"/>
                <a:gridCol w="5256360"/>
              </a:tblGrid>
              <a:tr h="76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ro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vězí dobytek plemenný, kancelářské a školní potřeby plastové, kancelářské stroje, ruční mechanizované nářadí a nást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ě, koberce, cisterny, čerpadla, transportní zařízení, prodejní automaty, traktory, stroje, letadla a kosmické lodě, kolotoče a poutové atrakce, lešení, trolejbusy, nákladní a osobní auta. 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abrikované prostorové buňky z betonu, trezory, dekorativní sochy kovové, turbíny, výtahy, lodě, železniční lokomotivy, tramvaje, vozy metra, skleníky,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y a budovy ze dřeva a plastů, tribuny stadiónů ze dřeva a plastů, bazény ze dřeva a plastů, průmyslové komíny, vodovody a kanalizace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y, tunely, budovy, stavby, dráhy letišť, studny, dálnice, ulice, silnice, tribuny stadiónů kromě dřevěných a plastových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ovy hotelů, obchodních domů, muzea, školy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Metody odepisován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1:54Z</dcterms:modified>
  <cp:revision>50</cp:revision>
  <dc:subject/>
  <dc:title>Náklady</dc:title>
</cp:coreProperties>
</file>