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1767-2CD5-4BA6-9849-4554391AB9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CF10-430E-4E56-B2F7-B369349A358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9EBF-FEC1-4AC6-8CD6-06E6A39A8F7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7BF9-4ED2-44D7-8F7F-430AE9519CE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8328-1650-4E52-B172-617126EDF74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A39F-AF51-4BCC-90B5-F59ECE80769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349D-297B-4420-9488-4E095886654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4D64-A97A-43DE-A26A-E275A7F9890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EC0C-DCCB-4500-AB28-CFB8D20A2D6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3CAA-AE81-44D4-97A7-3D132B5BC92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69E4-4435-40CE-A5F0-77CAB7E4D63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65C0-1124-4EA0-8B2A-A7432F34A0D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3358-5BAF-4CDB-B706-6F8C57AD7D0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96E-DB9D-4254-9A60-67E423F5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7F3-E84D-4262-A674-2066C542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270-0B3C-476C-A8D9-5519E6B0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188-7F28-4FF5-AC41-92D0D11C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826C-5844-4C54-98C0-D9848757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8A59-2DA5-40B9-A41D-C3472537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EF19-996D-4BE6-88D7-E61F5A7A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998D-F800-43E6-85BA-2B49F1BE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88E0-D34F-4691-89F2-11C66A80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C3DC-9332-473A-B56F-CE56D472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6F71-FC54-46F4-994D-BFB918B8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709-4ADF-455C-BE18-B65EE5B7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5284-2609-4989-AF2F-AB937498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9148-05E7-47F7-9017-D4EF3330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E238-5744-494A-9296-4E87C917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6CD5-4A35-4647-A458-5840AEA2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8FDD-9608-4523-B207-557E481A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99DD1-0018-4195-8F48-8D43E6B8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906B4-1650-4533-95AE-C0B24498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C46E8-79ED-44DB-85BA-B3CBC89A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5E4A8-2FFA-43AD-BEA7-1CC48FC6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5384A-DC68-4B87-A0E2-5AAC5468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870-7414-41A3-AC41-7029E53D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EB912-A5F2-492D-A94F-119C4378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62CD0-05D7-4D2D-9DD0-6C5BD27C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DDE75-20DA-4387-A270-7F2A81FF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C27AB-AE75-4A05-B8D4-2E571AE0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1568C-6124-4F13-8D6C-880A6DA4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79D32-3B3F-4BE7-877F-28CD9A33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AC803-0F5E-4941-8FE4-0F638FFA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36F-1140-4FAD-A808-7549CB2A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989-4934-48EB-ADF6-A7274832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F87-452C-4C6A-A036-2BDFB6B8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4CD-2273-41B6-B341-A8CE7BA0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C79-CFB2-456D-884C-0E98F7B5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4CD-7BE4-42D5-8CBD-50526B25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BFC3-F95C-4982-AADB-3D1DD87394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995E-A498-4B54-8CD8-5881C15007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42E9-2790-4E70-A0EC-9EA15DAFBB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polečník vložil do společnosti dodatečné věcné vklady, a to pozemek v hodnotě 500 000 Kč (který zvýší hodnotu ZK) a auto v hodnotě 250 000 Kč (nezvýší hodnotu ZK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vklad pozem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500 000 Kč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31/4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vklad au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50 000 Kč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22/4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poří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r, leasing, převod z osobního užívání, vklady společník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63640" y="2349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statní způsoby pořízení DHM a DN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louhodobý majetek můžeme pořídit také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1916280"/>
            <a:ext cx="8131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arování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vodem z osobního užívání do podnikání (u podnikající fyzické osob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klad do jiné osoby (např. vklady společníků do společnost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836280"/>
            <a:ext cx="769608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ar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získá dlouhodobý majetek darováním zaúčtujeme na příslušný majetkový účet a na účet 413 – Ostatní kapitálové fo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auto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pozemek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1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ekonomický         program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3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11280" y="765000"/>
            <a:ext cx="7696080" cy="45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Převodem z osobního užívání do podnikání    (u podnikající fyzické osob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kud podnikatel převede dlouhodobý majetek do podnikání zaúčtujeme na příslušný majetkový účet a na účet       491 – Účet individuálního podnikate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atel převedl do podnikání své au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účtujeme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/49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Vklad do jiné osoby (např. vklady společníků do společnost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získá dlouhodobý majetek vkladem od svých společníků, zaúčtujeme na příslušný majetkový účet a na úče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1 – Základní kapitál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při vzniku účetní jednotky) a vklad 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1128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9 – Změny základního kapitálu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po vzniku účetní jednotky) a vklad 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3 – Ostatní kapitálové fond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pokud vklad ne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8:44Z</dcterms:modified>
  <cp:revision>53</cp:revision>
  <dc:subject/>
  <dc:title>Náklady</dc:title>
</cp:coreProperties>
</file>