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095B-6D3E-4EC5-8217-D5905A5DE3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6CF0-1205-4317-944A-5591317D8FA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A3D5-4D0D-4F0E-B728-E032915458F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2302-6900-4473-BACC-E707DBC5A0E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B501-F197-4376-8CA9-6574F9CA992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2A9-18F7-444A-A496-839CEFD1FB4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C935-709F-4E7A-A098-DECFF0F5FBD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A72D-F1F9-4DC4-9C1D-2F46574535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7693-C8A2-4AF8-A4EE-B71C6195486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1EE-A8E6-45C8-A357-527ED2C1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C83-DC65-4BB9-937C-8A2488EA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9A9-3B17-4837-B3E9-BACBABE1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600-B279-4CDF-9F99-0995054F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5C12-4955-419A-844B-C4FB1692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C6BF-81BB-4A75-85D6-1C965F2A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3BC5-EA7C-47C3-899D-E1937C82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F864-BD8D-4866-890A-A2C9383C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E1F5-CD82-4000-865E-DF4C59EA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EC50-E0CB-4E5D-867A-615B3F7C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7373-1567-47FF-A893-9A2F2004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740-A24B-4036-9A3C-29534C3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F407-42BB-4E87-81C1-6E6DAB2A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0367-1A95-40E3-8761-885CCCC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7DF7-A51A-47CD-8DA2-11AF8DD6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0453-094A-4E9A-8988-70A2576A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2189-3C7E-4F10-A870-BEF7B684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54CC4-EACC-4BD5-86BE-B78B53B9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C549E-4E86-4E0C-82D3-C7666F1E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ACCD7-FE6E-41F5-B362-A3E7C423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A0612-CD85-465E-B212-483A7093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CF5F0-E14E-4F9F-A14F-78B98A72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828-9704-4935-8BA2-4EC970DC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27654-486A-4F88-A5D8-B37C96E6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2C8E7-A17F-4E6E-98EA-04B7031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B2370-B73D-4191-BD81-EBFDE29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C2C6C-3630-490F-9D5D-042CB12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F5E70-783F-484A-95A3-37DAD63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0EFF4-E1E3-44BE-8FB2-1CF5916C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3A650-D8BE-4E9E-A6FB-315FAE37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061-3CD5-42FF-9042-219686E1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6E2-16B2-4B1A-B2BD-50D6015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EB0-124F-4C99-A8F5-BD48CC5E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8BC-FF9D-4454-B9F4-08FF05B8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A47-F5B7-479C-B314-F960063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D80-18EA-43E4-BBC2-47C9E89A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D828-9D81-4098-8872-0285AC4CE0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F004-E040-42D4-B3E2-46B17A5789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32B5-5931-425D-AC08-3A4D4AB6C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DHM zahrnuje: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zemky, budovy, stavby (bez ohledu na pořizovací cenu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amostatné movité věci, jejichž vstupní cena je vyšší než 40 000 Kč a doba použitelnosti delší než jeden rok (např. stroje, dopravní prostředky, inventář atd.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ěstitelské celky trvalých porostů (lesy, louky, sady, vinice, chmelnice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ákladní stádo: užitková zvířata (stáda krav, kozy, ovce) tažná zvířata (koně, voli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2 - DHM 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1 – Stav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– Samostatné movité věci a soubory movitých věc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5 – Pěstitelské celky trvalých porost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6 - Dospělá zvířata a jejich skupi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9 - Jiný dlouhodobý 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3 - DHM ne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 – Pozem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2 – Umělecká díla a sbír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12Z</dcterms:modified>
  <cp:revision>36</cp:revision>
  <dc:subject/>
  <dc:title>Náklady</dc:title>
</cp:coreProperties>
</file>