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F965-F568-49FE-B391-B141AD5F677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4D8E-66A2-4231-BE71-060B7A19C48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8BA1-7930-46E6-995F-21A9A3C7708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71D4-3AED-421A-AF42-A50937EACBA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E292-F285-4C73-A962-C48697E7BA2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8CD5-B374-4909-91D1-A900285DFC3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15AF-C476-4B91-8C2C-47158E61A83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DB74-FE84-4530-8372-1727C554B4B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8979-2959-475C-BCAB-336C9E37C85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91C3-A2FF-4E99-AE2B-5A96198557C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AE74-E1C5-4C14-B007-466DE9BA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2FCC-D979-4928-8D68-986DDED8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AA7-3320-4CDD-92CE-8E74ADCD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9929-0960-468D-8BF2-885B9A54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FB02-1A79-45FF-BA5D-005E3B1B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14D2-2835-43C6-B147-989C9973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359D-1AB0-4B38-9567-6535CFDD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7527-E3D6-4FDA-98DB-429C8CC7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E338-11D5-4036-BAFE-A6B41774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3D03-56BC-4EE4-B780-F6EB5CD3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1E93-8678-43F1-8D5E-576484A6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A48-3D7F-4EFF-AA27-F472AEA6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A7AA-3CE4-441B-BF75-990DF320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659A-93F6-4688-AD0D-A15210F1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76C7-CA28-4FAF-8B76-5A8FA9E4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EFAD-C0DE-42F3-8CC1-787AD415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F5B8-A86B-40F2-AA1A-BAFA79FE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F036E-473C-469D-A6AA-E92537CC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A45018-D169-41EC-8BDD-F2F2AF93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D8EDC-7D9A-4956-BE9C-99978C0E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0119C-F7FD-4586-8045-1CD54A8B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22A82-4EF6-4526-A051-C011D842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14A-F4E8-43EF-9D8A-1F201BD5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DB463-424D-4959-A9DC-4DFB624D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AC16F-FAA6-488B-80F7-07808BE4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3A2D1A-711C-4860-A09A-732C094F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C6D6A-615F-4875-B1A9-0184C35D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1A966D-9FE0-40A3-87F8-C8C68FF0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F5269-C258-4BC4-8AC3-418FAD4E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317C3-3149-43A6-A71C-F3953937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472E-A9CD-4C86-BC82-7BED6082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D08-7258-4A99-A4DD-2B4921DE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78F6-B69A-4798-BEC9-01C92FFA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2B5-709B-44CD-B0BC-973ED4C6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7708-8F17-41F0-ADAB-C039E824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BC81-EB59-49FA-83BF-6F7F06AA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DD0A-0A24-4DB4-A152-D636F286B8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7205-1F59-4CDB-9F9D-3990CD039D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8B1A-A92F-4A53-AE24-5ED139286F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louhodobým finančním majet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finanční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Dlouhodobý finanční majete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Dlouhodobý finanční majet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o dlouhodobého finančního majetku firma investuje, chce-li uložit své volné finanční prostředk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Do dlouhodobého finančního majetku patř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louhodobé cenné papíry, které podnik nakupuje na dobu delší než jeden rok (akcie, obligace, vklad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ůjčky poskytnuté podnikům na dobu delší než jeden r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nemovitosti, umělecké předměty z cenných kovů pořízené podnikem za účelem obchodování s nim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oubor movitých a nemovitých věcí pronajímajících se jako cel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280" y="-1717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42560" y="1341000"/>
            <a:ext cx="76964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6 – DF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1 – Podíly v ovládaných a řízených osobá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2 – Podíly v účetních jednotkách pod podstatných vliv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3 – Ostatní cenné papíry a podí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5 – Dlouhodobé cenné papíry držené do splatnos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6 – Půjčky a úvěry – ovládající a řídící osoba, podstatný vli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7 – Ostatní půjč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9 – Jiný dlouhodobý finanční majet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2:58Z</dcterms:modified>
  <cp:revision>37</cp:revision>
  <dc:subject/>
  <dc:title>Náklady</dc:title>
</cp:coreProperties>
</file>