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32EB-8A3E-4884-9F90-7658004F101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3779-E864-41F1-9A49-B7DED913D55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775F-ABA7-40F7-8498-2DF618DDFCC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39FF-8424-465B-B87E-502B478D380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55FB-331F-459D-9E16-5F574C8C1AD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A78E-97EA-483A-B72F-7BCDE417C1C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A27A-C818-467C-B742-1A1DDA2FCF4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31E4-E9F8-46C0-93B0-E17A4A8AA51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63DA-0B81-4735-ADA1-93C15729204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9AD6-0A98-4F2A-91F9-7AFE8CC7746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E1A9-8254-432E-A5C3-8FAD91832F5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3B09-9267-439D-B6B6-AE937C4FA94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3C80-DDDB-4A61-B2C4-CC29BAFE41E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442-75EF-4518-BBE3-4553C12B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C4A-AF38-495F-A2F1-2347DE84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5029-E400-4C6A-BCF8-C8B4170A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5B45-950A-4547-AF38-B476A3D0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4A48-9BF9-4483-8033-221CFFE3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63A0-4193-4816-811F-4EB7C616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77ED-4F20-4622-9EDF-B4FE2050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8659-9473-483E-A9DD-F7472100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0E69-CDDB-4D18-935D-EF40D043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B77F-5106-406A-9E2F-F607ED44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0973-E660-4277-BFA1-751947CA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683-4F98-4654-B8CB-5C111371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8FAC-38A1-4095-B360-0BBE7F16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A29E-9815-488F-831C-1A5ABD32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085D-0D9A-4601-9B19-95B24BC6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9B72-2EE5-4450-96DE-F22DD7C1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FB5C-67AE-4E1D-8696-925AF039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EB638-68F8-435A-8BE5-65FD64E5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F9DA7-3765-4BEB-8D5B-36447E76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7B3FA-0337-4E06-B0CD-046C6367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74B5D-474B-4138-B0E6-D2AD13C9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0A70C0-79A9-48C2-BCDD-23A2F64A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979-5C88-40B2-B84B-1CACB8E1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153987-9E05-4FC4-B266-41D8A70B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BE4C8-9D22-4511-8A38-60FCABBF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80889-E5D0-41D5-BC42-34C692C8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EEB7C-CA6F-408E-89F0-D329FAA9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65B77-6DDE-4044-A180-2B1EDF93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3A890-4200-4352-B7DE-12140752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1F8B1-FA45-4022-8727-B41AB215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44D7-57BF-45B0-81F0-167D6318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E3F-EC82-42BA-B3CA-2CBC419D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D16-1AE3-4BE4-ADDF-E149F9A4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A2F3-0B63-42CC-92A1-23336C2B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EEDD-9768-42EA-83EE-D5FA6127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D5F-EF1E-423B-89B6-EECB2A00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D495-C807-4310-85B5-04A33DBC07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8E27-26EE-4FCA-A3CA-31160019E3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A247-CA03-4853-A9B6-849E97A96A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auto za 300 000 Kč. U tohoto auta stanovila rozvrhovou základu na předpokládaný počet ujetých km, a to na 200 000 k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 roce 2012 bylo najeto 12 000 km, v roce 2013 - 35 000 k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na 1 k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00 000 Kč/200 000 km = 1,50 Kč/k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20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2 000 x 1,50 = 18 0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20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5 000 x 1,50 = 52 5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etními odpi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ýpočet účetních odpis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68709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Účetní odpis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sestaví tzv.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pisový plán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podle kterého postupuje při výpočtu odpis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stanovuje účetní odpisy pro jednotlivý majetek např. podle předpokládané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oby použitelnosti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nebo podle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bjemu výkonů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. Výpočet odpisů podle předpokládané doby použitelnosti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etní jednotka si sama stanoví životnost majetku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tanoví si počet měsíců po které bude tento majetek odepisovat, a to rovnoměrn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yto odpisy se zpravidla počítají s až od prvního dne následujícího měsíce, kdy byl majetek poříze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11280" y="1700280"/>
            <a:ext cx="76960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dne 5.8.2012 stroj za 240 000 Kč u kterého stanovila životnost 48 měsíců. Odpisy zahájí od následujícího měsíce, kdy byl stroj poříz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6560" y="1628280"/>
            <a:ext cx="7696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počet měsíčního odpisu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240 000 : 48 = 5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počet odpisů za rok 2012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5 000 x 4 = 20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11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dne 10.5.2012 výrobní stroj za 135 000 Kč u kterého stanovila životnost 54 měsíců. Odpisy zahájí od následujícího měsíce, kdy byl stroj poříz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počítejte výši účetních odpisů za rok 201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2. Výpočet odpisů podle výkon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6560" y="1413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chází se z předem stanovených výkonů (např. u auta z celkového počtu předpokládaných ujetých km za dobu životnosti aut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y se vypočítají tak, že skutečný počet ujetých kilometrů se násobí podílem pořizovací ceny na předpokládaný počet k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2:14Z</dcterms:modified>
  <cp:revision>49</cp:revision>
  <dc:subject/>
  <dc:title>Náklady</dc:title>
</cp:coreProperties>
</file>