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C75B-CFB7-44D8-99BA-B81D8819EC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A7CB-ED9B-4F02-9E4F-8102D1E73FC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7C34-24AE-474F-94D5-1822AD93D31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D2CA-CA96-441C-A14C-4A5884E842C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39D2-F2D8-4CDC-B743-F3C01496140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4C8D-5A7E-4B5C-BDE9-4CE4C2EF2BA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5744-E499-4A2F-A5E6-07B354601F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AAF3-8133-474E-BD4B-2D2EECB736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5CAF-C737-4A6C-8AC2-315CA1339DB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9F3-BAC8-4610-A581-3C2C45BC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FA2-FE34-4FD1-93CB-441AE99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6B7-001A-43E3-AE84-0EB9E808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35D-7C47-41C6-937B-90ADD352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B0E1-7587-420F-A99C-E3B13AE8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64D8-54AB-40C2-9D0F-CA48FC78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C97A-9EA3-4C01-9BD3-91EDBF81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C460-08B5-49FA-9D74-9479960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07FF-A746-45BD-887F-417F8BD4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4DEE-1979-4035-B939-E51F471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7506-60CD-424B-986F-B916729C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F3A-9BF5-443B-8571-BF23387B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D834-0B8F-4F2C-99DE-006F213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A817-0361-44F2-A078-7A112488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4037-CF60-49D0-9E0E-F3BD2785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701F-65B0-46E4-96C4-76D6F613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97D6-59E3-4FD5-B4A0-6D49FDD7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835E3-FE58-4932-AF2A-00DF8C5B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1DF59-CDB0-476E-AC13-96F86F4D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28587-857D-4553-8261-F7D01A4E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8CF82-0563-4CE5-AB5B-733E3C04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0F31C-8CEB-400C-BF9C-0FADACDF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E88-8F5D-4C7D-AE33-C66659A4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9362A-BD68-457B-B0CA-62962EA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3E939-6900-4B0A-94FF-AB1A97F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744F7-4DA9-49DB-BFBA-722C2F5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99E30-B5EA-4D00-8214-1A836582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B87F8-C443-4C3C-BA24-28A718DC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33269-CBDB-49FE-A49D-3C4C316D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85822-F55B-4C3D-9844-DFADD14C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D25-013F-480A-A068-3466D44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23D-0108-4ED1-A509-A075AF9A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3D1-C3F8-418F-96A1-4DEA7911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55D-E075-45E3-91F5-70DAD86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4D2-15DC-46FD-8E87-4903A3DD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D1B-68C4-4C85-BB00-3003516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4F7-E37C-460C-938F-C5179CD22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EBC2-6371-4626-9BB5-292B4D425E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7CFD-5EA4-4630-A6ED-A5255D51BA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otřeb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potřebení, fyzické, morál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potřeb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potřeb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se postupně opotřebovává (morálně i fyzicky), po celou dobu své životnosti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potřebení vyjadřujeme odpisy (daňové odpisy se počítají za rok, účetní odpisy měsíčně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v Kč udává velikost opotřebení majet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čet odpisů označujeme jako oprávk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jsou pro podnik nákladem, které účtujeme na účet 551 – odpisy dlouhodobého nehmotného a hmotného majet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zlišujeme opotřeb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fyzické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které bývá způsobeno jak vlastním používáním, tak i vlivem prostředí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rální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prostředky (zejména stroje) ztrácejí svou hodnotu v důsledku výroby stále dokonalejších a výkonnějších prostředků (strojů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6:05Z</dcterms:modified>
  <cp:revision>41</cp:revision>
  <dc:subject/>
  <dc:title>Náklady</dc:title>
</cp:coreProperties>
</file>