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D882-F695-4D86-BCE1-6C90EBC40A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A76-4B8D-4AD7-98DD-3B988617785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018F-BD06-455B-B949-B41CD00ABAD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B371-2821-4E0A-9FE9-4192896665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5432-8B9A-45FF-93F9-51506CF20FC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6B1-7FF4-4C98-BC57-039008B382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6DC-4950-464A-A1D2-65987AB389B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E216-5F84-49EA-8E4C-249C261CF0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B62-028A-4E65-AB54-4520C3E600A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866A-5672-4352-B51C-C56212C905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20F3-B8C9-4033-905E-682AF5C7AB8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8764-B888-47AD-AC44-DDFAA9F9665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AC6-9E35-420C-A143-6CABF2F0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EDA-5D14-40D8-96A2-EA879A56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2C3-1FBE-488C-BE80-9AB7D741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827-5192-43E8-B7B4-AB894DEA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90F6-F607-4F74-A710-C6636CEA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A03B-B6FB-40E7-A302-1E3A4D2B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84EE-4FFD-4674-B490-85CABDF4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1DCA-C103-4FEB-8FCB-26EB3AF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7E7D-7A99-4FE9-AC09-1EBE07F6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A5F5-702A-43A5-B454-7F0F8D2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883D-8E5B-48E3-B6E5-0F49195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754-096C-45AE-8B05-2CE62456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3A01-B4DA-4C57-97D5-214504BD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4E9E-E9A7-4C45-A9F0-111A11B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409-4374-4E7C-B3BD-DCC961A3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3152-3196-4305-B281-49D06C4F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1DEF-8D6F-4DCD-95F5-67C54E4F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8E089-4D89-47EE-B80D-199A46A8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0D7FC-5E30-4F48-A84B-BDD4E266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07A7A-3002-4BAB-A0C8-BD9C2B16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DAB51-AD10-43E6-8CD7-190CD46F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66E53-34F7-40EF-BFE9-08DD71B9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C9D-1E3A-4517-A547-87820ADB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C3946-05FE-4BB0-95C3-7DF43C77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F8930-E927-4C12-B09A-D09D679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8B657-C56C-40EB-AB9F-98AF694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93F0A-BB78-49DA-B7F6-6342288B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38472-78D9-429B-9CD3-CD8BB909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6167E-6273-4B78-84D9-584D6CD2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4230B-D2D0-44FA-BB5B-5A860262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CDB-0F9D-4DD7-BE67-B1D1B449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4D5-E1B1-42CB-83AF-54D0715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D57-AB91-4B30-B17A-3E746441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157-0AFD-4FCF-96DA-127B4010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D3B-F43E-483C-8F4C-9ED7282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A6A-D1A0-465A-9E8B-BC10FAA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641-E203-4DB1-93F0-1A0C87BF5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5B56-CA3F-40F4-BAE4-C212A09AC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37FF-DE4F-4D20-BFB6-40414D304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62864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nechala nainstalovat  (na fakturu) do služebního vozu klimatizaci za 18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Instalace klimatizace  548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41792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technickým zhodnocením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e, rekonstruk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Technické zhodnoc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Technické zhodnoc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stupní cenu můžeme v průběhu užívání majetku zvýšit o technické zhodnocení (modernizace, rekonstrukce, nástavba, přístavba) tohoto majetku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ým zhodnocením se rozumí výdaje na nástavby, přístavby, stavební úpravy, rekonstrukce a modernizace majetku, pokud převýšily u jednotlivého hmotného (resp. nehmotného) majetku v úhrnu ve zdaňovacím období částku  4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derniza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rozšíření vybavenosti nebo použitelnosti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Rekonstrukc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e rozumí zásahy do majetku, které mají za následek změnu jeho účelu nebo jeho technických parametr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. topení v budově, klimatizace v osobním automobilu apod. (pokud bylo provedeno v hodnotě větší než 40.000 K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é zhodnocení nelze zahrnout do nákladů jednorázově, ale je nutné o jeho hodnotu zvýšit pořizovací cenu (resp. zůstatkovou cenu) příslušného majetku, a to v tom zdaňovacím období, kdy je technické zhodnocení uvedeno do uží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rovedla zateplení správní budovy, kdy fakturovaná částka od dodavatele činila 395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Zateplení budovy      021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robné“ technické zhodnoc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4360" y="1196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na nástavbu, přístavby, stavební úpravy, modernizace a rekonstrukce, které jsou do            40 000 Kč lze účtovat přímo do nákladů, a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hmotného majetku na účet               548 – Ostatní provozní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nehmotného majetku na účet            518 – Ostatní služ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19Z</dcterms:modified>
  <cp:revision>46</cp:revision>
  <dc:subject/>
  <dc:title>Náklady</dc:title>
</cp:coreProperties>
</file>