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B482-DEFA-4100-A820-A8ACDAF5604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A1D4-C7F8-4BEA-BE9D-29285A18C40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1EB3-E77C-4FA3-9382-4931719FA85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C8E3-1E0C-4823-9499-CAFF92848D1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B54F-CAE9-48D1-98C5-E2D809CE2EA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4AB1-17AE-4B2B-894B-7C69028D883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7CE0-3F6D-4F07-9E96-53D036E5912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322C-7825-42FC-8624-EBD0D75A66B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7087-D7F4-48AE-B17E-18E0A5F96E8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ECDB-F16F-48C7-8736-F0DA485C3FF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2E21-3DEB-4883-BDF0-6FCCA711007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9020-CF93-44C3-A2B0-88D0F7D80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11F5-888E-45CC-A7A7-848C331A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A5F9-5DFC-4DFD-839B-9805528D9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A85C-9091-4BF5-90DF-D4BCD9964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2BC1-C8FC-4B0E-B729-2E4ECE01F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5AD1-F417-4276-AFFE-E519F154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839C-3245-4BBD-AB16-1FE92CEB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6D61-9B7A-4CC9-BA1C-0A34D6EF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DCD0-6ED7-469A-B33D-4E8B8ED0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CB30-6D83-4C00-8DF1-7C972B79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3BF7-C4C1-4238-8CDF-8E0C1CCA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FC3B-36DD-4210-86E5-F520927E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C165-A6CD-4322-A86C-5BDD1A07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190D-73A0-4C53-A063-E488113A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4B7F-A4AC-4C15-987C-D987B5D9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DC30-04B4-48AC-8B79-F3790DD10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5DC5-E59E-4C6D-9009-11D3372B8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D94E56-4FA0-4E4C-BBAC-85778E571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7405D8-3E91-4468-B1A9-4CE63E11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0320AF-F887-4829-8375-58C914BB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BCBF55-E699-4E8F-8EF6-DF4BFD59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36EB60-F5D7-4BB6-81CF-03D0AD54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FDD3-C11F-415E-A29C-C94B0EA7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3FC72F-D760-4208-BEAF-7ED8A2AD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DA2101-3812-48BF-BE68-9A094417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8D6734-4048-4842-B505-9EA19964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FC5A02-05A3-4166-AEC4-9087054B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28BB7D-1764-431D-9AD7-B684A62F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674EFE-6317-4751-9852-C54E8F4F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CB8F41-6DD3-4CE4-A77C-FFFE5F57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DDA6-F22F-4E48-AEE7-1BE4431A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E64D-791C-442F-A45A-0AFC203E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492F-B5CE-474B-8065-3A5A38C1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7CBB-ACE2-498B-AA7C-7B9912A4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3601-EFBB-400D-A01A-AB0BC595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8A10-9C86-4699-8547-9167D1D7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4C27-CBE2-42F5-9B0C-6DDE9CDB60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9206-1890-4EB4-A278-8DB4E6D9E5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01BC-33ED-4D42-9D23-FDFF23D143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e zálohami u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Zálo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63640" y="234900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Účtování záloh u dlouhodobého majetku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55280" y="69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tování záloh u dlouhodobého majet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ři pořízení dlouhodobého majetku dodavatelé často požadují zálohu po odběratelíc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Tato záloha představuje pro odběratele pohledávku vůči dodavateli, která zaniká po dodání dlouhodobého majetk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 vyúčtování dodávky se poskytnutá záloha zaúčtuje jako snížení závazku vůči dodavateli, takže odběratel bude platit dodavateli rozdíl mezi částkou faktury a poskytnutou záloho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užíváme tyto účt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051 – Poskytnuté zálohy na DN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052 – Poskytnuté zálohy na DH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84360" y="148428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poskytla zálohu na dodávku stroje ve výši 50 000 Kč. Dodavatel uskutečnil dodávku, kdy vyfakturovaná částka za stroj činí 120 000 Kč. Tato faktura byla následně uhrazena z B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6870600" cy="7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79280" y="1484280"/>
            <a:ext cx="827424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bú – Poskytnutá záloha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50 000 Kč 052/22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FaP – Dodávka stroje     120 000 Kč  042/32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– Zúčtování zálohy    50 000 Kč 321/05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bú – Doplatek faktury    70 000 Kč 321/22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343080"/>
            <a:ext cx="687060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Úko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poskytla zálohu na dodávku softwaru, a to ve výši 30 000 Kč. Dodavatel dodal softwaru v hodnotě 70 000 Kč. Tato faktura byla následně uhrazena z B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40:50Z</dcterms:modified>
  <cp:revision>62</cp:revision>
  <dc:subject/>
  <dc:title>Náklady</dc:title>
</cp:coreProperties>
</file>