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B23A-5768-4B4F-9383-93037E06162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C5CA-F098-4733-909A-FB08BB25286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43BF-D7D4-4D1C-8109-AC9881AF1CA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957C-75AF-450A-AF3F-2090CE0FF6F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F5A2-9B11-4AEA-9916-A577F5F0E1D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69AB-B794-4CD2-AD1C-BF3BD7899BF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3844-B40B-4C1A-8BC5-87D832F96EC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ABED-B49C-4CEB-BF17-FD583714BB9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74B7-DAEC-4F5F-B79D-E3BCE484B39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F558-0A6C-42C1-B0D4-9220EC946C9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8FB0-DEF8-48DE-B5B4-7B3801433B9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C3A3-1756-4E50-8659-32CF31A66AE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B98-804C-4054-BAD2-E822D850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92E-82C0-4300-A862-45625883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877-3C05-433B-A788-3FD8B874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371-72B4-48E5-ABCA-738A6C6D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F2BA-93C4-4227-B346-70C00ADC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7138-5CEC-4B0B-AEF3-150991A6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A6D7-F499-4C4B-8825-30CDC799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077D-6FBB-4C26-98E1-BF7F5347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C5A0-525C-4923-835C-36ECD440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50C0-FB2E-4C34-960C-D882D328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1C26-B904-44EC-B52C-9ABA61B2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515-08D2-4F7B-A941-29B67A95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31D0-F56E-4A83-8566-97CE44BE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843D-7BDF-45F6-9C50-4EA2B56D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F342-491C-4462-981B-ACF1C8B4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BF16-0935-4FD4-9DDE-2670C0D2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AF7E-1522-40C1-8F56-671124F0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E078D-3567-4CEB-BD60-B82F576C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CCD56-4442-4D7C-98AA-780207D2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D1E72-9B5E-41C0-AF2F-E9894042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42084-415A-463F-9344-B330F796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B750C-C70B-415E-A6E4-7C86AD14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0B9-4518-449B-9E63-61D69EB2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372FD-DF89-4415-BCDB-083AC001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799C1-0814-4C45-AC54-C0B6104E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48234-566D-43F6-8947-C934377C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0D536-C931-4306-A252-82A19931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BE34C-4C47-4EDC-9E3E-3DCC54D4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81F59-8625-4891-9567-8E89F271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BFED6-B171-439D-BF06-727ABA40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14A-8D02-4DDB-BC13-1B56B588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CA4-2E65-40E3-8540-627220E2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A40-BA63-468A-B899-38E44566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A68-3894-45ED-87BF-213F74AA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A1B-2F82-4138-8587-2B983D22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5EE-8C9F-4175-8508-3981DA5C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B6F3-5789-44A4-929C-FAFEE52806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22B1-8C8E-408C-8DC4-AF6FC89296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0609-1D2B-4BEA-B3A6-C5E4B8FBD6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ama postavila garáž. Při výstavbě ji vznikly tyto náklad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potřeba materiál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85 000,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Mzdy stavebních dělníků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0 000,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Režijní náklady (odpisy strojů, spotřeba elektřiny atd.)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40 000,--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lastní náklady činí 185 000,-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0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ceňová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řizovací cena, vlastní náklady, reprodukční pořizovací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čeňová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Garamond"/>
              </a:rPr>
              <a:t>Oceňování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DM oceňujeme tzv. vstupní cenou, ta může mít tři podoby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Comic Sans MS"/>
              </a:rPr>
              <a:t>pořizovací cena </a:t>
            </a: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- cena za kterou byl majetek pořízen, včetně vedlejších nákladů (doprava, pojištění přepravy, provize, clo atd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lastní náklad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vyrobíme-li si majetek sami, např. nábytek, výrobní halu atd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reprodukční pořizovací cena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- neznáme-li cenu, např. při darování, pak se určí odhadem soudního znalce (znalecký posudek) nebo podle ceny obvyklé na trhu v době, kdy jsme majetek pořídi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ořizovací ce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ládá se z ceny pořízení a z vedlejších nákladů, a to např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pr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Montá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ůzkumné, geologické a projektové práce (u staveb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10920" y="1197000"/>
            <a:ext cx="7489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lady související s uvedením předmětu do užívání (opravy), kolaudační poplatk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a zabezpečení pořizovaného majetku (správní poplatky, poradenské služb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stranění stávajících staveb v důsledku nové výstav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oučástí pořizovací ceny mohu být i úroky z úvěru na pořízení DM, ale pouze do kolaud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jednotka koupila v zahraničí (mimo EU) výrobní stroj. Cena pořízení stroje činila 150 000 Kč. Dále ji vznikly tyto náklady související s pořízení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lo - 30 0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prava stroje – 7 8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jištění přepravy – 1 1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řizovací cena činí – 188 9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lastní nákla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413000"/>
            <a:ext cx="76960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sou to přímé náklady (materiál, mzdy, ostatní přímé náklady) a nepřímé náklady (výrobní režie)  související s vytvořením majetku vlastní činnost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5:23Z</dcterms:modified>
  <cp:revision>43</cp:revision>
  <dc:subject/>
  <dc:title>Náklady</dc:title>
</cp:coreProperties>
</file>