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4F0B-3364-4505-A015-F45891BC5EA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E955-B3EA-4FCC-9E75-4245D1AA4EE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877D-931B-440B-9AB6-A942B4E82D7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EC88-7FEA-4633-83D8-9161D56BC06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61CD-59F1-4570-947B-79F8786DAFF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45A5-2BEA-4730-BC21-A9D47504EA5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AB2B-E103-4918-B3DC-4619D07896C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27C8-4CC1-41DD-B71A-FC927EE6035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B65E-6F49-44BE-A5C0-F23115D03A5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ABF4-5D1A-4623-BA70-E85050B27A5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D86-02C2-4BFC-8C5C-1F08AAF7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39D-B28C-4FBE-9ADF-0B0E68A8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B92-A9CF-4DA3-A13A-751E11F0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00C-FECA-4D4B-9279-130417E2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3993-0816-4FBE-B0F8-610730F1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381D-CFE3-4777-A500-D69233D4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6E8B-459D-4124-8BBC-464C59ED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28FE-37DD-4C43-B2DF-F0951522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CFB6-F316-4CA6-B5CD-5B17A71F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16AF-11D7-4933-A59C-F9D50D3D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298C-CE2D-4F32-BD06-93ACFAD3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BEB-3AA3-4A4A-8692-546ABC52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4E6D-B914-4F4A-B5B8-6A334409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1C02-CDE2-4937-B7C6-8E3A9981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A293-132C-45CD-A918-D2607D7A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FD74-F3D4-4D28-A719-B314DD78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7A7B-0F47-4DA3-BBFF-99115607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7D7E1-53DA-4402-AB67-186131FB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9FF73-032F-4F44-9D90-A29ABA51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90606-84FE-471E-9430-A6B178F5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E5E7D-4A46-4163-B15B-EB767C19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54314-AD38-453D-937F-5BF264C8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92E-DBAA-4332-A890-BB48B94C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1356E-FD96-4B02-8BDD-4D026AE7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370AE-03B4-4881-BCEF-A658AFD6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588F9-8364-4E15-BFD9-337591CD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4BE91-0C5B-4032-9879-BFFB7045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A7056-D546-48A4-8D91-5829089F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6858D-D28A-41DF-A8EC-7218D6BF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94DE5-FDF2-448D-83F8-B83D5699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C11-227C-4B89-B409-3C7B34ED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2DC-ECE5-40E0-9DB1-94B3812F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2CB-BE90-44A8-872E-619CE351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A23-DF4F-4684-A9D5-7165EC8F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296-7A46-4EBE-9788-B5B6FCC8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ED6-F6E1-4856-8BEB-E0D65DC8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0F94-252B-4119-9517-F1C30082B5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AF79-2A81-4275-AEC4-A776E35657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22C1-C231-4EA2-A851-45B044DD94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vod do osobního uží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637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 do osobního užívání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 do osobního užív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200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(podnikatel) vyřadí dlouhodobý majetek z podnikání do osobního užívání musí zaúčtovat zůstatkovou cenu na účet 491 – Účet individuálního podnikatel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26920" y="1197000"/>
            <a:ext cx="6553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(plátce) musí odvést DPH z vyřazeného majetku, a to i v případě, že je majetek již zcela odepsá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vyřadil z podnikání do osobního užívání automobil jehož VC činila 390 000 Kč, dosavadní oprávky činily 150 000 Kč, a odpis za část tohoto roku činil 32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989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32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208 000 Kč  49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PH 21%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43 680 Kč  491/34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9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vyřadil z podnikání do osobního užívání počítač jehož VC činila 42 000 Kč, dosavadní oprávky činily 30 000 Kč, a odpis za část tohoto roku činil 6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odpis za část roku, zůstatkovou cenu, a vyřazení počítače z evidenc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09Z</dcterms:modified>
  <cp:revision>56</cp:revision>
  <dc:subject/>
  <dc:title>Náklady</dc:title>
</cp:coreProperties>
</file>