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F3A15-35CA-4B9E-913E-40BF9E8DAB8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3A816-3FCE-45E9-BC4E-78FE9E7337FB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C5172-384C-4EB3-88B3-CD3845B7202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D1A20-79CC-4990-B814-F05A7B8FEE3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1E7DA-C633-495A-9BC7-F83344EF8FD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559EC-160A-44B5-87F4-976E90A896C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BB165-4528-400C-B5F5-58BD43C26DEF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96C6C-EEF2-4F8D-8634-BD59AA11C0E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BB0A4-7131-4A7C-A2C6-C485C33ECAF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86C1D-F7A4-4BF2-9704-6C803FDD81C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A60E-70AF-4CE7-8D6D-6A6099333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1D06-ACA3-4A53-8A55-F747A71ED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966E-FF1A-4F14-94CC-B73ACBFC1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3E55-616A-48E5-8C39-C7B9C5A1E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61D73-BC5D-4C11-91CA-E3E14E2D7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7EB0D-1B9A-491D-A359-9A2A4A531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20F51-0A3C-4B81-BEAB-D49F0CB1F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D2E9D-36FA-4095-AFC4-B840BD0A0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0A788-8128-465D-B115-4F9A8BA40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B4FE8-47C9-4363-857A-15E48FC86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7FE3E-123D-4B48-B947-0FF2AF35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AC38-032A-422E-BD5A-B8B9A4B2E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AD988-5280-4BE4-AA91-33E34C47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9B891-BA97-4B20-9AD2-BE416766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D8845-A046-4616-A365-54E2EB0B7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DAD5E-F4B4-4042-8778-F2B4D6A46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3AAB5-776C-44FF-955C-F45F75EC3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D0D827-BBB0-4F9A-BA5B-32321BCD8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692E99-57B4-4372-AAF8-CE0F1C129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638898-DB94-42C9-BDB8-753BD89C1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3251E7-5345-4ACA-AB69-E274D0088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1196E5-B236-4C78-9D09-D02691DE9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6626-0090-48B5-8BCB-7F4FF0DFA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D9E4AB-9F9F-4870-9DF6-F09523105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F610F9-7565-449D-BA1F-4A368E5A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1E1145-13DA-4DB7-BC4C-64F5ACDD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0F4B0F-9F50-4DC5-82B8-7A99B2F2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8F2524-D190-402A-B47C-AF18F204B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BCE940-3CF0-4E1D-AD9E-684D4F22A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2A12C2-5008-4418-A36B-8479F06A7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15E1-2504-4913-9A10-87CD3DA4B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F72E-7F95-42F9-9B02-62596E92B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6F23-7C88-4E92-A954-4484BB04D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8775-E9AE-4A88-B015-FD37F887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BC59-5E25-4AAA-92D1-23E5EAA5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BA3D-7DF6-4B82-AFE8-2751C569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99055-D0F7-4864-B915-6D9F3332BF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F96D0-5C9D-409A-868F-A71D157596D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C8316-91AA-4A3F-B1FE-08AC59CEFC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2884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1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odpisy dlouhodobého majet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í odpis, daňový odp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9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76360" y="191628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Garamond"/>
              </a:rPr>
              <a:t>Odpisy dlouhodobého majetku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26920" y="620640"/>
            <a:ext cx="687096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Odpisy dlouhodobého majet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42920" y="1989000"/>
            <a:ext cx="7416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Odpisy vyjadřují postupné snižování  hodnoty dlouhodobého hmotného a nehmotného majetku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omic Sans MS"/>
              </a:rPr>
              <a:t>Druhy odpisů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1. Účetní odpis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jsou upraveny </a:t>
            </a:r>
            <a:r>
              <a:rPr b="1" lang="cs-CZ" sz="2800" spc="-1" strike="noStrike">
                <a:solidFill>
                  <a:srgbClr val="000000"/>
                </a:solidFill>
                <a:latin typeface="Comic Sans MS"/>
              </a:rPr>
              <a:t>zákonem o účetnictví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tyto odpisy mají vyjadřovat co nejobjektivněji skutečnou míru opotřebení dlouhodobého majetku ve firmě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účetní odpisy si stanovuje firma sam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684360" y="980640"/>
            <a:ext cx="769608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2. Daňové odpis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jsou upraveny </a:t>
            </a:r>
            <a:r>
              <a:rPr b="1" lang="cs-CZ" sz="2800" spc="-1" strike="noStrike">
                <a:solidFill>
                  <a:srgbClr val="000000"/>
                </a:solidFill>
                <a:latin typeface="Comic Sans MS"/>
              </a:rPr>
              <a:t>zákonem o dani z příjmu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odnik je musí brát v úvahu při výpočtu daňové povinnosti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zákon o daních z příjmů stanovuje pro každý majetek dobu, po kterou bude odepisován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zařazuje jednotlivé druhy majetku do odpisových skupin (6. odpis. skupin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Metody odpisování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omic Sans MS"/>
              </a:rPr>
              <a:t>Firma může zvolit 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omic Sans MS"/>
              </a:rPr>
              <a:t>1. Rovnoměrné odepisován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omic Sans MS"/>
              </a:rPr>
              <a:t>2. Zrychlené odepisování</a:t>
            </a:r>
            <a:r>
              <a:rPr b="0" lang="cs-CZ" sz="40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611280" y="1197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Zvolenou metodu již v průběhu odepisování nelze změnit, 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Zákon umožňuje </a:t>
            </a:r>
            <a:r>
              <a:rPr b="1" lang="cs-CZ" sz="3600" spc="-1" strike="noStrike">
                <a:solidFill>
                  <a:srgbClr val="000000"/>
                </a:solidFill>
                <a:latin typeface="Comic Sans MS"/>
              </a:rPr>
              <a:t>odepisování přerušit </a:t>
            </a: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a následně v odpisování pokračovat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35:37Z</dcterms:modified>
  <cp:revision>43</cp:revision>
  <dc:subject/>
  <dc:title>Náklady</dc:title>
</cp:coreProperties>
</file>