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C980-7B57-4EE5-8710-5E42C66E1C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8A6-0F89-41D6-8C23-C06E24EECC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DBA-5DC1-4819-B9E5-88B9B4E1DC3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313B-689A-4024-9E42-1D55823E13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B556-740D-4E20-B45C-74E393C972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D118-FC98-4DBB-9769-F6B6EE86A3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CF6-E1C9-4A9F-9103-52C72FC13C4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ED62-5DC6-4719-8C3E-1880AEE71E4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7AE-01F2-4FE9-8ECA-D3CB9B87E05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4879-0156-49C8-8CF9-6B62F193C9B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194-427A-4FA5-B2F1-B50F06BB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CDD-086D-48FA-BF60-921C15A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914-C548-4BCB-881B-A8272FB5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72F-8A83-465D-85EB-6B6816E4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E42D-26CB-4A2A-B93C-CA73F899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18D3-924C-41F3-9FFF-EB99D4FB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5C89-D0B0-49EE-84E0-4A9E02BA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D58E-4A84-49B1-AA1B-F6CF9652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E86-DA82-42FA-AC75-01A72CA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36E0-6103-4673-A97D-B4312BD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6E27-7248-4B7F-84F8-0E2EC29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72E-BE78-4E62-B9BD-40DC70B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10B8-61D6-4F22-9A2D-6AF6154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C13-2539-4488-AA86-979ED04A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A9E0-1F28-46D6-9A5C-68A7BCF8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E4F2-AF29-47C1-91AE-B94472D0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D6FB-9141-4C9D-A309-3452D78D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5D68F-170D-4851-BBA6-BD24D862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0B460-D883-43CB-B8A3-8E913618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7FFFF-1E16-4CF0-8CCE-9601964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D2097-6244-4ACA-B339-337457F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75FB7-446A-4648-8C65-1BDE87F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A90-C4C9-496B-B9E9-A721ECA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9730F-31A4-46FC-93BC-B3973D1F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D790F-0762-46F4-8BDE-6D42F1D9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9D41E-D8A3-4AF4-8C11-4829241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5C971-CDFE-45C4-AEE0-32B7AAE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A88BD-68E2-48CC-A6B7-24C76504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DFD20-E618-497A-8C23-BEE88805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F6BE0-C8CD-4664-B364-AFEB7B25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C29-6D98-49EF-902C-73BB8960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559-5D0C-4C5E-95F0-4CA71D7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BA9-7B1B-4980-9B1F-B4E7FA45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147-E67E-401E-B6EB-404FB86A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F8D-D74A-4C40-9348-489483A9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AFF-0893-4292-8CD0-FDF130DB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EFD2-8393-44E6-A271-C48C64A99F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0B4C-3C1F-4A42-B867-4C6A65468F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210E-B8C9-4AEC-9C29-7A1A1429AC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v důsledku darování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v důsledku darování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daruje svůj dlouhodobý majetek (který není zcela odepsán) musí zaúčtovat zůstatkovou cenu na účet 543 – Da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11970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případě, že dárce je plátcem DPH, musí odvést DPH ze zůstatkové ceny darovaného majetku finančnímu úřad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PH se odvádí na základě daňového dokladu a účtuje se na účet           543 - D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škole počítač, jehož VC činila 45 000 Kč, dosavadní oprávky činily 33 000 Kč, a odpis za část tohoto roku činil 7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7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5 000 Kč  543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1 050 Kč  543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45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1128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nemocnici dodávku, jejíž VC činila 445 000 Kč, dosavadní oprávky činily 305 000 Kč, a odpis za část tohoto roku činil 25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 a vyřazení z evid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27Z</dcterms:modified>
  <cp:revision>53</cp:revision>
  <dc:subject/>
  <dc:title>Náklady</dc:title>
</cp:coreProperties>
</file>