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45CB-C3DF-4E6A-8C10-974BD1005A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2595-18E3-4157-A847-E862D010E37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6423-22AD-4EA0-B2B3-E98B32C33DB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879C-DC26-44D2-B0D5-CE2C4DBB89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619C-8491-4905-B5A0-6BA0E10DB55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7F17-4CC3-4922-A674-4199F90E249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DD94-AEB8-40D9-A81D-C0609E77380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9BA1-12FE-465A-897C-C5F8B59B0C8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2742-ADED-4BE1-8BED-C623D6E68F0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04B6-DB64-41DA-8CDC-977B2AFEC3C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ABC-9BFA-41C5-85F3-FAA1E635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2AE-FB13-4215-B6CC-1B352198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F3B-0292-48A5-8B5F-91926CB9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4A2-8239-414D-8612-EC3EB2C4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6161-D129-410B-96E6-221F4F30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0F54-1C92-43D5-B509-28093D83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A22C-6CA5-46DD-8C37-E3ECCC80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121B-6825-4889-A43C-DB3913BA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9D55-18EC-4F5A-811B-E29BE9E0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3EF3-0588-4D7B-87AE-CC836C73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E31C-4B39-4882-B8A9-5651D93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6F0-6AB2-4352-BA41-1300D6C4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512F-A943-4AE8-9102-DB0DA357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5F95-20CA-4D87-855F-3B25125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3ED9-FD0F-4111-8A86-1E6B9A89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6318-9A58-4DEB-898D-BC2C3594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DC91-3726-481E-8118-D2960CAD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D6AAD-7BB2-43F4-A7B4-9D19F763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CCBF0-725C-4157-AD3A-5AFE297E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90D34-4C94-46A7-9166-FD3BBC47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540A4-144D-4D59-A035-35505B2C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55434-E9D9-4A95-9BA1-8F6CD393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CD9-5798-4FEE-9E39-55A1BEEB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8D069-53E1-4F45-9486-C1242C58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49C8D-F609-481F-8395-82634F3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5F2C9-AF68-4922-A512-FE0C7C9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29736-5767-4128-B0F4-DA01C356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67E29-F444-4563-A9A3-E7B82F26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313BA-71A3-4B59-8332-667C1A98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57110-9549-4470-B351-B26FC53D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454-5647-45E2-B7E1-977BB28E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D4F-7E2A-4FD7-A7CF-DDEEEFC7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4DB-D2B2-4E96-B9F4-D3348CE9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1CE-D6DB-465B-A669-7EDB09D2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C6F-CC93-42F0-8CF3-85D8D58B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528-0FC0-42AC-A2D3-9F44D54B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CC66-C508-49A4-8D39-1254F1DB1B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AE95-408B-45BA-88ED-5D8B01A8CC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9F00-3588-4D40-ADAE-C4FDDCB7C5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řa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ý pří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vyřa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dej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Likvidací v důsledku opotřeb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důsledku škody nebo man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řazením z podnikání do osobního užívání u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280" y="1628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ým převodem (darování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em do základního kapitálu jiného subjek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yřazení odpisovaného dlouhodobého majetku můžeme rozdělit na dvě varian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je 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rovna oprávkám. V tomto případě se zaúčtuje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Vyřazení stroje z majetku účetní jednotky      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1125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vyšší než opráv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 tomto případě musíme zaúčtova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Řádný odpis za část ro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oúčtovat zůstatkovou c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řazení majetku z evid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stroj jehož VC – 100 000 Kč, oprávky činily 70 000 Kč, a odpis za část tohoto roku činí 1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dpis za část roku    1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á cena        20 000 Kč  5xx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z evidence 100 000 Kč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23Z</dcterms:modified>
  <cp:revision>47</cp:revision>
  <dc:subject/>
  <dc:title>Náklady</dc:title>
</cp:coreProperties>
</file>