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2673-D5F6-4C42-BED4-C0CBC36930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AA10-543C-4B1D-B25D-8AF8F9E7764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55B8-09DE-4005-85F8-F110CE5F07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972-33DA-45E6-A5B7-96A993D609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F458-1CE6-495C-A2FB-313E5CD16F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B90F-FE4D-49B3-B70C-1A1EF63F17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B332-2979-404B-8C86-0EFDB5C83D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F3F-B316-495B-BFD1-C9DD4DB1FA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F4BB-2F63-47C6-8BA9-20FCC2318C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5624-836B-450D-9A95-7858C85169E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BDC-CE1F-4C38-A8FF-433949A0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0B2-7AB0-4B21-B5E6-62572109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4CE-D82A-418B-A5C3-A4A49C57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023-3426-4874-B42C-7B450E6D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28D2-7776-44E9-B155-B00F5E63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7402-D99A-4659-B858-40185FEE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6BCE-38F7-48EA-882E-34245E86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B3BA-26B0-4077-8819-EB86EE9E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A28E-7400-4EE0-A95D-14C90CC8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28A2-84EB-49C3-B444-D35E12C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E6EB-03E3-4268-B726-7A73465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07E-FE24-4565-B89B-9B4B1C7B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9D7F-A087-4FEE-BE7D-1B6017A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B65F-B4C1-4356-B0B2-D152BF4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FF34-8D6A-4B59-8B81-4E5093FD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6663-7ABC-4665-8D3B-6DEAD0FF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7C93-8CB5-40D1-B138-08E2AEFC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A70BD-8B9D-4601-B4B8-71693921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CFFE4-E684-49D5-A65E-1364100D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7B765-50DB-4E8F-B234-EF54265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99545-38A9-41C2-B480-1D160A43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5B7FF-FD0D-44EF-BDBC-D5C33427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68E-E393-4969-82D0-9DA75E39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7DA4F-517C-4B11-99D1-5C903343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03A67-EEB5-4F6B-9137-81EAD06C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B3C60-FC47-4044-B43D-A3FD735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899D0-1F87-4FC3-9DB8-A906F3A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27EA8-709C-4C53-8536-A30186FA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A9F2C-8DE4-44E2-9602-AC29246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B67D3-D50B-40A5-A7C3-01903272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E3B-ABB7-4365-AD1E-2425BF3F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525-02FD-471F-BE92-CA217D80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152-A46B-4A44-95D8-97926F14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EFB-F4FF-45C4-9CB3-5D06586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3CF-93C0-4F4E-A810-9AB913DA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BAC-86D8-4434-959E-AA7D81A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944-E9E6-4D29-948D-E8C728BC01E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CCE3-0B82-4209-A0C6-1013E73F455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D4CC-AA39-4FA9-B81F-3FC3D01BCA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zákonný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konné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zákonných rezerv se účtuje do nákladů, a to na účet 552 – Tvorba a zaúčtování zákonných rezerv podle zvláštních právních předpisů (na stranu M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tiúčtem je účet 451 – Rezervy podle zvláštních právních předpis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výrobního stroje. Oprava bude provedena v roce 2013. Rozpočet opravy 300 000 Kč. Tato oprava byla v plánovaném roce provedena dodavatelem. Fakturovaná částka činí 387 20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2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7 2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0:36Z</dcterms:modified>
  <cp:revision>17</cp:revision>
  <dc:subject/>
  <dc:title>Dohadné položky</dc:title>
</cp:coreProperties>
</file>