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35C4-2490-49D2-B56C-237A105917E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5A51-E123-4DD4-A00E-42A41F443BB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8535-0C71-4B5B-BB96-3F7F56D840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F472-F1F8-46B8-B078-532E9B62D2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F950-4EA8-4C75-B0C1-819FB3BF53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341B-C726-4C73-8AB9-87B382F909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DB0A-5C60-407B-BE5F-969E263248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924E-99CD-4BD6-8576-A690E29E7F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292A-0343-44E9-AA6A-EC5D647A07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6EE1-2D13-4274-8C15-13B5EFCE307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F8D-92A1-4535-827D-0F0877F0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4A0-35F1-48B1-8A85-5A335423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93B-CA61-446D-8CD3-65AB0FB0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BE1-386A-4552-AC62-199FCB9A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A542-D602-4734-9B8B-ABB7F756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7178-7A3C-4AE1-AE78-7D8C1A2D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0780-1062-4081-9767-5D0225C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6973-326F-4A01-92DE-976B58E3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63C-4446-4BCD-AAA4-28C4C20A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9E65-251D-4032-97B1-DAEF79CA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7848-32E9-45A7-ABEF-25B25A7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CEF-4E0A-48E0-9E88-21EF2F27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E620-EF74-404F-B4A1-E1BB7719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629D-1C4E-480A-95A5-8CF885EB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2761-CAF0-4A12-9798-13769D94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3067-842E-457D-B95B-B8A80921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3210-3742-4A8F-A83D-2CD4A807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6A7EB-40D9-48BE-A420-F7953D5F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149B4-4296-416B-A2A9-322BD944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03C9C-483E-4ADE-9AC6-FF30517B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1AD3B-94D4-4161-BFCC-D93D0A50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DDAB3-A929-4966-BB0C-24C33B48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73D-1AD1-4E72-AF4F-30A791B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1FF43-53E6-4652-863C-C5309DFB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77537-C9BA-4B49-B6E8-6F54F75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6503E-0DE6-4D96-8A4F-C0352FB9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94D34-84F4-419F-A23F-67606354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43AC8-8615-4B65-83BB-B472584C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98D3B-86D6-4486-B44C-1540DC82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33B2F-1D14-40EC-B87A-C2C53E50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424-6CED-4D76-A77E-A939C60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F55-118A-4B38-89B6-3AB92580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DB0-0EBC-4CB3-9E10-6B1B34E9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92A-B2E1-4D6A-9B57-6783AA4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81C-C661-4A64-BF06-E0B2CE8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ED7-3969-42D5-920D-C1D70CCF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8C28-CF23-4E76-B340-AF3E216917C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A67F-BF8F-49B0-B26C-BBA968FBEA9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0077-94BE-4D1C-BF0A-4A29436159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ostatní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statní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ostatní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ostatních rezerv se účtuje do nákladů, a to na účet 554 – Tvorba a zaúčtování ostatních rezerv (na stranu 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iúčtem je účet 459 – Ostatní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počítače (1. odpis. skupina). Oprava bude provedena v roce 2012. Rozpočet opravy 80 000 Kč. Tato oprava byla v plánovaném roce provedena dodavatelem. Fakturovaná částka činí 99 22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počítače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2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7 22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8:31Z</dcterms:modified>
  <cp:revision>17</cp:revision>
  <dc:subject/>
  <dc:title>Dohadné položky</dc:title>
</cp:coreProperties>
</file>