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7640-A895-4DBE-A172-64FDAF244CC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60F9-E776-499F-BCC9-9474C5E8699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488E-5353-4E31-92B7-C05A7EEA06D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8594-1607-496F-A897-8310B82D35D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9399-B6FA-4BFF-B4E2-A49BF3263DF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0EA0-B579-499A-88A6-8DE493BD994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DBDD-4CCF-4774-8CF4-75D45C21D88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F2B7-2300-4768-8B64-C3CE9470DC2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3DE9-2E1E-451C-ABF2-C7BDF17DB0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464B-7C7C-4A7D-9354-770EF916A3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80AC-C479-4E87-BC85-84841DEAAAF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F10B-B231-467A-B630-26161D8213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29C5-658A-43BA-AA0B-E68D2B03603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E62A-AEFB-4F75-B1A7-CF4D63C145F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308A-D594-4E7E-8B3C-9F356E81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E4D-1F51-42F0-BBF8-EBC2584A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50DA-623E-45D0-BE38-A0C6C510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F49-FF3F-426D-9800-3F7E04E2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E177-36C0-40AF-869A-55B69B83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15C9-C884-4572-8DB5-D3EF2CD6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A1F5-BCEE-428B-A237-6986D750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6991-029D-4065-B051-030D1DF4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FB7E-55E6-4F03-BFA0-37B0EF7D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71AC-9F03-4349-B15E-EB172357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562A-1BAA-48E0-8606-0BCFFBC6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056-CBA7-4253-B047-2119C003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0889-FD4B-4AB0-82A3-5660B638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DB81-F1AA-44F5-B520-7AECBFE7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F92B-99BD-44F3-8812-F4ED9D3B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1E17-13BD-4C95-80DC-DA844AB2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1177-5BF7-4A49-80E0-B38CECB0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655A7-E788-4B43-849F-DFD0EBAE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973D0-4C3C-4027-B569-BDA9A528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0D1DD-27ED-43F6-B10F-E2955DC5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04DBE-A158-49DA-B60C-7D57BCB6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BF187-11C8-45C5-88AC-C545BF68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ED3-8AB5-4E10-99C3-68E5FEDC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C9FEB-F852-4206-A94D-FA7E2342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DBF1A-6032-4628-AEF9-227229DA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EAF610-7ACB-4CE3-BFBF-88CC8515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A5AE8-E7E5-4034-A0F4-07A089B1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5A5B15-A230-4C99-BEE3-E9803DF0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83ADA-4D77-43FF-89C8-8BEB5E5F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31C32-D40B-43E0-90F1-142DECBC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074F-9CB0-44DA-841F-EDAAC885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4363-BE95-4860-AE93-99A72BC7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3AFB-7AA7-4682-97A4-59014110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AAE8-823D-4E2E-8129-EA7326E7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ECD7-FCC4-4B92-8C57-5BCBA00E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A71-E0B7-48B6-BD6D-1DE133D2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467A-6F8C-415B-AD16-EE924093AA79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BDF7-3F10-40BE-A091-2A0D437EC3BE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5C6D-B2F0-4416-A593-2A5002A7208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Arial"/>
              </a:rPr>
              <a:t>Tvorba rezervy dle ZoR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1. Minimální doba tvorby rezervy – musí být tvořena minimálně na dvě zdaňovací období (rok předpokládané opravy nesmí být započítá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apříkla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irma se v roce 2013 rozhodla tvořit rezervu na opravu D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u musí tvořit v roce 2013 a v roce 2014. Předpokládaná oprava DM bude nejdříve v roce 201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Tvorba rezervy dle Z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Maximální doba tvorby rezervy – je dána podle jednotlivých odpisových skup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odpisová skupina – 3 zdaňovací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. odpisová skupina – 6 zdaňovacích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. odpisová skupina – 8 zdaňovacích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.-6. odpis. skupina – 10 zdaňovacích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Inventarizace rezerv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 konci účetního období se v rámci inventarizace posuzu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důvodněnost rezerv – zda stále trvá důvod pro provedení oprav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ýše rezervy – např. při výrazném nárůstu cen vstupů můžeme zvýšit částku rezerv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rezerv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izí zdroj, tvorba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Rezerv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y jsou cizí zdroj, protože představují budoucí závazek (např. rezerva na budoucí opravu budovy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 tvorbě rezervy známe jejich účel, ale hodnotová výše a období se pouze odhadu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Druhy rezerv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y se člení n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 zákonné rezerv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ostatní rezerv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Zákonné rezerv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y vytváří účetní jednotka na rizika, ztráty, ztráty, předpokládané výdaje v případech stanovených Zákonem o rezervách pro zjištění základu daně z příjmů, které tvorbu rezervy považují za výdaj na dosažení, zajištění a udržení příjm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a je daňově uznatelným náklad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Arial"/>
              </a:rPr>
              <a:t>Účetní jednotka může tvořit zákonnou rezervu na opravy HM za těchto podmínek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usí být vlastníkem dlouhodobého majet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smí být tvořena na technické zhodnocení  nebo na údržbu hmotného majet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u lze tvořit pouze na majetek, u kterého je stanovená doba odpisování více než 5 let (od 2. odpisové skupin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Arial"/>
              </a:rPr>
              <a:t>Rezervu nesmíme vytvářet na opravu HM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28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opravu majetku, který je určen k likvid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opravu důsledku škod a nepředvídatelných či nahodilých udál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každoročně pravidelně se opakující opr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Arial"/>
              </a:rPr>
              <a:t>Tvorba rezervy dle ZoR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še rezervy na opravy hmotného majetku se vypočítá jako podíl rozpočtových nákladů na opravy a počtu let, které uplynou od zahájení tvorby rezervy do předpokládaného termínu zahájení oprav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pokládaný rok zahájení opravy nesmí být do počtu let započítá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2:33Z</dcterms:modified>
  <cp:revision>13</cp:revision>
  <dc:subject/>
  <dc:title>Dohadné položky</dc:title>
</cp:coreProperties>
</file>