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3463-1E01-491D-8722-25A47741448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E642-BC83-454C-851F-6D3FE646660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EC47-CFCC-48BA-8F72-578E23430BF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5DE4-8D92-43E0-8925-4AAFC1467A1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F50A-D371-433B-9886-014F3010FC5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7490-0FC6-477C-8D24-57EC856CB1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8923-6E43-429F-A010-C77F853AE65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02D3-BD66-462D-BA68-10756AABF2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7799-95E6-4B91-A63B-4544EBBE2C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45F2-D440-479D-8348-2E8684BE2D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9EDC-B3DB-451D-B35A-40942A5CCA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CDA2-D707-4814-8CC4-E2AF408D88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7FA-C9E8-4826-A2A7-001B2B85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C6A-38E6-40F4-B70C-3D7E841C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A05C-8A91-415E-8E92-F02C0196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F7C3-075B-42E2-B422-69AB1492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C2C2-48D6-4266-97B7-DCE50D27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0AE9-59E5-41B7-90CA-B49BFBE6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3797-E31F-4FA4-94B6-878D612B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8D1C-8DE9-4421-97D4-37C93933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D702-26C1-40E5-BFDB-ACD9DE60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A861-B911-4B23-859B-E6447350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0CBC-A8C4-4DF7-BEFC-0C9FE7B9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D0B8-0AEF-44AA-B15C-E46F993C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1043-B312-49F6-A1A6-80CCCF60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531E-0736-4813-A692-07B97B54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C4F7-0498-4618-8A95-9214C56F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5CAF-8B08-4D6C-9A7F-885E742F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AB54-B193-4858-88E8-EE032F0B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87393-7202-4D0F-87DB-A3840767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9C67D-DB5B-45EC-8689-51533203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2526D8-8D95-4AB5-A86A-E4E8988B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AB227-B7BE-472A-A856-B6AB937E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2467E-149F-4643-A3A2-0CD65600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86B-4EFD-48E4-9583-3E599FB2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1E135-A04F-4060-98B7-4363B508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55977-87E2-47D2-895D-83F828A7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B849E-2A43-42F9-9F33-5C1C5AC6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DEDCC-4FED-4234-A24B-CEBF5169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5048F-0095-4F7A-9934-08102207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87D24-8A5C-4B3A-AA5F-CF32E48C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E0FA5-0C08-44A8-877C-60EA3918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311-AC9E-4ABB-A669-BE8BA790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1B2B-40CB-4DC1-9FDE-4836A71E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C0E-D1B3-43BB-9A60-CE6C44C5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507-B197-4E1A-B45F-3C24C41E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343A-558C-4F44-B760-F8ECA2D0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A77-3835-404A-9B76-4E263232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A981-D99F-443A-8660-89B4A5057F82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3B9A-3F4D-4ECC-812A-B735ED3577CE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F2F7-03E9-4465-B6DA-DBB74975FAD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afbf39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1. VÚD - Nevyfakturovaná dodávka plynu 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     57 000,-     502 / 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- Faktura za dodávku plynu – cena bez DPH    55 000,-     389 / 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 21%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11 550,-     343 / 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2 000,-     389 / 5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- Úhrada dodavatelské faktury                           66 550,-     321 / 2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ohadnými úč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evyfakturované dod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Garamond"/>
              </a:rPr>
              <a:t>Dohadné položky pasivní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účty pasiv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389 - Dohadné účty pas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 tento účet se účtují například nevyfakturované dodávky (např. materiál již byl dodaný ale nemáme k němu fakturu), nákladové úroky, které nebyly zahrnuty do bankovního vyúčtování za běžné účetní období at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218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rma ke konci roku obdržela dodávku materiálu, ke kterému však do konce roku neobdržela fakturu. Předpokládaná hodnota faktury činí 28 900,- Kč. V novém účetním období jsme obdrželi fakturu od dodavatele na částku 30 000,- Kč + 21% DPH 6 300,-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Nevyfakturovaná dodávk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8 900,- 111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– Dodávka materiálu – cena bez DP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 000,-  389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21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6 300,-  343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1 100,-  112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kol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účtujte v případě, že hodnota faktury bude 28 000,- Kč   + 21% DPH 5 880,-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Nevyfakturovaná dodávk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8 900,- 111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– Dodávka materiálu – cena bez DP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……………….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21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Nevyfakturovaná dodávk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8 900,- 111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– Dodávka materiálu – cena bez DP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8 000,-  389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21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5 880,-  343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900,-  389/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rma neobdržela do konce účetního období fakturu za dodávku plynu. Odhadovaný výše spotřeby plynu činila 57 000,- Kč. V novém účetním období firma obdržela fakturu za spotřebovaný plyna na částku 58 300,- Kč + 21% DPH 12 243,- Kč. Zaúčtujte nevyfakturovanou dodávku plynu, fakturu přijatou a její následné uhrazení z B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1. VÚD - Nevyfakturovaná dodávka plynu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57 000,-     502 / 38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2. FAP - Faktura za dodávku plynu – cena bez DPH    58 300,-     389 / 3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DPH  21%                                                    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12 243,-     343 / 3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1 300,-     502 / 389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4.VBÚ - Úhrada dodavatelské faktury                           70 543,-     321 / 2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kol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účtujte v případě, že hodnota faktury bude 55 000,- Kč   + 21% DPH 11 55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afbf39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1. VÚD - Nevyfakturovaná dodávka plynu 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     57 000,-     502 / 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- Faktura za dodávku plynu – cena bez DPH     …………………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 21%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- Úhrada dodavatelské faktury                            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3:39Z</dcterms:modified>
  <cp:revision>11</cp:revision>
  <dc:subject/>
  <dc:title>Dohadné položky</dc:title>
</cp:coreProperties>
</file>