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741F-9170-4E45-81F9-7CF7A80177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12F1-40EE-419B-82B5-1620F0DC2D0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6923-0432-498C-9A89-9B14B3B214B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1B7B-89BA-47C8-9911-7A3EC6A788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4ED3-5E1B-4418-99BC-FC377E2083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5CC7-70AF-404B-88CF-759967A578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FBF6-E588-4A82-98F5-45141CAE2B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70AC-59A1-4474-835C-972BFBF7BD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A26A-00DA-4944-B2B7-A78E4BEF18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7A6C-A768-430D-8092-40A688C628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DB9C-8A5E-47CD-9A1D-2957445E30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C17-725A-4B0B-95CC-40C2127C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24D-6DD0-48BF-847D-FD08E6C0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96F-1F49-4603-A787-C3259AD1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6D1-EF0A-45C4-8763-1A8911B4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E128-F768-4E6B-8A6C-9D26B683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8F86-56FE-4AB5-961B-31A68A72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97D8-F1EC-4DE8-A5E6-BE069FC7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8422-3AC8-42D1-957E-9F28610B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7EF5-9941-4C24-8C7D-2BD029A9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CF7E-B28F-4468-BDD9-7934765A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082-477E-4BC1-A3B2-0627117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4CA-532B-4D82-A8AD-9CB8B99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2724-E468-44E1-A897-687FFF5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BD36-1C5F-49C2-A140-151EC4B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85D8-49D9-46BA-84FA-73A5E4ED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1EE7-2A2C-41CB-A125-3DF0EF91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CD33-5B09-483D-AE8A-EC74869C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80E3A-92E8-4F6F-9C37-38B61ECB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5709C-B1DE-4F3A-9176-6BAE539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8AB3C-2F43-4B02-8A4D-93DDB4A2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D7671-EC1F-4805-9BB9-C776876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04821-2A3A-45D0-B3FF-6FEE9973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77F-6A43-4302-987A-89ACC02C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E0B5B-E54B-4471-988C-BFD2728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590BE-3301-46F3-8DF9-72E1B2C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22EEE-A6E8-4BD4-8D09-C05361C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67A28-A240-4140-8C51-F44A82A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CD1B5-7F6B-4CE7-99CE-BCDF55C2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9DA4F-2338-4715-941B-A236CB28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C18B4-767D-4D5C-8549-B3F73445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AC0-781E-4FFD-9EC6-B863CEDE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B53-C695-4EAA-9A11-4A1FA6C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C4D-0387-4D47-9C4B-BF90BD7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D3A-1803-4B40-B49A-9226C6D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1C1-FD4A-4438-BA34-7BB53B0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3A6-0B80-4B88-A9F4-D25CC16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AAD3-725B-4FE4-B07F-1678F8FDCA6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B88D-EA48-4574-B11E-71E36FE4A6B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9077-2F97-48C7-AF32-ACD1EF5A7C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ě účinný a neúčinn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y odepisují pohledávky, které jsou tzv. nedobytné (tzn. že se jedná o trvalé snížení hodnoty pohledáv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odpisování pohledávek musíme rozlišovat zda tento odpis je daňově účinný či naopak daňově neúčinn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ě lze (dle zákona o dani z příjmů) zahrnou do daňových nákladů hodnotu pohledávky za dlužníkem v těchto případe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d zrušil konkurz z důvodu nedostatku majetku dluž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je v úpadku nebo mu úpadek hrozí na základě výsledků insolventního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zemřel a pohledávka nemohla být uspokojena ani vymáháním na jeho dědicí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ávnická osoba zanikla bez právního nást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ne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se může rozhodnout odepsat pohledávku, a to např. v případě, kdy je zřejmé, že náklady na vymáhání přesáhnou výtěžek z této pohledávk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pis této pohledávky bude daňově neúčinný a bude zvyšovat vyměřovací základ pro výpočet daně z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 účt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měla pohledávku po splatnosti za odběratelem, a to ve výši 575,-- Kč. Účetní jednotka se rozhodla, že tuto pohledávku jednorázově odepíše a nebude vymáhat tuto částku soudní cest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V – Prodej zbož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11/6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úD – Odpis pohledávk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dlužník tuto částku dodatečně uhradí zaúčtujem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bú – Úhrada odepsan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5:50Z</dcterms:modified>
  <cp:revision>15</cp:revision>
  <dc:subject/>
  <dc:title>Dohadné položky</dc:title>
</cp:coreProperties>
</file>