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B720-C20E-4788-9B7D-83CDFB1196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993B-1B1C-4AA5-B902-A8EC620DCC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7AB0-8545-4AA5-B1DB-B29DE7B5DE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9A20-69A0-41F4-AB3C-501948BC77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E106-B630-4B1E-83AE-56D313DD0D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B9CE-FE2D-46DF-BC1B-0388DFD941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83F0-AFB8-41A5-BC61-788B601F76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01A3-72E1-4ACD-8E0C-7434916CCC1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5370-F2FC-43A6-9CFC-95A4413AF8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1CDD-CF39-42D5-9509-48CDA0163B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D05F-1B8D-4371-B600-241C819794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4A07-7741-4F06-AC9C-B960CB4E9A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DFAE-C37C-4900-A782-182B05FF75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05FA-E9B9-4BB3-87A9-BEB11164B7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FD75-8F0E-42EB-9EF5-67B19D7DA9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6AD-EA46-43F6-896D-7302D30F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35E-0975-4B36-A383-56866F8A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E07-D668-4DB0-A23D-E7DF6055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7B9-C78D-4D60-A546-795DCC7D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7DE3-02EA-429E-87EE-90FFEE91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94E9-BBA8-4E5B-8184-BFBD2D9D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4C04-DBDB-4C42-819A-83C836A0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59FC-B274-4C5C-8625-EBB0909B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A4E1-16C8-4D8D-A4A9-75B75983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0D85-DFAF-43A4-A84E-2E2C9C51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857A-ECC4-4941-B6B0-398F8CC2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260-7351-40D2-83E0-3CDBC4DC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D629-9122-4EBC-BBE4-A65EF217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A105-3D91-4019-B66E-CA3943CA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10D1-919A-4918-B7D5-95B31B9E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1ED-8773-48B0-BF75-D2A3CF32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9935-8E81-4FE0-80C0-57A2A2C7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4F766-929A-4E78-BFBD-459F6140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22599-2547-4579-8506-FDAE3BF4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CF5E2-A571-43EF-9B40-C67137F6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D4DA8-44EB-41C4-BFBB-BC05D19C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1C661-41F4-4E56-B745-BCEF83E2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37D-0E37-4FD5-8B21-EAD9E4F1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8A727-ECAE-4F55-B1BD-5E40D827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59A0B-4D1B-4A32-9710-B0FB3699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FA77E-5B7B-4809-8914-B6614F42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163BD-8A14-4EB7-8DB1-1E2D840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597AC-44AE-43F3-BCDE-D250F72F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0881D-2211-4B5F-A215-33C5D3EF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5837B-9F7F-42C5-87D7-2FAAA949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8D2-8BDC-47A3-8CF9-67957A15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6C2-EF21-490F-8DB5-4D3D2454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ECC-08A1-4F9D-87FB-01DCB94B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659-F7F3-4821-ADA3-A6F20EB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04B-1E77-4F1E-9340-EC5439D8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A6C-FB60-47B9-9365-7B706CA1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8E01-AB62-4E8D-B3DB-76DA3EC67CE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25A1-DF2F-4995-80DE-535991FE448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307C-DF60-4530-B029-234C801EF8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kud rozvahová hodnota pohledávky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kamžiku jejího vzniku nepřesáhn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0 000 Kč, může být po 6. měsících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ena opravná položka do výše 20 %,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to i bez návrhu na zahájení řízení prot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nevýznamných pohledávek lze vytvořit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u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ž do výše 100 %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uhrazené rozvahové hodnoty, pokud od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once sjednané lhůty splatnosti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uplynulo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jméně 12 měsíc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významnými pohledávkami se rozum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promlčené pohledávky, jejichž celkov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odnota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přesahuje 30 000 Kč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ůč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už 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se jedná o pohledávku z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em v insolventním řízení 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hledávka byla u soudu řádně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hlášena, může se vytvořit rovno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00% opravná polož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čtování opravných polož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k 31.12. 2013 neuhrazenou pohledávku vůči odběrateli, a to ve výši 70 000 Kč, která je 6 měsíců po splatnost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nejedná se o pohledávku za dlužníkem v insolventním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Dále firma dočasně snížila hodnotu jiné pohledávky o 21 000 Kč, která je 4 měsíce po splat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Tvorba opravné položky 20%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Tvorba opravné polož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21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9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ravnou položkou u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časné snížení hodnot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použijeme v případě, že pohledávky jsou již po splatnosti, u kterých však předpokládáme, že nám budou uhrazen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ou dočasně snížíme hodnotu pohledáve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 uhrazení pohledávky se vytvořené opravné položky zruš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U pohledávek můžeme tvořit tyto opravné položky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8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ne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9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ou účinnost opravných položek řeší zákon o rezervách pro zjištění ZD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i opravných položek závisí na době, která uplynula od konce sjednané lhůty splatnosti,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ech, kdy věřitelé podali návrh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zahájení řízení proti dlužníkovi podl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isů o rozhodčím řízení nebo soud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příslušné řízení bylo zahájeno, lz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it opravnou položku v závislosti n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bě, která uplynula od sjednané lhůty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latnos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více než 6. měsíců – až do výše 2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více než 12. měsíců – až do výše 33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více než 18. měsíců – až do výše 5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 více než 24. měsíců – až do výše 66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) více než 30. měsíců – až do výše 8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) více než 36. měsíců – až do výše 10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18Z</dcterms:modified>
  <cp:revision>22</cp:revision>
  <dc:subject/>
  <dc:title>Dohadné položky</dc:title>
</cp:coreProperties>
</file>