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5E2E-98D6-4752-A170-DE2091D436B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8625-C107-493A-8EC1-C8C43F6408E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DBCB-13B1-4D61-A648-3F802BF55EC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45D9-C9F0-4A4A-A89C-13DABE5E82A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504F-1AC8-4A13-83FF-B4C08256FD5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B98E-8F24-4EEF-A5F1-5E305D3AE7F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673B-1D10-498D-A902-65113D0EA01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3E25-3538-45ED-A597-C78FABDBD5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D51E-DB11-4915-95F4-B9875D6E812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9A2C-D3B8-4E53-976A-F1C35DD944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C498-4379-49A7-8ED2-C8ACA960F01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285D1-71F7-461E-A78E-479ABA30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8DC5B-57CB-441E-A2C2-8143CB80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24974-DAE0-46E9-9226-5045C199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F0B60-189D-4130-8F91-109DC575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6735C-6BDB-47BE-92DE-B207D668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20905-F706-4661-80AF-0ECCB4A5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D4A02-95FB-4EE5-8856-99BFC241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F74B5-3D99-4278-BD60-4E29DD53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C8DB5-5F74-4F48-AAAF-54562DF8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CC9FE-9157-420A-B92D-5F2C1C05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4A31C-5A9B-4E08-A547-E50195B5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C2D41-98D2-4FFD-BF09-9CCC5CF1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B7FE-18A7-42E3-BEC2-DF915256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BD4DB-FD8E-4364-AA31-C45F2418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F964F-B8BB-44F1-AAB0-F69CB213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9814F-2DEA-4A46-93C4-10410CDC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0E8EA-B292-4AA2-BC1D-35D0F797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F4C44-26DD-4824-8F00-EA3EBE62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D015C-B8F6-47A8-BA24-3B8D59B9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4BA9D-9583-4B15-9F60-1E1B9EEB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47BB0-2A98-44F9-A65E-55336A1C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2B269-ECA2-4336-930E-42BD4CA9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AE349-DDB2-40A2-B1F3-6463ABDA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D8BC8-9FA1-4A0A-9100-1316FF48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344CB-FCF0-4BD2-BF4E-2EC57D99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5028A-A3C8-495C-8B6D-3D26E2D6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C0887-F625-413A-999C-7B3D480A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169B1-D280-4334-9F8F-A60BE2FF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E95FF-D14E-45A9-BBB1-094ABED7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678CA-0E79-40E1-9FEE-658533E5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8EA26-2AB6-463F-A268-E16CA483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51170-6BD6-480D-951A-3E0B7F4F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3555B-CFC4-43DC-8E70-55BA8C8D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4145D-FB2C-4A75-A747-733DB6EA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07F1-15DD-48BE-94D6-EB5922BD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A17F8-0E44-4E19-B638-0CF641F1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D6FDA-1C20-4C70-B69B-B85E9533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F8989-C883-4D32-A8D9-6AC949F4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222B8-24EC-4954-AF13-65855668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F57B3-7F7F-4C76-B827-0C33AF2A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7D38F-5EED-4C60-83CF-89EA9A9D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37FE6-040F-4246-A8DB-5907C3B8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F42B6-CC02-47EC-827E-8AD8C7D4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AED21-4D03-4DF5-8894-D9444DB2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056DE-8F3C-4679-87E2-B8D008E0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53EF-D705-486B-B0B9-9BF3B85C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6F710-AB59-42A3-9371-F376C63C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0869F-C8C4-4AE2-BD66-9A83C081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BA4C2-9D36-4A62-8FB7-C295C503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599FE-96B9-4814-AE1F-BE849C92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E32C4-6AF9-45CF-B26A-ADFCC344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20D05-0AF7-4580-9154-5140109E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84D012-6E59-42D8-8C39-465421B4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15F474-8BC4-4739-981A-1BF0DB03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B40D4-F34F-48F0-905A-43725434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018CF6-6E89-47A9-9755-D532D533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27C2-6CDE-4A8F-B386-3E551AFC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0059E7-2EEB-4D2D-BB06-0888B341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43EF7-ABA2-45F5-8CDB-339EAFA5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EED45-EAC3-48A7-8B6A-8A1EF1F9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32F73-E73D-4B71-B506-42E1E9E2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50237-C2A1-40C8-869D-54BE1E13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84244-7F08-4BA7-A203-4F77BE4B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34E387-0028-49EE-80FB-36E667C0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DC603D-05E1-453C-9E22-8A099FFC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7F7A97-7A2B-4E1A-A510-BB1ADF31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E00D3B-72A4-47B3-BF6F-0B8DDEA2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7FF7-4425-4723-99A7-16E6884B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77E843-F3FB-4247-BCA7-675F8490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B2419A-81C0-4DB9-A39E-43C89967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800770-CC53-41BF-9C8E-5D48C8F0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B924F8-7B7A-4D83-B5E1-5C47E33D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E6CB56-B402-478B-A8FA-8F56A1DA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594134-6E45-4DC9-8EC2-CCBE78FF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D24FB8-F8BD-4883-BD14-15822C4E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EDB1FE-2701-4C96-8C2F-65DBD955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522049-F0D7-42C1-9ABC-B6C674BB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67776C-58AD-456A-AD21-AF972DE1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7A21-1C8D-491D-813D-85153FE0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31E105-BEF2-43A0-86C9-C81B2482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F005B9-50DA-4134-94E1-10E3499D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C19965-0BDD-4CCD-A4DB-BE97CD46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0D6096-A835-493A-A288-65648FBB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7B958F-DD03-4E18-BAEA-1EFE78AF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274E97-DA6D-4077-AC3B-C90B48DB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565F90-4A1F-45D7-8AFC-079102A1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C33EC1-88E2-4495-98C1-FEF972D6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10C685-29C2-4F9D-9BB3-65537D36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CB872A-AA46-44A5-B205-85E4152C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0F47-D2E6-49D7-8383-969FE8D8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B9D990-1AFC-4F8F-9C51-8AB02639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83ABB45-0DB3-4ACD-9FC5-F1D5B79B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08A4817-A99C-4E9A-9446-8DD0960A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27CA386-9E90-4221-8946-38DA40E0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9C3AA54-549F-4992-BCFD-507D9199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900B41B-BEBE-4E8A-8840-1D6C2BFF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4453784-5A72-4FA0-B0C0-1A3DFE2F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0BD07CC-07A6-494F-896B-D627F19B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17D9FD8-3E39-41C7-889E-DC34B8FA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01C6577-561D-4D9C-A82F-91054694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B2DB-C8F4-414D-B4FA-B8715091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E900E51-229C-423E-923E-14FA067A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650AC30-DD27-423F-9504-4E0C2663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4AC3896-FFCE-4F26-897D-63E73599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C59712-55B0-49A7-89D1-37223045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E1B413-1979-48CC-8A13-03F30163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F51651-AD5B-4514-9BD7-00147CCE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755C6F-C54F-4E74-B5C6-B1A7DBE0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5B59F3-6AE6-492F-8629-2F31CACC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FAD709-B7F1-4BB4-B3BD-D691C9A3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B258A1-25A8-49D7-A38D-548B344A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885C7-F9B2-4D49-A7F6-2AD850F3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0D55-F934-4EF4-B14A-57EE94EF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E49E2D-C0D7-473E-9ECD-07832B50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5C1512-C46C-4F8C-9DB5-532E83F6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725474-5895-4AEC-A694-5E3DDBC1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8F64B1-1529-41B2-AA88-0C3970C6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B5B864-E4AA-45A6-AF62-5070BF70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2DA0-7C49-437A-8094-8E3A4DA7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D78C-F99A-4F29-BD34-A07D40C6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309F-7027-4CEF-998B-BE631FCD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1AF0-4B10-4524-9BC1-6CE66B47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50A84-41A1-472A-AFB8-A512C380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CC2CA-68D3-4920-A2E7-4905E1E1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103F1B-EBCB-42A9-80C0-6613E6AB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C94B7-D740-4C17-A345-330F86F0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64000-1C31-438C-A6AD-983DB0DE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7AED-C2BB-4981-B8E6-7A7232A9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681D0-9A58-4BF3-B771-AE27D6AC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5E386-B40D-4842-92C4-DACFDF59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7D045-A948-46EC-8E23-1AC69F3D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CB533-1327-4E13-BD08-3D48BBF8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FC83B4-C0C5-46A1-84DD-3CDC5B58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F6157-82A8-47FA-B49C-4436C42E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3D50B-3A6E-420A-B38E-C86B90B1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50452-1838-4795-A46C-DD3A5C75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F2C67-9812-4FB4-B56B-A0BF6DDD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48631-96DC-4F2E-B152-4E66339E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FD0D0-3CDD-4A90-90ED-CD4B0F56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9E2EC-25C2-4776-8670-2C9A4BE8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FB698-3796-406B-8EE2-3CA312A6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A229E-10B5-4F16-AF21-911BB954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37F52-9FD9-4983-A84D-C9EAC11B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4DA04-EF70-44B8-BD5C-E2C18BB8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914D4-7E83-491A-95D6-CD2CF457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9BA27-790A-4338-AC47-CAB7F286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51367-743B-4A2F-B2C9-A1AEE0E0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696A0-6C77-4941-80CF-DF517140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63C26-A35F-4B47-8848-A224EADA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99D9F-6F22-47E1-8191-93A7049B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D62D1-F97A-4D54-B4AE-8A959001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7412F-AD5B-4A47-AAF3-E0E986F7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2C238-FDD7-4D58-AB06-43354A68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2E66E-18A5-4D9F-8908-AB99B4DC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6DD1E-0BEB-4571-9B38-C2771F48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A98EA-FE63-4254-8A10-DFEB8700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8BE82-81DB-4F1B-8C81-D80E0FDC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2BD2E-F1DE-4C91-BE05-D0148526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53948-1B45-41AD-8FCA-CBB024D8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32732-4C8E-4EB0-8611-A25B20AF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211D0-726D-4734-80D2-118B9F1B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264A9-2E3B-4C99-A938-F3C3D527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AD445-F76D-46E7-8AFB-B39E9D85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7143E-1DBF-4E2F-9678-6B193ED5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C56AD-C945-416B-9FCC-C7600792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A3CB5-A6F9-4EFC-8316-D77D2D29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1467F-561E-48AA-858E-0FBA1E6F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99486-B631-43C6-B257-C473800C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8199C-8FF8-49E4-B065-1329D462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18C1C-C5F4-4444-8D0C-1018F02D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C3D4C-B432-43DD-8691-49420F74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5744E-8541-4746-BF63-3D65C5D6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26406-E158-4EA8-841B-FCE44059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DBCF1-D4AD-44A3-9B91-0A084927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26B1A-C490-4053-B29F-12E2A27F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8FCE5-C1CA-4FB6-BC23-E16F2D5E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3EBFA-DEA5-4F14-88A0-DE831E4E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49AC9-0946-4E0A-B211-43306611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76192-E614-41D4-B9DD-BE98B44D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A47E6-5E36-4579-9A12-4E5AE841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06C82-888B-42BE-98F1-A8A620D4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96D19-A700-4066-AC41-71FB111A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93957-8F22-4FAA-BAB1-C043D1F4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E9354-B1DF-4B79-AA81-75088A73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E978A-E48E-488E-9B25-9BB7954A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603EC-F470-49F4-92F1-B5FD3FAD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BE9EE-663A-4AA9-8998-3CE36B29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BDC80-090D-4AD3-91F4-0100016E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08472-F84D-4463-9C32-AB41E704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22EDB-D383-4771-B534-1E3C309B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7CB43-FAF2-41CF-80F5-9551F05F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46A37-9137-42C8-B306-C8D73EAA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BF291-C712-4B4C-8577-244F0B06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61E56-B2A0-4A6C-842D-0C520F62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A5B69-281A-4950-AE73-7F23199C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B07C1-DFE9-40C4-B5C7-FEA6364E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C5860-ADF1-44D5-A84A-23D30730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4AB60-641E-4618-A529-811EBD04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B9C79-88CB-4A38-BD8F-D0DE09EB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EFB1A-547C-43E6-83AD-7CD49D9E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DC800-EBF8-43ED-9CDD-7DA7158A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55D46-DAFA-46C9-A92F-B1160291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8B1AB-E3E4-4A21-842D-439991CC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8AD82-BEAA-447C-B679-D807509B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0CD8-4136-4CCC-A01F-8D545245CF63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2833-A11A-4587-8668-924652A7F9B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4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5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5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6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7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7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8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AA08-201C-4D18-B8EA-7C5DB750EB5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3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4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4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5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6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6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6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7103-09AE-450B-BB00-FC58425C25B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2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3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3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3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4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5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5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5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0E30-21E8-4F4D-B8B2-3BD578486C8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2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3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3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3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4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D182-B1BF-4C32-B20F-B91046419D88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9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0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0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2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2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2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2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2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8BAA-3289-46A5-B5B0-4082E27F13D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8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9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9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0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1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4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14B7-AAB5-4590-B329-57DAD1955E9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4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7107-A56A-4BCC-94E0-82AAB17DC4F4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AEC3-A6BD-4F19-B8AE-7D7410A6CAD1}" type="slidenum">
              <a:rPr b="0" lang="cs-CZ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420E-F579-4ED4-8FBB-E5C5E0AC51C8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EF50-08B5-470E-A4E4-7725553F2635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6B0C-6634-400C-849E-FB351684691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C38F-9B4F-4778-814E-F97876D915F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4F58-DB2A-4E7C-A12B-6F37FF7C131D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56D9-1EC5-44FD-9C38-1B31A06C44F2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0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0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5A0F-63C7-4167-8A32-5AF016A9ECB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0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    Ing. Pavel Štohl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2" name=""/>
          <p:cNvGraphicFramePr/>
          <p:nvPr/>
        </p:nvGraphicFramePr>
        <p:xfrm>
          <a:off x="468360" y="1413000"/>
          <a:ext cx="7991280" cy="4167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 k seznámení studentů s časovým rozlišení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áklad, výnos, příjem, výda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Charakteristika časového rozlišení nákladů a výnosů</a:t>
            </a: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é rozlišení nákladů a výnos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průběhu účetního období dochází k časovému nesouladu mezi výdaji a náklady a mezi příjmy a výno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hospodářského výsledku účetní jednotky se musí zaúčtovat pouze náklady a výnosy, které souvisí (časově a věcně) s daným účetním období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é rozlišení nákladů a výnos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ý nesoulad mezi výdajem a nákladem, či mezi výnosem a příjmem (např. výdaj v tomto roce, ale nákladem to bude až v příštím roce) se řeší pomocí přechodných účtů (účtů časového rozlišení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é rozlišení nákladů a výnosů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é rozlišení se provádí na konci účetního období při uzavírání účetních knih za pomocí těchto přechodných účt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1 - náklady příštích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3 - výdaje příštích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4 - výnosy příštích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5 - příjmy příštích obdob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ozvaze zařadíme tyto účty následovně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53964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Aktiva                        ROZVAHA                          Pa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81 – Náklady příštích obdob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83 – Výdaje příštích období 385 – Příjmy příštích obdob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84 – Výnosy příštích obdob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Účty časového rozlišení používáme v případech, kdy přesně znám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.účel vynaložení – věcné vymezení, čeho se daná operace přesně tý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. částku v K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. období, ke kterému se částka vztahuje, kdy příslušná operace nastala nebo nast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Účty časového rozlišení se nemusí používat v případech, kdy jde o nevýznamné částky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řípadech, kdy jde o nevýznamné částk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íklad předplatné periodik, nákup kalendářů, diářů apod. na příští rok, a je zřejmé, že tím účetní jednotka nesleduje záměrné upravování výsledku hospodař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bo pokud jde o pravidelně se opakující příjmy, (např. úhrada činnosti auditorů, daňových poradců vztahující se k předcházejícímu obdob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8:07:38Z</dcterms:created>
  <dc:creator>Ing. David Holzbauer</dc:creator>
  <dc:description/>
  <dc:language>en-US</dc:language>
  <cp:lastModifiedBy>Igor</cp:lastModifiedBy>
  <dcterms:modified xsi:type="dcterms:W3CDTF">2014-09-13T15:34:11Z</dcterms:modified>
  <cp:revision>17</cp:revision>
  <dc:subject/>
  <dc:title>Časové rozlišení nákladů a výnosů</dc:title>
</cp:coreProperties>
</file>