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B177-57E9-41A0-A88B-679D4927E69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F184-35B7-4827-968D-857C7EC1E70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EB42-E16E-4A51-BDAC-9F0CACB860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8097-35A1-4281-A3A4-89FA495BA8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1E6-396C-49D1-9724-087548FF6A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C7B8-8712-4667-A4FB-8A774586D3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3BF6-93ED-4921-9196-00DD6A3ADE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5658-1A00-48D7-955E-3D5547857A9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F5A-1756-4360-A30F-0EA5F34B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6B6-7B66-4293-867C-AEC0BA7B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F19-C757-4295-92D2-1CF73ADA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762-4EDF-4748-8FEE-A0EBEFBD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DDC8-180E-42EC-9E81-962CBB54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B041-E18B-4073-9E52-F3011FD7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D839-FF13-4E57-9FEA-0AA23753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C9EE-3D94-4A14-A9D1-1B146C35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E2F6-FF88-4812-85D9-CD024237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0B3F-FC3D-4112-8B4B-2D51E3E5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05F5-FEAD-406D-BC71-0841ECF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00A-FC9A-4124-9D4D-674EAC59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79A8-1A10-4A29-8BC8-9B0E167A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C669-71BF-41E1-8D61-54212E04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57D8-E4AE-4978-9174-4357DB8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3C99-8647-40FB-93C1-3EA5D9A0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1A5E-925A-4278-BAE5-CE4B659A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23587-B9D6-408E-A203-DF50F395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CC694-3942-431C-82CF-C9530303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2AF78-9E78-4406-820F-594B9E5D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9AA77-8478-4E5E-8DDD-B7DC71F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A03FB-ED4B-47FB-9E4E-2D3770BC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80A-0975-4AE9-8EA2-0419C5AB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02D7A-B347-45B6-946B-BBEC0F60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850AA-A355-47D9-839C-FE03769B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ADA5A-9F94-469E-A97F-8393FA1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7524C-D06E-43EC-9979-6E8BEA3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32ADB-7C55-43CD-B900-E2828C7B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FDDD9-D482-4380-8A31-AD7EAAD8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5D19C-78B9-49E9-9597-95E4D54C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104-9A41-4EBD-A723-995D2A46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367-6360-4919-9BB6-FBA70EF4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48D-7E1A-44B2-BAA0-A6690C56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40E-5E29-4A15-9A17-2A56653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74D-B295-4825-B0E2-8F6D400A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B89-61FF-4BCB-9184-F9AEBED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DFB4-0530-4CE1-97F7-F293BE58B2C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B70-B8EC-40E2-A4F1-C4ADF13A91A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5916-A690-46FA-80C2-AD27045022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lohy na tvorbu a čerpání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vorba, oprava, čerp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- ú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Úlohy -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Určete, zda a jakou rezervu může firma vytvořit (účetní období 2013)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čítač, předpokládaná oprava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ůdní vestavba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sobní auto, instalace klimatizace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loh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7499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se v roce 2013 rozhodla tvořit rezervu na opravu budovy. Plánovaná oprava bude provedena v roce 2016. Rozpočet opravy 600 000 Kč. Oprava byla provedena dodavatelem v roce 2016, částka 786 500 K00 Kč, včetně 21% D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0 000,--  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36 500,--  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00 000,--  451/55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1:04Z</dcterms:modified>
  <cp:revision>16</cp:revision>
  <dc:subject/>
  <dc:title>Dohadné položky</dc:title>
</cp:coreProperties>
</file>