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1B8C-0EA0-47D4-816E-3F3036F377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B78-2961-4971-A5E2-7B6C11F923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C423-D99E-4CE7-9DA6-059506BCCA1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6270-9E40-42E4-9CF5-103E251DB9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0D29-0AB2-4994-A6A5-6976CFA57F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7F63-3455-42D6-B893-73A8A32B5F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328C-019A-4964-9ACF-62E0A037C8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427C-508F-49A8-8D88-34E918BC1F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1224-B3CA-4A75-A4F1-E33FEC1B21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1942-655C-4DA3-991E-618C5297127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7816-A527-45B9-B814-1DC46B37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D57B-AC62-4030-BBD2-B5A57272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98124-241E-4B8E-8764-25F8F56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7BC5B-2BAF-4F2F-9BB3-FD6D8CC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0F79D-FB32-4AEF-878B-1FB97326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6DE92-6E4D-4FBC-B1A9-3ED061E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63D59-CD4A-4E73-831A-5B16DD1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7FFDA-E034-4C31-B78D-32433A9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9D38F-CC45-4D09-9BBA-2420678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0EBF0-ED8A-4886-B9EB-5AFC6511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CB206-34FB-404B-86B3-EB379203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EC196-2C1A-41FA-84DD-2112717D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0B44-1253-42A6-AABC-CB8C8A70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FE81A-EBF2-414F-B1C3-5D0873FD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121C1-C540-41E6-B283-E116B18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1620C-CFA8-43A3-BA42-CCF45F8B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B41AF-2B35-4808-8F85-D1A12F4F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CF07C-F416-4F08-AE50-49224B64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D06A9-6863-4AC5-B469-A08F414E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976F0-4DC8-4F02-95E1-5E18C34C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7FE26-6699-4B8A-A829-FF10095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AD568-E33D-47F6-A515-58BB268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E12A1-3E15-491E-9964-FE1DAA44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0532-5433-41EC-9ED1-0C6B4A20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A2BBB-7232-4276-9B68-D53D5348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B8384-AD71-4D92-AE30-9E7A2DFB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AF380-F0BA-45A0-9C9C-3AC80AB9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23C84-6576-4C17-8657-627CD597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63C7C-028D-46C5-A9B8-90DB03AE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9156D-3763-4A25-B3EC-E3A7CBC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158D-28EA-42C5-AD28-0048E993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D5C68-B22B-4A6E-8BF3-EE1D1FAE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45DA6-E5B5-4E9C-B325-626A033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EE774-638D-492D-8C17-99F1C96F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90C4-6948-45D0-B7AB-0E2DE2CE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21925-3AA5-45BB-8924-9CCB080A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7E9A9-4EC7-40C8-9A41-8561202E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B7C93-BA79-497A-9686-86571F50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95A9F-AF3E-4CED-BD83-BE275544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0F2B4-3AA7-4A6F-BF65-4A0997F3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B68FD-7946-40A2-A820-D791C9E2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68C5F-A67E-4888-8F19-0485B1B2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BE532-D85E-4CD4-B328-D73C826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9DDEA-D864-4ED1-95BF-0A10A6CD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81E8A-FF48-45B3-A373-B68CDD14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C48D-C7D5-46AE-A287-416E1FDE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41202-AD11-4FDE-BF2D-6C20E08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4C591-D0E2-4D68-8670-A157577F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87710-48F4-4924-8C75-2BE8B276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E15FD-E30D-4A9C-9039-43C325A6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D5668-814E-478E-9077-9794F257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95CFB-CF3C-4FFD-87C6-EB7A325E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A8EAF-0443-4EED-94C0-E7D79AB4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C35EC-2027-4DFD-A0B0-55B3EDA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1C16B-9A55-4BFD-8CCC-8E689CA7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C1FF3-3C12-4A54-8EC9-2D762A34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03B7-C0A5-4BCE-A39B-6ECEDEB7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2F29F-1E50-46AD-AF74-55FD1FF1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CA342-BE24-49BC-9D99-89180075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77B00-DE19-4794-AF9C-CD231B5F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15BD4-2323-4DB1-8F46-5418367F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583C5-139A-4497-8B2B-35AE9B75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17370-1388-4950-AADA-B77F2C72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B50B6-669A-4C79-B77C-5B0A6051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49449-4320-4643-B3F4-529D5EFC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63BBC-AF99-41EE-9458-D01146C7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189F0-34F0-48C0-8AED-32405FD6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08AA-C89E-4BDC-AB30-DB467F88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6C76C-50CF-4D04-909E-1F8ABF32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C4408-191B-48CB-9884-07DED80C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30DF7-FF3C-4C65-9575-66D9C75A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4431D-3861-4AF4-A288-606D04D9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9E6E5-306F-4DDD-847B-2E970339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9E77C-35BB-4317-B37F-4440923A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2BC92-5154-4CAD-8C7E-F3456946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3E04B-3B75-4E5B-83E1-4C74212F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A409C-D468-4130-A89B-B9A5147F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166ED-C34F-4160-B023-6248C130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502C-0866-4821-9DC9-7AB93894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CF303-BAD2-4F21-B85F-A6C120D1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AF7EB-EA85-4686-8A09-10C92F9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89C79-6341-4328-B2EE-39E89F72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5A07F-1277-451C-B984-DFC45686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BAA36-1E68-4238-8591-6CFB63F5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CE90F-3A1C-4D24-8AEB-362E0DA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D7B6D-8CBC-43F7-8D2E-268F67B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054D7-96A2-4B19-92B1-7D2CE005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875688-47CC-4CDF-B321-639FB90E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77315-E0F2-4D88-8BE3-83E0929D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821C-BD99-4811-8A21-8B9B7098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3DE26-DD65-48A4-849B-546097E5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777F73-3095-4ECF-875D-A9ADAFE1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0C7ED6-C71B-47FE-872F-B571B5B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A8DD34-4823-4AC2-BDC3-6C6F70E9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6B49C6-E3CE-449B-86C8-5665E3F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56FC54-3E83-4C7A-80A8-C65739BB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B99110-BD60-4CF6-A2CE-D9DFE546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82AFA7-B715-4FDC-BEF4-6865293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2AEF4F-6248-4719-86CC-79AF9F21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F23D9F-D1AF-4AFA-805F-CB22A57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A7B9-E33D-48A8-8EFB-16294981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458398-66BB-4529-9822-1FD620D9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9A9C6A-2FC9-43CA-8BA2-A9AECB2C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FECDA9-5130-438E-B138-76998D6B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7D104-B4D1-4F0B-A1BC-6C438591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A7474-4F60-432F-B83C-781FE344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026E0-1D95-4DEC-BBDF-71B9CBA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138A6-2F65-4D02-A81A-24D9285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DBFCC-01AB-48F8-888C-EA4DF107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E6AEA-0CD6-4ACB-BC7A-42A92D95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A6283-4C75-4DF5-9545-9D302AF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ADAC-F971-4A67-8039-FDB4C2A1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1A30-0329-4713-8BDE-EE22F49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4EC94-4C40-4183-A33C-1AD31134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25BEA-5B68-4B27-8A65-143B092B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42936-CD3C-4311-ACC7-8C7A90C7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E554C-3875-480A-85C7-987F496F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4578D-9B51-4D76-8A6F-2A4B776E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5612-AEA3-42E9-8B34-3E2CBB1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550-6BE8-4573-BD1A-2725C782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7BF0-BDA0-4FC5-98CF-1B315E8B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FD64-630F-49B8-85BF-C3A47BD9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D1138-15B3-4299-9EA1-2829D25C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2E850-235D-415B-8D95-27D0543E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81012-EE0A-45A4-B9B3-1BA65729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3FE24-7455-4ADD-8459-1A694F3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BD706-AD9C-4E42-9214-99F406E7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169D-383D-4514-8090-518A87D6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050E7-7021-473D-800D-F1CD21D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3661A-EA62-4B6D-B77D-8B65468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1F72E-314F-4DEB-9199-FA01B87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68658-DDD7-4B31-87B8-21DD7E8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73A0A-6297-4458-8EAF-C06094D4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F92FC-A1D2-462E-948E-6A76A27A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E6119-337E-45F6-B1CE-AAE30DDF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E73D-0113-4741-8160-3931496F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92EB-5E7E-4041-92CF-BC323B46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3A407-B88F-4AC4-A761-25B1D52E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467C-B926-4337-AF79-3AB1485C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573D5-BC69-45FC-B669-512F4510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5603-CD45-443B-83A0-29E0221E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E8E0-F1E1-49CF-A53E-CE5B35F6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A046-FFEF-447F-86C7-5C1FAC8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A0B7-60E3-42A1-8277-12DA126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97AC-00AD-4544-97D7-2B057DA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E2FF0-129B-4A31-981C-E3216162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497A-545F-442E-B11C-4F2DF43C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9918-21C1-4EE6-92F2-8C93958D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AC19-0209-440A-B314-B31E3536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928A-2DC6-49B1-A9CC-743A79B6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F5B3-7815-44F9-9663-4765983C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23053-D4C9-447F-8863-2FCCF4E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7EC3-A5EC-46AB-8EBD-CFC1413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41BA8-0505-4120-82E6-B15972D6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2624F-66BA-4696-B151-E7F315CE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8A1B-C99F-4A92-8DC9-B8075DF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10FD-E1A9-4491-8A2C-8A2E218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FF63-035A-4189-97A2-61BAC1F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65AA-9533-45DB-BAEE-9A3CC14F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3B45D-105F-4EC3-A71B-7770238C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B295-42D8-4BD0-AB38-D6471F1C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F99A-5A73-40FA-B653-A248EF06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707A7-1D8C-4E99-B75D-D2385132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7519D-B328-41E3-BFCF-E713D9CC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BB97-3021-42F3-8149-BCD8070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B2204-2997-4808-AD98-4AAE062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DE8F-BD8D-49AA-973F-D7C7B41C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F395D-1DDB-4429-A6CD-4D591759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19657-0EF2-493F-BBB6-8FFBAF6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5CC12-ED8B-41AE-B7B8-A0801D2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D9CF-1F9B-431E-8194-91EC718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4FD5-898E-4956-8E41-CADF38C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FBEE-3684-4FE2-A778-B2AD5053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9A22E-1357-442D-9263-9C1D306E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80178-182B-4D1D-BC5A-F3CA9C69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88CD-75A5-4C0A-A215-7802A364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26C9B-D6B8-4910-BC3E-52EF6DCE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6860-1EBE-48E7-B596-8D7151CC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8EFFB-F25F-414D-A0A1-39F34FC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6D4D7-8FA2-4ADF-AABD-10C2AA3A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E53C5-E115-4547-A563-33E2AE7A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8EFD9-E0A7-4722-9316-F4A7E20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155A-0494-4DE1-A3E1-AB38FAD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760F2-1FCD-4A9E-A94F-F3293B3D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A7A11-DF97-4CB8-A2CC-2C746034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30BBE-2978-46B9-A537-60C2A54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F5602-6332-49C4-B0E1-C08A5E51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15D3-DEEE-4C1A-8EDD-AC00AC11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A14D9-CCCE-425B-97E2-6B8C0BB5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AF0AF-6C8A-44F6-92D3-406AA773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528EE-C4FD-4570-875D-CCFD3152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80FE2-2901-450C-9407-512461F4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4AE21-9B9C-489A-9DA5-635FA809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DCD0-1617-412D-8DD8-7A5A05E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6A2CA-934F-498F-B3B6-ED56E2E0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BF0C-9A53-457E-87EE-C3956787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09576-B564-473E-9A53-50452E57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5233B-649F-4FC3-A294-5B5D1A2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6E4F-FAC1-4A01-A829-FD9FE731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1477A-DFAD-487D-AE2B-EAF4CF76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07BA7-92AD-4169-8AA9-46818C38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5AAA-A436-4B9F-9ACE-24A8A9EE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DAE16-CC57-4C39-8688-D4630089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B92CF-50A1-4C47-B759-C2423305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0D86-6D9D-4C34-8475-4EBF5FD1140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7D8B-A315-47EF-8B4B-7757F720AF3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EC70-1CB8-473E-A23D-D2346247A30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F848-40B4-44A2-B9B7-ED4AA5108E4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1A6C-76B3-43E0-AB0F-AE43C24E44C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E223-1F5F-491A-A1B5-0613352F8EB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0E5B-8439-46DC-8262-EBAE3EA3AB5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7120-B83A-4427-892C-10DAEA084F5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DF3E-6ECA-4D9E-B2B2-E17EF2187EF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F2BA-7535-4D33-B59D-3BBDD8237974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BB11-5B2F-4734-8BEB-223CC98421E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BD62-BED1-48D3-AC79-45A2AF5CC27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C992-6847-4D07-9994-A7D3F6E6B85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CE9B-C2D4-478C-A639-8E761725B10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4D1C-A464-4D63-986B-3EA86B085FD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DF3-199F-481A-886E-A8C20A84F95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7E58-A65A-46DA-B1F1-5FB25A9AF13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 výnosů a příjm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nosy, příj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Výnosy a příjmy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, jestliže jsme dopředu obdrželi peníze za službu, kterou poskytneme v příštích le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řijat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jatou částku zaúčtujeme např. na 221 – Bankovní účty, ale protože službu poskytneme až v příštím období, nemůžeme tuto službu zaúčtovat do výnosů tohoto období, ale musíme zaúčtovat na účet 384 – Výnos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po poskytnutí služby přeúčtujeme na účet 602 – Tržby za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přijala v prosinci 2012 nájemné za pronájem garáže v roce 2013, a to ve výši Kč 60 000,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2 (31.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příjem nájemného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221 / 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rozpuštění časového rozli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ýnos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384 / 6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5 - Příjm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ento účet účtujeme tehdy jestliže jsme poskytli službu v tomto účetním období, která nebyla inkasována ani zúčtována přímo na účtech pohledáv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jemné, které nám bude hrazeno poza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rovedené a dosud nevyúčtované práce, výnosové provize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žbu, kterou poskytneme v tomto účetním období zaúčtujeme na účet 602 – Tržby za služby, ale jelikož se nejedná o příjem v tomto roce, tak musíme zaúčtovat na účet  385 – Příjmy příštích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štím období, po přijetí částky přeúčtujeme např. na úč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1 – Bankovní úč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tní jednotka v tomto roce pronajala budovu. Nájemné ve    výši Kč 60 000,- ji bude uhrazeno až v příštím roce ( v tomto  roce nebylo vyfakturováno ani inkasová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ÚD, předpis nájemného za tento rok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385 / 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BÚ, příjem nájemného za minul. ro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221 / 3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te kdy účtuje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jm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aje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41:34Z</dcterms:modified>
  <cp:revision>16</cp:revision>
  <dc:subject/>
  <dc:title>Časové rozlišení nákladů a výnosů</dc:title>
</cp:coreProperties>
</file>