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A030-A19D-4674-B977-455A5B494C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AEB-FACA-49E9-8AF6-F3B5E913AA2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0A56-D2F0-4690-9504-EBB78338E69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9160-B169-4A92-9E94-1679CD63D6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B1DA-C8BB-45F2-A4E9-8147CF6C2D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FECF-FF2B-4A13-9B01-8F3EE9C68D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5B82-F2BA-4BAD-B89B-F0A28799A73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4C9-F6A7-4E68-817C-A1EF821E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5CE-13D5-4225-83A8-F170EE58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99D-7292-4F87-A706-6EEC8700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485-2FD5-4D02-BAB1-F0C50BA3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6984-DCE1-4C3C-839D-9FF48E5F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1E1B-C319-4A40-89E7-ECEAC114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EC89-F135-4A22-97A2-565B3B9A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30F8-36AB-432E-827A-E2F3D4C9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D9DD-BBD0-4788-9D90-5A22DF5C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D672-AF06-48B3-8485-62F839E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CF63-FD17-442B-83CC-19B7E820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5C6-0A40-4477-9DB2-E3C34D73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71D7-CA94-4D28-8D82-9AC683A3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1E89-220D-4AD8-8A98-82FB99E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46A3-F648-4D11-8B84-62E0ECE7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D3D5-53C1-46F9-98AD-09A2666F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C90-8983-4BFC-B668-41996647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0AE49-4FEA-438C-A259-EE887946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A73DF-E25E-4FBF-8054-648F40D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D7AC4-B09A-4FD7-8683-60ADEAB3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1F848-95BC-4758-8EE7-2C31037D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C71D2-6227-4308-A76F-788B8C71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B34-A43D-4A30-A731-D5249CA3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C1200-DBFA-49C5-9ED9-11AE59F1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1BC65-8CB3-45DD-8E90-65B75BC8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A8B0D-1610-453A-B081-0D15D39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BCF28-B8A1-4888-B177-DB09759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D8A0C-C942-451A-B8A7-91E5BE79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D0740-E0CE-4C2B-8231-61691243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CDD4A-5D5D-4E32-B6CA-2408910F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99F-3A7B-4B3C-BA26-2300E875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F44-DE3B-4146-8FF2-61EEA7F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74D-EA65-4002-A7A2-61072544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FFB-6FCF-4E8A-9E37-5EBFB8E8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48E-162B-4EED-8303-5D0888E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757-A892-44B7-93E8-8F3AB77C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4D11-8556-45C6-84AC-3A6D6F24953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DD1A-80AE-4195-9D3E-66BBA76EF89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7043-AC1C-4D71-AF00-0BF5662427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 uzávěr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ec účetního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účetní uzávěrk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uzávěrka se provádí na konci účetního období (předchází účetní závěr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účetního období se musí uzavřít účetní 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 uzavřením účetních knih se musí prové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ntar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ování účetních operací na konci účetních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ále násled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jištění hospodářského výsled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základu daně z příjmů a zaúčtování daňové povin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zavření všech účtů a převedení konečných zůstatků na uzávěrkové účty 702 – Konečný účet rozvážný a 710 – Účet zisků a ztr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29Z</dcterms:modified>
  <cp:revision>16</cp:revision>
  <dc:subject/>
  <dc:title>Dohadné položky</dc:title>
</cp:coreProperties>
</file>