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5C78-6C12-4ECC-9F33-3657DC485C1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25A1-5665-4F37-9A10-3106BD0B27B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4AF3-68F1-4563-8962-A3E8F7F3DA4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44E3-DEFA-42A8-98D1-6C8F013291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C7D8-60BC-413A-9840-A2883FE447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66D8-820C-475F-B7E9-9D6609951C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761C-8CDA-4A7E-B01E-E0FDA90225F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ED73-644A-4CA7-A2F7-109B53999AD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B03F-4372-4EC2-81E8-ED070EAF71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ABCD-E32D-46CD-882D-F08149C0153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CE86-0A78-43F7-A79C-663D0639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97F-A2CA-4B9A-8A97-2525EB4D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0807-6247-416F-9442-B0B12FCC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0D5-B42C-43CB-87BD-B136EFE6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D5B5-1BBA-453E-A609-03CDF171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FB62-8C5E-4C54-9765-8B7A493B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BBF2-36A3-4C9D-9728-7D9BCF9D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761C-0034-4129-8C7D-DA1E31E6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565E-585E-45BB-BD4C-99D3D565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991E-FEE9-47A0-BA66-D320B857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ABDE-699B-4D80-8D80-162E9F75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B37-DE36-4655-9731-9DFE4408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0C18-72C2-4721-BC3A-9EB65ACD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1D0A-E508-4ACA-9252-A28B65D3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F685-CA93-4C65-84BE-C40F3ABA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4CF4-61A8-4C44-A0C5-D55993F7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6107-E045-4C8D-95DC-5BD3F664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7FC8A-1147-429F-A0FC-D34CA215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ABF23-4E23-4AFF-9AD8-F3531674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580FC-0478-4D15-A7CC-CD226856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60640C-0140-4A8B-884C-D66C04E0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20C1C-4A89-4FCD-B7F3-B9129D2E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0FBB-4A8F-40CC-A295-56392A2C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6012D-D9C6-42FE-A2D8-5D999571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33DB6-AA64-4701-82C1-8091AFD3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B25BB-C0F0-4B40-BF48-CDD3E4F7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593C1-06D1-46C2-8118-70F8F31F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ACAF18-27BA-435D-A599-5C76E7F5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8BFD2-DCBF-4B16-98F4-CF3BBAAD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46A7B-88E1-42EF-B0D6-6E3CF566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6566-BCF4-49DC-868B-D7175500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D254-090A-4F33-A022-92BFAA80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24B-CBE3-4735-B6EE-3FB61AA5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AD3F-0210-445E-9270-D8093BFE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A3AC-2219-41CC-B565-C335E075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92C6-984B-4F25-B448-A9C409E6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2038-FFB7-4B3C-80EC-F17E53B2A891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1DE7-8682-44DF-84C2-9F58C1F037A6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8AF4-1FB8-410A-A3F3-E283CDDE979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7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inventarizac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ontrola, účetní a skutečný sta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Charakteristika inventariza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Garamond"/>
              </a:rPr>
              <a:t>Charakteristika inventarizace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2349360"/>
            <a:ext cx="74278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ákon o účetnictví ukládá účetním jednotkám povinnost inventarizovat majetek a závazky a stanoví pravidla pro provádění inventariz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Úkolem inventarizace je: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rola věcné správnosti účetnic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jištění zda skutečný stav majetku a závazk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povídá účetnímu sta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rola reálnosti ocenění majetku a závaz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jednotka musí vzít do úvahy všechn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vídatelná rizika, které se týkají majetku a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azků a jsou známy ke dni účetní závěr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ruhy inventarizací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dle toho, kdy se provádí rozlišuje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Řádné inventariz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eriodická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– provádí se na konci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tního období (ke dni sestavení účetní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věrk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růběžná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– provádí se postupně v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ůběhu celého účetního období (termín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ůběžné inventarizace si stanoví účetní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dnotka sam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ruhy inventarizací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odle rozsah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Úplná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– týká se všech složek majetku a závazk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Dílč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– týká se pouze některých složek majetku a závazk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33"/>
                </a:solidFill>
                <a:latin typeface="Garamond"/>
              </a:rPr>
              <a:t>Inventarizace zahrnuje tyto etapy: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416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ovnání skutečného stavu se stavem účet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číslení inventarizačních rozdí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jasnění příčin a vypořádání inventarizačních rozdí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4:43Z</dcterms:modified>
  <cp:revision>21</cp:revision>
  <dc:subject/>
  <dc:title>Dohadné položky</dc:title>
</cp:coreProperties>
</file>