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428F-D3EC-4F6D-B051-DA7BE16366A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B8C8-C13C-4681-B7D6-BD57D5F05BF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5A35-9C0B-4120-89EB-82EA24D117A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14C1-7BB1-44FC-B00B-4E05837443E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13A7-95FD-4003-92D3-F356454DE74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F8EE-0AE3-4156-923F-629BA3AE95E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29E4-6E0F-4D12-ADCD-4EA8FEC4564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213B-BE32-4185-BC9B-641362FBEBD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0448-3547-4474-ABD5-F958434DB7D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E1CC-C909-4A98-B8B6-BC36750BCFD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A617-C548-4A4E-93C2-A236ECF79D0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F3B4-E7EF-4460-851C-55263A873C2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95B7-4AC0-4CEC-A08F-DB68C08F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64AF-F2C3-4335-95BF-CAD6D281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0CED-0D5D-4BD3-9FDD-A9429085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8CCD-4EED-40EC-B2BE-CE85EF9A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267E-2AA2-4454-8868-80F7DF6F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6B93-ABEA-4A83-896D-416BB79C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908A-779F-46AC-8027-AA947AE2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34BA-D8F9-4504-B63B-F5053415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9289-9C2F-4571-82A8-CA7F7C69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5819-E958-487E-813D-F880D48E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4AC8-3E69-4CE6-A548-09864226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0DA2-4AE0-49B2-8C11-D5BFD003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2988-F2A6-492C-AE86-93523A89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9C4C-0F52-42BE-B0A3-94E998F4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8846-58CE-46D0-8E33-8E09D56E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0190-AFF8-4616-953F-B7ADC88D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C3C5-4B1B-4D00-B30C-E58D27FC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DC4C65-0B6F-4CDD-B639-2B4C4489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066FB-44EA-4FD0-B040-DBAF287A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F820D-B585-4488-83C2-BBA47346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74AA9F-969B-4171-808C-5BFD15C7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CA95CC-D862-49B5-86D2-EC42D8AB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3ABA-2F2B-48E4-8247-0D75B7F4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6AE17D-C1CC-4F66-9133-E5BABE86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17B06-1170-400F-A0C6-AE83DA6C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4A02F-DB29-48F0-B387-18865155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A5DD7-7504-46BF-BF94-822EA5B3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F95637-C362-4CA2-9DF7-FBB1A096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68F9A-6245-49D0-B94E-7C645A6D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BB49B-DE24-4330-B5E2-225C338B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A9A7-6109-477F-9CF0-E799FC8D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4B52-A3B2-48D9-B399-7B7BCD6D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D1D9-4CA8-4E87-982B-9C115C43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ECA2-E1B4-45E2-A14E-3DABB2B7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9DDE-CB9B-461D-97E4-A86729B7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A884-5BB7-40C5-9CAA-4473F870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D075-E175-4890-895C-7DB8D8431F72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246B-6201-4CC3-A100-508057D64E5E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3B3B-C7DD-4648-ACE2-CE05B2C14F7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FaV – Prodej výrobk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500 000,--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11/6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VúD – Tvorba opravné polož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5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8/3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VúD - Odpis pohledáv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5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46/3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. VúD – Zrušení opravné položky   5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91/5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9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e zrušením opravných polož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minutí důvodů, nedobytná pohledáv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s úloh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79280" y="242100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Zrušení </a:t>
            </a:r>
            <a:r>
              <a:rPr b="0" lang="cs-CZ" sz="4000" spc="-1" strike="noStrike">
                <a:solidFill>
                  <a:srgbClr val="006633"/>
                </a:solidFill>
                <a:latin typeface="Garamond"/>
              </a:rPr>
              <a:t>opravných</a:t>
            </a: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 položek u pohledávek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33"/>
                </a:solidFill>
                <a:latin typeface="Garamond"/>
              </a:rPr>
              <a:t>Zrušení opravných položek u pohledávek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pravné položky u pohledávek se zruší, poku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minou důvody pro jejich existenci (např. pohledávka, na kterou byla vytvořena, byla uhrazen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hledávka byla odepsána jako nedobytn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33"/>
                </a:solidFill>
                <a:latin typeface="Garamond"/>
              </a:rPr>
              <a:t>Zrušení opravných položek u pohledávek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rušení (čerpání) opravných položek u pohledávek se účtuje následovně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daňově účinných opravných položek 391/5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daňově neúčinných opravných položek 391/5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rma měla neuhrazenou pohledávku vůči odběrateli, a to ve výši 70 000 Kč. Na tuto pohledávku vytvořila k 31.12.2012 opravnou položku ve výši 14 000 Kč (20%). Dne 21.2.2013 tato pohledávka byla uhrazena odběratel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účtuj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VúD – Tvorba opravné polož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Vbú  - Úhrada od odběra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. VúD -  Zrušení oprané polož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 VúD – Tvorba opravné položky  14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8/3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Vbú  - Úhrada od odběratele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7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21/3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VúD -  Zrušení oprané polož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14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91/5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Firma Senox, a.s., vystavila dne 5.3.2012 fakturu odběrateli za prodej výrobků, a to ve výši 500 000 Kč, která nebyla uhrazena. V prosinci 2012 byl na tohoto odběratele vyhlášen konkurz a firma Senox, a.s., přihlásila svou pohledávku. ve stanovené lhůt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následujícím roce soud zrušil konkurz pro nedostatek majetku dlužník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aúčtuj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Zaúčtujte: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.FaV – Prodej výrobků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VúD – Tvorba opravné položky (100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. VúD - Odpis pohledáv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. VúD – Zrušení opravné polož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42:48Z</dcterms:modified>
  <cp:revision>27</cp:revision>
  <dc:subject/>
  <dc:title>Dohadné položky</dc:title>
</cp:coreProperties>
</file>