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AA8F-2324-4CBE-A958-F5E66F9C69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C862-3CC5-441F-83F8-1078D1C83D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3430-4817-46DF-95F9-1CC67022425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3982-74F1-4CA1-AF65-E82EA265D3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7889-5A53-4FDB-B869-16AF61C21A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87E4-E965-4DF6-840E-43621744B9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B38-B415-448D-8E37-2C0A2DF666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7965-806B-4627-89B5-D038AA74B8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CA59-DCAA-46E4-A0D5-5448E25754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0779-47F6-432F-AA5C-1B58C4E3AB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852-580F-46AB-8391-6C48855A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9F3-DC41-4484-AF64-C58D27A9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E20-CE52-45E8-8E8F-5BCCE950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B53-E08C-4FE1-AE11-4A4F3645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10C2-A4C8-4908-AA47-5BEB4FA7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FABB-739D-4E4D-863B-0EC8D850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8E05-CC8C-4F65-89BB-DE7EC7B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C22C-A875-4202-A058-E3581677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05AF-F1EA-4D79-B8D9-29CE5328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4541-DF01-414E-98E5-74DF3458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2D24-F30A-47F4-A648-B04B640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225-2DC7-4957-9CCC-5BD563C3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A1B-0EEA-40C9-90F2-04D836F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BDD3-4078-476D-A821-85D4D58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6E8E-F241-4D98-84D0-C85DD3BF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FB0C-D62B-43C3-BCC4-18414BDE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A036-FF2B-4EE5-8E81-C3DF5D2D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9DA1A-1806-4291-93D0-E30C8EFF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6AAC2-025F-4827-8AA6-83503983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5F505-A305-479F-B504-DE444744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D4D19-172B-4601-9082-712B865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AD9C8-AF73-4BDC-8798-EBA79542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CB8-BA93-4F10-9DE6-03267CE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F20B8-4511-4A16-B426-C4BDF1A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4E9E6-66B7-47E1-BC0B-F3FDC0DF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966C3-3B20-479A-B326-2C535DA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AB56D-2A61-49E3-B67C-0E800CD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38B78-4D41-442D-A2F8-DC5DD8EE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12670-AAE2-4E9A-B410-528448D2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C4591-664D-4C34-8975-58C185FF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099-E9D0-4F9C-AD33-553E193D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9BE-EBFB-4539-86DD-9377A977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D25-A920-45FD-9BB0-2415D2C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E6F-8EAF-4CBF-A38C-8183D245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814-46D7-4D84-8B60-8DAE81F5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829-9AB1-45B8-A98B-096AE41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6F60-03A0-4C98-9193-E90BBB5CE97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36A4-0ACC-4482-B6DC-52483A9557F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BFF9-7ABE-4DEE-8F43-FB7000C3C6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čními rozdí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bytek, man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73360"/>
            <a:ext cx="7427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rovnávání skutečného stavu se stavem účetním mohou být zjištěny tyto inventarizač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účetní stav je vyšší než skutečný stav (rozdíl mezi skutečným a účetním stavem nelze doložit účetním dokladem, nebo prokázat jiným způsobem stanoveným zák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 manko se nepovažuje tzv. norma přirozeného úbytku (u zás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u přirozeného úbytku si stanovuje účetní jednotka sama (musí být uvedena ve vnitropodnikové směrni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stanovení její výše vychází ze zkušeností z minulých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a přirozeného úbytku se stanoví např.  u takového materiálu u kterého dochází k vypařování, vysýchán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zboží se stanovuje např. v důsledku ztratného v obchod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řebytky – účetní stav je nižší než skutečný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st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96640"/>
            <a:ext cx="8013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ka a přebytky nelze vzájemně kompenzovat. Výjimkou jsou pouze případy, kdy došlo k chybné záměně podobných druhů záso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tomto případě se zjištěná manka a přebytky vzájemně převedou (případný rozdíl je pak přebytkem či manke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56Z</dcterms:modified>
  <cp:revision>25</cp:revision>
  <dc:subject/>
  <dc:title>Dohadné položky</dc:title>
</cp:coreProperties>
</file>