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BCE0-A7D4-45E7-9E26-D90FDA3046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CA99-64B6-4752-AAF9-18DFF2041D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79A-676A-458E-83B9-7BED74133E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627-EE80-4691-B6AD-9E242616D5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AAB-3901-4581-8D86-856F6962D1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0040-CD07-4088-A9AA-C85B17B8F5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019-4296-4574-851C-0CB06A2374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687C-9E2E-4C38-A3BB-4EC10E6F0B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6C83-CE4B-4479-8FA6-4D4F0E3F1A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610-EC5C-4927-8A2A-0ACF9AEFBD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C2D0-D9BB-47DC-86A7-0DDFA34E63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47A-CE46-4DBA-8321-936C0FFF96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5E9E-8477-42D8-A77C-FA9C345B14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D5D-806B-4688-AB4E-CEE9F320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5AF-0783-497E-B67D-6028B0AE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CAF-9DC4-4095-87AA-0048A97C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EC2-004B-4D36-97DA-DA63057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2B15-07B0-4FDC-B3A1-DEF44B14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199-8221-4D62-A8C1-3FA3A4E0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90A4-DB7A-434B-8366-919DF8E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3C2F-5AD0-4C7E-A858-D45D2173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0AEB-8762-4B6A-BE5E-93EDA3F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1ED9-3257-4751-A8B1-DC927058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7806-A807-42BF-A431-D42E24F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78A-7B93-4267-8327-B5A315F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D237-7ECF-44C1-81A2-85ED9C4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1186-4BE1-4938-94B7-B3A4286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4BCA-8ADA-47E2-93C4-7455D3F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24CC-760F-49D4-B94F-B1361FE0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3DCE-DD56-43C2-9EE2-75DEBFE9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45FE5-C82C-4135-9A0E-3A2F733D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5586E-9EBE-422D-91E2-BA01D95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9AB6C-B33D-472A-81B0-B6AE05EB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999C7-B3B0-4AAC-A820-C9EBE16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A825F-F9F6-4915-9235-C667288D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62E-8013-4940-86DB-432586E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E35DC-30C2-432E-95F3-FE13DFEC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F2597-5509-40F8-AD99-E01CA8D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1A9D3-60FE-45A2-BFDA-536FD4A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0CE59-9B7A-45BE-A8F1-CFAA394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DA883-6D39-431B-8329-AC79BB1F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0C7D4-4BE8-4689-9594-70B45CAC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C82D9-565B-423E-A1E6-23D6F4BA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9D9-2A5F-4A65-BBEB-06B6F2A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376-8B29-4CD4-A172-9B9762C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0CF-3586-408F-9995-4FEDC5E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70E-374B-414B-BE25-B32727C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9AF-E30E-4EB8-AA40-0A850B1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410-55EE-4F61-A010-BC8B049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B8C7-B9BE-44CD-B465-32276CF07B7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C2A-E323-4491-8544-9A24D6C1CD2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BAB7-3A27-482C-A94F-E1DB65A4EE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prosinci vznikla firmě škoda na havarovaném automobilu. Do konce účetního období firma neobdržela předpis od pojišťovny o náhradě této škody. Odhadovaná výše náhrady činí 89 000,- Kč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ovém účetním období pojišťovna přiznala náhradu ve výši   87 000,- Kč, kterou následně uhradila. Zaúčtujte odhadovanou výši plnění v tomto roce a předpis a přijatou náhradu od pojišťovny v příštím ro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9 000,-    388 /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37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2 000,-    64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221 /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hadné polo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hadné položky představují nepotvrzené pohledávky či závazky, u kterých je znám účel a období do kterého pohledávka či závazek patří, ale není známa přesná částka (nemáme fakturu, výp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lišu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Dohadné účty a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akt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388 - Dohadné účty aktiv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dná se především o pohledávky, které věcně patří do běžného období, ale u kterých neznáme přesnou částk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kud nám vznikla škoda na majetku, který jsme měli pojištěný a pojišťovna nám do konce účetního období nevyúčtovala náhradu plnění (za vzniklou škodu na majetku), zaúčtujeme pohledávku, u které neznáme přesnou výši (nemáme doklad) na účet 388 – Dohadné účty aktiv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říklad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důsledku havárie nám vznikla škoda na materiálu, a to ve výši 59 000,- Kč. Pojišťovna nám do konce účetního období nepřiznala náhradu. Předpokládaná výše náhrady činí 57 000,- Kč. V novém účetním období nám pojišťovna přiznala náhradu ve výši 56 500,- Kč, kterou nám následně uhradi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37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 VúD - Doúčtování rozdí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500,- 64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221/3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účtujte v případě, že pojišťovna poskytne plnění ve výši 57 500,- K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7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56Z</dcterms:modified>
  <cp:revision>12</cp:revision>
  <dc:subject/>
  <dc:title>Dohadné položky</dc:title>
</cp:coreProperties>
</file>