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A294-8C33-4E54-83EA-997734DD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BD4DD-0369-4332-AFC1-5FA34770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52D3-C7F3-4601-A8E7-5F81E2F4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5B5A-E933-46C1-B23B-B07DF7B4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8C26-8E13-49D1-8D84-ED2A34CA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0A94-2F91-4D4C-B8B0-0EA865A7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B73C-0300-4F13-AADE-0CBCF57D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4B2E-05C2-4E4F-B8AD-DEBE1BF6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05C9-6FE2-4251-B125-42EBB3A3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2CAB-BDEF-428E-85AB-A8210881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77D9-F749-4FC7-A57D-BF634645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0CBC2-060F-4D73-BBDF-B31DC5AF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89A0-A7E5-4046-B6FC-8A874B53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D02D-0E7E-4714-9ABD-D9980CED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EE63-98FD-47CC-AC77-9B91DAD8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B465-B7A3-40AE-97E5-0001F769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E538-9C13-40BD-B298-DFDD76E2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C9410-9773-4C45-80B2-A9BB5FBF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261CA-8D20-49F0-8582-2E1C794D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34463-9184-4BDE-A0EC-5B1E7C70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581A-23AD-466D-A4E3-42808104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387D2-0A74-449A-B6C0-2A78792D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01C97-14D5-4FFE-8DC2-14391FA8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C588B-2784-4BAD-9E2F-63AC7D0E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842AB-6BB7-4432-A05A-DCB5D38B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198FD-41F9-4675-BA90-3DA23A13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B4413-68FC-45A2-8DB0-AD4141EF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51956-0576-4E7C-8CC7-2AE47CA5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8A42-C1B5-4274-BA68-B29718BA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F362E-51CE-45EC-A0DB-009F5BB4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DFD10-2DF7-4F11-9299-BA678299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592A-3B25-4347-A5CA-44D4571D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C1108-DF10-467B-AC11-B4FBFF98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AE20A-10AB-4A52-8FF7-1724D171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A9BC3-AB7F-493C-9F71-520A9E00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E9BD-A2C4-4C16-A092-94AB110E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5D48-E00A-45F4-AC6A-28D158067F7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3843-DA17-416A-8B19-26BA00DDAF7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4496-BC85-459F-9D76-B6C82750F1D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11280" y="3860640"/>
          <a:ext cx="7561080" cy="4255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11280" y="4500720"/>
          <a:ext cx="7561080" cy="1554120"/>
        </p:xfrm>
        <a:graphic>
          <a:graphicData uri="http://schemas.openxmlformats.org/drawingml/2006/table">
            <a:tbl>
              <a:tblPr/>
              <a:tblGrid>
                <a:gridCol w="3456000"/>
                <a:gridCol w="410508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erace na volném trhu –repooprace, od bank přebytečné peníze, za ně cenné papíry (kolaterál), po uplynutí dohodnuté doby odkoupí ČNB cenné papíry zpět i s úrokem, 2 T reposaz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utomatické facelity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pozitní facilita -  možnost bank uložit přes noc u ČNB  svou přebytečnou likviditu Minimum 10 mil. Kč, depozita úročená diskontní sazb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Marginální zápůjční facilita  - možnost bankám vypůjčit si přes noc od ČNB formou repo operace likviditu. Minimální objem je 10 mil. Kč, úročeno lombardní sazbou ( nevyužívá 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vinné minimální  rezervy – banky mají  uloženy u ČNB 2 % (ze závazků kratších než 2 roky, tj. z vkladů klientů), slouží pro plynulý bankovní sty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bankovním sektorem, kapitálovým trhem, pojišťovnictvím a penzijním připojištěním, družstevními záložnami, směnárnami a dohled nad institucemi elektronických peněz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699920"/>
            <a:ext cx="7010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děluje lic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tření k nápr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stranění nedostatk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měna osob ve vedení a dozorčí rad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ení nebo zákaz některých činno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699920"/>
            <a:ext cx="7010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tření k nápr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imořádný aud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uta až 50 mil.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nížení základního kapitá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ucená sprá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nětí lic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NB stanoví pravidla, která chrání stabilitu celého finančního trh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grace dohledu do jedné instituce (ČNB) od 1. 4.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í stížnosti na finanční instit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ídá dodržování zákazu nekalých obchodních praktik, zákazu diskriminace spotřebitele a dohled nad řádným informováním o cen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468360" y="1916280"/>
          <a:ext cx="8229600" cy="4168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eská národní ban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ČNB, její funkce a úko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eská národní banka, měnová politika, dohled nad finančním trhem, emise oběživa a peněžní oběh, devizový dohled, banka státu, platební styk a zúčtování ban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bor ochrany spotřebit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může rozhodnout o náhradě, zrušení smlouv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ůže rozhodnout o porušení zákona (sankce pro finanční instituci), což je pro klienta důkaz pro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centrální registr úvěrů – úvěrové závazky podnikatelů (fyzických a právnických osob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častníkem všechny tuzemské banky a pobočky zahraničních bank na území Č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nopolní právo vydávat bankovky a mince včetně mincí pamětníc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bá o plynulý a hospodárný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avuje zásoby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huje z oběhu a ničí opotřebované peníze a poškozené vyměňuje za nov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jišťuje technickou a uměleckou přípravu platidel, jejich výrobu a dodáv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ílí se na přípravě právní a technické ochrany platidel proti padělání a na její realizac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uzuje a eviduje všechny peníze zadržené pro podezření z paděl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áva devizových rezerv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erace na devizovém trhu (devizové interven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regul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kupuje a prodává cizí měnu, tím ovlivňuje její kur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noví pravidla provádění platebního styk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avidla pro vydávání a užívání elektronických platebních prostředků  a pro bezpečné fungování platebních systém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ozuje systém mezibankovního platebního styku CERTIS (zúčtovací = clearingové centru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účty a poskytuje služby platebního styku zejména státu a banká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státu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bankovní služby pro stát a veřejný sek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účty organizacím napojeným na státní rozpočet (ČSSZ, ÚP, celní úřady, státní fondy) a rozpočet Evropských společenství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státu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í operace spojené se státními cennými papí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 oblasti měnové politiky reprezentantem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stupuje stát na jednání MMF a Světové ba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Česká národní banka</a:t>
            </a:r>
            <a:r>
              <a:rPr b="0" lang="cs-CZ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ladní údaje o b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ová polit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Platební styk a zúčtování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. Banka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8. Stížnosti na finanční instit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9. Zjistěte aktuální úrokové sazba stanovené ČN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o_cnb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menova_politik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financni_stabilit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dohled_financni_trh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platidl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platebni_sty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financni_trhy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dohled_financni_trh/vykon_dohled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trální bankou Č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on o ČN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itická nezávislost ČNB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istence zakotvena v úst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jvyšším řídícím orgánem  bankovní rada, v čele guverné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leny bankovní rady  jmenuje a odvolává prezident republi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rada předkládá poslanecké sněmovně Zprávu o inflaci (4 x ročně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formuje veřejnost o své činnosti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veřejnoprávní subjekt se sídlem v Pra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bočky: Praha, Ústí nad Labem, Plzeň, České Budějovice, Hradec Králové, Brno, Ostr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mpetence správního úřad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ospodaří samostatně s majetkem svěřeným stá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 její činnosti lze zasahovat pouze na základě zák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smí přijímat pokyny od vlá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íle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m cílem je péče o cenovou stabilitu k vytváření podmínek pro udržitelný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ospodářský rů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pora obecné hospodářské politiky vlády, pokud není v rozporu  s cílem hlavní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souladu s hlavním cílem tyto úkol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ová polit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55:44Z</dcterms:created>
  <dc:creator>Marek</dc:creator>
  <dc:description/>
  <dc:language>en-US</dc:language>
  <cp:lastModifiedBy>Igor</cp:lastModifiedBy>
  <dcterms:modified xsi:type="dcterms:W3CDTF">2014-09-13T14:42:14Z</dcterms:modified>
  <cp:revision>34</cp:revision>
  <dc:subject/>
  <dc:title>Česká národní banka</dc:title>
</cp:coreProperties>
</file>