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F4B-EE88-4400-A3EF-7AD20E89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AEC-E586-42A4-B589-2D3FEEC4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1C0-488F-4ABB-9A9C-37C517D0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2A8-C699-4396-A13F-94D2D6DB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4163-F885-4783-9CD6-EFF48520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FCEC-D2A0-477E-8910-0C3D6169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FACC-81C6-4FC2-840A-27D31C3C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CCFE-569E-49F2-B793-940CC3FC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BB64-12C8-4F04-A548-490EA719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6823-DF16-428C-8AF7-1AD1AC78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6D1-F1FC-4B5F-8EB2-57A9134F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818-EAE7-4A02-B8C1-996F15C2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DB9C-0BED-43DA-9A2D-33277A1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7D63-C379-48D5-977B-4C68491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D691-F64E-4092-BC98-193DA5BE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CEA7-D9FA-4EC1-8758-42AD18DB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17E7-F5B6-4723-888C-E938DF2C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DB66-A2E5-4AC5-810D-E6DD38FD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DB03-7AE1-4E8C-A0FC-E822C68E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DDA2-4AFC-4E7F-B393-2A8846D9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2928-3A68-4010-817A-8EFF0FE3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85255-B460-4ABB-AF5B-8DD6071F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459-0E8B-4258-AF98-917900DB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C36D-5BAE-40B9-839C-90371858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31A1-A770-470F-9FA7-8955A59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A795-7DED-4B6E-8F26-4B9E77C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3D8E-EB6A-47E7-B280-5F66D192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1A0F-12FE-4109-A949-72973FB3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FECC-18BB-4645-9E9C-9BE84ABB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CF8B-76B4-4B0C-A193-DC2296B2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3B2-08D2-49E1-8288-03B9ED1B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E37-2A3A-4A9E-B1AE-DF0BA0B6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7B1-3813-45F5-9037-AB43F38A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55F-D257-4EA7-82BE-5D7143CF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8DE-71B8-43D4-9A03-B92903FC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E95-5AED-4168-B01A-0EF6606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2647-CCFE-4705-87CD-B283BC8D2A3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585-DCA0-42AA-9339-5354ACE35D3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4FF6-0D6C-4637-8672-034859958EB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ádivá inflace (cválající, dvojcifern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udký růst c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 převyšuje růst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ácejí kupní sí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Hyper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tr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cen ve stovkách, tisících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ísá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atily význ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ástečný ba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erný obch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jevná inflac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odpovídá naměřené infl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tlačená (blokovaná) inflac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inflace blokovaná státem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krytá inf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lký podíl stínové ekonomiky nebo   rostou ceny výrobků a služeb nezahrnutých ve spotřebním koš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távková 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úměrná produktivita prá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da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vné úvě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bídková (nákladov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dokonalá konkure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výše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é udá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éně kvalitní zdroje suro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9640" y="1844640"/>
            <a:ext cx="184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rozdělovací efek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reálných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xní důchody se neměn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vkladů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úvěrů a půjč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ociální dop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ciální nepok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bo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ická emi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ůsobení na rovnováhu ekonom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spotřeb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rná inflace působí motivačně pr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robu i 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tiinflační politi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loha centrální banky (cenová stabilit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yblivá úroková míra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ování růstu mez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růstu popt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395280" y="1700280"/>
          <a:ext cx="8229600" cy="3816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jmu inflace, členění a projevy inflace, způsoby měřen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, cenové indexy, členění a projevy 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spotřební koš a co obsahuj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často se mě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čemu se použív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ujte vývoj inflace v ČR za posledních 10 l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Která instituce měří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Inflace podle kvantitativního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edisk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Inflace podle projev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Příčin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. Důsledk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1. Protiinflační polit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jev ekonomické nerovnová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ové hladiny (úroveň ce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nehodnocení (pokles) mě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kem je de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výpočtu slouží průměrné ceny výrobků a služeb zařazených do spotřebního koš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á se spotřebu průměrné domác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svou váhu určenou podílem výdajů na daný výrobek nebo služb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ý spotřební koš po 5 letech z důvodu změny potřeb domác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cen výrobců (PP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různá odvětví a ob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 obsahují výrobky a služby pro výrob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má v koši svou vá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incip stejný jako u C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Deflátor HDP (HN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m jsou všechny spotřebované výrobky a služby v daném obdob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rok se koš m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áhou je podíl výrobků nebo služby v produkt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írná inflace (plíživá, jednociferná)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atelná pro stát i obč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rostou poma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nepřekračují tempo růst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ne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1:41:27Z</dcterms:created>
  <dc:creator>Marek</dc:creator>
  <dc:description/>
  <dc:language>en-US</dc:language>
  <cp:lastModifiedBy>Igor</cp:lastModifiedBy>
  <dcterms:modified xsi:type="dcterms:W3CDTF">2014-09-13T14:47:00Z</dcterms:modified>
  <cp:revision>35</cp:revision>
  <dc:subject/>
  <dc:title>Inflace</dc:title>
</cp:coreProperties>
</file>