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EA3-C712-4379-806D-FCF29F64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BB8C-48C5-4EF2-B801-9D78FE35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B8D-1F87-435D-86B4-EB8188F8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AF8-54E2-4191-B83A-0B72563E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6514-202A-404C-B17E-C11F0CC4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A76A-74DF-4655-8A79-5249D7F8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70D5-2663-43B2-A7DD-7BD8BFBA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6CEA-3159-4CE8-B03C-C4F7E7F9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2604-EC60-4FE4-811C-FD0945C9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9866-61AF-4AE9-A7F1-9313C137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499F-15DF-407C-A2F0-1F1C65DE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58E-4DD1-45D3-8334-A577098B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4CA0-3E33-4BA5-8928-F3DC7589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AC6A-C731-4FB9-A752-869490D0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5333-7E9C-409D-857D-02C6799F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A1A8-C78C-443F-8BA9-FABE3A02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F73A-B7F0-4C3B-9051-F05D0608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406-395E-40D3-8CD8-E67A6B71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F1A-8CA2-46E7-9F95-1274A710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D71-BCF3-422C-9E65-E4706737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001-0DE7-497B-840F-18F0A205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370-1481-46C7-9F04-66D72CE1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8B3-53CB-4080-B2C1-ADCBBCFA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385-2875-427D-BDA4-40A63E1F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DBC2-BFCC-489F-9835-5A10720A414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8AEB-DCEE-4767-B322-4BC198BF943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221000"/>
          <a:ext cx="7561440" cy="1590840"/>
        </p:xfrm>
        <a:graphic>
          <a:graphicData uri="http://schemas.openxmlformats.org/drawingml/2006/table">
            <a:tbl>
              <a:tblPr/>
              <a:tblGrid>
                <a:gridCol w="3311640"/>
                <a:gridCol w="4249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valvace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pokles (znehodnocení) kurzu domácí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evalvace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výšení kurzu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 jakého hlediska je sestaven kurzovní líste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ý je rozdíl mezi valutou a devizo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pomoci kurzovního lístku vypočítejte přímý a nepřímý kurz Kč k EUR, USD a GBP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počítejte křížový kurz zahraničních měn z minulé otáz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Jak ovlivňuje Česká národní banka plovoucí kurz české korun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opis Ekon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368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zy mě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cvik práce s kurzovním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ístk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zovní lístek, deviza, valuta, typy kurz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Kurzy mě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ímý kurz – počet peněžních jednotek měny domácí k jednotce měny zahraniční Př. 1 EUR = 26,-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přímý kurz - počet peněžních jednotek měny zahraniční k jednotce měny domácí Př. 1 Kč = 0, 038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řížový kurz  - kurz dvou zahraničních měn k sobě navzájem vypočítaný z kurzu třetí měny, např. kurz EUR k USD a naopak vypočítaný z kurzovního lístku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ovoucí kurz (floating) – kurz měnící se v závislosti na nabídce a poptáv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vný kurz (fixní) – kurz pevně stanov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ficiální kurz – kurz stanoven centrální banko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oficiální (černý) kurz – kurz u překupní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deviza nákup - příjem cizí měny na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deviza prodej – nákup cizí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valuta nákup – prodej valut směnár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valuta prodej - nákup valut ve směnár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střed – aritmetický průměr kurzu nákup a kurzu prodej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obrazuje aktuální kurzy komerčních bank (směnáre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dejní i nákupní kurz je uvažován vždy z hlediska banky (směnárn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peníze v hotovosti – valu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peníze bezhotovostní - devi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5:15Z</dcterms:modified>
  <cp:revision>30</cp:revision>
  <dc:subject/>
  <dc:title>Peníze a měna</dc:title>
</cp:coreProperties>
</file>