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C487-5A82-4951-858D-055B2C0EA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EFC1-C763-4130-AFE7-0BB834711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C23-1DAE-4577-87DD-3671E1D0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9AC7-9E0B-4907-972D-321B4CD2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3AC-0EB2-49B7-B365-5529B7C5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8BE-1A90-4813-BBA6-2CAFA906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BFB2-2E80-4F8C-AB61-8CF4AF98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071A-D6DA-4FBE-B82C-1E0F21EE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2A33-657F-46B3-B01A-3F8D049E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8E85-CD2C-4D4A-A8DA-7ADF73A7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DFEB-0F86-4520-AC89-B131A894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3B7B-48EE-4FB2-9CDC-9664B330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DD16-5532-475D-A46A-0D86EA03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776-D093-422D-845E-EFC305B4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67FC-4107-4C68-B04F-EC98EC12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B163-14F8-4CB2-9F37-3F791C4D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79C1-DDBD-42E8-8820-9267C684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4D50-8C74-4B14-93B5-4CD5B586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D691-C84E-4B99-8C77-07773B92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DAB39-A05F-4CFB-B04F-470C94F5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28BA2-B0B9-41D2-9944-7B75A3D7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4C2FA-91DB-4B39-8029-BCC12769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97622-5E7A-4461-AFB8-26FB9956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8E5A9-E5A8-4AB5-B83A-F0875DE3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A29-48EE-49BC-BDE4-48A415CC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8FECB-3427-476B-B3EC-520BB14A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75DAB-24DF-4024-9A3B-AAA72A6E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5952D-4D67-40AF-9C72-612D74AB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FB02F-A631-47A5-99DA-2239734E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41850-FA0A-43D7-947F-52320C6A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ED5C6-633B-4FA6-8352-16CCB89F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7E9CE-9BDA-4D9F-9A30-43979AF4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499-C27E-43A1-B409-B890850E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7E1-A0E1-44A7-984F-5679CF00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EBF-3B37-444A-8FBD-88D1FF4A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01B-30E5-4E5E-B156-43BAA4C1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D87-0B6D-4EB1-AD01-9A3CACC2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5F9-BA71-40D9-BB28-9F52540B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9617-CF26-49CC-8A6A-0F01C33969EC}" type="slidenum"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D58E-B8F9-4F10-A42E-303A51DDEA74}" type="slidenum"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48F5-F9E9-4201-A8C1-B260BB315800}" type="slidenum"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cnb.cz/cs/platidla/ochranne_prvky/ochranne_prvky_5000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98989"/>
                </a:solidFill>
                <a:latin typeface="Century Gothic"/>
              </a:rPr>
              <a:t>Výukový materiál zpracován v rámci projektu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98989"/>
                </a:solidFill>
                <a:latin typeface="Century Gothic"/>
              </a:rPr>
              <a:t>EU peníze školám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98989"/>
                </a:solidFill>
                <a:latin typeface="Century Gothic"/>
              </a:rPr>
              <a:t>Registrační číslo projektu: CZ.1.07/1.5.00/34.0208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Y_32_INOVACE_12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39640" y="4221000"/>
          <a:ext cx="7561440" cy="1662120"/>
        </p:xfrm>
        <a:graphic>
          <a:graphicData uri="http://schemas.openxmlformats.org/drawingml/2006/table">
            <a:tbl>
              <a:tblPr/>
              <a:tblGrid>
                <a:gridCol w="3527640"/>
                <a:gridCol w="40338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4. Soutisková značk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2" name="Zástupný symbol pro obsah 3" descr="Soutisková značka CR"/>
          <p:cNvPicPr/>
          <p:nvPr/>
        </p:nvPicPr>
        <p:blipFill>
          <a:blip r:embed="rId1"/>
          <a:stretch/>
        </p:blipFill>
        <p:spPr>
          <a:xfrm>
            <a:off x="1692360" y="1700280"/>
            <a:ext cx="5616360" cy="2305080"/>
          </a:xfrm>
          <a:prstGeom prst="rect">
            <a:avLst/>
          </a:prstGeom>
          <a:ln w="0">
            <a:noFill/>
          </a:ln>
        </p:spPr>
      </p:pic>
      <p:sp>
        <p:nvSpPr>
          <p:cNvPr id="163" name="Obdélník 4"/>
          <p:cNvSpPr/>
          <p:nvPr/>
        </p:nvSpPr>
        <p:spPr>
          <a:xfrm>
            <a:off x="1258920" y="4365720"/>
            <a:ext cx="67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íc                      rub                     průh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4. Soutisková značk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z jedné strany bankovky je viditelná pouze jedna část značky, z druhé strany část zbývající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v průhledu proti světlu je značka vidět celá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soutisková značka je kruhová a tvoří ji písmena "ČR"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 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5. Skrytý obrazec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Zástupný symbol pro obsah 3" descr="Skrytý obrazec"/>
          <p:cNvPicPr/>
          <p:nvPr/>
        </p:nvPicPr>
        <p:blipFill>
          <a:blip r:embed="rId1"/>
          <a:stretch/>
        </p:blipFill>
        <p:spPr>
          <a:xfrm>
            <a:off x="1908000" y="1700280"/>
            <a:ext cx="54007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5. Skrytý obrazec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viditelným tehdy, sklopíme-li bankovku ve výši očí do vodorovné polohy proti zdroji světla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tvoří ho vždy číslo označující nominální hodnotu bankovky 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je umístěn na lícní straně bankovky v ornamentu na rameni portrétu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entury Gothic"/>
              </a:rPr>
              <a:t> 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6. Proměnlivá barv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1" name="Zástupný symbol pro obsah 3" descr="Proměnlivá barva"/>
          <p:cNvPicPr/>
          <p:nvPr/>
        </p:nvPicPr>
        <p:blipFill>
          <a:blip r:embed="rId1"/>
          <a:stretch/>
        </p:blipFill>
        <p:spPr>
          <a:xfrm>
            <a:off x="2195640" y="1773360"/>
            <a:ext cx="475272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6. Proměnlivá barv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založeno na optickém efekt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šestiúhelník s hlavou českého lva vytištěný speciální tiskovou barvou mění své zbarvení v závislosti na tom, v jakém úhlu se bankovka sklopí proti dopadajícímu světl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2f5897"/>
                </a:solidFill>
                <a:latin typeface="Palatino Linotype"/>
              </a:rPr>
              <a:t>7. Iridiscentní pruh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5" name="Zástupný symbol pro obsah 3" descr="Iridiscentní pruh"/>
          <p:cNvPicPr/>
          <p:nvPr/>
        </p:nvPicPr>
        <p:blipFill>
          <a:blip r:embed="rId1"/>
          <a:stretch/>
        </p:blipFill>
        <p:spPr>
          <a:xfrm>
            <a:off x="2843280" y="1557360"/>
            <a:ext cx="3600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7. Iridiscentní pruh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duhově lesklý pruh o šířce cca 20 mm na lícní straně blíže pravému okraji bankovky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při běžném pohledu průhledný, proti světlu barevný nádech zlaté a fialové barvy s kovovým odleskem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vpravo negativně (světlé) vyznačené číslice 5000 a čtveřice lipových listů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při sklopení  tyto číslice a symboly  tmavé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8. Mikrotext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9" name="Zástupný symbol pro obsah 3" descr="Mikrotext - líc"/>
          <p:cNvPicPr/>
          <p:nvPr/>
        </p:nvPicPr>
        <p:blipFill>
          <a:blip r:embed="rId1"/>
          <a:stretch/>
        </p:blipFill>
        <p:spPr>
          <a:xfrm>
            <a:off x="1979640" y="1557360"/>
            <a:ext cx="2305080" cy="3024000"/>
          </a:xfrm>
          <a:prstGeom prst="rect">
            <a:avLst/>
          </a:prstGeom>
          <a:ln w="0">
            <a:noFill/>
          </a:ln>
        </p:spPr>
      </p:pic>
      <p:pic>
        <p:nvPicPr>
          <p:cNvPr id="180" name="Obrázek 4" descr="Mikrotext - rub"/>
          <p:cNvPicPr/>
          <p:nvPr/>
        </p:nvPicPr>
        <p:blipFill>
          <a:blip r:embed="rId2"/>
          <a:stretch/>
        </p:blipFill>
        <p:spPr>
          <a:xfrm>
            <a:off x="4788000" y="1557360"/>
            <a:ext cx="2232000" cy="3024000"/>
          </a:xfrm>
          <a:prstGeom prst="rect">
            <a:avLst/>
          </a:prstGeom>
          <a:ln w="0">
            <a:noFill/>
          </a:ln>
        </p:spPr>
      </p:pic>
      <p:sp>
        <p:nvSpPr>
          <p:cNvPr id="181" name="Obdélník 5"/>
          <p:cNvSpPr/>
          <p:nvPr/>
        </p:nvSpPr>
        <p:spPr>
          <a:xfrm>
            <a:off x="1187280" y="4797360"/>
            <a:ext cx="73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 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íc                                               r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8. Mikrotext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tištěn jak tiskem z hloubky, tak tiskem z plochy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na lícní straně tvoří konturu velkého hodnotového čísla, vnitřní šrafuru paprsků pod šestiúhelníkem se lví hlavou a pruhu základní barvy vybíhajícího od portrétu do pravého bílého okraje mikrotext číselně označující hodnotu bankovky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457200" y="146196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chranné prvky banko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známení s ochrannými prvky českých bankovek a praktická ukáz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doznak, okénkový proužek s mikrotextem, barevná vlákna, soutisková značka, skrytý obrazec, proměnlivá barva, iridiscentní pruh, mikro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8. Mikrotext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7f7f7f"/>
                </a:solidFill>
                <a:latin typeface="Century Gothic"/>
              </a:rPr>
              <a:t>šrafuru dvoubarevné stuhy tvoří mikrotext ve formě iniciál „TGM“ a její konturu v pravé části mikrotext ve formě zkratky „ČNB“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7f7f7f"/>
                </a:solidFill>
                <a:latin typeface="Century Gothic"/>
              </a:rPr>
              <a:t>na rubové straně v pruhu základní barvy mezi státním znakem a pravým okrajem skryt mikrotext slovně označující hodnotu bankovky a v obou spodních rozích mikrotext PRAHA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2f5897"/>
                </a:solidFill>
                <a:latin typeface="Palatino Linotype"/>
              </a:rPr>
              <a:t>Úkoly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1. Praktické cvičení – poznejte ochranné prvky na skutečných bankovkách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2. Na některých bankovkách nejsou všechny ochranné prvky. O bankovky jakých hodnot se jedná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2f5897"/>
                </a:solidFill>
                <a:latin typeface="Palatino Linotype"/>
              </a:rPr>
              <a:t>Úkoly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3. Co je to chybotisk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4. Jaké ochranné prvky navíc má euro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5. Jak se u nás člení padělky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2f5897"/>
                </a:solidFill>
                <a:latin typeface="Palatino Linotype"/>
              </a:rPr>
              <a:t>Úkoly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f7f7f"/>
                </a:solidFill>
                <a:latin typeface="Century Gothic"/>
              </a:rPr>
              <a:t>6</a:t>
            </a: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. Kde se tisknou české bankovky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7. Jsou české bankovky kryty zlatem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8. Jsou napodobeniny peněz padělkem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f7f7f"/>
                </a:solidFill>
                <a:latin typeface="Century Gothic"/>
              </a:rPr>
              <a:t>Zdroj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3399ff"/>
                </a:solidFill>
                <a:uFillTx/>
                <a:latin typeface="Century Gothic"/>
                <a:hlinkClick r:id="rId1"/>
              </a:rPr>
              <a:t>http://</a:t>
            </a:r>
            <a:r>
              <a:rPr b="0" lang="cs-CZ" sz="2400" spc="-1" strike="noStrike" u="sng">
                <a:solidFill>
                  <a:srgbClr val="7f7f7f"/>
                </a:solidFill>
                <a:uFillTx/>
                <a:latin typeface="Century Gothic"/>
              </a:rPr>
              <a:t>www.cnb.cz/cs/platidla/ochranne_prvky/ochranne_prvky_5000.html </a:t>
            </a:r>
            <a:r>
              <a:rPr b="0" lang="cs-CZ" sz="2400" spc="-1" strike="noStrike">
                <a:solidFill>
                  <a:srgbClr val="7f7f7f"/>
                </a:solidFill>
                <a:latin typeface="Century Gothic"/>
              </a:rPr>
              <a:t>(zkráceno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2f5897"/>
                </a:solidFill>
                <a:latin typeface="Palatino Linotype"/>
              </a:rPr>
              <a:t>Ochranné prvky českých bankovek</a:t>
            </a:r>
            <a:br>
              <a:rPr sz="8000"/>
            </a:b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1. Vodoznak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47" name="Zástupný symbol pro obsah 3" descr="Vodoznak"/>
          <p:cNvPicPr/>
          <p:nvPr/>
        </p:nvPicPr>
        <p:blipFill>
          <a:blip r:embed="rId1"/>
          <a:stretch/>
        </p:blipFill>
        <p:spPr>
          <a:xfrm>
            <a:off x="2340000" y="1341360"/>
            <a:ext cx="4392720" cy="312912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4"/>
          <p:cNvSpPr/>
          <p:nvPr/>
        </p:nvSpPr>
        <p:spPr>
          <a:xfrm>
            <a:off x="1332000" y="4797360"/>
            <a:ext cx="76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hled z líce               průhled z rub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1. Vodoznak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viditelný, jestliže se na bankovku podíváme proti  světl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při pohledu z lícní strany je stranově obrácený oproti portrétu vytištěném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cs-CZ" sz="4400" spc="-1" strike="noStrike">
                <a:solidFill>
                  <a:srgbClr val="2f5897"/>
                </a:solidFill>
                <a:latin typeface="Palatino Linotype"/>
              </a:rPr>
              <a:t>2. Okénkový proužek s mikrotextem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2" name="Zástupný symbol pro obsah 3" descr="Okénkový proužek s mikrotextem"/>
          <p:cNvPicPr/>
          <p:nvPr/>
        </p:nvPicPr>
        <p:blipFill>
          <a:blip r:embed="rId1"/>
          <a:stretch/>
        </p:blipFill>
        <p:spPr>
          <a:xfrm>
            <a:off x="2771640" y="1844640"/>
            <a:ext cx="3600720" cy="3240000"/>
          </a:xfrm>
          <a:prstGeom prst="rect">
            <a:avLst/>
          </a:prstGeom>
          <a:ln w="0">
            <a:noFill/>
          </a:ln>
        </p:spPr>
      </p:pic>
      <p:sp>
        <p:nvSpPr>
          <p:cNvPr id="153" name="Obdélník 4"/>
          <p:cNvSpPr/>
          <p:nvPr/>
        </p:nvSpPr>
        <p:spPr>
          <a:xfrm>
            <a:off x="1835280" y="5157720"/>
            <a:ext cx="71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ohled z líce        průhled z lí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2f5897"/>
                </a:solidFill>
                <a:latin typeface="Palatino Linotype"/>
              </a:rPr>
              <a:t>2. Okénkový proužek s mikrotextem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proužek z umělé metalizované hmoty zapuštěný do papíru, široký 3 mm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při pohledu proti světlu je  vidět z obou stran jako souvislá tmavá linka s prosvítajícím  mikrotextem ČNB 5000 Kč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vystupující části mění svoji kovově lesklou barvu v závislosti na úhlu dopadu světla 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Obdélník 3"/>
          <p:cNvSpPr/>
          <p:nvPr/>
        </p:nvSpPr>
        <p:spPr>
          <a:xfrm>
            <a:off x="2286000" y="17208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3. Barevná vlákn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8" name="Zástupný symbol pro obsah 3" descr="Barevná vlákna"/>
          <p:cNvPicPr/>
          <p:nvPr/>
        </p:nvPicPr>
        <p:blipFill>
          <a:blip r:embed="rId1"/>
          <a:stretch/>
        </p:blipFill>
        <p:spPr>
          <a:xfrm>
            <a:off x="2411280" y="1700280"/>
            <a:ext cx="439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3. Barevná vlákn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v papíru zapuštěná okem viditelná vlákna oranžové barvy v délce 6 mm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nejlépe zřetelná jsou na bílých okrajích bankovky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43:39Z</dcterms:modified>
  <cp:revision>20</cp:revision>
  <dc:subject/>
  <dc:title>Ochranné prvky českých bankovek</dc:title>
</cp:coreProperties>
</file>