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.jpeg" ContentType="image/jpeg"/>
  <Override PartName="/ppt/media/image26.png" ContentType="image/png"/>
  <Override PartName="/ppt/media/image14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F737-5488-40B8-8BA6-555C9C762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982C-02FE-43D2-9877-1F9E0B2FD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5E0E-7368-45E1-BE8B-C81EEE8DD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E516-DCC2-435A-8D54-F047B3875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F6C8E-A815-48B9-A438-DF5CE43D3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7E833-BE0F-4722-A2D2-109357887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C57A6-FE0C-4F9B-AAB8-EADC8C8BD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6505E-DA2C-4CE2-823A-7DC853636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D9E59-5436-461C-9AA8-593E3E11E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20AA5-F959-4727-AC25-2417F615B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3940E-9B9C-4188-98A8-A0A5906B1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97C2-FDD5-4CEE-BE88-0CD322562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D905F-4920-4019-9F5F-4910DDB78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440D0-7C36-4794-86D5-F20AC6A35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37CD3-C68D-4BA3-BC64-A220B1484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7B5DD-7604-45A1-873D-2C8F231D4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958CD-C0F9-409D-A830-D76BDA10F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EA3CC-37EE-4593-82B3-39C93444D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82B86-5801-43FB-9654-D3168AD89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49C81-240C-48EF-9C4C-F6A94FE8D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BF5DC-70D4-417D-A20C-0EA327B30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AF3BE-EB9B-4A93-BA56-BEB8DA102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F8E2-20BA-4737-95C7-0533959A4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74813-C949-47B9-8B0F-8C3424F46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975D1-892E-4AC9-B77C-B345AB09D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FCB8B-1937-45FD-BEA7-3470CFE39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3A924-2A69-43C0-8686-0F5A2402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926A3-CEF9-4751-BDEE-36CED99BE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9AAB7-1E88-4BF3-9AD2-28A41151D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5DB2F-C5F6-434C-B892-B059C2697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AA914-1F1B-4507-8268-A852BE32F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1329D-5F1A-4C2A-8C4D-3D7EE46DA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95231-3CCE-4801-80FC-F03A6A22E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F632-295C-4756-B4CC-93DE52582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B82B2-27AD-4249-9922-1A0F2B057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909A2-FDB4-49EA-B3C3-06A0FA105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5EDA1-BDFC-4BC6-8E0F-8A4013068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D8C70-5E49-47F4-979B-72619F3E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88FC5-18C0-4BBC-8ED3-DAE95899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D25D2-EA60-48AC-88B5-3F1E0873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15B4E-70D2-4FE3-9EBA-C450BC188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F7978-4A92-42AF-9E6C-7DB84F88F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069FE-39E5-4BE7-91B0-D43FE23DA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90D1C-2339-41FF-A7FD-48BDB48AB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2358-9E8C-4EB8-AAEC-7962AB545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2C109-AB8F-4B20-ADEC-5D1A7BB61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C0FC75-0CA4-4E2D-A026-F0E711C5C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5C239-1607-4946-B797-4D04B0AC3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C54DDC-E01F-4000-84D6-E1130DED4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12B1D9-81C6-423D-9050-9C3630959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0CF00-3676-4FFE-ACF1-E48018ED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93EA4-4EA4-47E5-AC30-1323219A0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D92A4-30E2-4572-B351-FEE03F7C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BA9CBE-6128-4AFE-A03F-5D73D422B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334E2-0F1C-4D5A-A40B-52F665C0F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6C8C-3844-4176-80A3-CF34CFEF0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23D158-8CF8-4631-978E-D0E04217D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230224-6762-4063-84CF-F5B0E7A7E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ADEBA-B79E-4FA2-BAC9-87DB81DE2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D0E7D-F47A-4218-861E-F2BD23E57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CB451D-A1F7-4E4C-B49A-2915C0F8B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D294E6-08D0-4689-9514-2743DF332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D2C5A-BB1A-49BB-879B-811D45AF8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1AF593-170E-4E63-AC56-25022949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7E2169-25D1-46CB-B572-DA751E30D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2E077F-1E9A-4F17-95F1-1B45854C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AED8-6959-458C-BD73-E03D9D58B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94B561-6711-45B3-B2DE-781FBDDC2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602C6B-34D5-4186-BE84-462E60836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844359-8C30-4957-9A30-EFB66EC09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3A779C-7963-44FE-B9FD-CF995FCF3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57A446-ABC6-4DF7-8CA2-B727DED3D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2608DC-2C48-4D9B-86BA-D5B93A69B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6CDA5E-45C1-4FD9-8D8A-E724B153C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2421F6-F63F-4BF5-8779-E7CBA7BF1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1E4C23-FA3B-42DC-821B-07378438E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097FC2-5ADA-48EA-84FC-80E478017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036A-16FC-4353-9121-22D1DBE6F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3DC18D-191A-49FC-8C81-58BE452E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5A5931-6D09-4EE8-8519-ED318F5A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231CF5-1DBC-4A77-983F-62F953F40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88F418-C7EB-4C6A-B887-7E9B3BD53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46FFBD-B5F0-40F1-A530-1395B2AE3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9CED45-12D6-4762-BB52-C7D40A073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523057-536F-4669-A270-1C03DE494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E28DF8-1B8F-44A2-B3B1-20A5A98C0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D3B4A7-EA6D-4743-A28B-7FCD6633F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FFC923-6E55-4E96-BBF9-CE7625040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89E8-6FE7-4F30-AE11-15BD9F3E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3CD238-B516-49DF-A338-CA4477215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9CA926-AC4C-4E78-ADDA-6DB279A5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39D5DD-B55A-461A-8266-48A15C8C5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F2C448-6F9F-41D3-9DF2-F56647515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5D15BA-1B28-4823-BE78-9D480E3E1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DDD890-6398-4D18-8A13-8D0B56567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2855D5-937F-426A-B35C-E9FBE6EE3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avoúhlý trojúhelník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římá spojnice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římá spojnice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AEF9E-CEF7-411B-98BD-10B84A4B0BD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ravoúhlý trojúhelník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římá spojnice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římá spojnice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Rovnoramenný trojúhelník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30AD6-D71A-40AD-BAC4-14F598AFDC1C}" type="slidenum">
              <a:rPr b="0" lang="cs-CZ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ravoúhlý trojúhelník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římá spojnice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římá spojnice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4B5D9-9CD7-49D3-B481-5E3A1E3F7E4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ravoúhlý trojúhelník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Rovnoramenný trojúhelník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Přímá spojnice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římá spojnice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597FC-7EFF-48F6-8170-169BCC52361F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E65AA-A1F1-4926-952E-255E5FF7903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55EF7-DA2E-4FD6-981A-FA4C45D3BCC8}" type="slidenum"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2E07C-CF59-40A2-9D5A-38322D31916F}" type="slidenum">
              <a:rPr b="0" lang="cs-CZ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ravoúhlý trojúhelník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římá spojnice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římá spojnice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1E160-0B3B-4B9D-96C7-B11E6B5E5371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ceskaposta.cz/cz/sluzby/penezni-sluzby/cr/postovni-poukazka-a-id254/" TargetMode="External"/><Relationship Id="rId2" Type="http://schemas.openxmlformats.org/officeDocument/2006/relationships/hyperlink" Target="http://www.ceskaposta.cz/cz/sluzby/penezni-sluzby/cr/postovni-poukazka-b-id256/" TargetMode="External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Rectangle 2" descr=""/>
          <p:cNvPicPr/>
          <p:nvPr/>
        </p:nvPicPr>
        <p:blipFill>
          <a:blip r:embed="rId1"/>
          <a:stretch/>
        </p:blipFill>
        <p:spPr>
          <a:xfrm>
            <a:off x="0" y="2011320"/>
            <a:ext cx="9283680" cy="44449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3" descr=""/>
          <p:cNvPicPr/>
          <p:nvPr/>
        </p:nvPicPr>
        <p:blipFill>
          <a:blip r:embed="rId2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7" name=""/>
          <p:cNvGraphicFramePr/>
          <p:nvPr/>
        </p:nvGraphicFramePr>
        <p:xfrm>
          <a:off x="539640" y="3573360"/>
          <a:ext cx="7561440" cy="50328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440"/>
              </a:tblGrid>
              <a:tr h="78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2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8" name=""/>
          <p:cNvGraphicFramePr/>
          <p:nvPr/>
        </p:nvGraphicFramePr>
        <p:xfrm>
          <a:off x="539640" y="4365720"/>
          <a:ext cx="7561440" cy="1662120"/>
        </p:xfrm>
        <a:graphic>
          <a:graphicData uri="http://schemas.openxmlformats.org/drawingml/2006/table">
            <a:tbl>
              <a:tblPr/>
              <a:tblGrid>
                <a:gridCol w="3456000"/>
                <a:gridCol w="410544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9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 ročník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3-41-M/02  Obchodní akademi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/20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Nadpis 1" descr=""/>
          <p:cNvPicPr/>
          <p:nvPr/>
        </p:nvPicPr>
        <p:blipFill>
          <a:blip r:embed="rId1"/>
          <a:stretch/>
        </p:blipFill>
        <p:spPr>
          <a:xfrm>
            <a:off x="457200" y="79200"/>
            <a:ext cx="8229600" cy="188280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34160" indent="-37116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Century Gothic"/>
              </a:rPr>
              <a:t>V. (variabilní) symbol</a:t>
            </a:r>
            <a:br>
              <a:rPr sz="3600"/>
            </a:br>
            <a:r>
              <a:rPr b="1" lang="cs-CZ" sz="3600" spc="-1" strike="noStrike">
                <a:solidFill>
                  <a:srgbClr val="ffffff"/>
                </a:solidFill>
                <a:latin typeface="Century Gothic"/>
              </a:rPr>
              <a:t>S. (specifický) symbol</a:t>
            </a:r>
            <a:br>
              <a:rPr sz="3600"/>
            </a:br>
            <a:r>
              <a:rPr b="1" lang="cs-CZ" sz="3600" spc="-1" strike="noStrike">
                <a:solidFill>
                  <a:srgbClr val="ffffff"/>
                </a:solidFill>
                <a:latin typeface="Century Gothic"/>
              </a:rPr>
              <a:t>K. (konstantní) symbol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Pokud uváděny, vyplňují se zprava. Prázdná okénka  možno doplnit nulami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úhrada poukázané částky 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- bezhotovostně z bankovního účtu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výplata poukázané částky - 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v hotovosti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úhrada poukázané částky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 - 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v hotovosti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výplata poukázané částky 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- 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v hotovosti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2"/>
          <a:stretch/>
        </p:blipFill>
        <p:spPr>
          <a:xfrm>
            <a:off x="457200" y="1882800"/>
            <a:ext cx="8229600" cy="45720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2" descr="http://remix.nicm.cz/wp-content/uploads/2010/11/POuk%C3%A1zka-C.jpg"/>
          <p:cNvPicPr/>
          <p:nvPr/>
        </p:nvPicPr>
        <p:blipFill>
          <a:blip r:embed="rId3"/>
          <a:stretch/>
        </p:blipFill>
        <p:spPr>
          <a:xfrm>
            <a:off x="1187280" y="2781360"/>
            <a:ext cx="6651720" cy="29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Century Gothic"/>
              </a:rPr>
              <a:t>úhrada poukázané částky </a:t>
            </a: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- 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    </a:t>
            </a: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v hotovosti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Century Gothic"/>
              </a:rPr>
              <a:t>výplata poukázané částky - 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v hotovosti ve lhůtě jednoho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pracovního dne ode dne podání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soustředěné inkaso plateb obyvatelstva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inkasování plateb obyvatelstva ve prospěch PO a dalších osob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předtištěný platební doklad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každý plátce – osobní spojovací číslo (žádost na poště)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nájemné, energie, TV, rozhlas apod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varianta i pro podniky a banky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hotově na poště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hotově u poštovního doručovatele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jednorázovým příkazem k úhradě z účtu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trvalým příkazem k úhradě z účtu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rychlá  hotovostní platba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pro zákazníky e – shopů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zákazník  předá obsluze vygenerovaný čárový kód a částku platby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obdrží  potvrzení o zaplacení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nástroj zahraničního platebního styku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převod hotovostních peněz na účet v zahraničí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0" name=""/>
          <p:cNvGraphicFramePr/>
          <p:nvPr/>
        </p:nvGraphicFramePr>
        <p:xfrm>
          <a:off x="457200" y="1905120"/>
          <a:ext cx="8229600" cy="4152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níze a mě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štovní peněžní služb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ientace v poštovních peněžních službách, vyplnění poukáze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štovní poukázka, variabilní, specifické a konstantní symboly, SIPO, super CASH, Western Union, EUROGIR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nástroj zahraničního platebního styku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úhrada poukázané částky hotově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výplata poukázané částky hotově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expresní zasílání peněz v hotovosti po celém světě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příjem a výplata peněz v ČR v Kč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příjem a výplata peněz v zahraničí v místní měně, příp. USD, EUR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služba Poštovní spořitelny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nástroj zahraničního platebního styku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úhrada poukázané částky hotově nebo bezhotovostně pro majitele běžného účtu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úhrada vyplacené částky hotově nebo bezhotovostně pro majitele běžného účtu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Variabilní symbol 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– identifikace plátce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číslo faktury, rodné číslo fyzické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osoby, IČO právnické osoby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Specifický symbol </a:t>
            </a:r>
            <a:r>
              <a:rPr b="0" lang="cs-CZ" sz="3000" spc="-1" strike="noStrike">
                <a:solidFill>
                  <a:srgbClr val="ffffff"/>
                </a:solidFill>
                <a:latin typeface="Century Gothic"/>
              </a:rPr>
              <a:t>– 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dodatečný symbol identifikující např. jednotlivé měsíce u plateb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Konstantní symbol 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–určuje charakter služby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1. Vyplňte podle návodu poštovní poukázku typu A a C.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2</a:t>
            </a: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. 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Jakým typem poštovní poukázky zaplatíte např. zálohy na elektřinu?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3. Jakým typem naopak dostanete přeplatek za elektřinu?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4. Zjistěte, jaký  konstantní symbol se používá pro platby služeb.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-37872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5. Jaký je rozdíl mezi platbami zahraničními poštovními poukázkami a platbou přes Western Union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6. Jaký je rozdíl mezi platbou prostřednictvím zahraničních poštovních poukázek a službou EUROGIRO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3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7. Jaké jsou výhody platby přes superCASH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8. Kde kromě pošty můžete zaplatit v systému superCASH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Nadpis 1" descr=""/>
          <p:cNvPicPr/>
          <p:nvPr/>
        </p:nvPicPr>
        <p:blipFill>
          <a:blip r:embed="rId1"/>
          <a:stretch/>
        </p:blipFill>
        <p:spPr>
          <a:xfrm>
            <a:off x="542880" y="774720"/>
            <a:ext cx="8058240" cy="176040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541440" y="2249640"/>
            <a:ext cx="8061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9. Jak si zařídíte SIPO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10. Jak zařídíte platbu SIPO trvale z účtu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entury Gothic"/>
              </a:rPr>
              <a:t>Zdroje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17bbfd"/>
                </a:solidFill>
                <a:uFillTx/>
                <a:latin typeface="Century Gothic"/>
                <a:hlinkClick r:id="rId1"/>
              </a:rPr>
              <a:t>http://www.ceskaposta.cz/cz/sluzby/penezni-sluzby/cr/postovni-poukazka-a-id254</a:t>
            </a:r>
            <a:r>
              <a:rPr b="0" lang="cs-CZ" sz="1200" spc="-1" strike="noStrike">
                <a:solidFill>
                  <a:srgbClr val="ffffff"/>
                </a:solidFill>
                <a:latin typeface="Century Gothic"/>
              </a:rPr>
              <a:t>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17bbfd"/>
                </a:solidFill>
                <a:uFillTx/>
                <a:latin typeface="Century Gothic"/>
                <a:hlinkClick r:id="rId2"/>
              </a:rPr>
              <a:t>http://www.ceskaposta.cz/cz/sluzby/penezni-sluzby/cr/postovni-poukazka-b-id256</a:t>
            </a:r>
            <a:r>
              <a:rPr b="0" lang="cs-CZ" sz="1200" spc="-1" strike="noStrike">
                <a:solidFill>
                  <a:srgbClr val="ffffff"/>
                </a:solidFill>
                <a:latin typeface="Century Gothic"/>
              </a:rPr>
              <a:t>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entury Gothic"/>
              </a:rPr>
              <a:t>http://www.ceskaposta.cz/cz/sluzby/penezni-sluzby/cr/postovni-poukazka-c-id257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entury Gothic"/>
              </a:rPr>
              <a:t>http://www.ceskaposta.cz/cz/sluzby/penezni-sluzby/cr/postovni-poukazka-d-id258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entury Gothic"/>
              </a:rPr>
              <a:t>http://www.ceskaposta.cz/cz/sluzby/penezni-sluzby/cr/sipo-id259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entury Gothic"/>
              </a:rPr>
              <a:t>http://www.ceskaposta.cz/cz/sluzby/penezni-sluzby/zahranici/postovni-poukazka-z-a-id260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entury Gothic"/>
              </a:rPr>
              <a:t>http://www.ceskaposta.cz/cz/sluzby/penezni-sluzby/zahranici/postovni-poukazka-z-a-id260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entury Gothic"/>
              </a:rPr>
              <a:t>http://www.ceskaposta.cz/cz/sluzby/penezni-sluzby/zahranici/western-union-id262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entury Gothic"/>
              </a:rPr>
              <a:t>http://www.ceskaposta.cz/cz/sluzby/penezni-sluzby/zahranici/eurogiro-id263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úhrada poukázané částky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 - 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hotově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výplata poukázané částky 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-bezhotovostně bance  na úče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 txBox="1"/>
          <p:nvPr/>
        </p:nvSpPr>
        <p:spPr>
          <a:xfrm>
            <a:off x="539640" y="21733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7" name="Picture 4" descr="http://www.optys.cz/data/foto/-3/999-3_l.jpg"/>
          <p:cNvPicPr/>
          <p:nvPr/>
        </p:nvPicPr>
        <p:blipFill>
          <a:blip r:embed="rId2"/>
          <a:stretch/>
        </p:blipFill>
        <p:spPr>
          <a:xfrm>
            <a:off x="755640" y="2349360"/>
            <a:ext cx="762012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Nadpis 1" descr=""/>
          <p:cNvPicPr/>
          <p:nvPr/>
        </p:nvPicPr>
        <p:blipFill>
          <a:blip r:embed="rId1"/>
          <a:stretch/>
        </p:blipFill>
        <p:spPr>
          <a:xfrm>
            <a:off x="457200" y="49320"/>
            <a:ext cx="8229600" cy="1882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-37872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Částka Kč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vyplňuje se zprava, prázdné místo před částkou se proškrtne dvojitou vodorovnou čarou. 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V údaji "haléře"  dvě nuly, příp.  zamezovky.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Nadpis 1" descr=""/>
          <p:cNvPicPr/>
          <p:nvPr/>
        </p:nvPicPr>
        <p:blipFill>
          <a:blip r:embed="rId1"/>
          <a:stretch/>
        </p:blipFill>
        <p:spPr>
          <a:xfrm>
            <a:off x="457200" y="49320"/>
            <a:ext cx="8229600" cy="18828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Ve prospěch účtu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Vyplňuje se zprava. Číslo účtu se může skládat z předčíslí a hlavního čísla účtu.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Nadpis 1" descr=""/>
          <p:cNvPicPr/>
          <p:nvPr/>
        </p:nvPicPr>
        <p:blipFill>
          <a:blip r:embed="rId1"/>
          <a:stretch/>
        </p:blipFill>
        <p:spPr>
          <a:xfrm>
            <a:off x="457200" y="79200"/>
            <a:ext cx="8229600" cy="188280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Kód banky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Vyplňuje se zprava. 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Musí být vždy vyplněn.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Nadpis 1" descr=""/>
          <p:cNvPicPr/>
          <p:nvPr/>
        </p:nvPicPr>
        <p:blipFill>
          <a:blip r:embed="rId1"/>
          <a:stretch/>
        </p:blipFill>
        <p:spPr>
          <a:xfrm>
            <a:off x="457200" y="92160"/>
            <a:ext cx="8229600" cy="188892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Odesílatel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 a </a:t>
            </a: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Zpráva pro příjemce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  hůlkovým písmem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gor</dc:creator>
  <dc:description/>
  <dc:language>en-US</dc:language>
  <cp:lastModifiedBy>Igor</cp:lastModifiedBy>
  <dcterms:modified xsi:type="dcterms:W3CDTF">2014-09-13T14:44:01Z</dcterms:modified>
  <cp:revision>34</cp:revision>
  <dc:subject/>
  <dc:title>Poštovní poukázky (složenky)</dc:title>
</cp:coreProperties>
</file>