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90F-6704-4179-8850-F0976EE7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781-7E2F-4016-91EF-6B0ED272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6EE-F886-4E2E-8E4C-C3679179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7E6-9525-402C-BBDD-28AB185B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0DF-B8DC-471F-8E00-F2C8D9A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0E8A-09D1-45E6-A569-8DEAE43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F1B0-BB3B-4A51-96C3-E3A5D627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548-F590-4198-8F4C-30D0544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4ACD-CA7D-4DFA-8855-6D569D6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BCAC-357C-4EFE-8835-C572A9B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5B80-C897-4297-ADBF-179EF36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0A3-17FB-491A-A731-A01FF9FA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9E2-DD2A-404D-89A0-35EC0DB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1D2-0D7D-4952-A981-A5250461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438B-1F41-41BF-8A19-BECEF8F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AF4-B15C-420C-A251-8075002B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1CF2-3785-4B3A-93EA-3F16045F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588-E171-4A9A-8AC5-9D936A9D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D9F-729C-483A-B38B-6309C4A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A9E-7100-4FF6-BB3C-95C7F0CE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0EC-4A55-4434-9250-E344D1C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276-70FD-4538-8886-AA3C6AC0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CF1-CFC7-46E4-8CE9-398352D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0A0-EF3E-45FA-985C-17BA301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1B83-F65C-46F3-9372-72913D5E7A9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926-6366-4E1A-8322-7E5757B33A5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nvertibilita_m&#283;n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890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konvertibilní měn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platná  pouze na územ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ného stát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jí kurz je dán státní institucí, nesmí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e vyvážet ze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á a účetní jednotka Mezinárodního měnového fond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mělá mě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šová měna odvozená  od průměrné hodnoty měn USA, Německa, Japonska, Francie a Velké Británie (EUR, USD, GBP, JP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ód XD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je to likvidi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arakterizujte jednotlivé měnové agregá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eďte příklady konvertibilní a nekonvertibilní mě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používá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čeho vychází kurz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Konvertibilita_m%C4%9B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cs.wikipedia.org/wiki/Zvláštní_práva_čerp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měny a základní členění mě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, měnový agregát, nadnárodní a národní měna, zvláštní práva čerp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Měna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krétní peněžní jednotka daného státu se označuje mě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rčité formy peněz mají určit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kviditu (jak rychle lze použít 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ě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se obecně dělí n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kupiny měnových agregá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1= hotovostní oběž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2 = M1 + vklady na běžných účtech v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3= M2+ vklady v zahraničních měnách v domácích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4= M3 + vklady v nebankovních institucích v domácí měně + krátkodobé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5 = M4 +ostatní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Konvertibilní měna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měna směnitelná s ostatními měnami v určitém kurzu, kurz je dán poptávkou a nabídko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) plně směnitelná (konvertibil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směnitelná všude na světě, nejsou překážky výměny (konver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částečně směnitelná (vnitřně směnitelná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 stanoví omezující pravidla výměny své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4:34Z</dcterms:modified>
  <cp:revision>23</cp:revision>
  <dc:subject/>
  <dc:title>Peníze a měna</dc:title>
</cp:coreProperties>
</file>