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897-0ED2-42BF-873F-8BBEA633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3BD-C6F5-4CA2-A08A-5B37B60E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74C-884A-4FA3-A4C9-BED039B1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17C-15A3-44C1-9B9E-5448CDCB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1508-9F39-41BC-9BA0-6E435612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04BA-DE34-4E79-BA36-12E67245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A415-89B9-4C08-B5EB-6370F521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A790-A01E-4181-AC1B-1C6D50A5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DDA5-F836-4D74-92B5-28B9208F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5FCB-0231-4DC0-AF4B-834DA44E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3B0A-0A14-4224-BEB9-A63FFBCC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E41-DE7B-4F14-B77E-EA2BB933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EA81-CC4B-4B2A-BEB2-F0072F2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3143-E7AB-4186-9765-A2D435DE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D0B2-B3C4-4DD4-AAB0-439F8464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18ED-A024-43EF-A3B8-71913FB6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57CC-3DC4-4E54-9363-1857BCD1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75C2-FCA6-4017-836A-5BB523E1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48519-A0E8-4B0C-808E-4441B1A7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F5E6-E6D5-4501-8E66-607C82DF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295D-5A23-42AC-8155-2EC29964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544C-4FED-434C-A281-E18A1CC5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920-34EE-450E-97B7-4762F3CB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ADC1-5065-4807-B20A-B115CEAE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470C-7DF9-4172-A752-E6BDAF5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2DF6-ADDE-4FBB-928B-6A2FBDE6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94B8-6990-4BEB-A8AC-16CADD55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6101-CD5A-485E-B3F0-9CD477B6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532E1-9992-40C4-8701-7611F663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C457-9926-4B22-AD18-168C37DE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DD257-9CCF-4611-8F6C-9B3973E0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1FE2-A4C5-4E14-B71F-B215EEFF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43F27-3E73-4DB3-A1F6-1B75C361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D21-0FAC-4C60-B67A-55407A8F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9AC3-31B1-46CD-A52D-64C23955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EF53-8A7C-4210-A6A1-821665F4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69DD-A549-490B-B15E-847F9466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AF64-2E76-4618-A54E-3F29EE69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5062-C5BA-4FDF-B87C-20DDD5C8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B52C-E083-4948-8A6B-6D3824E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C74D-391C-4F87-92D8-ABEA3A80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4AD27-CD0D-46A8-8A3F-048F17FD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CD34A-8436-4B0A-98DB-B1A67C7F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E6B03-2510-405D-8BB2-0D46E93E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529-54F8-4090-966E-0CB2C1FD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69FEC-D0C8-462A-8C3B-CDF585B0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44DEC-CB27-4E75-8A51-7B86AEED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A4A38-0407-47A8-9F0D-0663CA99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43A58-2D5F-483A-A43A-33DD90E1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00AA6-05FD-4C9F-95A3-4E1A5B49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BBC3B-6DF8-4D60-B240-4B7FE099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2FAE9-1190-439B-BE38-8BD99F16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89ED2-20A6-45C3-807C-405F0E3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E045F-3DBB-49F5-BB53-1DC43F7B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4EB29-C3E1-4003-A758-303D29C2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FAA-2A45-4314-9972-75A475E7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0C226-A21A-4BDF-BB6C-615C8DBA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2F39C-9D97-477D-BDC1-0AB1FE8F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531C1-5378-4C7A-9E7D-9F6C47F6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E8828-036D-4F17-A992-E658B63B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A36F6-6723-42AA-8CB4-5D5AEA94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B530-69C2-4D49-A06E-BAF8D9E3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0A2E1-7B8B-4D41-9B15-A5C1A292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08DD7-1E7C-4C77-AFDC-ED215B0B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4E26-C41A-45E8-B404-C8F413A0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ADE8E-EE97-4F4F-8360-9C1220B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C13-D048-47C4-AA0C-3CC96D7D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73052-AA67-4324-A831-00EE339A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7B025-E551-41FF-8078-0151FA2A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5A5CE-ECF5-4BEF-BB0E-9C5A6993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C5A58-0D1C-49F3-8CD8-AEB68237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54D60-52B3-4D2A-B102-B2510C0B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E07CE-AD65-4ED4-8718-E6B718FD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54967-2BA2-4B9B-8C88-6EFA21E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AA6D0-B7CB-4AC1-A49A-A5378538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0E1C0-A4DB-45DB-9537-481E03F0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386D9-E503-4C93-9DD3-7EDAE58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391-F0F7-4CC3-8E28-2C4AD8F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1DA14-439F-46DC-BA71-BFF0CC80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D301A-7DB6-415B-87D2-4DA25AD9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00F3B-767C-4C08-9494-A132AAE2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CAA75-42B8-4886-B932-7E756563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23767-B571-4E01-BC6E-4DFA5225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9F9BC-EA6A-46D8-8B9F-33FF5BB1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0FC93-4A4E-48B2-B678-FFF4ACBE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CB373-1428-4164-ACF6-4681F960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3C5EF-C607-4DF6-B7E9-EC7FB9E9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7DED-7A04-45CF-BB82-E9FDE460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928-F1A5-437F-9D20-B5BD0FA9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8178C-8485-4A7E-BFF3-FE494177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D7EDF-49F5-4884-8971-13E8187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11016-17D1-4E27-A701-FC0C1E2D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A81D5-50D6-4F0F-9D0F-3E2C5856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672E0-BF4E-474B-AD68-DE2F8EE0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A33BE-3DB8-44A3-9766-C89D0306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4C8B1-C330-4BC5-8B0F-79EAAE36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C5CC-0005-4A00-B7E6-3BBD9E3438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ACB3-2D1C-401E-8E2C-F46C9B253A8B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F92E-83F9-4D72-806F-69EBEB81C8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9211-E255-41B3-BCF7-5DC7F3BD831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711D-EC4B-4C42-BA98-0D3FF39153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45C0-B295-4102-B022-EB74A85A30A8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EDF2-22D9-4FED-B01F-DDCB549211F6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D105-8659-4744-96D4-134A73D4117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remix.nicm.cz/wp-content/uploads/2010/11/POuk%C3%A1zka-C.jpg"/>
          <p:cNvPicPr/>
          <p:nvPr/>
        </p:nvPicPr>
        <p:blipFill>
          <a:blip r:embed="rId2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Igor</cp:lastModifiedBy>
  <dcterms:modified xsi:type="dcterms:W3CDTF">2014-09-13T14:44:22Z</dcterms:modified>
  <cp:revision>34</cp:revision>
  <dc:subject/>
  <dc:title>Poštovní poukázky (složenky)</dc:title>
</cp:coreProperties>
</file>