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1BE73-D3C8-471E-BF71-15B3CB29C321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1780C-C523-4221-A361-FA028B1DF8A3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7F81-00C0-46F5-B23E-A7F264E7A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82CF-355D-4FD6-9623-A8790052E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555D-55E7-4A2C-AD00-065784873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4D13-C64C-42AE-B586-8F127B289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74F35-F294-4696-806C-21E7C00EE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05270-1031-47BA-ABA7-4B9949200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241A1-CD94-4C43-A93D-BADDEA5CC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CD895-2162-4AB9-99A6-A9C6F5C3B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23384-C24A-4C2C-841F-7E5E8C96E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52EB3-38A5-4568-A074-6B3C87162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9996A-28BE-4DB3-8D08-BEC8E987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C3CB-A0EB-4744-A1CA-0A30D2FC4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1A0AE-87E1-45DE-BD4D-2BC84633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E3806-9757-4DF4-8C53-141C2169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7EF71-49D3-4380-A9D4-5B7F7E707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BE222-75BB-487E-8FE1-26F4DE56B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C1912-D7AE-47FD-81A3-7B8AC0015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20C2-1117-4EA8-8519-A38C2505D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5ADB-E218-439F-8806-7AD173B36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0D73-F3BA-4B9F-81A8-23D1B2655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9C90-E14A-4902-8EA4-5D0D6673C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8A7B-262F-42BE-8045-BAC87181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C91C-7F45-4243-8135-0F34E0E8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12AB-28E9-43E7-B35E-309CF6AD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78F64-6B29-497E-A1F1-37420A831E30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2AA59-5241-4882-B045-E5D3D94818BD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centralniregistrdluzniku.cz/" TargetMode="External"/><Relationship Id="rId2" Type="http://schemas.openxmlformats.org/officeDocument/2006/relationships/hyperlink" Target="https://www.solus.cz/cs/hlavni-strana/historie-sdruzeni" TargetMode="External"/><Relationship Id="rId3" Type="http://schemas.openxmlformats.org/officeDocument/2006/relationships/hyperlink" Target="http://www.podnikatel.cz/clanky/uver-neni-pujcka/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1908000" y="404640"/>
            <a:ext cx="5295960" cy="1295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900000" y="1989000"/>
            <a:ext cx="7315200" cy="35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Výukový materiál zpracován v rámci projektu EU peníze školá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39640" y="3573360"/>
          <a:ext cx="7561440" cy="43200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6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539640" y="4292640"/>
          <a:ext cx="7561440" cy="1590480"/>
        </p:xfrm>
        <a:graphic>
          <a:graphicData uri="http://schemas.openxmlformats.org/drawingml/2006/table">
            <a:tbl>
              <a:tblPr/>
              <a:tblGrid>
                <a:gridCol w="3456000"/>
                <a:gridCol w="410544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9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ročník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-41-M/02  Obchodní akadem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/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Členění úvě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odle způsobu čerpání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jednorázové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(čerpání najednou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o úvěrové lince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(postupné čerpání až do stanoveného limit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úvě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kontokorentní úvěr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rátkodobý úvěr k běžnému účt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volené přečerpání účtu do mínus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tanoven úvěrový rámec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ohodnutá doba vyrovnání debet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věr se opakuje (revolvingový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ysoká úroková sazb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úvě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kontokorentní úvě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lužník  čerpá úvěr  automaticky,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e svého účtu platí či vybírá, i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dyž na něm nemá dostatek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lastních peněz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plácen je příchozími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latbam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ětšinou musí být splacen 1x ročn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úvě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kontokorentní úvě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mínky pro získání: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žadatel má u banky veden BÚ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a něj chodí pravidelně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ostatečně vysoký příje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ěkdy i průměrný zůstatek na účt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úvě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spotřebitelský úvě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fyzickým osobám  na řešení jejich nepodnikatelských  potřeb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čelový (konkrétní účel, nutná faktura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eúčelový (na cokoliv, vyšší úročení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ová právní úprava (2013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úvě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odnikatelský úvěr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-  podnikatelům fyzickým i právnickým osobám  na financování jejich podnikatelských potřeb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rovozní úvěry (na zásoby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ontokorentní úvěry ( dočasné překlenutí finanční potřeby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úvě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odnikatelský úvěr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investiční úvěry ( na pořízení   dlouhodobého majetku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exportní (financování dodatečných nákladů při vývozu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úvě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hypoteční úvěr 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ajištěný nemovitostí, nejdelší úvěr s nejnižším úroke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účelové hypotéky 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ázané na pořízení potřeb bydlení (nižší úrok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neúčelové tzv. americké hypotéky 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a cokoliv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úvě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kreditní karta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– k úvěrovému účtu, bezúročné období 40 -55 dnů pro splacení krátkodobého úvěru , lze splácet i po částech – vysoké úroky, výběr z bankomatu zúročen vžd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úvě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eskontní  úvěr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anka odkupuje  směnku před její splatností a poskytuje majiteli směnky úvěr snížený o úrok (diskont), eskontní provizi a související poplat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611280" y="1557360"/>
          <a:ext cx="8229600" cy="4956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2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í obcho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ktivní bankovní obcho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9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harakteristika úvěrů, možnost získání úvěrů, jejich zajištěn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ontokorentní, spotřebitelský, podnikatelský, hypoteční úvěr, úvěrový proces, zajištění úvěrů, registry, půjčk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úvě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syndikovaný úvěr 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skytovaný několika bankami společn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lombardní  úvěr–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rytý movitou zástavou (cenné papíry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úvěry městům a obcí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sanační úvěr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a obnovu firm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Úvěrový proce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úvodní schůzka klienta a pracovníka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žádost o úvěr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oklady totožnosti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ebo o existenci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firmy, potvrzení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 příjmu, daňové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řiznání,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oklady o majetku, závazcích,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nikatelský záměr apo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Úvěrový proce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úvěrová analýza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rověření pravdivosti údajů klient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ahlédnutí do registru úvěrů a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lužníků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uzavření úvěrové smlouv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kontrola dodržování podmínek úvěrové smlouv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Registr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 registrech pozitivní i negativní informa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zitivní o poskytnutí úvěr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egativní o nespláce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Registr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Centrální registr úvěrů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ede ČNB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daje o úvěrech podnikatelů u ban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evede údaj o úvěrech občan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esdílí údaje s jinými regist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Registr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Registr sdružení SOLUS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oukromý subjek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daje od nebankovních finančních institucí, bank, telekomunikačních operátorů, distributorů energií a dalších společnost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daje o občanech i podnikatelích 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Registr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zech Banking Credit Bureau, a.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oukromý subjek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daje o úvěrech klientů bank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(občanů i podnikatelů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Registr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Centrální registr dlužníků České republiky (CERD ČR s.r.o.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oukromý subjek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daje  z členských registrů státní správy, bankovních registrů, databází soukromých subjektů atd. 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daje o občanech i podnikatelích 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Zajištění úvěru</a:t>
            </a: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ručitel –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třetí osoba, která se zavazuje, že v případě nesplácení zaplatí za dlužní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zástava věci nemovité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– ocenění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nalcem,dobrá prodejnost, pojištění, zápis v katastru nemovitost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zástava věci movité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Zajištění úvěru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záruka ban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směn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vinkulace vkladu –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termínovaný vklad slouží jako záru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cese pohledávek –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postoupení pohledávek ban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Aktivní bankovní obchod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Úvěr x půjčk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Úvěr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le obchodního zákoník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ěřitel se ve smlouvě zaváže, že na požádání dlužníka poskytne ve prospěch dlužníka peníze do určité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část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Úvěr x půjčk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Úvěr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lužník se ve smlouvě o úvěru zaváže, že peněžní prostředky vrát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ždy úroče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jen finanč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Úvěr x půjčk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ůjč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le občanského zákoník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a základě smlouvy o půjčce přenechá věřitel dlužníkovi věci, nejčastěji peníz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Úvěr x půjčk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ůjč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lužník se ve smlouvě zavazuje, že po uplynutí dohodnuté doby vrátí zapůjčené věci stejného druh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emusí být úročen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emusí být jen finanční</a:t>
            </a:r>
            <a:br>
              <a:rPr sz="3600"/>
            </a:b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Konsolidace úvěrů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loučí se několik půjček a úvěrů jednoho dlužníka do jediného úvěr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ybereme banku, která za nás vyrovná všechny závazky a potom budeme splácet místo několika půjček jenom jedn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onsolidační úvěry jsou se splatností 1 – 10 let na od 20 000,- Kč výše, horní hranice  může přesáhnout 1 milion Kč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Konsolidace úvěrů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čím je konsolidační úvěr vyšší, tím větší zajištění banka požaduje, u vysokých částek obvykle požadavek na zástavní právo k nemovitosti (pak jde o americkou hypotéku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roková sazba stanovována individuálně podle toho, jaké riziko dlužník pro banku představuj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Konsolidace úvěrů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výhoda 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ýše splátky z nového úvěru nižší než součet všech předchozích splátek, nižší i poplat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onsolidovat jde závazky ze spotřebitelských úvěrů, hotovostních půjček, kontokorentních úvěrů, úvěrů z kreditních karet či prodeje na splátky, u některých bank i z leasing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Konsolidace úvěrů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nevýhoda -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nižší splátku, avšak na delší dobu, proto se více přeplatí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 konsolidaci je třeba žádat ve chvíli, kdy ještě není  prodlení se splácením a při  dostatečném příjmu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ři sloučení půjček ve větší částce, banka požaduje zajiště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Úkoly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Členění úvěr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ontokorentní úvě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potřebitelský úvě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nikatelský úvě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Hypoteční úvě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věrový proc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ajištění úvěr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Úkoly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alší typy úvěr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743040" indent="-74304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Registry dlužník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743040" indent="-74304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Rozdíl mezi půjčkou a úvěre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743040" indent="-743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Aktivní obchody bank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vě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 rozvaze na straně aktiv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anka v postavení věřitele, klient v postavení dlužní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anka přijímá úroky (výnosové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droj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Obdélník 3"/>
          <p:cNvSpPr/>
          <p:nvPr/>
        </p:nvSpPr>
        <p:spPr>
          <a:xfrm>
            <a:off x="539640" y="2133720"/>
            <a:ext cx="8064720" cy="23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HARTLOVÁ, Věra  a kol. </a:t>
            </a:r>
            <a:r>
              <a:rPr b="0" i="1" lang="cs-CZ" sz="1800" spc="-1" strike="noStrike">
                <a:solidFill>
                  <a:srgbClr val="ffffff"/>
                </a:solidFill>
                <a:latin typeface="Tahoma"/>
              </a:rPr>
              <a:t>Učebnice bankovnictví pro střední školy a  veřejnost</a:t>
            </a: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, Praha: Nakladatelství FORTUNA , 2004. 1. vydání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ISBN:  80-7168- 990-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www.centralniregistrdluzniku.cz/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https://www.solus.cz/cs/hlavni-strana/historie-sdruzen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http://www.podnikatel.cz/clanky/uver-neni-pujcka/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Členění úvě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odle účelovosti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účelové úvěry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- jsou poskytnuty na konkrétní předem stanovený účel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bezúčelové (neúčelové) úvěry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- záleží na klientovi, na co poskytnutý úvěr použije, vyšší úroková sazb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Členění úvě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odle typu výplaty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hotovostní úvěry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- poskytnuté finanční prostředky vyplaceny v hotovost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bezhotovostní úvěry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- peníze jsou zaslány na úče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Členění úvě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odle zajištění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zajištěné úvěry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- banka vyžaduje jištění věcí movitou či nemovitost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nezajištěné úvěry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vyšší úročení (neplacení se vymáhá soudní cestou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Členění úvě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odle doby splatnosti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krátkodobé úvěry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– do 1 rok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střednědobé úvěry 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1 až 5 le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dlouhodobé úvěry –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ad 5 le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Členění úvě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odle způsobu sjednání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bankov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nebankov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16:57:10Z</dcterms:created>
  <dc:creator>Marek</dc:creator>
  <dc:description/>
  <dc:language>en-US</dc:language>
  <cp:lastModifiedBy>Igor</cp:lastModifiedBy>
  <dcterms:modified xsi:type="dcterms:W3CDTF">2014-09-13T14:48:49Z</dcterms:modified>
  <cp:revision>35</cp:revision>
  <dc:subject/>
  <dc:title>Bankovní obchody</dc:title>
</cp:coreProperties>
</file>