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D97-07A5-46BE-9B79-0D83059B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C39-EB0D-4B96-99A2-AF86A437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D65-9038-48B7-841E-91CF900D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9A8-A3E8-4248-BD74-87ED0260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E2A4-205D-4BE3-ACBF-F7CB7833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FD2A-3BB6-45B5-9C20-3F3BA097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D12A-7789-4C03-B4BB-49140255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FC9C-6E6F-4BF8-9771-8C41C016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083E-1994-4099-8637-5EB11616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CEFA-5304-4D7D-8110-5ADFB393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8A24-BA68-4FD5-89D6-114FA243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C1D-56F2-4F5C-B8B3-00EBD1A6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F668-FBB5-41A5-AAC1-677D2F6F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D42F-3513-4468-BE28-40BC544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9D17-9AFD-49FE-B026-9E4EF40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08CE-DD63-4A05-9594-7EF20AB9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618F-231B-40D2-8936-3B6867E7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1EE-25A4-4F98-96B4-7127A483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AD9-5F7A-4A4D-85D2-446EDC65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264-EE83-4CE4-B744-60CFEDE1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C16-755E-4B4C-9029-2E4647ED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F8D-C4F8-4052-B17F-58874230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0FB-DD66-4D51-9192-4B2307D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215-1D4C-454D-A8A5-F9F7C34E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3908-72D0-4718-9712-8C40DA1A278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BF14-E993-4796-A1F7-0DAB16BC06D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672000"/>
                <a:gridCol w="3889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lužníka: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átní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unální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dávají obce a kr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obchodních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oukromé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emise CP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romadně vydávané - 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dividuálně vydávané -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odle podob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nihované – zápis v Centrální evidenci cenných papírů (dříve Středisko cenných papír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né – fyzická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kladniční poukáz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dluhopis, získání peněz pro různé úče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á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epozitní certifiká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obchodovatelný úročený cenný papír, který vydávají převážně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zní na maj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ho úkolem je aktivizovat dočasně volné peněžní prostřed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tím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razuje akcie do doby splacení jejich jmenovit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ominální) hodno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sou s nimi spojena práva, která vyplývají z akci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ato práv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zisk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vid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řízení společn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ávo na podíl z likvidačního zůsta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yto povin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platit za akci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antiém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íly na zisku představenstva a dozorčí r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má nominální a tržní hodno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ominální hodnota (jmenovitá)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hodnota akcie na ní napsaná a za tuto částku se  emit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ržní hodnot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(kurzová)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výše závisí na vztahu nabídky a poptávky po akciích na trhu s 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ob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listinné pod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itulní list: základní úd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pónový arch: pro výplatu divide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alón: pro vydání nového arch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zaknihované podobě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zápis u Centrální evidence cenných papí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é papí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cenných papír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ý papír, pokladniční poukázka, depozitní certifikát, zatímní list, akcie, dluhopis, podílový list, finanční deriv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řevod této akcie na jinou osobu probíhá tzv. rubopis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je převoditelná předáním jiné os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kladatels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dány při založení podniku, jsou zároveň kmenové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priorit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 přednostní právo na dividendu, majitelé nemají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kmenové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městnane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rodávány vlastním zaměstnancům za výhodnějších podmínek, motivační charak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při odchodu povinnost nabídnout k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kupu fir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tvoří max.  5 % základního kapit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luhopis (obligace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dlouhodobý úvěrový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závazek emitenta vůči věřitel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mitovaný s cílem získat peněžní prostředky na delší do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atnost je pevně stanove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dluhopis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aneck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ypoteční zástav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CP, forma dluhopis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vají hypoteční banky k získání prostředků na poskytování hypotečních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y zástavou nemovit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riz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ílový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jetkový cenný papí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jeno právo majitele podílet se na výnosu fondu, který list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o na odpovídající část majetku podílového fondu (otevřeného nebo uzavřenéh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tav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Cenné papí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inanční deriv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vozené cenné papíry, právo koupit nebo prodat jisté aktivu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w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warr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a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cenné papír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finančního trh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majetkových prá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převoditelnosti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 Druhy cenných papírů pod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chodu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 Pokladniční poukáz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 Depozitní certifiká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 Zatímní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hopis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Podílový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2. Další typy cenných papírů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a, která zachycuje právní vztah mezi 2 nebo více subje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žitosti určuje Zákon o cenných papír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kapitálu, se kterým se obchoduje na finančním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dlužní závazek nebo majetkový nárok vlastníka vůči tomu, kdo CP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finančního trh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eněžní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krátk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kapitálové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dlouh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 majetkových práv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ěcn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zajištění pohledávek vě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užni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, šeky,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majetk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akcie, podílové lis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spozič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 práva na nějakou věc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převoditel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ajitelem je ten, kdo je předl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jméno oprávněn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řad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oprávněnou osobu jménem, s doložkou na ř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ůchod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e stál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 proměnn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eúroče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31:47Z</dcterms:created>
  <dc:creator>Marek</dc:creator>
  <dc:description/>
  <dc:language>en-US</dc:language>
  <cp:lastModifiedBy>Igor</cp:lastModifiedBy>
  <dcterms:modified xsi:type="dcterms:W3CDTF">2014-09-13T14:52:42Z</dcterms:modified>
  <cp:revision>34</cp:revision>
  <dc:subject/>
  <dc:title>Cenné papíry</dc:title>
</cp:coreProperties>
</file>