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3ED-95DE-48CE-AA79-414850B7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342-40FA-44E1-9853-B57C54F2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6D3-EC02-434C-B95B-F37B9C06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6FB-51FD-4FFA-B2CD-313709AD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A07C-7F45-44DC-BFCF-184A19F1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1A84-B578-4A24-8428-07A46FE8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F801-4BF9-4F3A-A3D6-C4606496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C90F-FF39-4C53-AD99-CBC9EAAC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5945-5979-4A53-BB7D-D5B1F26D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2703-6766-4E2E-A058-DA931B94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51EB-AF85-440D-AB1D-0545B6B0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00F-7CA2-491E-9115-E8D69F3E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59B5-B71F-4B9C-9D91-BB127742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ADAA-E6DD-48B2-8456-FD3AE479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4918-C216-47CA-A76C-DEC80062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51E1-F739-429A-A87E-CD7F2E2B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377E-3F1F-48C2-A70D-72928644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B2FC-59F7-4EC6-9B9F-E4826322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248-1AB2-4519-A2DF-6E5D9027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BFD-953C-4A62-A312-71065A7B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4D5-9697-4977-B012-A9686AB3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C6B-1188-464F-9094-58407DD1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978-2BB1-4341-9D8B-31085594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8FA-2730-411B-BE18-FAA7314C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8330-0AF2-4F8C-809B-585493B1254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B9E7-0E42-47E1-93AC-A07498E6277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00000" y="1916280"/>
            <a:ext cx="73152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292640"/>
          <a:ext cx="7561440" cy="15904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6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velik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lé – do 5 poboč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řední – do 50 poboč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lké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teritori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hraniční – v zahraničí pobočky, v mateřské zemi centrá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uzemské – centrála i pobočky v tuzems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egionál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kladní funkce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epozitní (vklad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nkce platebního sty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innosti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kládání a vedení účt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hotovostní platební styk domácí i zahranič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kar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lektronické bankovnic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innosti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0840" y="164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měnárenská činno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evizové oper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prostředkování obchodů s cennými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pečnostní schrá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radenské služb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ání dokumentárního akreditiv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innosti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ání dokumentárního inkas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ání bankovních  záru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avební spoř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nzijní připojiště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jištění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sady bankovních operací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likvidit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schopnost vrátit  pení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hotovostní peníze a vklady na účte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vklady u jiných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cenné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úvěry od jiných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sady bankovních operací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ziskovosti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výnosy vyšší než nákl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nosy – úroky z úvěrů, poplatky, provi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klady – úroky z vkladů, mzdové náklady, náklady na energie, vybavení, nájem, odpisy, provoz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sady bankovních operací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bezpečnosti vnitř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ředčíslování dokladů, klíčový režim, dvojí podpis, kamery, bezpečnostní služ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bezpečnosti vnějš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audit, kontrola ČNB, kontrola finančního úřadu, zpráva o hospodař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21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izika bankovního podniká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é - riziko nesplacení úvěrů ze strany klien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rokové  - riziko vyplývající ze změn úrokových sazeb na finančních trzí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ové  - riziko ztráty ze změn kurzů mě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y a jejich postavení v ekonom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znam banky v ekonomice stát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působ fungování bank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a, základní funkce, bankovní soustavy, členění, zásady, rizika, hodnocení, marketing, 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izika bankovního podniká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ové riziko - nejistota vývoje cen akci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likvidity - riziko neschopnosti dostát aktuálním splatným závazkům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ztrát způsobených lidským faktor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izika bankovního podniká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selhání informačních systém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ávní rizik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špatného obchodního záměru, chybného marketingového rozhodnu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ztráty dobrého jmé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tržní -  ze změny cen na trhu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odnocení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služ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dobrého jmé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výše poplat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dostup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kvality personál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odnocení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klasifikace pohledávek ( 5 skupin  pohledávek podle splácení – standardní, sledované, nestandardní, pochybné, ztrátov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úvěrové angažovanosti – limity poskytování úvěrů jednotlivcům, skupinám a ostatním banká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odnocení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kapitálové přiměřenosti – poměr mezi kapitálem a rizikovým aktivů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likvidity banky (solventnosti) 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chopnost, stanovena ČNB, povinné minimální rezerv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arketing v bankovnictv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rketingová strategi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jdůležitější je přání klien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bízený produkt musí vycházet ze znalostí o trhu a kliente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by měla předvídat měnící se požadavky na tr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arketingový mix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pora prode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y produk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istribuční míst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produk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liv politického, sociálníh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konomického prostředí a konkure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sou to bank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kladní údaje o bankác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nkce ban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innosti ban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tický kodex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sady bankovního podnikán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a bankovního podnikán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8.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odnocení ban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9.  Marketing v bankovnictv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0. Marketingový mix v bankovnictv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1. Bankovní soustav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ahoma"/>
              </a:rPr>
              <a:t>Banky a jejich postavení v ekonomice</a:t>
            </a:r>
            <a:r>
              <a:rPr b="0" lang="cs-CZ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instituce, která přijímá vklady, poskytuje úvěry a zprostředkovává platební sty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ávnická oso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usí vlastnit licenci k provozování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ovní soustav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dnoúrovňová – jedna nebo několik málo bank, z nichž jedna plní i úlohu banky centrál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vouúrovňová 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stupeň: centrální ban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stupeň: obchodní (komerční) banky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kladní údaje o obchodních bankác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innost bank podle Zákona o bankách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innost ovlivňována ČNB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udělení licence rozhoduje ČNB v dohodě s MFČ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kladní údaje o obchodních bankác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je akciovou společn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K banky musí být minimálně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00 mil. K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vady v činnosti banky důvodem pro udělení pokuty, nucenou správu, odebrání licenc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Etický kodex ČB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sah kodex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ecné zásady chování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tah pracovníka k bance, v níž j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městná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tahy banky a jejich zaměstnanců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e klien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tahy bank navzáj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produktů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niverzální – všechny bankovní produk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ecializované - prodej pouze určitých bankovních produktů (např. stavební spořitelny, hypoteční banky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1:10:29Z</dcterms:created>
  <dc:creator>kabek</dc:creator>
  <dc:description/>
  <dc:language>en-US</dc:language>
  <cp:lastModifiedBy>Igor</cp:lastModifiedBy>
  <dcterms:modified xsi:type="dcterms:W3CDTF">2014-09-13T14:48:19Z</dcterms:modified>
  <cp:revision>25</cp:revision>
  <dc:subject/>
  <dc:title>Banky a jejich postavení v ekonomice</dc:title>
</cp:coreProperties>
</file>