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6E9-9D26-48ED-AF87-9FFFB983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997-7701-4A72-A2BF-8E816B82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CFE-440F-42BF-AB87-B069EEED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482-80D0-420E-99A9-0BB0FF2D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4D25-27E5-4E4F-92EF-6E47B3EE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79AE-EF26-4EAB-84E9-DB7CAA03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9A3E-4777-4638-A5C4-C421D862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9CC8-B83C-4196-B6DA-A2260A1B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0E54-4E35-48A9-A4E4-35FE568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3A42-C4CB-4708-8868-2E82AA87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766F-90C4-42AD-9E28-A63BFCA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6B2-6F72-4E25-8758-74CE3C2A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B8A6-2635-4B7A-BF05-95150CDC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F93F-0106-411B-A7AA-4555CD2D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51D1-5ECC-46BD-9E64-55FACCB1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F1CF-AC6B-47B8-972D-AF4DBC03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C3D3-1FB3-4494-AFEF-1C77C527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67C-2BA0-455A-90C2-E4C59CB7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750-4523-4C55-9C4D-20FE26B4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894-C804-4FAD-9BAF-947084F1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CCE-AC93-4E6D-90E8-7D480D26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F70-DDD1-4B38-A2AB-EC50F98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DD0-7AF3-4561-A45F-64742CFF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DD8-2672-4AF9-9B12-5CE2CE59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31FE-E624-4DC7-9F9F-34C95D15898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B6C3-B602-4D0C-87B6-187E377AE3F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 na dobu určitou s  předem stanovenou úrokovou sazb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je vyšš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ankce za předčasný výb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na 6 let s výhodným úrokem a státním příspěv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 spoření není omez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poskytnut výhodný úvěr k potřebám bydl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spořící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ody běžného účtu a termínovaného vklad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 úročen vyšší úrokovou sazb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(některé s výpovědní lhů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ývá doplňkem běžného účtu (přebytečná hotovost se převed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zákona pojištěny neanonymní vklady u bank a družstevních záložen, u Fondu pojištění vkladů do výše ekvivalentu 100 tisíc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u poboček zahraničních bank na našem území pojištěny za stejných podmínek v mateřské ze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anonymní v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jméno, adresu a datum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rození vkladatele u fyz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obchodní firmu nebo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zev, sídlo a IČO u právn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patření proti praní špinavých peněz</a:t>
            </a: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identifikaci klienta se zpracovávají identifikační údaje fyzických osob i osob jednajících za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ce se provádí zpravidla při osobní přítomnosti klienta a na základě platného průkazu totož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utrální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atří do rozv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y, při nichž banka nevystupuje ani ve věřitelském ani v dlužnickém postav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šechny poplatky a provize, které neovlivní rozva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platky ze směnárenských činností a devizových opera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jímání a vydávání peněz, výměna peněz poškozených, prodej pamětních mincí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kazy k inkasu a k úhr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 (úschova a správa cennosti za  popla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užby poradens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u 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řící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ní kníž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 vklad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atření proti praní špina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utrální obchody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447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sivní a neutrál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vkladových produktů bank, neutrální obchody ba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ěžný účet, vkladní knížka, termínovaný vklad, spořící účet, pojištění vkladů, neutrál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agační materiály ba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asivní a neutrál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asivní bankovní obcho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, v rozvaze na straně pasiv, banka v postavení dlužníka, klient v postavení věř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plácí úroky (náklad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termínovaný účet, běžné vklady a výb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 hotovostní a bezhotovostní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vazují další produkty – platební karta, 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dka odlišná pro občany a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úroč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pomocí příkazů k úhradě nebo k inkasu (papírová nebo elektronická form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tovostní platební styk na přepážce nebo pomocí bankoma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 doklady totožnosti u občanů, doklady o existenci firmy- podnikatel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čáteční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á smlouva (úročení, poplatk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ový vz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pisy papírové nebo elektron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starší forma spoření u nás, dříve anonymní, dnes na jmé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, vedení, vklady, výběry zda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duchá obsluh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ehled o zůstatku na vkladní kníž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 výpovědní lhůtou – vyšší úrok, ale je třeba při porušení termínu sank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– výběr kdy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erní – není úročena, slos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ětská vkladní knížka – s výpovědní lhůtou, zvýhodněné úroky, do 18. roku vě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9:51Z</dcterms:modified>
  <cp:revision>25</cp:revision>
  <dc:subject/>
  <dc:title>Bankovní obchody</dc:title>
</cp:coreProperties>
</file>