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E21-5EB9-4D31-AFE2-A74A020F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9DB-FA41-4EB4-891F-53DEB67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A25-FC02-4D48-B323-351EA7D0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88B-001F-401C-8675-E84514B3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B427-D7E3-4EC2-9941-A282EDF0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1D4-5FE2-42BB-A8FF-61503F45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864A-D22C-48F1-B84D-C79B45B8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D2D2-1ED7-4E28-8D41-8703417D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4929-293E-46E4-B4E2-0B6C83B5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7342-E36E-4FAE-88D8-3DF4075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D92-4072-4128-AABA-6E661620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5EA-BDF4-4790-9862-4C9CE329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783F-009B-4E10-A66B-79F98B4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1332-2010-45BA-850C-C9035C1F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F197-3990-4E1E-8216-259A9582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6ABE-A6E8-4556-BFE9-58D14BD2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0DF-4F64-4410-842D-ED48469F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7B3-90A5-4E0F-A4D6-F6CD154A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218-5BB6-4AB4-91D4-C61AD3B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2F9-DE1C-4A58-9235-A4AD1F8E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58B-53F3-475C-AFDD-26682DD1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A533-61D4-42FB-A279-6A061B5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4B4-C59D-4C67-9C11-495F445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571-234E-41DC-A7C7-C4A4CE63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F9A8-FBE4-42E9-B595-90C6CEDF7701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92E3-3C35-47B6-91A9-9B137F176478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rbitr.cz/cs/financni-arbitr/pusobno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89000" y="304920"/>
            <a:ext cx="569916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76000" y="1989000"/>
            <a:ext cx="6705720" cy="13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9640" y="4149720"/>
          <a:ext cx="756144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do výše částky  50 000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Důvod vzniku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soudního sporu vysoké, často převyšují spornou čá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dlouhavost soudního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armonizace práv ČR v rámci Evropské un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ě poštou, e-mailem opatřeným zaručeným podpisem nebo prostřednictvím datové schránky, osobně, resp. ústně do protokolu v sídle Kanceláře finančního arb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musí obsahova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ční údaje navrhovatele a finanční instit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 o tom, že instituce byla neúspěšně vyzvána k nápravě (vyřízení, zamítnutí reklam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plné a srozumitelné vylíčení rozhodných skutečnos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kazní prostředky nebo označení důkazů (smlouvy apod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čeho se navrhovatel domáh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hlášení, že nepodal v téže věci žalobu k soudu nebo k rozhodčímu soudu nebo rozhodci ,že neuzavřel s institucí dohodu o mimosoudním vyrovnání a je si vědom závaznosti nále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nou moc, je-li navrhovatel zastoupen na základě plné moci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a podpis navrho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radně pro klienty, návrh podává kli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lat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ná proti finanční instituci nikoliv proti klien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ne do 30 dnů ode dne zahájení řízení, ve zvlášť složitých případech  do 60 dnů, nelze-li rozhodnout ani v této lhůtě, může ji  přiměřeně prodlouž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uje nález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ti nálezu lze uplatnit opravné prostředky – námit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z je soudně vykonatelný a má účinky srovnatelné se soudním rozhodnut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187960" cy="14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39640" y="1484280"/>
          <a:ext cx="8229600" cy="5173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instituce finančního arbitra pro klienty finančních institu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, spory, působnost, návrh klienta, průběh říz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 případě nesouhlasu s konečným rozhodnutím finančního arbitra je možné podat k soudu proti němu žalobu o přezkum rozhodnu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nenáleží finančnímu arbitr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věci již rozhodl soud nebo bylo zahájeno soudní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již řeší nebo řešil finanční arbit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ylo již rozhodnuto v rozhodčím řízení nebo bylo zaháj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Úkoly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4400" y="2334960"/>
            <a:ext cx="6705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stituce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vod vznik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ůsobnost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klie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ůběh říze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imo působn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oslani-a-ukoly-fa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finarbitr.cz/cs/financni-arbitr/pusobnost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ruvodce-podanim-zadosti.html#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4768560"/>
            <a:ext cx="75438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imosoudní orgán k řešení spo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s právem rozhodovat sp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ídlo Kanceláře finančního arbitra v Pra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ho arbitra jmenuje vláda na návrh ministra financí na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je odpovědný za svou činnost vlá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 provádějícími převody peněžních prostředků (zejména banky) a jejich klienty – např. o správnost zaúčtované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, které vydávají a zpětně vyměňují elektronické peníze (platební karty) a jejich držite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věřiteli nebo zprostředkovateli a spotřebiteli při nabízení, poskytování nebo zprostředkování spotřebitelského úvěru (např.o správnost výše úvěru nebo účtovaných poplatk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vestičními fondy, investičními společnostmi a spotřebiteli z fondů kolektivního investování, které shromažďují peněžní prostředky od veřej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apř. o správnost poplatků)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31Z</dcterms:modified>
  <cp:revision>22</cp:revision>
  <dc:subject/>
  <dc:title>Finanční arbitráž</dc:title>
</cp:coreProperties>
</file>