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12E-0846-4F23-9BC2-5D33B81E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9F1-C8A1-46C2-89F0-2E49319B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3CC-83C4-42BC-BEE0-5DB21C3B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C27-17D6-41AF-B9C6-1BBF09F7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0B59-38F7-4B80-B1FD-B5663B62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F73B-2EB1-485B-A4E9-00640A0F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1436-FFDB-476C-819F-6ECFBA80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FAD6-8B37-46A1-A1D9-80221FE5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EF00-B475-4A73-806E-1E86A380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2D15-9996-433D-9B3B-94DEA6B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A35-B6C3-4DE7-8A6E-8E95E749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27B-EA91-4B95-A982-44CB29A7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084F-CF23-4FA3-A8E9-2CC726AF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E54A-2345-4C23-8A5D-3D19788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975-8708-4663-AAD6-F87C03AE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7A6-ACB3-4EF8-9E8D-8B7C4AC1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DDE9-ED72-45D0-A1B9-206B10CE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3D921-32E6-418A-B1E9-CD89D0C4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B605-09CC-4A54-8A27-692CCE4A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C4EC-AFB0-4D42-ADB6-7EE3C18A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CCA6-2102-4BC2-B2F4-5DAE3F3F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3574-5382-4FB7-B8BD-CB7CED5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CE0-9E0B-4759-BA19-80B1A485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0118-AB6D-4C3B-980C-E99528F2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1993-C1FD-4651-AB20-2B8B04F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1ABF-7864-4A9E-9E30-BA8FA26D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C5C2-D4D3-49DE-ACAB-5FBDC58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5564-0D84-4C41-A9B1-48B4A7F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63B91-6835-470E-A26D-1B283D70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2E23-7794-4AFB-87BA-FC1F4B13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857-0D61-45F7-99A4-B579EB3F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8F7-FD82-4062-8A31-CA5C1ECC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148-195F-40A1-A609-6C9E46BA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D2B-B9A3-4BB5-8E3D-3C7EDFC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C63-1183-44C9-BAD2-BB800EAC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7CD-647A-4A41-9AC9-DF30825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A58E-2D41-49D1-8888-1A8EA24E55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6FA8-E351-4404-95CC-1AFA720130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711A-EB25-4139-B934-96751D754CB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556000" y="2637000"/>
                <a:ext cx="4176720" cy="24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čet období, p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erá se úro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u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8000" y="1700280"/>
                <a:ext cx="54723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1908000" y="4005360"/>
                <a:ext cx="547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2987640" y="1700280"/>
                <a:ext cx="338472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2340000" y="3860640"/>
                <a:ext cx="489744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059280" y="1700280"/>
                <a:ext cx="32414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t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2195640" y="3933720"/>
                <a:ext cx="5113080" cy="20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692360" y="2421000"/>
                <a:ext cx="54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j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n……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bdobí (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l ……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období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ne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684360" y="3068640"/>
                <a:ext cx="75610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11280" y="1557360"/>
          <a:ext cx="8229600" cy="45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noduché a složené úrok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ákladní pojmy a vzorce pro výpočet úrokování. Vzorové příkla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Úrokování jednoduché, složené, dekurzivní, anticipativní, úrok, kapitál, doba splatnosti, úroková míra, anuita, bankovní měsíc, r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si vypůjčil z banky  65 000,- Kč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10 % úrok p. a. dek., jednoduché úrokování, dekurzivní. Kolik musí vrát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70 254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počítej původní jistinu a úrok, jestliže půjčka i s úroky byla splacena po 327 dnech. Úrok 12 % p. a. dek., jednoduch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225 0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 525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ik si můžete půjčit peněz, pokud víte, že za 3/4 roku budete mít na úhradu dluhu  200 000,- Kč, při úrokové míře 8 % p.a. a složeném úrokování dekurzivní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8 78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v bance ulož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0 000,- Kč, vzrostl-li při jednoduchém úrokování dekurzivním při sazbě 0,05 na 36 5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5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rči úrokovou sazbu, byl-li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 000,- Kč úročen čtvrt roku a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6 075,- Kč. Úrokování jednoduch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 = 0,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5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 firmy vystavil 15. 4. 2009 vlastní směnku za dodávku zboží v hodnotě 100 000,- Kč se splatností za 6 měsíců. Zjistěte směnečnou sumu, jestliže úrok je 9 % p.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4 5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 500 000,- Kč uložený do banky 3. 2. 2006, který si klient vybere 6. 8. 2009 při úrokové míře 8 % p. a.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jednoduch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složen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640 33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654 986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se zúročí úvěr 1 milion korun, když byl úrokován složeným způsobem při 0,05 p. a. dek., po dobu 2 let 6 měsíců 27 dnů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 333 868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uložen vklad 25 000,- Kč, vzrostl-li na 29 246,50 Kč při úrokové sazbě 0, 04 p. a. dek.? Složen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4 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lik % byl úroč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 500,- Kč, pokud za 3 roky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20 0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ní složen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i = 0,02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2, 63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Jednoduché a složené úrokován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240 000,- Kč s úrokovou mírou 8,5% p.a. uložený na období 22. 2. 2006 až  17.6. 2009 při kombinaci jednoduchého a složeného úroče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 314 87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MÉKALOVÁ, Darina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Finanční a pojistná matematika pro střední školy ekonomického zaměření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trava:  Montanex,s.r.o. , 1996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85780-39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kurzivní - po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ticipativní – před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ok – 3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měsíc – 3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o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q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tvrt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sí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ečítací metoda (německá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výpočet počtu dnů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. Vypočítej počet dnů v obdob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5. 7. 2007 – 4. 9.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4–15) + (9–7)*30 + (2009–2007)*360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= - 11 + 60 + 720 = 769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2195640" y="2205000"/>
                <a:ext cx="4897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116000" y="4149720"/>
                <a:ext cx="6840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059280" y="1628640"/>
                <a:ext cx="38178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3132000" y="3789360"/>
                <a:ext cx="374508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3:34:46Z</dcterms:created>
  <dc:creator>Marek</dc:creator>
  <dc:description/>
  <dc:language>en-US</dc:language>
  <cp:lastModifiedBy>Igor</cp:lastModifiedBy>
  <dcterms:modified xsi:type="dcterms:W3CDTF">2014-09-13T14:50:43Z</dcterms:modified>
  <cp:revision>25</cp:revision>
  <dc:subject/>
  <dc:title>Jednoduché a složené úrokování</dc:title>
</cp:coreProperties>
</file>