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EE0A2-3BFF-424D-8D32-58A0FF92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AB0A1-04D5-4B76-925A-0F0158FB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9A14-26BB-4B44-9C2E-0A430AE2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2493E-BACD-4EE2-9CE8-34AB6F27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FB20-4897-4297-82E7-39118768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366A-0B9A-4927-9245-F25DAECF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2095-F3C3-4D5D-AA43-9823D8F2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D2CF-3107-4626-A41D-6AA14BB8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5110-3CBE-4E1D-9974-96BB8B78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F292-5AF5-444A-B0FE-273CA311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A131-2554-4D22-BF18-9316895A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DFA1D-7602-4C77-A1C3-187A97D0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8162-8344-49B2-83A4-66CA4132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1EDB-12D4-441A-916F-9A7E5899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552C-02AE-46F1-A530-D33A3363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A3A0-5000-46F0-B625-558D1B23F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9163-0798-437F-BAE4-A036A22C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D283C-729F-453D-8244-205498A0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B4235-0C7E-4DFF-90D2-077964B9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3B61D-5385-4207-95B3-D7FAB17A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30F9B-B37C-4DF1-972B-988839D5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970D2-00F8-43E5-8FF1-343DCC3A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E0469-0240-4188-BDEE-DB59EBBE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5D8C1-978D-460B-8D99-700C7F8A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B2AE-49F9-45B9-931D-0F439467473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E681-9322-438E-9539-D97B3D85958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uj-bankrot.cz/dokumenty_k_oddluzeni" TargetMode="External"/><Relationship Id="rId2" Type="http://schemas.openxmlformats.org/officeDocument/2006/relationships/hyperlink" Target="http://www.penize.cz/exekuce/18830-osobni-bankrot-petileta-cesta-z-dluhu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2533680" y="4572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900000" y="1989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39640" y="4221000"/>
          <a:ext cx="7561440" cy="1663920"/>
        </p:xfrm>
        <a:graphic>
          <a:graphicData uri="http://schemas.openxmlformats.org/drawingml/2006/table">
            <a:tbl>
              <a:tblPr/>
              <a:tblGrid>
                <a:gridCol w="3384720"/>
                <a:gridCol w="417672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roveň požádá, aby její úpadek nebo hrozící úpadek byl řešen formou oddluž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vrh je ochranou před exekutor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lnSpc>
                <a:spcPct val="80000"/>
              </a:lnSpc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ekuce, mohou  soudem nařízeny, ale nemohou být vykoná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7720" indent="-165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7720" indent="-165960">
              <a:lnSpc>
                <a:spcPct val="80000"/>
              </a:lnSpc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řitelé musí přihlásit své pohledávky za dlužníkem v rámci insolvenčního řízení</a:t>
            </a: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7720" indent="-165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Způsob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. rozprodáním majetku dlužníka neb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. splácením podle věřiteli schváleného splátkového kalendáře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Způsob od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mínkou je, aby  bylo splaceno alespoň 30 % celkového dluhu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Splátkový kalendář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lužník zaváže do 5 let uhradit maximální možnou část dluh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  výši jednotlivých splátek rozhodne so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usí zůstat životního  minim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Splátkový kalendář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lužník musí pracovat, aby měl dostatečný pravidelný příj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zaměstnaným soud splátkový kalendář nepovol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Zrušení souhlasu s osobním bankrotem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případě neplnění stanovených povinností může soud zrušit souhlas s osobním bankro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Zrušení souhlasu s osobním bankrotem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oddlužení se musí podílet manžel, manželka, pokud nemají zúžené a vypořádané společné jmění manželů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Insolvenční rejstřík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šichni dlužníci, kterým soud osobní bankrot povolí, vedeni v  insolvenčním rejstřík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řejně přístupný na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Insolvenční rejstřík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něm  všechny důležité úkony spojené s osobními bankro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 ukončení insolvenčního řízení soud dlužníka ze seznamu vyškrt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611280" y="1557360"/>
          <a:ext cx="8229600" cy="495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sobní bankr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světlení podstaty osobního bankrotu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sobní bankrot, podmínky, návrh na oddlužení, způsob oddlužení, splátkový kalendář, zrušení, insolvenční rejstř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o je osobní bankro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mínky osobního bankrot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vrh na oddluže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působ oddluže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499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499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5. Zrušení souhlasu s osobním bankro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Insolvenční rejstří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187e3"/>
                </a:solidFill>
                <a:uFillTx/>
                <a:latin typeface="Arial"/>
                <a:hlinkClick r:id="rId1"/>
              </a:rPr>
              <a:t>http://www.muj-bankrot.cz/dokumenty_k_oddluze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187e3"/>
                </a:solidFill>
                <a:uFillTx/>
                <a:latin typeface="Arial"/>
                <a:hlinkClick r:id="rId2"/>
              </a:rPr>
              <a:t>http://www.penize.cz/exekuce/18830-osobni-bankrot-petileta-cesta-z-dluh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516040"/>
            <a:ext cx="7315200" cy="25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8600"/>
                </a:solidFill>
                <a:latin typeface="Arial"/>
              </a:rPr>
              <a:t>Osobní bankrot</a:t>
            </a:r>
            <a:endParaRPr b="0" lang="en-US" sz="6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516708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Osobní bankro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dlužení fyzických os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zákona č. 182/2006 Sb., o úpadku a způsobech jeho řešení (insolvenční zákon)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Podmínky osobního bankrotu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lužník je v úpadku, pokud má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íce věřitelů (nejméně dva)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ěžité závazky, s jejichž úhradou je více než 30 dnů v prodlení po splatnost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Podmínky osobního bankrotu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lužník je v úpadku, pokud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ní schopen tyto závazky plnit (tzv. platební neschopnos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má dluhy z podnik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yzická osoba, která není podnikatelem, podá soudu na speciálním formuláři návrh na prohlášení insolv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vrh se podává na krajský so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 návrhu  na povolení oddlužení fyzické osoby musí  připoji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eznam majetku a seznam závazk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klady o příjmech dlužní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 návrhu  na povolení oddlužení fyzické osoby musí  připoji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ísemný souhlas nezajištěného věřitele (= dostane méně než 30%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</dc:creator>
  <dc:description/>
  <dc:language>en-US</dc:language>
  <cp:lastModifiedBy>Igor</cp:lastModifiedBy>
  <dcterms:modified xsi:type="dcterms:W3CDTF">2014-09-13T14:50:18Z</dcterms:modified>
  <cp:revision>18</cp:revision>
  <dc:subject/>
  <dc:title>Osobní bankrot</dc:title>
</cp:coreProperties>
</file>