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D9F-549A-42A9-9BD0-2C91DBC5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A2C-065B-4DD0-B264-A3EDF2CE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A85-7D34-4BAB-ADF1-FF6D4920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7CB-0D0C-413B-AE69-5FFEB339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691A-945F-4C05-AED4-43A55D17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433B-2058-414A-BEF6-D9F484CE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D90F-5479-4C94-B49B-C08D0BB1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2C95-71D3-4301-A8C3-302AF8A1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20AA-A78E-43F7-B681-A975C84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5C7B-22B5-4A11-8958-6315B1A4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C1A1-1703-40B2-8271-73DD7EAB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CA1-CFB5-4DCE-930B-518A5DC4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6B6E-E7D7-4674-A5EA-E3C7966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3FA7-BF3D-48C4-ABEA-F65DC850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632D-5842-4165-B4C9-51D5DD95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75F3-F2AA-451E-BCA6-7FAF924F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70FC-645C-4901-A986-0620974D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030-9D89-4E77-98AA-E833FD7E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182-D833-44DE-8250-7EE2B515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BDA-FF6E-4791-9325-D13E594E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2FD-D74F-4A23-8B63-634B2C06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E0C-2F0E-450C-8319-35A62D88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459-6F26-4086-AE11-9036F0B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C7F-3104-4695-8EC8-9E26C2D9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994E-62D0-4F6F-81AA-E7D693E629D1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B6B3-7A89-4E49-AD18-E3B01F0AB886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2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10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ahoma"/>
              </a:rPr>
              <a:t>Znáte nějaké situace, kdy zaměstnavatel nemůže dát zaměstnanci výpově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vatel nemůže dát výpověď zaměstnanci, poku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racovně neschopný na nemocens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ovolaný k výkonu vojensk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uvolněný pro výkon veřej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nkyně je těhotná nebo pečuje alespoň o jedno dítě do 3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YSKA, R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ávo pro střední školy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kladatelství Fortuna 2010. ISBN 978-80-7373-010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8737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468360" y="1341360"/>
          <a:ext cx="7704000" cy="552312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 k seznámení studentů se způsoby uzavření pracovního poměru, s jeho změnami a záni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acovní poměr, zkušební doba, povinnosti zaměstnavatele a zaměstnance, převedení, přeložení, výpověď, okamžité zrušení, dohoda, zrušení ve zkušební době, uplynutí dob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Pracovní pomě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Zákoník prá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Vznik P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acovní smlouvou – nejčastější způs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olbou – např. posla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enováním – vedoucí pracovníci jsou jmenováni podle zvláštních předpi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Pracovní smlouva musí mít písemnou formu a musí obsahova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ruh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ísto výkonu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n nástupu do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91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ahoma"/>
              </a:rPr>
              <a:t>Jaké další informace by podle vás měla pracovní smlouva obsahova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Další informace uvedené v pracovní smlouvě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éno zaměstnance a název a sídlo zaměstnavatele (PO), nebo jméno a adresu zaměstnavatele (FO),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ližší označení druhu a místa výkonu prác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rok na délku dovolené na zotavenou, popřípadě uvedení  způsobu určování nároku na dovoleno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výpovědních dobách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mzdě a způsobu odměňování, splatnosti mzdy, termínu výplaty mzdy, místu a způsobu vyplácení mzdy, stanovení týdenní pracovní doby a rozvržení pracovní dob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acovní smlouva může být uzavře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ne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kušební d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ve smlouvě sjednána – pokud není, nepla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ximální délka zkušební doby je tři měsíce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lze ji sjednat v případě pracovního poměru na dobu určit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Jaké povinnosti vyplývající z pracovního poměru má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vat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ne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vinnosti vyplývající z pracovního poměru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vatel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tvářet pracovní podmínk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latit mzd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ávní předpisy, popř. kolektivní smlouv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nec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konávat práci osobně podle smlouvy, ve stanovené době na stanoveném místě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acovní kázeň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měna P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edení – Zákoník práce uvádí podmínky, za kterých musí být zaměstnanec převeden a podmínky, za kterých může být převeden, není nutný souhlas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ložení – může se uskutečnit pouze se souhlasem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ánik PP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ahoma"/>
              </a:rPr>
              <a:t>Jakými způsoby může pracovní poměr zanikn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pověď – jednostranná, musí mít písemnou formu a musí být doručena druhé straně, začíná běžet první den kalendářního měsíce následujícího po doručení výpově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kamžité zrušení – pouze ze zákonem stanovených důvodů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zaměstnanec porušil pracovní kázeň zvlášť hrubým způsobem, nebo pokud byl odsouzen za úmyslný trestný čin nepodmíněně na dobu delší než 1 r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podle posudku lékaře nemůže zaměstnanec vykonávat práci a zaměstnavatel ho nepřevedl do 15 dnů na jinou práci nebo pokud zaměstnavatel nevyplatil mzdu do 15 dnů od její splat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hoda – musí mít písemnou formu a zaměstnanec i zaměstnavatel musí souhlas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rušení ve zkušební době – písemná forma, musí být doručeno druhé straně, může dát zaměstnanec i zaměstnavatel bez udání důvod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Uplynutím doby – u pracovního poměru na dobu určit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mrt pracovníka, zánik podn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5:20Z</dcterms:created>
  <dc:creator>Guest</dc:creator>
  <dc:description/>
  <dc:language>en-US</dc:language>
  <cp:lastModifiedBy>Igor</cp:lastModifiedBy>
  <dcterms:modified xsi:type="dcterms:W3CDTF">2014-09-13T15:24:32Z</dcterms:modified>
  <cp:revision>12</cp:revision>
  <dc:subject/>
  <dc:title>Snímek 1</dc:title>
</cp:coreProperties>
</file>