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B90-375B-4170-883A-0917B1A3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11B-EBCB-4AE0-8FA0-3073713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CBC-E31C-4397-89DD-AA281282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7AD-9927-4C7C-B877-4EE82203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3BC4-F2EF-4E31-BDC2-9DCBB8C1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898D-E690-4AF6-A30D-F25D1F5A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C8AF-8418-409D-8DBA-4827DCC7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F270-A392-489B-8F60-BC8DB62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91A5-6C42-4E87-9CC8-C1C1170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762-0C4E-4E8D-AE17-213BE394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9D3E-6943-4275-8E29-9E510FA4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2B5-8CEA-4ACE-9C3A-4BBF1865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DCB4-EF58-40C8-BA77-282BC9F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86E-C256-4749-BB51-AC79DAC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C9FA-5991-42A1-9BE3-C9F02B3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3C8C-6E34-487B-A9A5-D02FD472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468-B378-467D-BF4D-DE7FE48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678-8464-4869-BB7D-907DE848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7D0-6FE7-4B17-8F75-F473566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C66-1D3E-46DB-BCF2-9BDA78D5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611-2C8F-48EA-98C5-0E6E8A7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245-9A13-436C-A3ED-C5756F5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0DE-A924-4290-A17B-C063C986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9B0-F6D8-4546-BB67-C040475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3E6D-6BFA-4746-8F60-29EE2139DB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2479-15AD-404A-8259-45E567EDFC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9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k se připravit na poho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jistěte si co nejvíce informací o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usíte se připravit na setkání s personalistou, proto si zjistěte co nejvíce informací o tom, co byste měli ve firmě dělat, jaký je hlavní obor činnosti firmy, ale i to, jaká je její konkurence a firemní kultura. Přehled o situaci potvrdí vaši motivaci a zá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ezměte si s sebou potřebné dokum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ktuální životopis, ukázky prací, ale i kontakty na případné reference od bývalého zaměstnavatele jsou nezbytné minimum, které byste při pohovoru měli mít s sebo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ipravte se na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myslete si, jaké jsou vaše pracovní priority a jaký očekáváte plat. Pokud nevíte, o kolik si máte říct, využijte internet – najděte si srovnání pla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íte odpovědět, proč odcházíte ze stávajícího zaměstnání nebo proč zrovna vy jste nejvhodnější kandidát na pozici, o niž se uchází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rsonalista se vás také může ptát na tzv. diskriminační otázky (např. rodinné zázemí, dě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uďte aktivní a sami se zajímej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tejte se na chod společnosti a detaily týkající se vaší pozice. Zajímejte se také o to, kdo bude váš nadřízený a s kým budete spolupracovat v rámci firmy i mimo ní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 kolik si říct na pohovor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.   Zmapujte si, jaké jsou vaše životní nákl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očítejte si, kolik si musíte minimálně vydělat, abyste pokryli své náklady a životní minimum. To je základ pro další určení požadované mz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.   Jakou výplatu jste v minulém zaměstnání dostáv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emusí vždy vypovídat o tom, kolik si vyděláte ve svém příštím zaměstnání. V jiném regionu a jiné firmě si můžete vydělat třeba i více. 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.   Zmapujte si situaci na trhu práce ve svém oboru a v regionu kde chcete pracovat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lik je nabídek práce a tedy jaká je aktuální poptávka firem zjistíte na internetu, např. na stránkách Prace.cz. I od toho se může odvíjet výše plat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.   Platy ve svém oboru a lokalitě si můžete zjistit na internetu, na stránkách Prace. cz v sekci Porovnání platů.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ww.prace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1495440"/>
          <a:ext cx="8229600" cy="513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 k seznámení studentů s personálním řízením, cíli a organizací personální práce, s náborem pracov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dské zdroje, personální řízení, cíl personální práce, organizace personální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ersonalistik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nik potřebuje k zajištění své činnosti výrobní faktory – půdu, kapitál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rác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ké charakteristiky práce budou pro firmu nejdůležitějš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Lidské zdroj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ouhrn pracovníků, jejich kvalifikační a věková struktura, úroveň pracovní ochoty (motivace, kreativita, flexibilita a adaptabili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ersonální řízen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řízení lidských zdrojů s vnějšími vazbami na trh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íl personální prá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dostatečně výkonného person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sociálních cílů zaměstnanců (spokojenost zaměstnanců s prací, s výší odměny, s možností profesionálního rozvoje,… To vede ke spokojenosti pracovníků a k jejich loajalitě k podnik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yto cíle jsou protikladné – vysoké mzdy uspokojí zaměstnance, ale vedou ke zvýšení nákladů firmy a tím ke snížení její konkurenceschopnosti. Naopak snížení mzdových nákladů vede ke snížení spokojenosti zaměstnanců a k poklesu jejich výko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Je proto třeba vytvořit vyváženost mezi oběma cí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Organizace personální prá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lánování pracovník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lánování potřeby pracovníků, jejich počtu, profesní a kvalifikační struktury a jejich rozmístě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získávání a výběr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určení metod a způsobů získávání pracovníků z vnitřních i vnějších zdrojů podn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rozmisť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řazování do pracovních funkcí, přesuny pracovníků uvnitř podniku, povyšování, ukončování pracovního poměru, penzion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předpokladů pracovníků k výkonu činností a plánování osobního rozvoje pracovníků, hodnocení pracovního výkonu a chování pro potřeby systému 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áce a popis pracovních mís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nároků jednotlivých pracovních míst a funkcí pro podnikové katalogy prací a tarifní systé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vorba nástrojů pracovní motivace a podnikových mzdových systémů a systému účasti na hospodářském výsled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odnikové systémy vzdělávání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identifikace potřeb vzdělávání, plánování, příprava, organizace a vyhodnocování účinnosti vzdělávání, programy rekvalif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kolektivní vyjednávání a pracovněprávní agendy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jednání zaměstnavatelů a odborů o uzavření kolektivní smlouvy, příprava jednání, dohled nad dodržováním pracovněprávních předpisů a závazků, spolupráce s úřady prá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sociální péče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organizace sociálních služeb pro zaměstnance, bezpečnost a ochrana zdraví pří práci, zdravotní péče, kontrola pracovních podmínek, organizace aktivit volného čas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ersonální informační systém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 potřeby podniku i mimopodnikových orgán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Nábor pracovník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čívá v poznávání a získávání nových nebo stávajících pracovníků pro běžná a budoucí pracovní mí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Nábor se provád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střednictvím osobních kontaktů, inzercí, návštěvami škol, učilišť a univerzit pracovníky osobního oddělení, z Úřadu prác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ces výběr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hodnocení zaslaných životopis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ní pohovor, talentové zkoušky, inteligenční testy, testy osobnosti, reference od dřívějších zaměstnavatelů, škol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chazeč o zaměstnání by měl přijít na pohovor připraven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Jak byste se co nejlépe připravili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Kde byste získali informace pro vaši přípravu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5:44:27Z</dcterms:created>
  <dc:creator>klapuchova</dc:creator>
  <dc:description/>
  <dc:language>en-US</dc:language>
  <cp:lastModifiedBy>Igor</cp:lastModifiedBy>
  <dcterms:modified xsi:type="dcterms:W3CDTF">2014-09-13T15:06:05Z</dcterms:modified>
  <cp:revision>12</cp:revision>
  <dc:subject/>
  <dc:title>Personalistika</dc:title>
</cp:coreProperties>
</file>