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4AA-9A93-4E7C-8D9D-88A17940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CBE-183D-425A-BF59-0CFA60E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602-4E81-4DCF-B79A-D8D23EC6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2A6-3410-4245-BEE5-55CEF065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7D5-9897-4A27-88A0-083C660F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1F2-9F47-44EF-A68A-229EB0ED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C8E-5E62-47BE-B99F-4835D6F7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8AB-E783-40C2-9FFC-C71AB65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691-84AF-4F85-96BF-8B4A8B9D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387-74DC-4B6C-B9B1-C2A0FDC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ABE-B83A-4E6B-8D89-7A45356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0C8-8D92-4C0C-95C5-7646355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CF3F-7682-4AD0-BF79-02DE258243C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městnanec má hrubou mzdu 21 500,- Kč. Vyživuje 3 děti. Vypočítejte čistou mz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1 50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65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 39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45 =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6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1,34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8 900,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zaokrouhleno na 100 Kč nahor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8 900*0,15 =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4 335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- 2 07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(3*11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ový bonu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 086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ČM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1 500 – 1 398 – 968 + 1 086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0 22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městnanec má měsíční mzdu 25 000,- a vyživuje dvě děti. Vypočítejte čistou mz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postupem výpočtu mezd, počítají základní typy příklad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ubá mzda, sociální pojištění, zdravotní pojištění, superhrubá mzda, daň z příjmu, daňový bonus, čistá mzda, ostatní srážky, mzda k výplat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ff"/>
                </a:solidFill>
                <a:latin typeface="Arial"/>
              </a:rPr>
              <a:t>HM = základní mzda + příplatky + prémie + odměny + osobní hodnocení + ná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dinová – podle počtu odpracovaných hodin v měsí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ěsíč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tál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ko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le odpracovaného množ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roviz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íl v % z realizovaných obchodů jednoho obchod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pl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zda za práci přes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y mzdy za odpracované svá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e ztížených podmínkách a na zdraví škodlivých pracovišt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 n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mě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pevná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obní hodnoc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ěsíční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hrady mz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olená, neodpracované svátky připadající na PO – P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kážky z důvodu obecného zá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šetření u léka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ení, studium při zaměst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vatba, svatba dětí,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ř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mr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teré zákonné srážky ze mzdy zná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xistují i jiné než zákonné srážky? Uveďte 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a zdravotní pojiště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e mzdy zaměstnance se sráží pojistné, a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,5% z hrubé mzdy na všeobecné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,5% z 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jištění hrazené firm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% z hrubé mzdy na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5% z 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ň z příjmů ze závislé čin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způsob zdanění mzdy daní z příjmů ze závislé činnosti je rozhodné, zda má zaměstnanec podepsáno prohlášení k d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uze u 1 zaměstnavatele), je daň z příjmů srážena ve formě zálohy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otom je pro způsob zdanění rozhodující výše mz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do 5 000 Kč – srážková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nad 5 000 Kč – záloha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mezi zálohou na daň z příjmů a srážkovou daní je mimo jiné v tom, že záloha na daň podléhá ročnímu vyúčtování, ale srážková daň je konečná a nelze ji již zúčt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perhrubá mzda = hrubá mzda * 1,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 příjmu = superhrubá mzda * 0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z příjmu po slevách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daň z příjmu – slevy na 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istá mz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– sociální pojištění – zdravotní pojištění – daň z příjmu po sle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zda k výpla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čistá mzda – ostatní srážky + nemoce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anec má hrubou mzdu 20 000,- Kč měsíčně. Vyživuje jedno dítě. Vypočítejte čistou m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0 0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65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 3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45 =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1,34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6 8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6 800*0,15 =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4 02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-2 07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1 11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po slev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833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20 000 – 1 300 – 900 –833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6 96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0:06:20Z</dcterms:created>
  <dc:creator>Ing. David Holzbauer</dc:creator>
  <dc:description/>
  <dc:language>en-US</dc:language>
  <cp:lastModifiedBy>Igor</cp:lastModifiedBy>
  <dcterms:modified xsi:type="dcterms:W3CDTF">2014-09-13T15:25:22Z</dcterms:modified>
  <cp:revision>11</cp:revision>
  <dc:subject/>
  <dc:title>Snímek 1</dc:title>
</cp:coreProperties>
</file>