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BBD-9B7C-4BD1-ADB3-7F324B70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815-BD04-4C1E-AEC7-FC7033B2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139-3C75-4914-8DBB-DD3CCDA0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2BC-7AE0-4FF7-83BC-0082A29E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9490-4C93-4EF2-B656-EF198BBC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AF87-1625-4E00-B252-4329AF51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9F20-B2CA-4CAE-8187-F4C01F8F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C5C-E650-4B11-8980-3ACA0F19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FF0E-1208-439A-BED2-A14956A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C482-D270-4CEA-B9B2-D9A2A39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A1FC-05E8-4219-9393-70B03E3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4FA-229F-45AE-B022-4BE5A6D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78DC-0280-4F3D-811D-B440A64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500-656F-4DA1-99D2-848F57C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DECB-1782-4470-BF6C-6928A14E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7878-EB49-41DD-9C3E-C8CEEAD7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D1D4-D986-4408-8803-6F6E1ACF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B47-CB96-47BD-B17E-12D7C6E2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156-C7AE-4FC4-BEE5-8584D0C5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4B1-1998-4946-887A-21D53B03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165-63DB-45FF-8765-FA337E3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5D1-3801-4FEE-A741-8930876C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536-84E5-4587-838F-F278BCF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9C3-A57D-4588-849F-FF53B40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E3AE-08C8-4614-A864-50589DBCA88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B2D-61E7-4590-93D7-7F75DB91E5F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q-teste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9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tvůrčí, má mnoho nápadů, umí řešit náročné úkoly, je flexibilní a dovede vymyslet řešení odlišné od konvenčních zvyklostí a tím posunout problém výrazně dopře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zabývá se méně podstatnými věcmi, je plně zaujat vymýšlením vlastních nápadů a když je čas na realizaci věci, stále předkládá nové nápady. Nekomunikuje s ostatními příliš efektiv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plný energie a zapálený pro věc, hledá nové kontakty, objevuje další možnosti uplatn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čáteční nadšení z něj může rychle vyprchat, někdy je nebezpečně optimistick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88640"/>
            <a:ext cx="8007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spolehlivost, disciplína, dokáže měnit myšlenky na skutky, z abstraktních návrhů dělá konkrétní produkt, uvažuje prakticky a racionáln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flexibilní, těžko reaguje na změnu podmíne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dovede volit optimální strategii, hodnotí všechny možnosti, jeho úvahy jsou přesné, od ostatních požaduje kvalitní prá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dovede motivovat ostatní členy týmu, může být příliš kritický až destruktiv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sociálně zdatný, dokáže mírnit a hasit konflikty, stará se o ostatní v týmu, vytváří příjemnou atmosfé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schopen dělat důležitá a náročná rozhodnut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tahovač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hlídá si termíny a limity, posouvá problém do konce, když už ostatní přestávají pracovat, je spolehlivý, pečlivý a svědomitý. Dbá na to, aby dílo bylo bez chyb a hotové podle zadán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asto má zbytečné obavy, neumí spolupracovat s druhými /zejména protože, by mu narušili pořádek v jeho pr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loajální a má rád svůj obor, jeho znalosti jsou velmi cenné, odhodlaně pracu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bývá se pouze úzkou oblastí, ve které se vyzná, sleduje to co jej osobně zajímá, nedokáže skupině dát dynamiku a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bevědomí, pomáhá lidem v týmu, aby spolupracovali, dává je dohromady. Ujasňuje cíle, dodává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ho přínos je především mezilidský, profesně si práci zjednodušuje, může manipulovat druhými lid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to velmi energický člen týmu, který tvoří hnací motor. Je odvážný a odhodlaný řešit i náročné úkoly a nečekané obtíž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ovokuje a někdy uráží ostatní, nepřispívá k dobrému klimatu ve skupin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3dccff"/>
                </a:solidFill>
                <a:uFillTx/>
                <a:latin typeface="Arial"/>
                <a:hlinkClick r:id="rId1"/>
              </a:rPr>
              <a:t>www.iq-tester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i můžete zkusit testy on-line: test vrozené inteligence, test numerické inteligence, testy osobnosti a pracovní psychot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: www.iq-tester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5440" y="244440"/>
            <a:ext cx="576900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725480"/>
          <a:ext cx="8229600" cy="5135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různými druhy testů, se kterými se mohou setkat u přijímacích pohovorů do zaměstn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Q testy, psychotest týmových rolí, pracovní psychotest, testy osob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8600" y="2936520"/>
            <a:ext cx="7715520" cy="14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sty u přijímacích pohovor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IQ 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07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Složky inte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teligence je schopnost řešit úkoly, která se dělí na jednotlivé složky –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storová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D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mě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Správný IQ test by měl testovat a měřit všechny tyto složky intelig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nteligence je vrozená schop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tzn., že nelze ovlivnit její výši, ale můžeme ji pomocí modelových situací nebo zkušeností dále rozvíj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inci obvykle nevynikají pouze v jediné oblasti inteligence, ale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sahují lepších výsledků hned ve více oblastech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icméně je inteligence často zaměřená na určitou oblast, ve které vyniká více než v jiné. Překladatelé a básníci budou vynikat ve verbální inteligenci, architekti zas v oblasti prostorové představivosti. Každý jedinec má při vyplňování testu pocit, že na některé otázky se mu odpovídá snadněji než na ji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 se projevuje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chopnostmi logického myšl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logických analýz situací a problémů nebo správného používání matematických operací. Úkoly v IQ testech mají často podobu číselné řady, kde některá čísla chy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ou inteligenci mohou měřit i úkoly s doplňováním písmen, pokud mají matematický princip.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př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oplňte následující písmeno: O Q S T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yjadřuje, jak člověk vnímá svět kolem sebe. Tuto schopnost mívaj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soce rozvinutou například architekti, nebo sochař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Úlohy na tento typ inteligence zahrnují otáčení tří-rozměrných objekt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izuální „2D“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izuální inteligence jde 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ozpoznání optických rozdí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podobností na předmě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800748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erbální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projevuje jazykovým citem k mateřskému i cizímu jazyku, používáním vhodných slov, chápáním významu slov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měním rozlišit rozdíly ve významech slov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asto tímto druhem inteligence oplývají překladatelé, právníci či básní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krétní příklady na zjištění tohoto druhu inteligence mají podobu například vyřazování slov, která nepatří mezi ostatní nebo doplnění částí slov, aby výsledná slova dávala smy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i složky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otorické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ůžeme například zařadit koordinaci pohybů, potřebu být v pohybu nebo schopnost práce a manipulace s různými předměty. Někdy se též nazývá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ligence praktick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mě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pamět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ožto další složka inteligence se testuje spíše výjimeč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Testy osobnost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800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ravidla se jedná o sadu otázek na níž klient odpovídá volně nebo volí z nabízených možností. Některé takové testy jsou také dostupné on-line, i když obvykle s nimi ještě zachází psychologov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o měří testy osob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ěří především temperament. Ten představuje soubor relativně stálých a vrozených vlastností. Jeho změna je možná jen do velmi omezené míry. Typicky temperamentovými komponenty jsou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xtrovert – introver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bo všeobecně známá typologi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legmatik-cholerik-sangvinik-melancholi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lověk, který často vybuchuje a je prudší povahy, ale rychle se uklidní takový bude v podstatě celý život, stejně jako se flegmatický kliďas pravděpodobně nezačne v pozdějším věku více stresovat.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možňují jemnější rozlišení těchto vlastností. Tím se testy osobnosti liší o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Q test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racovní psycho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67920"/>
            <a:ext cx="8007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sty používané v psychologii práce – pracovní psychotesty zjišťují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hodnost osoby pro danou pracovní poz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chopnosti a profesní orientaci člověka, jeho silné a slabé stránky ve vztahu k povol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kupinovou roli konkrétního jed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alší specifické vlastnosti lidí podle požadavků zaměstnavatele a pracovního mí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častěji 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covní oblasti používají k výběru vhodných zaměstnanců, při rozvoji zaměstnanců – pomůžou jim ukázat jejich silné a slabé stránky a také k nasměrování jedince na jakou práci se hodí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zpravidla zadává personalista nebo pracovní psycholog, některé firmy používají psychotesty on-line, které jsou dostupné na internet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sychotest týmových rolí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8007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ý člen týmu má jistou pozic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r. Meredith Belbin popsal devět týmových rolí. Tým nemusí mít právě devět členů. Jeden člověk může mít dvě i více rolí (zpravidla máme role dvě, jednu dominantní a jednu více skrytou). Každá role je v konkrétním týmu zastoupena různou měrou. Záleží také na tom, co právě tým dělá. Společenství je schopné pracovat, i když nějaké role chybí. Efektivita takového týmu je však nižší. Belbin popisuje následující skupinové rol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otah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Belbin zdůrazňuje, že naše role nejsou neměnné. Pokud změníme kolektiv lidí, můžeme změnit i svojí roli/svoje role. Autor sestavil také vlastní test, kde se může každý otestovat a zjistit, kam v týmu patř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48:23Z</dcterms:created>
  <dc:creator>Administrator</dc:creator>
  <dc:description/>
  <dc:language>en-US</dc:language>
  <cp:lastModifiedBy>Igor</cp:lastModifiedBy>
  <dcterms:modified xsi:type="dcterms:W3CDTF">2014-09-13T15:26:16Z</dcterms:modified>
  <cp:revision>5</cp:revision>
  <dc:subject/>
  <dc:title>Snímek 1</dc:title>
</cp:coreProperties>
</file>