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9E1A-E776-4945-AD19-4CFC7E620CE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4CE5-0B88-4C37-81D2-9E31A7D62EC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E0CB-EA79-44EB-B047-FC8A1F9F73C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84B6-3EB4-48C1-9A03-947A21AA5C9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95DB-C5C7-454B-8FBD-87262FF259A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6B2B-45BC-495D-A15F-D445B36BFDE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2C4A-AE6E-423D-8FBA-8ADB7F874F6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7088-E0D4-4CC3-9111-7AA9D71E77A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081D-E604-4450-973C-22541009C44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452-6BED-4FA0-B306-5FB83364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A0B-F593-45D9-9349-007EF97A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F6748-FFF7-44D3-809A-999AF56C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0B79E-28C9-4548-B651-1D6F6592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B2488-6DD7-46C3-85C7-1EA71BD1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36E13-446B-4E12-BEB8-9AD879EA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8EC9A-4811-4484-A118-FB04542D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EFE9B-3146-495B-9850-0319BB27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4A587-0D73-4A23-8314-53EB4639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E5995-F6B9-4DAB-8390-81B26F84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B0B6C-4375-4D80-B82F-83AF9651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21B47-B103-44CF-8151-B8D2060C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EB8-853C-4719-854A-078C4A69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9F7C4-43D8-49A5-89E6-41EFECD6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22931-868D-44A3-9C76-AE21A833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9B68B-8DDF-4542-8457-66196D80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272A5-0F03-4B96-8DFF-9E4E303F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62F07-5A57-4F7C-B37F-145D25BF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70E92-99F1-4E28-8703-5FDC1D44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8476C-B7D2-44A0-928E-46CA492F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662B9-7CA6-45E3-8C4F-C29A28E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E792C-5A85-45C2-A638-21FFC21B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23FBC-8EE3-48D9-9320-948DD936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016-6CBB-4A8B-BD1C-B822B92F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57B93-8BF7-4E0A-B989-7F7FE300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B5AE6-A9F6-4639-A098-ACA992B7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E9AD1-0016-4BD9-A64E-AA58E57E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CDC75-DDD4-47DD-B499-D9EF338C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787EF-FDF2-4758-903D-49BA100A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EDABF-9A73-4CFC-B6A9-9C7EFEAA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774A7-25FE-45DF-98EC-A46D2224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2B0CE-4770-48F7-BFC2-09F1936A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69422-FE80-4E46-84DC-F4A07786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312FD-DD52-499A-B269-9C38A63F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3699-9C1F-479C-8A36-5AA69479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78C1B-91E3-4F72-90E7-19D032F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CA6C5-79C4-47CD-BF9E-D30A20CB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DD872-8B6B-409C-8082-AE058989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3DA16-6010-47FB-AF0B-35D58BD7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9456D-A972-4D23-811D-B3DF7367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DFAEC-A3A3-42B9-A75E-3C560AF8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1D2E1-2A2C-4E04-BCC7-4F36B1D3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1D2A4-4A33-447D-8243-AF8D7CD4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6DF82-4752-4733-955E-42B8A799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00294-996C-4469-B3C9-F4B40680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5AE0-9789-4C13-9467-B8857009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8BFBA-6FC0-40C4-B143-7888F569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4B461-D6D7-4A1B-817B-1E656ADB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26848-32ED-4128-B394-F0E63969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376BE-0FC7-4989-93C2-716E69B8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5F4D3-57E8-4E57-923D-2B1DDA03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AF3B4-6228-4CB1-ABD5-5E76FFB7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6E2AA-3093-4736-8E22-B9751AE0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A4541-9F3D-42CC-8B05-74501D8C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62318-BA65-4B0D-AB47-336194E6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94472-AB8C-4141-A9D8-31C6B43C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BA67-2A87-489F-9B51-58470306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39EAE-6699-4324-92B7-6D88166A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21156-A357-4C9D-8E1A-EE7985F2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BF660-EB84-4783-87CE-91EDAB58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E30B5-A548-4F18-9709-00235BB6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87D84-47BA-40FC-8570-3B23CE75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5FB96-4098-4D3E-9958-9B91759A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EE8E2-253D-4BB9-9F2E-EEB6734E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C8BC6-DCFE-4411-8EC7-098DBAA7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E204C-F2D9-4B8F-B465-14A7D625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50C74-9A35-47CD-BBC7-C78330FC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5CAB-9644-41B0-9F6A-26BE6981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48AD7-DE73-4526-96CB-B3717C33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9BFF6-4456-44B9-B69E-AE3AAC6B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7E969-92A6-452B-8227-94FA7456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82745-1382-4421-9CCC-F967507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7D05A-FFBE-4A41-8983-85C5CC6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3CD66-26D3-4589-99FA-0A2F1E18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A0167-5DE9-46E3-B5D4-51DE9E2E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54ED7-5286-42B9-9A6E-A12C6DBF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FD2A6-DD63-4124-B30C-6C6231A6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A0E86-9551-4C0D-B727-AF24DB97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8209-26BB-4A03-ACE2-7FE4B517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9D398-CDBB-4968-8DCA-4459B0E0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8660F-2F93-45B3-BF87-7CD2BE08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17788-3F9D-45B2-8A17-A43234CA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1FBF2-916D-498F-AAEC-2437A92B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8EA50-9507-4CEE-902B-7A3D25C4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A123E-E9DA-4BC8-AB56-43BEDD47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A2B51-5924-48CA-B392-74CB7A72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5E219D-6404-4CD6-9662-C61E125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6BAD3-01F7-4896-9524-EBEA13B3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0FAEA-F924-43D1-8374-37A01B9F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5D65-4CAA-4EA1-9537-24D5B7F7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95E6E-5B03-42CB-9E35-744A7EAF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F0378-330F-44AB-AC27-C701EF69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E3C864-F687-4A0D-8D2A-E1063CD8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5AED2-0E23-4A65-9CBF-C51F5FBC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A6592-0C99-4A38-8011-85C02983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4AB4E-3E34-479A-82A9-413EC55B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2F2D17-A360-4DF5-A263-680E00A7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29A17-104A-4995-93D1-A9D40910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EF4DC-1F54-4F65-BE80-901317D5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1DBD56-C0B6-4F5F-83A0-6C9E5DA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9CB1-05E4-46BB-863B-D5F3BAEC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2A7065-8555-4E7F-B107-3FA13231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9A2C8-5FDB-4F23-9BBA-6DDC08CC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7D828C-9340-4A3E-A25A-DDE2FF6C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E01-6F4E-4CCE-8F82-B2EEE177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BDB3-572E-43A5-AC42-009B6B29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81C6-E7E3-47CC-BA19-491B671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B978-9898-442D-B471-114AA2E9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4B40-2C1B-451C-B4E4-1FD01CF9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1F38-6FB2-445A-A0D8-BCBF6295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9BEA-19C3-451F-A8A8-50049B26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3111-953A-43F0-9D41-004C0D6C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08F41-41D4-436D-A367-5FEBDC3A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C28EA-CF4E-4547-A252-6E043728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E50E-DDEF-4544-8F1D-39B0DB7E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597-D844-4332-967E-3EC3928E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F547-8976-425E-B49F-D139C569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AF6FF-9F1A-442D-A613-7041CCBD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14A1-E3E5-43D9-981A-2577EECD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A58B-C5A8-4037-9CF9-6AE83687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47F84-A742-4EFD-887E-6EF1CE7E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5F6EC-566F-4EC4-A40B-C9471FD6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3C21-2A3E-4129-8D22-AE2DCEAA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AB2B6-C0E6-4760-AA49-83D0EAFB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62AF-315F-4E39-A1FB-F47CA940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BC011-6F17-421E-92B0-301BAFCF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4B1-1BFB-4048-ABBE-CAD62F62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DEB0-E59C-4527-9BD4-12B7582B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B9E2B-5090-4B69-AE44-5C5CF0E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0F68B-E8D4-4B31-958D-29FFE745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27E33-FAFE-4795-B95C-66F4387A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2EAFB-A477-46FD-9759-B651E32F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423A6-6A77-4BAD-8E62-9826FE85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EE52-BE01-4C2C-A963-E8C8DEDB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F7449-7BA1-4254-89A6-3DE04ECA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0D579-3C9F-44E7-9AA9-DAE1FDF2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B3DC9-DB9F-4F52-B857-69AB8498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8B3-1149-41ED-8655-E65EDAE1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DA835-CA57-4CD2-A00E-38067EB2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077D4-1105-40AE-8832-4B18ACBF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8A585-4E7B-464E-BB45-2D8C9F5F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2B4C-67BC-4892-92DB-AFC99AF5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6F13C-4BC8-4EAD-8D40-2AEFE839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C3363-D7D5-4AAA-9EBA-33A11D57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C717A-C1D7-43F4-8B45-241A046A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5FECB-8959-4B18-AC83-AE9300A5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411BF-9136-4220-9445-7B94B3D0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4C6E0-2783-4200-94AE-09AE18D8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4E6-BCD6-410D-B399-28160E20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DD0D4-0DA3-4C93-823E-23590A35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47971-A41A-445A-95B3-96A1C8B7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64985-56E6-4D8E-B946-010B2ADB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3903D-1892-4FC4-8270-66D92B78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25361-87E4-4DDD-9F22-579A0A88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4F42C-360F-4547-B10A-23B4151D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E67A1-C7DF-4AF7-AADD-897A37E9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9C498-88B0-4781-913C-1C23257E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7775-E640-47AB-A711-8B92CEFE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42937-D3B6-4D90-9951-E328EBF9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18B-2ED4-4A44-9AFE-4D83707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ADB3D-B6BC-47C9-8C27-4B1AFB4D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C75AD-35B2-48C7-A339-0ACFE706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ED5B8-46B2-4AC9-A9DB-C4CF28A8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D3A49-26CB-4210-BC3A-4185896C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4265A-4239-4DBF-A21B-5EA1FCF6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F024F-8172-4E5F-B301-A8339032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BC775-3823-480D-B973-9E025D99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CEB98-EAD4-4EF7-930E-9184F73F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2C8F5-63AC-43B4-9C91-10399F39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2D268-85E9-4DF5-8F10-93A63239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053-A2E2-4DB2-93A4-44EE8247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360F-35DB-4ABC-9273-91C56A35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910CC-5FF4-406D-8998-B01A43A8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2586D-481E-429B-8DAA-FCC55117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625DC-43B9-4C2B-88C8-700C8BD8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60ABC-A471-4ED0-8C97-55E6C51F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31154-0EC9-430B-AC7B-81A8F672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41C29-C1A5-454A-B690-AAC9569A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FE639-8497-4F10-A3F3-3C85A0FD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9051B-A4CC-491F-AD1B-E6C9A06B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98A37-04F2-4936-9E54-60625E70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8CE-C492-469F-8272-B978DDEB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FD986-73E8-4DF4-AAB1-E4330DD0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05AFD-BEE4-416D-A3A3-117C9353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07D01-48BC-4FD7-AFDB-8E6439A3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900A1-2D85-4A77-A39C-6696D3F7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5A128-8061-45C3-B78F-EF14E29E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0A0DB-7DD4-41CF-8395-C0905A26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95B4-CD8E-4A29-AD80-2EF3F3CB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323F9-D67E-47B8-86E3-D7FF7FED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207B3-500E-485F-A53D-26B9F303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654D3-EC67-4072-9D0D-A25F6EFD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E833-FA7A-4543-8090-7E515723A0D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97D3-5F20-4D0F-8636-1DE6E8B34E6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98E6-24BB-4B96-A14C-80524DBC85B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23D7-0D7E-40EA-848F-64CCB3E9A75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7D66-474D-4ED2-913B-E7925CCD666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862F-30DD-43E6-A0DE-3ED80976241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C9C3-EE81-4772-BB44-6DF08A92885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B795-49D4-4E85-A779-E801F899FE6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6E3-BFCF-4AC7-ACFC-91041BF12AC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1DBD-BE04-4D0C-B93E-5B8CB98C553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C703-0CC0-4A3C-AE1D-F34947A4848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9A19-B252-4594-AC00-3BD35375EC7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3B04-9785-47AC-8D2D-7F364477341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24D1-CCA3-4678-A86F-D25474DE082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F1B4-CB3E-45B5-A060-1E9F439EA5D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4AB8-95FF-4F4D-9A87-E548B905443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What should you use in your presentatio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whitebo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video-recorder or a dvd play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cr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lide proj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overhead proj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extension l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What should you use in your presentatio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lms, pictures, sli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raphs, cha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mples of your produ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talogues, price l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it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f you have any questions, ask 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d now it´s time for your questions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 there anything you would like to ask me…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ease, feel free to ask any question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anking peo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your attentio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coming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your ti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t was my pleasure to have a talk with you here at the presentatio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ezentace společ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ůvody prezentování společnosti nebo firmy, typy prezentací, jednotlivé části a uvádí typické fráze používané při prezentování firm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ezentace společ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 PRESENTATION OF A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y to present a compan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a company or a fi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a new produ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new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offer products, service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to present a compan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hort tal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tour of premi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film, video, dvd or a slidesh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present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450800" y="2362320"/>
            <a:ext cx="7693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2" name="Organization Chart 6"/>
          <p:cNvGrpSpPr/>
          <p:nvPr/>
        </p:nvGrpSpPr>
        <p:grpSpPr>
          <a:xfrm>
            <a:off x="833400" y="2343240"/>
            <a:ext cx="7632360" cy="3670560"/>
            <a:chOff x="833400" y="2343240"/>
            <a:chExt cx="7632360" cy="3670560"/>
          </a:xfrm>
        </p:grpSpPr>
        <p:cxnSp>
          <p:nvCxnSpPr>
            <p:cNvPr id="763" name="_s1028"/>
            <p:cNvCxnSpPr>
              <a:stCxn id="764" idx="0"/>
              <a:endCxn id="765" idx="2"/>
            </p:cNvCxnSpPr>
            <p:nvPr/>
          </p:nvCxnSpPr>
          <p:spPr>
            <a:xfrm flipV="1" rot="16200000">
              <a:off x="5853600" y="2606040"/>
              <a:ext cx="734760" cy="31435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29"/>
            <p:cNvCxnSpPr>
              <a:stCxn id="767" idx="0"/>
              <a:endCxn id="765" idx="2"/>
            </p:cNvCxnSpPr>
            <p:nvPr/>
          </p:nvCxnSpPr>
          <p:spPr>
            <a:xfrm flipV="1" rot="16200000">
              <a:off x="5067720" y="3391920"/>
              <a:ext cx="734760" cy="15721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8" name="_s1030"/>
            <p:cNvCxnSpPr>
              <a:stCxn id="769" idx="0"/>
              <a:endCxn id="765" idx="2"/>
            </p:cNvCxnSpPr>
            <p:nvPr/>
          </p:nvCxnSpPr>
          <p:spPr>
            <a:xfrm flipV="1">
              <a:off x="4649760" y="3810600"/>
              <a:ext cx="216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0" name="_s1031"/>
            <p:cNvCxnSpPr>
              <a:stCxn id="771" idx="0"/>
              <a:endCxn id="765" idx="2"/>
            </p:cNvCxnSpPr>
            <p:nvPr/>
          </p:nvCxnSpPr>
          <p:spPr>
            <a:xfrm flipH="1" flipV="1" rot="5400000">
              <a:off x="3496320" y="3391920"/>
              <a:ext cx="734760" cy="15721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2" name="_s1032"/>
            <p:cNvCxnSpPr>
              <a:stCxn id="773" idx="0"/>
              <a:endCxn id="765" idx="2"/>
            </p:cNvCxnSpPr>
            <p:nvPr/>
          </p:nvCxnSpPr>
          <p:spPr>
            <a:xfrm flipH="1" flipV="1" rot="5400000">
              <a:off x="2710800" y="2606400"/>
              <a:ext cx="734760" cy="31435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5" name="_s1033"/>
            <p:cNvSpPr/>
            <p:nvPr/>
          </p:nvSpPr>
          <p:spPr>
            <a:xfrm>
              <a:off x="3976200" y="234324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PARTS OF TH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PRESENTATIO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_s1034"/>
            <p:cNvSpPr/>
            <p:nvPr/>
          </p:nvSpPr>
          <p:spPr>
            <a:xfrm>
              <a:off x="8334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WELCOM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PEOP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_s1035"/>
            <p:cNvSpPr/>
            <p:nvPr/>
          </p:nvSpPr>
          <p:spPr>
            <a:xfrm>
              <a:off x="24048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TRODUC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YOURSELF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_s1036"/>
            <p:cNvSpPr/>
            <p:nvPr/>
          </p:nvSpPr>
          <p:spPr>
            <a:xfrm>
              <a:off x="39762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PRESENTA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TSELF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7"/>
            <p:cNvSpPr/>
            <p:nvPr/>
          </p:nvSpPr>
          <p:spPr>
            <a:xfrm>
              <a:off x="55476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VIT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QUESTIONS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4" name="_s1038"/>
            <p:cNvSpPr/>
            <p:nvPr/>
          </p:nvSpPr>
          <p:spPr>
            <a:xfrm>
              <a:off x="71190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THANKING PEOP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FOR LISTEN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lcoming peo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morning and welcome to our presentation…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afternoon, I am delighted to see you here at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evening, we are very pleased to be here and present our company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roducing your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o are yo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is your compan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is your position at the compan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y name is Neil Bradbury and I work in General Motors as a sale representative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sentation it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sentation of a company, firm, product or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7:10Z</dcterms:modified>
  <cp:revision>22</cp:revision>
  <dc:subject/>
  <dc:title>BUSINESS ENGLISH</dc:title>
</cp:coreProperties>
</file>