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EB6C-EFD2-4FC2-93C1-48552253F63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6527-384E-4219-AA67-5C240545616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0C41-A916-4825-8550-06FBC5AB5F9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039D-D9C6-4753-9A76-7A25A4A1CC1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2890-4673-43E6-B751-F892E082BAA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A541-3F44-43FC-8DCB-20B66DBBBB7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E8AD-86E4-49F9-9C87-3D931985363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9118-BB39-4B03-8D2C-3F0535EBB68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5A9B-D159-4FEC-B439-133480C90CA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B35-7160-4716-A138-0DBBCA28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E30-EB13-4E85-92A2-63CA993D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949EE-330D-42E9-B594-ED5FB46D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2636E-C373-496D-843F-8F721C39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880A2-FE14-4134-BB47-705F2A7A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A8D28-2E02-4CA1-80F0-63AAEA40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8AA83-C4D6-4D7E-B785-37D4028B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CBD7C-01AC-4973-BCD5-7CC509DB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B4F58-A7A0-4E65-A1BF-66EB451D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C4028-8035-4CA3-9EBB-74A66969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AFBD4-65AA-4AA8-9D04-9A268368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31F33-6214-4509-81AF-5A66486A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7B5-CEC9-4A9B-BB66-F03510CB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8D41A-7BD1-4139-8818-83F49F94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2BD80-C893-4E00-A5CE-09222ED9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5D198-5BA6-4F46-B1D1-598AAFE8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5E6A9-E938-49A2-8199-0AFC9AC7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13368-CE69-48DF-8C84-3FDB6BE5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F3779-91D8-4BAF-9934-7E43CCD1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39796-53D6-4A9D-9C0E-9432C7EF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89847-5289-41F6-AC86-82FD9D85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A3A7F-9578-4344-BEDF-85ED7C1F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1F6B3-8474-4102-991C-55419F87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367-103B-4BA7-8C59-38E0CDB1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242EE-D785-4005-8920-DAA6EFA5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D3AF8-31C1-4897-86AB-65899916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186EE-E158-4CF7-913F-DE86DE9C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7297C-C04A-4432-869B-ADA0DA54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45855-2CD2-474F-A5BD-62291F2E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35BA1-7AE2-4C6C-A0C9-C70B1F4F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4DB1E-C2EE-40E6-BD5C-6CC48688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D1E84-D0E5-47FF-BE2E-0A1544DA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9E51E-F384-4EDA-A2BE-8C33B28C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7D614-73B2-4DE6-9E44-EB76A47B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2D04-9916-4D7C-9610-A2F83DB1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B0788-E3F1-436C-B030-BA13731B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EB892-BE63-489E-BE5B-08482D8A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B2E63-CC3E-49CB-BB68-4659BB4B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C20E3-7739-450F-B1EA-8DEF9029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2F007-0F29-40CF-93FE-748090F4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945E8-93D7-4BD6-80B3-87C71CE7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C4219-835F-4076-A353-8C0402CE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D61E6-AF05-48C8-BEAB-27FACD9F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93DCC-3951-46E6-BF00-8F1333D4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F78FC-B717-43D6-BA4C-C0F6F3A3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0DE1-0F9F-4150-B637-FB3FA8CF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87D65-C391-4737-942C-9581309A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10ABC-7091-4AA5-A078-2E9073CC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FAD59-5670-4606-8EC0-53C03BA6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96F6E-DA76-429E-8A6A-F71587B0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B9C89-0024-41FC-B7E7-B6350526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FBEC7F-399F-44B8-9416-2124EFAE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B24920-CC84-440C-97A1-BDBFB54B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C416F-C9BD-40B8-B245-F7E2C06C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A7C03-BFA6-4106-B9ED-2539F6D4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B6C6D-2FFD-46D2-8B14-DBB312E9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D47C-F994-4047-8672-7CE5A18C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0DFC6-2AEF-4135-A2CF-AED9DD48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CF08E-86C0-49D0-B4B8-FC4402EF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42E90-17DC-4E74-9B39-0C41DCC7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E8675-CE5A-4816-A56B-CE7F1BE0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99BCF-B2BD-4067-A4A0-D05975C7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FACC4-70AB-4777-9E21-1B0FEA65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5AA62-F794-4C18-8681-F67ABB68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C5B9E-0737-4D7E-8CDE-4F963483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B9E178-5088-4C6C-B184-57F17177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C97E1-BACB-40A6-B932-7CFF6915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8519-FBFD-4DA0-B7F5-661C5869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0512F-A8BE-424F-A47F-927D0C73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53BC1-CFFE-4B0C-999E-DEA619E6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55EA7-F1FD-4E0E-8084-FD47EAAC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FD38E-1F7B-4B8D-BB74-E92A7B63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568C7-9653-4905-AFBA-868C37D6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139820-04F9-4676-9DEE-C91C3854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50F25-8A97-45CD-A8C8-1A247F60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0016D0-9AFA-48EC-B171-4D93752F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C96E5-A11D-439B-8E04-3F075A5F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09D84E-2617-4503-9028-7D0A3C0B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3E6F-3530-4DFD-B369-C7D6C1A9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D0222-8568-408B-9E95-9FC123B5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C88A01-40EE-4344-93B9-468CBF47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43982D-9191-40CF-84FB-C6FD58B3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46ABA2-BB8F-440F-8E28-C521DF1A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ABB79A-B386-4A15-A437-4CA22A97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A6DE28-B6C5-4D5B-86D7-9EEDB13C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F187D7-C2AB-4B89-A2C8-3BB3C20E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68330-44E0-4EC4-86C4-D0652243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3C39F-05C2-4B39-B705-18C40771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D4C2D-7401-48C5-8BA6-B2E296E5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75DC-D25B-4BBB-9D0E-8A7FAFC8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047F3-1ECF-4253-9D9F-929C054D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F350E7-AD04-4B84-AE4E-48F3DFB6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E007D-43A4-4DFA-B4E3-F2635FD7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EE34F8-0722-45FC-AFBA-94066370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AB949D-BC15-4D3A-8140-1E8D7FF3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20D81C-BDA3-489B-A066-EBABD0D2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19A372-1C74-4973-956F-24DD160E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8216C-9433-4746-B207-1A70CBCE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8C352C-E1B8-4695-85E7-F03E958D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DB2A8D-42B3-4B12-8BFE-E45E0911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BCD5-3775-49A5-9E46-AF1E7074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CE8E1D-47C6-4DDA-9582-F5BA5E64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FEFDAC-4D7D-4095-9E71-A3737861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52F37C-9624-4661-A275-3D994F10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DAB-5601-46AA-BB2F-46C8F502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76F2-603A-4EE5-A9D7-35DB429E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83E2-589D-4F9C-BA23-4A6A2E81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9DEE-DAEB-4B30-A142-39D9971D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A124-081A-4D5E-9236-F4007977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2D97-9F19-4989-AC98-8A4A6C52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29DF8-842A-4FB9-A3E6-B063653C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93A3E-01A2-4782-849B-AA9CFF7D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62065-DAA4-44FB-A90F-956008B9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02F4A-F2E7-46D1-AE2B-B118E5B4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9884-C8D9-4094-874A-14F719EB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B9A-ACB9-4AED-A92C-3E81C3CC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6B553-A013-4AE8-B06D-D5629778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77638-3609-4402-B443-69504C58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1D252-D3B6-4FF3-ABD3-E34FEA68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9AB44-F387-4E45-A3C3-34C2ED82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59C7E-C324-4969-8F12-83175BAE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9F1CC-FDC5-427B-B0C8-9BE0D9F8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55CF5-0D42-4C3C-8F10-E934A932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0EC52-0536-420F-AF8A-A5B284B2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195FB-4E79-4E92-811D-3B1F63A8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666CD-DD37-4AE6-98DF-B6D48B5D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E3A-0165-440A-9981-CD5496D7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B4B1F-707E-44AE-A3EE-7023252B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18719-004D-4261-AF2E-85AB076D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ECDA6-87D0-470B-B602-04898815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99360-10E9-4F06-BE13-86431DC0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4F96C-A98E-4C54-B622-A342379C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B4624-E7C3-4C24-8204-E328910C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FD7DB-CBA7-488F-B55E-294AD4E7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CF44C-0289-40B4-BCB4-E0562D4E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5DF14-ACFD-42CE-89BA-8433A6B0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00046-40DB-4F09-9026-9AB02F5D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3DD-1C44-4A73-B375-CC61F777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9CC4B-F913-4F26-B475-581D99D8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C1BAA-26A6-4761-9371-B59E6285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AB62B-FE6D-4E78-8576-F04B9D1B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1C011-BE09-4653-858A-3A25C8C0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6735D-529A-413C-8AD6-43098F2D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E2F81-79B5-4B28-90E2-3BD53E5F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9A40E-90D9-4DC0-97CC-181B6FEA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2E82B-6C7D-400D-BDF1-654E9CEE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70208-2B90-46E6-9538-CC174645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CD422-86E4-44CD-A143-5EFABC96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BD1-7725-4BB3-B4E4-BE238B07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47683-4BED-46E6-8037-B5EA7355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11AEE-F7F8-4FBC-8046-C6437671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BAB5C-88D6-4829-8EE3-8C100991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19F19-9C00-4643-807A-61E74243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8A495-89BC-479B-9F68-F31C5694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96E40-107A-48EC-B350-33E81B33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FE46A-7420-4349-84F8-EE7BE48F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FCBB5-9DA3-413E-9988-44F6F37C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16E68-1F4D-4234-893D-51B59B5D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71BAA-077D-40B1-9530-12068A43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5093-44B0-45D2-949F-7869B28C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4AD8F-3AD2-430B-9EF6-40EE66D2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2DD18-6A4F-4EF1-B113-A97E20B3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6793A-6EAA-4517-9EF2-CDB1F784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CC7D1-35F4-4536-BA07-467AA739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3A4A3-3BDD-4A6D-A544-827D902D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5DFED-F179-45D3-945B-D665843E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FCFA8-984F-4C85-A07E-FF583D17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935FE-09E6-4200-87D0-5A500F39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980D5-8C67-484D-AEBB-E3F696D7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A2BE2-2415-4A58-AACB-661C67E8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EE0-8CBD-4951-9CF4-C68D9BE9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D0922-F75E-4AD7-80C6-208A3BB7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E6026-601A-40DA-8BB1-EFB4C336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612A8-2A75-4F76-BAFA-85A9C9F8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3EDC5-988E-4971-B4F0-5AD34182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6531E-2211-4782-B823-00B0497F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6C11A-987D-4690-9BF0-3627D419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69F82-DC3E-46A0-A234-CBC729D2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8B1AB-9BA6-4F79-9B84-B5C7F307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D8090-075F-4C87-83B7-4206D6D7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D10B3-5FAF-407D-B629-758A5F29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676-BD58-4143-B7E1-B5CBE0BF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D33EA-097B-4E4D-AC9C-398F46D8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3AADE-6A10-4003-83BD-8A9E9631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F6A6F-5986-4AF0-96A7-B666731D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5B7BA-5729-4008-AF4E-24ABC71C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78F28-3B5C-42C8-A480-E82C2138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62A11-98B3-418D-B2C2-0EB3A36A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D63A0-DE1E-47C7-B7E1-B3386FD0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25A2A-0C03-447B-A7FC-9EF791CB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9CE5F-4871-46C9-860B-090E6B06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62239-9930-4DB9-985E-FFC0D4AC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2628-3FA9-40FE-980B-F9BDCCD07D7E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42D2-7EBC-4680-B75A-4BEA69FCED6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6E4B-5F56-433C-B06D-A0CFECC41EA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6933-54A1-4BB0-B934-230979718BB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6FE3-D947-4D3E-8A07-5B78DBC9731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4931-DDAE-420A-B48D-95C517DB049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A7BE-9084-4C69-9D7B-D6F64B95701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3A38-4A47-4A5E-9439-26E3197D023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C261-4BB3-4110-AF6E-F77D4762C10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8BD0-49C8-4A35-B41C-DB7DEAC3B64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ACE4-833F-4701-A03F-828523EABB67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7B57-F421-469D-AE0C-DA0C8E04563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3960-9096-4491-A173-6F7D38AAB24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33AA-C08A-4B1C-AE25-C9B4E55A610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FEDD-C1C8-46A3-870E-7213BF4774F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FD71-8229-43C8-8C34-30506F179EC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55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pected areas of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 as a personal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present job and posi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Reasons for leaving your present job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previous job experie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strengths and weaknes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pected areas of questi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skills, talents, abilities to off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expect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future pla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will to learn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pected areas of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amwork x individual wor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willingness to tra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bstacles (long working hours, weekend work etc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might you be interested i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salary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(compared to the present on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company c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tra benefi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lephone bills pai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heap housing loa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might you be interested i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onuses paid in a „thirteenth month“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pension schem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ree canteen mea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Long holiday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lexible working hou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ome good adv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n´t be late for the interview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n´t lie at the interview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ear appropriate clothes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peak slowly, politely, don´t use colloquial expressions and vulgarism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Be yourself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21. INTERVIEW FOR A JO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HE END OF 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acovní pohovo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typy pracovních pohovorů, očekávané oblasti otázek a podává rady, jak se připravit na pracovní pohovor při žádosti o míst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Job interview, applying for a jo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55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NTERVIEW FOR A JO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pplying for a jo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nding a cover le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urriculum vitae (résumé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view for a job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job interview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ne-to-one interview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nel interview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ep-end interview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eparation for an int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arching for information about your potential employ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view prepa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pplicant job interview present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earching for some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Newspapers, magazi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rochur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rom people who work (worked) th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view prepa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appear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loth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Questions prepared in adv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etting ready for unexpected ques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pplicant´s 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ehaviou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peec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mag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incerity, veracity, forcibil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0:27Z</dcterms:modified>
  <cp:revision>20</cp:revision>
  <dc:subject/>
  <dc:title>BUSINESS ENGLISH</dc:title>
</cp:coreProperties>
</file>