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notesMasterIdLst>
    <p:notesMasterId r:id="rId22"/>
  </p:notes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notesMaster" Target="notesMasters/notesMaster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dt" idx="6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 type="ftr" idx="6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6"/>
          <p:cNvSpPr>
            <a:spLocks noGrp="1"/>
          </p:cNvSpPr>
          <p:nvPr>
            <p:ph type="sldNum" idx="6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DBF23-CC35-4C8D-90FB-36A8D49FFC9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26BD5-0C36-4AD2-8577-2A4F2949AA6D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580FD-7606-43E8-8B61-A120986DA49F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DD67F-FB58-4C71-A7BB-5D38B168AD91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9EC29-3073-4168-A241-16904BB0A078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C9E54-48D1-4B30-B9B3-FB1F06CDA54E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EFF4C-8454-460E-AC5B-C700F95BA1CD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AAB7D-22BA-4A47-9072-41583FB95017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F77EC-9F97-4367-A50E-D031741258A0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181E-7228-4EE2-8533-3B7ABAF31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060C-3413-41EF-8E11-0CB3D4906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18FAA2-98CE-4CFA-884D-5F2E6FA07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34B67E-D639-4E8E-8BB5-A84E0E814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A9B55A-6F8D-4038-AF67-EA9F65097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D34CAB-169D-4BA9-B8D2-7DFDCF42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34BFAE-B95A-4224-80EF-0B6C9BEB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0B23BF-D58B-475F-A8C9-01BB78AFF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76C806-0196-492F-8CE6-F07F7DF23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973D58-C3E1-4C7C-A95D-453C0EDB2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ABEA07-5376-42F2-9C80-D73BEA585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03DC00-6378-43DC-AD5B-788319E14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5508-258D-4A88-8EB8-FC1F9C25E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F9B6AB-02FF-40DC-91B8-0D5CD48E3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0B8A9A-3BEB-4890-841D-EFC300ABF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67D303-CD69-440C-B76A-C8BE19F90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C4BE62-0E83-4787-A11B-D80178501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2571B4-E9C8-45DF-B25B-423F331CE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13AACE-D2E8-4D3B-A87F-E6DC522D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B83430-B274-4886-B3EF-E0F2B87E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0A585E-6681-4D99-9F65-EAC0A005B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F9D36D-C57A-4DC2-AE57-0D2FB1847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B8851C-E695-464D-8906-929D2CEE5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802C-C108-49BC-89B9-16EAED07A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54333A-67B1-4370-ABF0-8B9B55002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1C595C-6518-49D5-BAA7-5CA2789FE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15B246-4E8F-4109-8083-93C7B0F9F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A69E4E-6532-469C-B4A2-19589997D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A45912-3621-4BF9-97CD-F69755E1D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83C150-DB34-4420-B914-036311BFB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FF9119-BF32-4ADC-9758-D3921448F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E5F86E-BF09-46FE-A57E-CDB10DD88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931E04-AC73-467E-8B01-ED1814DF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320642-9889-49A6-AAD0-EA0F14E9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E136E-0D3B-42C7-9B72-5E9911A6E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B947B8-12B5-4223-813E-F6D37ACDB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FDC697-648A-456E-B374-A9ECEC9A2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25964C-F648-4386-A3EA-EFE3B6861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E622B8-913F-4D95-A44E-8D6E3220E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11A407-A06B-4591-88F7-B71BE675F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75AAB1-513F-47F6-9F66-6FC48395E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772C8B-2129-4DA3-871B-2EB7451F9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060C35-0E72-404E-9B4A-CC0041E48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1F9050-AF15-4AC7-861D-C98F4ED03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A4E1FE-08CF-42AA-8AF0-D3C3BFA62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DB761-393A-428F-B76D-5D399D7BA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2D3C63-7BAB-4817-B965-3E7CAD04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690650-D1EE-4465-B0F1-D2B5FE3DF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0981F4-37AE-4AC8-A48E-438C543AC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A11403-9318-4527-ADF8-0DA6905B6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21BECF-E229-4A19-A7ED-C63238EA9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24067C-6840-4F1A-9E3B-C2E8D9AFA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B3836E-E85D-4D84-9DD8-F7960DCB6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C1D291-A34A-48E1-9A38-F3057FFE5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E4787F-E86C-4016-9BD6-3394F35A8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75CF06-146E-4371-9326-8F178D2B9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43E6F-9C28-4302-AF57-6A2150411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8F1AF6-FA39-41D1-9E4D-BD1586121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43988B-BC4F-4FCB-8F9C-1B4039C21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3F7C84-45FA-479E-BE95-DBF4F569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DB3854-4203-47FB-8C01-2A948E38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22FF0F-A27A-46AE-B4CA-8EA924C53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9D3CD9-9E7D-4915-A076-DAFE43991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86E15D-0F83-4987-B1AC-F6B26EC9F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BE2EC2-4847-456B-887A-A677B13D0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DE912F-A31E-4685-B08D-7396FB384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15CD6A-5A1A-4C99-8384-46C3571A1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95D55-9E91-49BD-8A28-A0570CD2B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DE12C2-AB40-45C6-9B51-87E0F8107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ED6EFE-C353-41D2-A55B-44BC319BF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565B0B-A833-4AB1-9D33-642CC0A76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9BCE4D-E10E-4F0F-B27C-85E47E78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336AFC-FBC5-4F9C-9FDC-0249CA54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C965BF-7E57-4C0F-AF17-13D8BC5D4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CE09D2-EC49-44C3-AAE5-B11E5EB3A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0CF238-FF78-4244-A34C-C71FFAA55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75B841-234E-40E2-A9B9-D404990FA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2DC7DA-4732-4425-839D-BD618677E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433BE-A039-4B50-B47D-3CAE7A6A2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DFD873-66B0-4685-BDDD-F4A4EA1C5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986452-29EA-4749-95E9-C7AABCCA1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8449A0-0E34-449D-A7A3-DB8A58812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644802-C945-4D12-B385-0E61AD828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9736CC-6A57-4172-8C20-59546D7D6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6D6C0A-E599-48AA-8A36-1E890FDC7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42B69B-72E1-40AA-B62F-653E8CD9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6C9243-C381-466D-AA8F-B40D23877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307EA6-9201-4A82-9176-A17F6FC4D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400893-9D90-4F88-B43D-BFBE94F58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330CA-C4B0-47D8-9C7D-FD2A048D1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197192-18D7-4ED0-B9AF-88AE692FB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1B3AD5-DAF0-454D-B4C4-51A653F26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BF642D-4372-4E0F-8FAD-38480A974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3D290C-8D3E-49B1-ACA6-815C921CF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BA6F73-225C-4C44-B0CA-223A196A0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2E8E49-5993-41AC-B436-AB701C872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61789A-E993-46FF-80FB-F04DA74D6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E3BC67-369B-492D-9930-9E5B8EB5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E5DBF8-1D5F-4AF3-AECE-BA04D479D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50F960-A9D9-4C93-8666-949724828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CB108-878B-412F-B9BA-3015236D6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4444EE-48BE-436A-8DDB-10FD9FBD8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A7AB8B-C3E1-4B77-AFD7-6527E4BFA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A0BB0B-5A9E-4C8D-943B-E960D3113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CA9B3D-8EE3-487A-AFD6-D3A3AFB8B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FAE55C-1DA1-49EF-B21D-C40879042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4AEDBE-32BC-4DE5-8F73-9CBC935D4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EAF20E-B2B5-42C4-A364-83AD48C05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55CBCD-A2FA-4BC3-A35B-EF7A20AEB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72E97E-BB25-4994-BFB5-2C3C70E48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AB45A1-1391-4F13-BBF3-63F76BFB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9484-4493-4DBF-BF4B-89BFF5033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E7818-CB55-4988-9238-067E39EFB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628E95-E4C2-4D09-B85E-C3FB0DAA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39020A-20F2-43DC-AFE1-93261AE00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2883F4-0942-4E53-A28A-ACE1A2930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8D8BCD-4480-47E0-9655-7336EFA5B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D18EC3-C557-4099-A986-83D189211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35A65D-D405-4F6E-9362-1F1351E3A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154A96-679A-478D-A4E7-AB8B0F9A2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85EA23-61DF-42DE-8E95-7069244ED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0CFA28-34A6-4696-AA72-D520C2F61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57356D-85B3-4087-AB00-2E351664B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29DB0-2F32-4D3A-A838-7D4EACB3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270810-E67C-4220-AF0C-4A478CB38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8C0C16-FB6E-49F5-8EC2-84FF9E5CE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3BEA4E-9B59-450C-A512-99C5CED12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A7F412-9C5F-4213-805D-F8C0BE36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50ECC2-77CE-480F-B9F2-A7B349D30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71243C-E207-4BE7-B1E8-866E0CD13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B2DC93-DC0C-414E-BA2E-9DF0DC1AE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05F05D-4A33-4180-9A4B-AD8D242ED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E891D9-A80F-42A5-B67B-66A133633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A15689-B96B-4BCE-8E73-B36D2ADA2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30DF9-DE79-467B-9C97-66000391F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F99565-A072-4005-B4F3-61B515DBC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B84AE2-F345-456D-971F-6B9EA90B4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47979C-E65D-4462-8097-AB527304E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BC41C6-0F11-497E-B002-E74038D5E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7BF72F-F684-407D-AA63-350941F5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3BE782-7E18-4570-9A80-1B8880B74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E3B94C-9E53-4464-A61D-416DA1C3F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ED38B7-9181-4093-846C-045A19831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0E4D3A-1C56-45F8-A4F9-E10B7B2EB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145B37-7A95-4CCC-ABF4-AD0BE8FDC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31832-D41E-411B-92BC-C744AC129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226E35-CC77-4DA7-9B59-D67B3BD4F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EEAE1A-E0D3-46D5-B552-F8D335E96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6B1E7A-1768-4F7C-AF54-9F83E6DD8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7CCA31-255B-4A7A-B47E-A5C2A7F9A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628AF0-DDC0-4E42-BA3B-467BD70CF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F2E28F-C1C1-48E1-88CF-F6DF73AC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FD4541-8D4D-4485-B5F2-48DA7B32A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094F34-3C39-4051-B677-9A3CC7933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7844F5-7733-4B16-8B5E-7E05F4061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EF5247-3BE2-4B7E-8451-55E3621B9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E81DE-AC7E-4229-914D-ABB289204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BC230A-EB73-4FD1-8F63-28921555A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F82CD-D763-435E-8469-C8F4C3A47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E3306-80D7-4BBA-B5FD-E9FC74FF1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B88B6-0C01-4BF0-A3A3-46EDEC0C8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A63CE-E8A1-4E77-AE99-71FAF77EB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A59EB-61EB-4046-9936-650A30396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6314-5D9C-43AD-B7CE-F4314DBCC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307F2-A89C-4A65-BBC5-5454B9726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BD370-AFB0-4F21-B823-1D6C4BA6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551B1-DC77-4ECE-8221-21501C03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313D4-BAC9-4BF8-A06F-70D0492AF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9A71F-82B1-4786-8B7C-DBE380726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C01B6-D4FE-4185-BCBA-43354450C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B4E69-3280-448F-838A-9B67BB5CE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33ED5-BAC8-427C-BE39-C809B29B6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6D1FC-7869-47BE-9937-2A2DBCA1B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23D1A-0A81-4E79-B869-CB3F860AC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AA62-2851-448D-BA5D-CC1886D19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37818-66F3-4140-95DA-D7C484F45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98832-4C68-4D4A-B427-4BFAA6D31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7B123-3450-421D-A680-80A7D00CA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F3EBC-27ED-4BB1-AEE1-0F481EEC3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2A7F9-0BF5-46AC-9A73-C2DCD8462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F975E-8E7E-4F2F-828A-E3A878EC1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11CA4-8A45-4A04-A3F9-614BB5CE4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1504E-A1D8-4059-B31F-084579654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92AF4-EB72-4EF6-8F5C-3F9CF1E1B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A43313-0862-4D66-BC0F-FB5A9195A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BB3A-8FE7-416D-865F-292BD9C06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495ECF-3A01-445A-B0BF-6025D9BD0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0C2A7-2E89-4D56-843B-7DDEF4CBB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906E71-35D3-47DC-A796-2389A96E0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9EE582-99B4-4D30-959A-7E83DD1C6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BAE5FC-924A-49F5-9355-FA4D951E5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2A0425-4D2C-488F-BA79-F603B99CD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BB383-1F11-422F-A065-E087854D6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749D4-922D-4783-A974-7C878741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19284-4F12-4841-A18D-AA87E3DC5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A79DE-FB1B-4E4D-B644-539D3B943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4393-91DD-48D6-BB4C-06752410A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0E3E6-A87E-4CE5-8ED7-58D16696C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F73820-C43A-4AA6-A435-AB36FE5E5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C3592A-A1F4-4D04-AA53-38EB02B6D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CD2F1E-7D22-4379-AAFD-3C6F4B77C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AB4112-40F1-4A81-8EB9-04FE85EF0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788C90-A4AB-44C9-979C-CEC68C1B4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3531DC-8093-4C26-A5BD-F234FC2ED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D290CB-4F89-4E91-8881-D17B041FE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866CF5-9C25-49F6-ADE7-66A825A51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CCB271-8C36-4D9F-96BE-0F43AE095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BBC5-02C3-4F2E-A244-3EA67C43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84B86C-3928-45FD-BB8B-D782DD4D3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9A9649-2527-422A-95E7-09DEDFC2F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EA0057-059F-4CAD-B9B7-4C458A552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9AB359-10B2-4661-89C5-429AA3F6B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08FE12-F8DC-493B-BD5B-4004A49A0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6B7D13-01AE-4A2A-9EE4-46A587AE9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DA7892-3019-4B4F-9BFE-712B2FA3A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55BF15-64A0-4EEC-AFB8-A8D6ACA50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E33AF2-1EF0-4236-9957-DBE54BE03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CC166C-CE51-474D-939B-976D27034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C4A0-BE02-45E9-B4FC-34981DC70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D1D1C3-6C8A-4578-A7A8-8F9EA484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DDAD0E-8DBE-43DD-897C-45D82420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BE75ED-E09E-49D2-91CE-70DF8EFE4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718536-E191-4E91-A781-CFFA64DBE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5C853E-405A-4C00-BDDB-ABE0486F4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5D611F-B88B-4CDA-93E3-EB097FE10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BAF4C8-FC49-4535-891E-BB66DC02C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9C784D-2CB4-471B-B07B-A16535F6D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E421C2-E149-466D-8CC5-55F0D91BA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343CD9-DE06-4958-BAA3-91F251853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536D-466E-4257-BEF2-23512FB9B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AE8F19-2270-41F4-BEB2-98B45EDB3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2B9607-DD8D-48C4-9D49-474FD72C5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8EA796-DED1-4524-963F-A028E7906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B9F111-EB93-4ED1-A9A0-093DBC24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241437-228D-490D-AAE2-5AAAE82D0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F2C103-EAD2-480E-A460-1C8BC340B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451BD9-FDFA-4BAA-92A6-55DDA2816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232FE5-D912-4482-B1DD-70C561873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E5C8FD-40EB-4500-8115-634A9085E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00F1CE-188E-4B84-891E-BAC639DAD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84C89-BC5C-478D-8575-B28A0094DF63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Přímá spojnice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419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2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CABFF-18A3-4171-836D-26A4D37854FF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2F95F-586F-4618-B320-240511CB74B0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2042B-E2F9-48DE-9899-C373161A6849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4" name="Přímá spojnice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45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3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ftr" idx="3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sldNum" idx="3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C1DFB-4293-4BF0-9B9A-6E254C1CD76A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589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91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592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94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595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9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 type="dt" idx="4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 type="ftr" idx="41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 type="sldNum" idx="42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80BF1-F779-4AF7-989B-2DC8CFFFA644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8" name="Přímá spojnice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639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0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4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 type="dt" idx="4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 type="ftr" idx="4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 type="sldNum" idx="4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393C5-66BA-4AEC-9530-FB03F2D1D6B2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2" name="Přímá spojnice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683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4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8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 type="dt" idx="4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 type="ftr" idx="4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 type="sldNum" idx="48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42849-0418-4113-8C7B-8634F1120F06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 type="dt" idx="4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 type="ftr" idx="5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 type="sldNum" idx="5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04DF4-720E-441C-90C9-C0218EEA49E9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7" name="Přímá spojnice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768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9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77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 type="dt" idx="5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 type="ftr" idx="5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 type="sldNum" idx="5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4914B-37DC-4866-9D7E-D8DB08708C3D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 type="dt" idx="5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 type="ftr" idx="5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 type="sldNum" idx="5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92135-3A28-4E57-A7E4-46A8DE8BDAE8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9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6C04A-7C1B-4B04-A748-BD63C5D7CE9B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56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57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9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60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 type="dt" idx="5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 type="ftr" idx="5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 type="sldNum" idx="6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76946-5E0D-46FB-AEB5-4A09F137CAD1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9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E4A37-9D51-40C8-8959-BFC793152C5E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106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7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9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10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C60B7-DF5B-4A05-980B-B0B65B130116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Přímá spojnice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196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CC3CE-22D5-42CE-8CD8-B17CF8146764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40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42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43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45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46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4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17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18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12843-52EA-479E-97C4-C3D52D429F4D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Přímá spojnice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290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4061E-3600-447B-872F-209E543842C0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Přímá spojnice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334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E39EC-5D49-4D1F-9A5C-3F247ABF7AAE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AD9A5-620B-4676-B3D1-E2DD17EF211F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9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0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02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3.A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/ třetí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.2.201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03" name="Obrázek 1" descr=""/>
          <p:cNvPicPr/>
          <p:nvPr/>
        </p:nvPicPr>
        <p:blipFill>
          <a:blip r:embed="rId1"/>
          <a:stretch/>
        </p:blipFill>
        <p:spPr>
          <a:xfrm>
            <a:off x="2195640" y="260280"/>
            <a:ext cx="532116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heques usually contai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word „cheque“ in the language in which the cheque was issu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ccount numb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lace where the cheque will be pai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ypes of chequ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32" name="Organization Chart 3"/>
          <p:cNvGrpSpPr/>
          <p:nvPr/>
        </p:nvGrpSpPr>
        <p:grpSpPr>
          <a:xfrm>
            <a:off x="838080" y="2362320"/>
            <a:ext cx="7692480" cy="3723120"/>
            <a:chOff x="838080" y="2362320"/>
            <a:chExt cx="7692480" cy="3723120"/>
          </a:xfrm>
        </p:grpSpPr>
        <p:cxnSp>
          <p:nvCxnSpPr>
            <p:cNvPr id="933" name="_s2052"/>
            <p:cNvCxnSpPr>
              <a:stCxn id="934" idx="0"/>
              <a:endCxn id="935" idx="2"/>
            </p:cNvCxnSpPr>
            <p:nvPr/>
          </p:nvCxnSpPr>
          <p:spPr>
            <a:xfrm flipV="1" rot="16200000">
              <a:off x="5657760" y="2877120"/>
              <a:ext cx="745200" cy="2692800"/>
            </a:xfrm>
            <a:prstGeom prst="bentConnector3">
              <a:avLst>
                <a:gd name="adj1" fmla="val 15514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936" name="_s2053"/>
            <p:cNvCxnSpPr>
              <a:stCxn id="937" idx="0"/>
              <a:endCxn id="935" idx="2"/>
            </p:cNvCxnSpPr>
            <p:nvPr/>
          </p:nvCxnSpPr>
          <p:spPr>
            <a:xfrm flipV="1">
              <a:off x="4684320" y="3851280"/>
              <a:ext cx="3600" cy="745200"/>
            </a:xfrm>
            <a:prstGeom prst="bentConnector2">
              <a:avLst/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938" name="_s2054"/>
            <p:cNvCxnSpPr>
              <a:stCxn id="939" idx="0"/>
              <a:endCxn id="935" idx="2"/>
            </p:cNvCxnSpPr>
            <p:nvPr/>
          </p:nvCxnSpPr>
          <p:spPr>
            <a:xfrm flipH="1" flipV="1" rot="5400000">
              <a:off x="2964960" y="2877480"/>
              <a:ext cx="745200" cy="2692800"/>
            </a:xfrm>
            <a:prstGeom prst="bentConnector3">
              <a:avLst>
                <a:gd name="adj1" fmla="val 15514"/>
              </a:avLst>
            </a:prstGeom>
            <a:ln w="28440">
              <a:solidFill>
                <a:srgbClr val="003366"/>
              </a:solidFill>
              <a:miter/>
            </a:ln>
          </p:spPr>
        </p:cxnSp>
        <p:sp>
          <p:nvSpPr>
            <p:cNvPr id="935" name="_s2055"/>
            <p:cNvSpPr/>
            <p:nvPr/>
          </p:nvSpPr>
          <p:spPr>
            <a:xfrm>
              <a:off x="3530520" y="2362320"/>
              <a:ext cx="2307600" cy="14893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300" spc="-1" strike="noStrike">
                  <a:solidFill>
                    <a:srgbClr val="003366"/>
                  </a:solidFill>
                  <a:latin typeface="Arial"/>
                </a:rPr>
                <a:t>Cheques</a:t>
              </a:r>
              <a:endParaRPr b="0" lang="en-US" sz="3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9" name="_s2056"/>
            <p:cNvSpPr/>
            <p:nvPr/>
          </p:nvSpPr>
          <p:spPr>
            <a:xfrm>
              <a:off x="838080" y="4596120"/>
              <a:ext cx="2307600" cy="14893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300" spc="-1" strike="noStrike">
                  <a:solidFill>
                    <a:srgbClr val="003366"/>
                  </a:solidFill>
                  <a:latin typeface="Arial"/>
                </a:rPr>
                <a:t>Bank </a:t>
              </a:r>
              <a:endParaRPr b="0" lang="en-US" sz="33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300" spc="-1" strike="noStrike">
                  <a:solidFill>
                    <a:srgbClr val="003366"/>
                  </a:solidFill>
                  <a:latin typeface="Arial"/>
                </a:rPr>
                <a:t>cheques</a:t>
              </a:r>
              <a:endParaRPr b="0" lang="en-US" sz="3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7" name="_s2057"/>
            <p:cNvSpPr/>
            <p:nvPr/>
          </p:nvSpPr>
          <p:spPr>
            <a:xfrm>
              <a:off x="3530520" y="4596120"/>
              <a:ext cx="2307600" cy="14893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300" spc="-1" strike="noStrike">
                  <a:solidFill>
                    <a:srgbClr val="003366"/>
                  </a:solidFill>
                  <a:latin typeface="Arial"/>
                </a:rPr>
                <a:t>Private</a:t>
              </a:r>
              <a:endParaRPr b="0" lang="en-US" sz="33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300" spc="-1" strike="noStrike">
                  <a:solidFill>
                    <a:srgbClr val="003366"/>
                  </a:solidFill>
                  <a:latin typeface="Arial"/>
                </a:rPr>
                <a:t>cheques</a:t>
              </a:r>
              <a:endParaRPr b="0" lang="en-US" sz="3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4" name="_s2058"/>
            <p:cNvSpPr/>
            <p:nvPr/>
          </p:nvSpPr>
          <p:spPr>
            <a:xfrm>
              <a:off x="6222960" y="4596120"/>
              <a:ext cx="2307600" cy="14893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300" spc="-1" strike="noStrike">
                  <a:solidFill>
                    <a:srgbClr val="003366"/>
                  </a:solidFill>
                  <a:latin typeface="Arial"/>
                </a:rPr>
                <a:t>Traveller´s</a:t>
              </a:r>
              <a:endParaRPr b="0" lang="en-US" sz="33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300" spc="-1" strike="noStrike">
                  <a:solidFill>
                    <a:srgbClr val="003366"/>
                  </a:solidFill>
                  <a:latin typeface="Arial"/>
                </a:rPr>
                <a:t>cheques</a:t>
              </a:r>
              <a:endParaRPr b="0" lang="en-US" sz="33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40" name="PlaceHolder 1"/>
          <p:cNvSpPr>
            <a:spLocks noGrp="1"/>
          </p:cNvSpPr>
          <p:nvPr>
            <p:ph/>
          </p:nvPr>
        </p:nvSpPr>
        <p:spPr>
          <a:xfrm>
            <a:off x="145080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ank chequ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rawn by a ban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n request of a person for another ban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ork as a cashless pay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rivate chequ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drawer is a person who has an account in a ban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rawn on forms which are parts of a cheque boo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raveller´s chequ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Usually issued by banks or financial institu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rawn in most frequent world currenc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o make travelling easi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Advantages x disadvantag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ADVANTAG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You´re always able to pa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Paying for goods, accommodations etc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A cheap way of pay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Bank checks the identity of the drawe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DISADVANTAG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6666"/>
                </a:solidFill>
                <a:latin typeface="Arial"/>
              </a:rPr>
              <a:t>Fe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6666"/>
                </a:solidFill>
                <a:latin typeface="Arial"/>
              </a:rPr>
              <a:t>Sometimes a long time before it is pai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6666"/>
                </a:solidFill>
                <a:latin typeface="Arial"/>
              </a:rPr>
              <a:t>You have to keep your cheque book with yo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4e3b30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1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očánková, M., Hedvábná, I., Kalina, M. 2004. Anglická obchodní korespondence. Ekopress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yčková, J., Neumannová, O. 1998. English for bankers. RADIX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enderson, D., Streitwieser, V. 2006. Business English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ones, L., Alexander, R. 2003. New International Business English. Cambridge University Pr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ackenzie, I. 1995. Financial English. Language Teaching Public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ěšťan, J. 2002. Anglický obchodní dopis se vzorovými dopisy. Nakladatelství JM Pís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4e3b30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3" name="Rectangle 3"/>
          <p:cNvSpPr/>
          <p:nvPr/>
        </p:nvSpPr>
        <p:spPr>
          <a:xfrm>
            <a:off x="1258920" y="1557360"/>
            <a:ext cx="76341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adice, F. 1992. English for banking. Macmillan Publish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kuch, E. 2005. Fit for Business English - Fráz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illey, R. 2005. Fit for Business English – Korespondenc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reger A. 2008. Inside the European Union. Leda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bbs, B., Freebairn, I., Barker, Ch., 2003. New Snapshot Pre-Intermediate, Pearson Education Limit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Obrázk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ttp://search.creativecommons.org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4" name=""/>
          <p:cNvGraphicFramePr/>
          <p:nvPr/>
        </p:nvGraphicFramePr>
        <p:xfrm>
          <a:off x="1258920" y="1700280"/>
          <a:ext cx="7416720" cy="45259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Obchodní angličtin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Šeky a šekové kníž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definuje šeky a jejich typy, způsoby použití šeků, výhody a nevýhody používání šeků a představí odbornou slovní zásobu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Šek, šeková knížka, vystavitel, cestovní šek, šek na doručitele, šek na řad, platnost šeku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05" name="Obrázek 3" descr=""/>
          <p:cNvPicPr/>
          <p:nvPr/>
        </p:nvPicPr>
        <p:blipFill>
          <a:blip r:embed="rId1"/>
          <a:stretch/>
        </p:blipFill>
        <p:spPr>
          <a:xfrm>
            <a:off x="2124000" y="26028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BUSINESS ENGLIS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subTitle"/>
          </p:nvPr>
        </p:nvSpPr>
        <p:spPr>
          <a:xfrm>
            <a:off x="4673520" y="2927160"/>
            <a:ext cx="4013280" cy="122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CHEQUES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CHEQUE BOO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HAT IS A CHEQUE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454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 written order directing a bank to pay mone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 printed piece of paper you can sign and use instead of mone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10" name="Picture 7" descr="šek"/>
          <p:cNvPicPr/>
          <p:nvPr/>
        </p:nvPicPr>
        <p:blipFill>
          <a:blip r:embed="rId1"/>
          <a:stretch/>
        </p:blipFill>
        <p:spPr>
          <a:xfrm>
            <a:off x="5796000" y="3429000"/>
            <a:ext cx="2432160" cy="1255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ypes of chequ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12" name="Organization Chart 15"/>
          <p:cNvGrpSpPr/>
          <p:nvPr/>
        </p:nvGrpSpPr>
        <p:grpSpPr>
          <a:xfrm>
            <a:off x="838080" y="2362320"/>
            <a:ext cx="7692480" cy="3723120"/>
            <a:chOff x="838080" y="2362320"/>
            <a:chExt cx="7692480" cy="3723120"/>
          </a:xfrm>
        </p:grpSpPr>
        <p:cxnSp>
          <p:nvCxnSpPr>
            <p:cNvPr id="913" name="_s1028"/>
            <p:cNvCxnSpPr>
              <a:stCxn id="914" idx="0"/>
              <a:endCxn id="915" idx="2"/>
            </p:cNvCxnSpPr>
            <p:nvPr/>
          </p:nvCxnSpPr>
          <p:spPr>
            <a:xfrm flipV="1" rot="16200000">
              <a:off x="5657760" y="2877120"/>
              <a:ext cx="745200" cy="2692800"/>
            </a:xfrm>
            <a:prstGeom prst="bentConnector3">
              <a:avLst>
                <a:gd name="adj1" fmla="val 15514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916" name="_s1029"/>
            <p:cNvCxnSpPr>
              <a:stCxn id="917" idx="0"/>
              <a:endCxn id="915" idx="2"/>
            </p:cNvCxnSpPr>
            <p:nvPr/>
          </p:nvCxnSpPr>
          <p:spPr>
            <a:xfrm flipV="1">
              <a:off x="4684320" y="3851280"/>
              <a:ext cx="3600" cy="745200"/>
            </a:xfrm>
            <a:prstGeom prst="bentConnector2">
              <a:avLst/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918" name="_s1030"/>
            <p:cNvCxnSpPr>
              <a:stCxn id="919" idx="0"/>
              <a:endCxn id="915" idx="2"/>
            </p:cNvCxnSpPr>
            <p:nvPr/>
          </p:nvCxnSpPr>
          <p:spPr>
            <a:xfrm flipH="1" flipV="1" rot="5400000">
              <a:off x="2964960" y="2877480"/>
              <a:ext cx="745200" cy="2692800"/>
            </a:xfrm>
            <a:prstGeom prst="bentConnector3">
              <a:avLst>
                <a:gd name="adj1" fmla="val 15514"/>
              </a:avLst>
            </a:prstGeom>
            <a:ln w="28440">
              <a:solidFill>
                <a:srgbClr val="003366"/>
              </a:solidFill>
              <a:miter/>
            </a:ln>
          </p:spPr>
        </p:cxnSp>
        <p:sp>
          <p:nvSpPr>
            <p:cNvPr id="915" name="_s1031"/>
            <p:cNvSpPr/>
            <p:nvPr/>
          </p:nvSpPr>
          <p:spPr>
            <a:xfrm>
              <a:off x="3530520" y="2362320"/>
              <a:ext cx="2307600" cy="14893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300" spc="-1" strike="noStrike">
                  <a:solidFill>
                    <a:srgbClr val="003366"/>
                  </a:solidFill>
                  <a:latin typeface="Arial"/>
                </a:rPr>
                <a:t>Cheques</a:t>
              </a:r>
              <a:endParaRPr b="0" lang="en-US" sz="3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9" name="_s1032"/>
            <p:cNvSpPr/>
            <p:nvPr/>
          </p:nvSpPr>
          <p:spPr>
            <a:xfrm>
              <a:off x="838080" y="4596120"/>
              <a:ext cx="2307600" cy="14893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300" spc="-1" strike="noStrike">
                  <a:solidFill>
                    <a:srgbClr val="003366"/>
                  </a:solidFill>
                  <a:latin typeface="Arial"/>
                </a:rPr>
                <a:t>Order </a:t>
              </a:r>
              <a:endParaRPr b="0" lang="en-US" sz="33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300" spc="-1" strike="noStrike">
                  <a:solidFill>
                    <a:srgbClr val="003366"/>
                  </a:solidFill>
                  <a:latin typeface="Arial"/>
                </a:rPr>
                <a:t>cheques</a:t>
              </a:r>
              <a:endParaRPr b="0" lang="en-US" sz="3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7" name="_s1033"/>
            <p:cNvSpPr/>
            <p:nvPr/>
          </p:nvSpPr>
          <p:spPr>
            <a:xfrm>
              <a:off x="3530520" y="4596120"/>
              <a:ext cx="2307600" cy="14893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300" spc="-1" strike="noStrike">
                  <a:solidFill>
                    <a:srgbClr val="003366"/>
                  </a:solidFill>
                  <a:latin typeface="Arial"/>
                </a:rPr>
                <a:t>Bearer</a:t>
              </a:r>
              <a:endParaRPr b="0" lang="en-US" sz="33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300" spc="-1" strike="noStrike">
                  <a:solidFill>
                    <a:srgbClr val="003366"/>
                  </a:solidFill>
                  <a:latin typeface="Arial"/>
                </a:rPr>
                <a:t>cheques</a:t>
              </a:r>
              <a:endParaRPr b="0" lang="en-US" sz="3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4" name="_s1034"/>
            <p:cNvSpPr/>
            <p:nvPr/>
          </p:nvSpPr>
          <p:spPr>
            <a:xfrm>
              <a:off x="6222960" y="4596120"/>
              <a:ext cx="2307600" cy="14893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300" spc="-1" strike="noStrike">
                  <a:solidFill>
                    <a:srgbClr val="003366"/>
                  </a:solidFill>
                  <a:latin typeface="Arial"/>
                </a:rPr>
                <a:t>Counter</a:t>
              </a:r>
              <a:endParaRPr b="0" lang="en-US" sz="33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300" spc="-1" strike="noStrike">
                  <a:solidFill>
                    <a:srgbClr val="003366"/>
                  </a:solidFill>
                  <a:latin typeface="Arial"/>
                </a:rPr>
                <a:t>cheques</a:t>
              </a:r>
              <a:endParaRPr b="0" lang="en-US" sz="33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20" name="PlaceHolder 1"/>
          <p:cNvSpPr>
            <a:spLocks noGrp="1"/>
          </p:cNvSpPr>
          <p:nvPr>
            <p:ph/>
          </p:nvPr>
        </p:nvSpPr>
        <p:spPr>
          <a:xfrm>
            <a:off x="145080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Order chequ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ayable only to the name of the paye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You will find „pay to the order of…..“ on the chequ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earer chequ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ayable to anyone who is in possession of the chequ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re does not have to be any name of a paye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ayable to the „bearer“, to „cash“ or „to the order of cash“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ounter chequ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re used for withdrawa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re usually left blan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hen you run out of cheques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Before your cheques get availab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heques usually contai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heque numb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ate of issu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lace of issu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mount of the mone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ame of the paye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ignature of the draw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8:42:48Z</dcterms:created>
  <dc:creator>Mgr.Martin Frolík</dc:creator>
  <dc:description/>
  <dc:language>en-US</dc:language>
  <cp:lastModifiedBy>Igor</cp:lastModifiedBy>
  <dcterms:modified xsi:type="dcterms:W3CDTF">2014-09-13T14:06:23Z</dcterms:modified>
  <cp:revision>20</cp:revision>
  <dc:subject/>
  <dc:title>BUSINESS ENGLISH</dc:title>
</cp:coreProperties>
</file>