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4197-5721-4946-971D-8FBE0E05FCB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14CB-569A-4C07-A0D7-55B3B3E1389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D11D-50A7-4532-B4E6-5C913763E15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C9E0-2473-4D07-9B81-E21A9603C8B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5D1F-57FF-437C-9BAA-256C9892EF9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BBE9-5847-4E32-8C70-FE4A7CBC4E8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4B49-DBB1-4D9A-BA3E-0AAEAEC86FD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DA88-0EB4-49E2-87CC-950E6F37FF0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0ED5-F1A9-4595-8D95-B95AAD778F8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896B-6B7F-4D42-939F-EBD78D84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11E-2013-46DC-B9C8-823ADD10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79AAF-B03C-4C16-A7C5-2F086BC8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88B2D-9C4D-44AA-BBAC-38E529F4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3C5DE-019E-4B6C-952B-3D708E0F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35683-B958-4E7B-9BCF-D43012EF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A03C2-0301-49E6-A016-8B597D5D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188A5-FD91-4E2C-B237-F0F02FCE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20948-1BE8-446E-949A-55A7B365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40E9B-D6A9-4D14-B4F8-469DD974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9E30C-210F-4D40-B7C9-077D4C4E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98D58-CEDF-4457-8734-798FD471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0FE-4612-4A15-AF81-0C28D26A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38C44-1895-43F2-9813-965D04B6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E030A-4352-4F1D-BD59-96034349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9D648-8472-4733-8308-B3172D74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4A6F9-FC25-4CA3-A587-BC31BBB5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D9725-2A4F-4410-9C40-7742A5BF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29A4F-CC65-4602-9965-35BEC977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880BD-75DA-4601-A212-3BEF1B34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C49D0-C5FF-472F-8B9F-4BF5E38D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2BE1D-5F09-4755-9071-90F8225D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79930-96C6-4680-90C3-ACB45403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BC5-1D1F-4FD6-B511-8FB0B6B9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DD881-3218-4B54-970F-B9F6B94A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8C976-91C7-4A71-AAF4-C1A70CEB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3B92F-3A91-4884-BE97-4A7C8FA1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9871A-276F-4A08-A6F9-D9EFD017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D7C9C-0E85-48B1-9140-18E6F4D0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663A4-404E-41D5-8DE4-584ED882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2A9DF-558F-4CA7-88E9-7A31E1D7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ECE84-C954-4218-B01B-51702321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5C80B-CB7D-4DAA-965F-2333646C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F9FA6-DE74-47DE-893F-949D3D36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85DD-2E81-4DCC-9FD0-2D719140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DE609-D70D-47DD-B305-CEFD1B37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42F4A-5CCB-4E59-BE8D-7985B358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06786-A4B6-4A63-9F90-D94E1DE9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3D7B7-2F82-4B87-AD99-AF3A9B17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67839-224C-4035-949B-B591BE67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40DA6-C889-447A-8AD9-E5AE44F0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DE0FC-9E2F-4D58-9D12-0404FD3F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78A24-3E92-48A4-9DE5-91AE907A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EA817-2D40-4367-87E6-98254988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3A15A-32B0-44F0-B207-40BBB810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A6E6-076F-404F-A776-CF77483E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4B715-6599-4680-BB83-9E678C95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C4BDD-4B20-4015-8A90-C8A69794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A4EB5-E01B-4E12-B18E-D8C2F942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18AA3-6E61-4DCB-81C5-CCA9E587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3FC6A-208C-4921-A200-2F5FAEDF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66A4D-B408-4A4C-B2E5-39C64DD4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492D3-0B64-4AE8-BD5B-96E6FEF4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8A298-A2D9-4A12-8005-3801F027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6C419-5EF4-4E65-AAE4-C14AF212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37B51-B89C-4A0B-893B-A4444920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180C-C035-4C15-83FB-8ACFA424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84934-ED02-461D-B5AD-11FD09C6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94223-50A9-49BD-9D8E-003ADB16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E1E10-EF11-458A-A3CC-106D2E74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0E3B0-A7A7-4DD6-8197-2BD678E0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30F68-A9B0-48C9-80A4-FBE83C53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23AEE-8B61-4F51-A94F-A45A8301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C434C-9956-486B-890F-9F49D67B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68E7-C167-43A9-8284-E6D39714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AD45-5C54-4C01-8885-FA44F43B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E0CD-CDA6-4745-8FEB-CD114679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EC1F-F1C9-4B3D-809D-C0E760DB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F22-F1F1-4C19-A0A2-F4F90222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2D55-4D97-4F21-97E8-30AEFAC5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B7F8-F9E5-42CF-A7FF-763F0B2A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2FD7-DEFF-4D48-B0A2-3FE7A648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267B-A372-459D-AF33-7913D9E7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BAF6-D0F7-43BF-91CE-05FAA808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EECD7-0049-4F13-999C-EBC928DF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20292-D6CB-48A5-9F9F-8752CCFB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02ED4-558A-4366-9A52-5F66E253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426D5-0FB5-46C0-A72D-242C09FA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7EDCB-04EE-4408-BF0D-E4A534BC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6CF-A817-4EBC-B1EA-48A030B4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3355E-9DDC-4B88-B44F-C61A8AFB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651AE-079A-4DB5-8A62-AF380324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76748-A96A-4EB5-84FE-DADA9870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7165D-7622-4CBD-8752-E6DBA58A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C9898-115B-43A3-8A11-AE3578FF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24C09-A43F-46B5-B8A5-F253A8C4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E92B9-68A4-4F59-ACA8-603B085E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DF0CC-2E10-4EFB-9A9F-6EA7C8B9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4C860-D12F-4B5D-AAEC-832EBCD1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2ACC9-BB3C-434F-BC14-9DCE835D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EB5D-A8BE-4308-9C70-72C22729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E4BDB-8C0E-4BCB-ADC8-00364502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43E92-9BBF-4F4E-BFC8-E3195ADF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475F8-5EEB-41A5-9084-59D118B7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A8DA7-6812-4AEE-A400-35D69356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724CA-B109-4D2B-86A4-DB95E8C5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FF69A-B7FE-45F9-8D99-BE4DDAD8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1B937-E5DB-4447-9E51-F6A96491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D297A-FCF0-43E5-BB49-6F006B65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E008B-5106-47FD-A176-E893ED20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B1767-16C0-40AB-908D-A0AD0905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D66-9F83-4060-A7E2-CF2ED6CA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A34A5-7B8B-43FF-9639-40906FAB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5106D-53C4-42C4-ABB2-07294E59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CCB04-4BD1-4784-A972-36FB56D3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F73F5-CC3C-4191-81DA-1C1BC309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D2860-5E6B-4667-890A-C1A7C487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A9F97-44E8-4BEA-9C31-F770DE8C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764AD-71AF-48E2-8C35-A2BEBD42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45B3D-FCFE-4580-9C41-93D041E4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60933-91D6-493A-B341-77440376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992CB-0D9C-4B8F-90CD-6DC64141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A09-C2B9-498D-8A66-A2BEDB76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7E783-DCD9-4859-9E77-77293A8B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45B50-1C39-4F3E-BF59-6669E5AE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51BD7-4F4C-45F1-8EBE-83829E5E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C9104-A9D5-4C5D-8124-C9E1BECA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5166B-FF2A-4283-B575-EBCD4CC3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7E159-3BC1-4D08-A59D-A1A04BA8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06593-90B1-48DA-BDB9-86806800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6DAC6-06B9-4F3F-AEFA-8C2D4004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46D30-4E37-4206-858E-18F7C28D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03FF5-58BC-4166-BFEE-FB572D6B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A1F-8EEE-44E4-A364-522A781E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D2EB1-8DC6-43AF-A99F-32CB2D5F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6632D-9FCC-44E2-A9D9-01461CE6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E5AE8-4C51-457B-A98F-58793808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A6B27-0920-40CF-B15B-106A8A39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68C50-3A37-45E4-AF05-B812A791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299E4-CDCA-4319-8898-34DA46E4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5ED29-5527-4524-9E91-5464E753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0F1B0-7B6B-4C8C-AD7B-FB48A199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6C71D-704E-4BB0-BC79-9064BD03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06B24-12D4-4E64-9255-E0764533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347-DBFC-4061-9A92-5EEC62B3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8936B-4D84-47B3-A57D-529D2480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3814E-DC16-4301-83D0-47E37FD6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F7170-E541-404F-994C-E3F74755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15305-FEEB-4DB3-8672-52AE965F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9EE19-3C19-4038-A38B-7F24D5E0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6BC6D-A00A-4C93-9B76-64DD552F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426D9-5905-4F32-9ECD-74C6291B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41CBA-6646-4F4F-A53D-E3CBCE3B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46F84-A1D0-44D5-B2CE-C54389EB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572C1-CC04-4AA9-8D29-CBBF51CB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4C7-F216-4442-849F-D84C348C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0FE1D-BE1E-4751-98F3-548B1110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DF6A9-BFD3-4C33-BBD8-198D78D8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9D583-8F72-4AE2-ADA5-10EFE90C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D0672-B75F-495E-8E44-1B44256B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56C09-63B7-4983-8E39-6E67A6F1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BFB6B-6075-4DE0-8742-D2124276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4F985-B0A5-4449-AD6E-5314AA60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77EC8-4252-408D-B64E-23F3E07A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3D509-1921-4696-BDE0-7C4463BB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89EB4-AAE4-4DF0-AD4D-BE3AD927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347C-4EEB-403E-B2F7-C6F920F5B3E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83B6-E969-466E-8DE0-8A2730C268C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4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BE03-5970-418D-A538-A186EA43FC6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6A57-86BB-4F3B-8BF1-0377FE07D98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EBB4-C4DD-4573-AE83-A6731460BB3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FC14-D4F6-4C0A-BAD5-E20D5247210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CEA2-4770-4056-BC41-B084F5F7EC3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FE64-349B-4C82-ADF5-7B66C0E04A31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6D26-F970-4208-947A-E8F9DF71FCB2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244F-1E72-4C8C-8C44-F32A38ABAF5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DC56-C9FD-4900-B71C-5B6EB847DC1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5688-BFC7-4F63-BD2F-02B515E05A7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38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CCEE-C4C7-47B8-8275-BAF940B290E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1" name="Obrázek 1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fety r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 your card carefully and visib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eep your card at a safe p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keep your card together with your P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lend your card to any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ver say PIN to strang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fety r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say any card data to strang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say the identification password for communication with your bank to any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sure that nobody is watching you to type the PI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fety r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use your card when there is anything strange with the AT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eck the statements with card operations regular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yourself sure you have not lost your c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nkovní kar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definuje bankovní karty a jejich typy, způsoby použití bankovních karet a pravidla bezpečného používání karet a představí odbornou slovní zásob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nkovní karty, kreditní karta, debetní karta, bankomat, výběr peněz, PIN, výpis z bankovních kar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3" name="Obrázek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NK C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BANK CAR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45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plastic card issued by the bank to help you to get to your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08" name="Zástupný symbol pro obsah 2" descr=""/>
          <p:cNvPicPr/>
          <p:nvPr/>
        </p:nvPicPr>
        <p:blipFill>
          <a:blip r:embed="rId1"/>
          <a:stretch/>
        </p:blipFill>
        <p:spPr>
          <a:xfrm>
            <a:off x="5411880" y="33004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610" name="Organization Chart 15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611" name="_s1028"/>
            <p:cNvCxnSpPr>
              <a:stCxn id="612" idx="0"/>
              <a:endCxn id="613" idx="2"/>
            </p:cNvCxnSpPr>
            <p:nvPr/>
          </p:nvCxnSpPr>
          <p:spPr>
            <a:xfrm flipV="1" rot="16200000">
              <a:off x="5657760" y="287712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614" name="_s1029"/>
            <p:cNvCxnSpPr>
              <a:stCxn id="615" idx="0"/>
              <a:endCxn id="613" idx="2"/>
            </p:cNvCxnSpPr>
            <p:nvPr/>
          </p:nvCxnSpPr>
          <p:spPr>
            <a:xfrm flipV="1">
              <a:off x="4684320" y="3851280"/>
              <a:ext cx="360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616" name="_s1030"/>
            <p:cNvCxnSpPr>
              <a:stCxn id="617" idx="0"/>
              <a:endCxn id="613" idx="2"/>
            </p:cNvCxnSpPr>
            <p:nvPr/>
          </p:nvCxnSpPr>
          <p:spPr>
            <a:xfrm flipH="1" flipV="1" rot="5400000">
              <a:off x="2964960" y="287748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613" name="_s1031"/>
            <p:cNvSpPr/>
            <p:nvPr/>
          </p:nvSpPr>
          <p:spPr>
            <a:xfrm>
              <a:off x="3530520" y="23623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Bank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_s1032"/>
            <p:cNvSpPr/>
            <p:nvPr/>
          </p:nvSpPr>
          <p:spPr>
            <a:xfrm>
              <a:off x="83808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ATM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_s1033"/>
            <p:cNvSpPr/>
            <p:nvPr/>
          </p:nvSpPr>
          <p:spPr>
            <a:xfrm>
              <a:off x="353052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redit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_s1034"/>
            <p:cNvSpPr/>
            <p:nvPr/>
          </p:nvSpPr>
          <p:spPr>
            <a:xfrm>
              <a:off x="622296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Debit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TM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imarily for ATM us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nked to one or more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so called bank cards, client cards or cash c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not be used at merch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quire P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redit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ssued with your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used at merch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 you to spend money on credit of your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bit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used for paying at a merch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unds are withdrawn from your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designed exclusively for payments on the internet (no physical card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r withdrawing cash (like ATM card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SING YOUR C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ithdrawals from AT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ments in shops, restaurants, hotels, petrol station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net purchases – hotel accommodation, flight tickets, purchase of various goods via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3:48:01Z</dcterms:modified>
  <cp:revision>23</cp:revision>
  <dc:subject/>
  <dc:title>BUSINESS ENGLISH</dc:title>
</cp:coreProperties>
</file>