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EC38-1D22-4B7D-AA95-D845C19448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EA33-82CA-4B0B-929D-D64A5455CB8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8C6D-D085-4982-9F56-A015BF396D4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DA6-CECC-4EB1-854B-CE5135BBD69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29E-BC74-48AB-9136-4FCF4059F1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B95-22BD-4724-8887-591EF76A81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397A-C19A-4F8F-AECF-683B2738B9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681-80F0-4BC6-AE3D-55A232E981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F6BE-1A8B-4996-9B9A-23C0236EB38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65E-88FB-4FA9-A9C8-095B7E36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2C3-5B3F-421C-8DF4-E3238DC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2D05-9BC2-4067-9CD3-F8ABA724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04746-6212-4276-8555-C6B12F8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3DAC9-0116-4632-8823-ABB38008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512DE-6E8E-4921-B56F-BC1258A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38B8-DD59-447A-A435-0B4127D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EC2A-6ED5-480A-BF25-2969FE7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EF191-50A3-4EB5-AE26-6F10290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21F07-2789-4CE7-B2BB-989BF52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58ED6-E9B9-46D4-A9CC-C01B8D22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5BD64-A11E-46CA-AA05-4F3B9A2A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804-F1D5-4CA7-8327-84B65DC0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BD4BB-EA74-4DB7-A424-D94B600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236CA-8B2A-44F8-ACF9-E2285E9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D0CAE-678C-4061-A840-B0B0797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9990A-9BC0-440A-922D-3475257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6365-B155-41C4-813C-03286749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247FD-A417-4C1C-81F6-194B301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2A75-F33C-4A08-8C51-EAC00B9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CFD88-3D01-430C-A838-3992B92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0D6C7-5F10-4A7F-B81E-8D0EECA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3DCD0-108C-469E-963A-3D75D789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E0B-8A28-49DE-93E4-A45ADAFD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7B0A5-EF3B-4116-82BF-A77E728F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70545-15F3-46F4-A781-3719D0F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37095-792C-40DB-873C-6FE6F51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4D23-8C51-4284-A113-AF7A6BDC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7B5C5-7A1F-468E-9CD1-BD2B13B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5A05-247C-437D-A6E2-C2F167C3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B615B-106B-4ABF-A54A-5132EB9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D9471-5AB6-415D-8C20-6B828F3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2EE0D-5CB4-42BF-B7B7-3846BDF7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A304-FFA2-4D01-BF2F-B070ED2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0A42-190B-40A0-AE3E-A1E32C2D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DEEFA-3589-4FCD-B72B-D481E39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1BD76-8630-4404-B50F-7086C11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AB74A-27C0-43BC-B97E-F7D66BCF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FA4EA-7011-4881-BC70-AC6390E7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E26B0-635A-4B0D-9B06-8667577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9CD86-44A0-40D2-A454-2E159D2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F97AD-F8F1-4A36-B454-A9B18AA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2C861-4077-4E66-86C1-CCFB40B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08E6E-5134-4F62-8FF3-95DA9A6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EA68B-0EE4-4041-8CA4-47F7781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4457-DED4-4A41-A659-D06B530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47FF4-F1B2-4ECC-B063-CAADC32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1024F-9910-47BB-8511-515CBFA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CB31-0B93-460F-97C7-B8032A54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3C25-0425-4452-A740-D83D0DD9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3E46A-1620-442D-8526-13A637F4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2CE65-D048-4875-8173-611A6285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F8ABC-1363-4BB0-AC75-0983FB8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A579A-A73C-4197-A20F-5527521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7C309-9AAA-460A-BACA-8665BFB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BB7DF-0EC4-4EF1-AFEB-0A510777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2CF-5385-4B27-9295-6BCABA4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39348-EACA-4637-BE97-F57F5DCE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C3F35-09C1-43CB-8341-273B9B9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40B8E-5450-4CB0-B9BC-B860C50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41354-431B-4CB1-81D3-948FFF4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1E56D-B7FD-493A-8903-443AFA03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4B6D4-5904-4A2A-B5D0-82B31DC2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A91E0-EA0D-4377-8261-0D925F29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42CFE-E135-4BB7-BCB7-BA32DAC1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A96AB-04FD-4EAA-9756-0AE31077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7DEA7-11F8-45F6-B36F-F98D2B6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4048-8F8B-4609-A909-4FCA3257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23AEE-6021-4DA9-93FC-CC1441CF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84FB7-29B0-49E8-9AA7-25F0889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640F1-F964-4E6F-B491-AD5C3A2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CDB07-EEA5-4406-990E-CF4AAF5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C31E7-C1AF-4494-943D-D050F95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270DA-8E9A-4C3C-974E-D4A35FD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83A23-CE55-4163-A692-9064BC6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4C6CF-7BA6-4075-BBA0-58898E1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BDAC2-7E20-48B5-8337-7E7BD3FB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7BBE8-1B26-4831-BBB7-DACCF931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40E0-2D81-42C4-8B56-33D99FE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E6B2C-7F96-49D8-AB90-902F695B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6ABBC-F3CC-41A4-B230-CCED809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A7159-14A8-43FC-A2AD-E988564D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3242F-EDB5-49B5-A83A-EC008CE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52940-52E3-4DE7-97D1-412288C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4F517-743D-4737-AA65-7B742EB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4A69C-E9BB-449A-A660-26AD49C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456DD-10CA-4E0C-8EC7-A66678C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1157D-00A1-4B27-ABC1-D9084B4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023A5-5D22-4477-9759-64607D3C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C2D1-20CD-4865-92E1-8534230B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55AA0-2664-49BC-AC79-8E50640C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A338E-5D18-4F5F-9EF3-1555D98E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374A9-AB52-413F-81C7-993F51D8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6088F-260F-45D2-9E95-F64FF9B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B5DB2-3A9D-4E54-AD14-11D15C5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D6291-84A3-440B-B22E-442207A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BB7F9-A6A5-4121-883A-BB0C021D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C7F33-3317-414C-BDF8-656EF67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64677-010B-4991-8EEE-3779A6F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0B35A-A141-44C9-A7D6-2263193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FED-63C7-45AA-8C37-25F53DD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51C9A-F8F2-439B-9DFC-3302CC4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BBCEF-89C8-4DD2-B2E6-FF169FE6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CC9A3-EBAB-4100-84FD-4AB2ACD2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F31-C26A-40C8-A403-44A4BFD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5D45-593A-48AC-8A1B-F60A1D6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777D-B909-4379-B206-8AE0741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C07B-293E-4080-8C43-D5D7519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018-4CF5-4DEE-A16B-8696A4A0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486A-9814-467E-B99A-AEFAA93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9475-DEB4-4C57-8814-E4AC5E37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C033-E84B-48D3-82FE-93AF9436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4AD1-4768-44F7-ADC6-626ECA6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730B-DBAA-478E-BC78-DCB18D2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2691-E282-4B7F-A82A-9E481686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C5D-20D8-466C-83FB-4364CCB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9BAD-69E7-45D1-8613-05EEB24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FFEE-785D-463A-A5DF-8BF836B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FFDF-528F-409F-8A0A-0ACDD2A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F446-7520-41AB-838A-BB5D280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6056-62A0-47AF-AE58-2B412286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8856-CE66-472F-BA7A-A0FDA818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CB05-C3B0-44D9-9B1E-668454F7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C0DA-70E9-41D3-88A9-8B391F9E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5C91-A3F5-4D6C-B573-99B9D6F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D2DE-B5F6-4BF9-986B-C569F8CC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9FD-8514-42AD-AF00-D4BF2C8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2DF6-3374-4697-89F8-E54CB40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B8E5-EB1F-4370-954F-6C4EACC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303E-7781-4247-936D-9FC6952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413B-488B-4722-AFA0-006F36B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7F58-3F4D-4CC7-A588-7B5B65C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C835-2808-4D94-87C4-000E140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4985-D66E-4644-A7BB-641D5AA3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3FE4-E871-425B-8989-6FA7646E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E946-C678-4C3F-97BB-030E1472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D92D-CD8C-43EA-8E03-40B6A9B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466-32D0-42A4-AD27-64C913B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47D2-61D4-4037-BC6E-B69722F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6C22-4450-439D-8356-7143AE1F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10C8-D013-4784-848E-B82842E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295C-DC16-4FAE-B49A-5EFE0B8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35629-C984-4A91-B820-EE75D4F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AFD8-729E-4EBA-8E7C-879CC43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2D5C-4655-49B7-9E20-05B621F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D17E-912D-49FF-BFB4-628A7A4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AE2A-3AF6-43B5-818D-512414F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274D-8D7A-424A-ACBA-C080C801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E62-7280-48C4-8AEA-0213250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24D3-2C9A-498B-B1C1-C1D1C4C1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83FA-A751-46AD-8C39-B2F139E0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FEE5D-6DAE-410B-9E90-B9399B06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39FE-865D-4A17-A6D1-2F7E08D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CC532-6153-4886-A3CB-88C22EF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0069-1A3D-4976-A10F-6D84661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DC1E-CF41-44D9-815F-A35D262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4D058-E81C-4D05-BAD2-3A86DDD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A6A2-02F8-4E64-B204-3F52F96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2893-D95E-4F7D-8C3A-1A1D646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CBD-675B-4D5B-8F45-2D4426A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8589-BDD3-4EF7-9DBB-7A036585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F38E-B048-465D-BD63-F8DDD425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B0D6-EFB7-417B-AEDA-FECE6FDC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3340-F914-4015-92C4-DBD7CF7F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4508-6525-412B-8742-018D17C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C5C3-F61D-4AC6-8BBF-583969F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1C208-D12E-425E-9284-A738D9CF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3C8DA-1A50-49EF-8E0A-E69F503E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32E0-B461-4C50-8EE1-B2AB91F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6322-8B73-4E03-94D2-71E07F8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706-A220-463F-9AA8-DD026701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B634B-1F37-4FB0-ACCE-590F2C8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5310-6BB2-4986-A03E-1909CCC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A49B-C1C8-49F1-B2E9-C69680A5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E7C9-1867-4ACB-BD5F-18FBBA86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30AA-EF76-4F82-985C-4F2401A0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ABEB4-2361-4B3C-B51D-8D9832A0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23EA8-EBA4-49CA-80ED-A8850C9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3C18A-E8EE-4171-A236-77354DEE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5346-DD36-4974-AD6C-AE4A1F5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3989-5225-41DE-BEDC-28E28C6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B21-59BC-4897-BD71-322CD4B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5FDB-5D15-4E3E-8018-FEF24CAD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9C308-3FC5-4EBC-BD47-290BDA3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8ACF-E9F0-4E03-BEF6-8D84821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1AD83-4E1D-4D0E-BAC8-072244DA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1E8C-A21F-4BF9-8EB6-060D65A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1BEE2-A617-4ACA-AC80-7CD9CFE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DC1E-C818-4847-A76B-17C9BBFC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89489-72C7-494E-9ABD-0D3EEFE3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7FBB-982C-4041-8C5F-62B60ECA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AF08A-2825-4DE8-8C4F-8C4CA07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EF4-1C64-490C-B929-586CC1B08B6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47AE-49F1-4169-A4FF-DE46ED3B835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0C4B-90D2-451E-95F8-273E6A0076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9074-3F49-4947-9F81-772504BB4B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FDC-DBA4-4FBA-A998-926CFE6790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E0C6-46FD-42CE-9AA4-DF1B234AA79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F72-B5F7-42EF-AC82-B7CD1698E4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038-9098-46B0-A8D7-5FE69C57AF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748-4784-4866-91F3-E0213BEE9C7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5C58-29FE-49F2-A4EE-71F61FD5008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761C-C50D-4754-9FCD-DE48035CA48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A132-40BE-4630-97D4-B67133C2B78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1546-8823-4C91-A81C-858B6B18E39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2A1-8DC9-4A2D-84AC-82E186F3C95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54A-A4F9-4AD9-ADC1-55168B1451A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B3F-43E7-456F-8696-2CFF02EABF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mpt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war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rtial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xe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) Validity of your of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inding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rm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ithout enga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nabíd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nabíd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ffer, terms, delivery, price, valid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offers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description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quant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pric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payment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deliver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alid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the offe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Description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ypes of produ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chnical det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talo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Obrázek 1" descr=""/>
          <p:cNvPicPr/>
          <p:nvPr/>
        </p:nvPicPr>
        <p:blipFill>
          <a:blip r:embed="rId1"/>
          <a:stretch/>
        </p:blipFill>
        <p:spPr>
          <a:xfrm>
            <a:off x="5845320" y="2924280"/>
            <a:ext cx="2043000" cy="265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The quantity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cka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The price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co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bulk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cash pay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long-term busin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Terms of pay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yment after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pay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livery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way of trans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52Z</dcterms:modified>
  <cp:revision>26</cp:revision>
  <dc:subject/>
  <dc:title>BUSINESS ENGLISH</dc:title>
</cp:coreProperties>
</file>