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F98A-EBCC-4F08-B6D2-ADC91EA8D0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2FA1-1D80-4817-9F2F-4A2ACA7E86A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B205-8EC5-438D-A5C4-D04B4047B05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9C6-87C5-4E47-B2F3-B19CBF71B8E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CD8-4B05-4CED-B49B-466983A0C3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638-D607-4FE0-9C56-7002781616C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330C-1768-4848-ABA1-20DC721547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5F5-1590-4AF0-90D7-F453389D565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BD0-3B2D-4043-B96F-EF3A70B7D80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F38-E213-444B-9143-CDFB4C2D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E87-E89D-4D75-8B43-09EB369D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077B-EF80-46C9-A716-EABF5105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C6ECD-636F-4329-BE05-0AFAE1B3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904EE-0FFE-432C-A8E7-7BDC31E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462A2-CB65-4508-897E-0D480E3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48B22-65BE-4D93-ADB1-FE16841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B184E-59E2-48B5-818D-FB5E284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0290D-E9EB-47BB-B3B8-9AC654C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38703-4F5F-426B-ACBD-20899A0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826DF-D73E-411C-89E7-0C05F931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F6474-A566-4C5F-82FD-9E85E844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EE9-EAE2-4C59-820F-527F5D63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56458-17CD-4FAB-8911-82EAC250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1F892-4A39-4383-B54B-2E49BC6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C8F89-9968-4518-870A-C0D57558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EFBCF-AA72-4655-9A4C-1BFD1E8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51FE7-2137-4447-91EF-CA73A36F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C5BB0-4F62-4BCE-A00A-802AF82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7D4BD-D0BE-444A-B501-A700BD3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FDCC7-307B-4780-BC3B-0AAD45D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ACF03-64AE-4D76-BC9B-6A2AD37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526A3-3B7F-4BED-A507-E2182319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937-1DBE-4015-9D73-7F27A8AF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CEED1-C48B-4299-B395-DC84D01C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04B0-9ED0-4717-B436-B478116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ADF80-1A64-422A-B7CB-0502DEA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06B90-AB42-4119-BC82-8C3DCD9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36A0-D638-4D57-B7B4-1F98AE2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0516C-B67C-424F-8920-150C11B4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37919-C523-4E66-A386-A842067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2EE9B-CAC5-424B-BF63-E4F7AD4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B912F-8B67-43F3-A996-8498C13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43AC-66FA-46CC-84F7-22413B5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BCD5-F794-41D6-8738-9A0583E2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FAFF8-C2FC-45E3-8E7F-6A71E9C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E381-C327-4E12-947B-1F8742BD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A50F4-3B2D-4B19-BB8E-57F875F4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D2049-F94F-4554-8A97-F7E1F28E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FB2D1-0B7D-4662-BCC7-04AE7EB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B3E7F-7373-4F60-B96D-88CCBED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ED428-8AAE-46C6-BA30-44AAC5D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394CA-97D5-4A38-BC2D-6D5AC46F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7D4DA-DD24-43D0-8A58-5CD1373F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238D4-620B-4961-ADF7-B969A31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D64-A773-4D7B-8FF5-42BB7821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173D-FBEA-470F-BB09-5BACFB6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6C83F-000C-42F9-AD51-01F980ED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9CB41-C8CA-4FDF-8606-6B853E36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602C5-E615-459A-BFD5-103EE786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F7E19-FAEE-4ACD-8994-154D47C3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706FA-E18B-46A3-BC33-87982D52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367D6-4165-49F4-BFC6-B9205B39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73196-4E66-4C40-B489-B05229E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1B775-9D0C-462A-81FA-864F5247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79607-148D-40F3-B31A-0E3ADB13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DB8-3CBA-454B-8B1E-B889CF4C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C8CAE-AE64-4F6D-93EE-8C3125F8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1F825-35A0-4408-AB37-D1D68BD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22635-59D9-4EEE-B4CD-C6E1AE6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524C5-3E67-4A97-908B-E771E06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E1A33-9E41-4A65-98E5-AD29DE9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FC4AC-199E-4658-BBCC-EB2CAD13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68502-E7B2-46C8-87C8-4E9357B4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B0B6E-13B8-4B5A-9E56-9F9DFF1C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3DD81-6416-4B88-A389-1C67205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C8CB4-5D38-4553-A018-63AF65E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DFC-8518-4C4F-9502-A13E7408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63D74-7875-4BBA-B564-F0E0F3C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162F8-F69E-40AC-AD21-8165898F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A4C61-048A-41A1-88C4-6DC1DA0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4C162-E744-446F-B6CF-1B5D1A0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CC1DF-6AA2-4A14-BA64-A56FF8F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0EE1F-BFC3-47CC-A4C0-12433E8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5AE20-BE1B-4BC4-AEC8-3A4E3618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631E6-E905-4D50-903A-FC052983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A7F2E-A011-4815-BE53-D2528393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986A9-86CA-4D82-906A-7F358902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93FD-0EB8-471A-86FB-BE2E910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5DC6E-6DBA-4FBB-92EB-10A490DD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89902-FED5-4451-A363-0318A930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50D4F-F932-404F-BAEE-983C726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B6BE8-7246-4479-948D-990041ED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A2E22-2CF8-45B2-BD52-5D8C9DC2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42A65-8C5D-4641-919F-E2C6F7F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739D8-5D33-4BDB-999B-C7E02D9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D5A5B-70B0-4511-8E19-AA47649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C9BE1-79CB-4B54-9C13-8B6BA379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C2F79-4EA4-4F22-BD31-2B91B9FC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6F47-3CB6-45EE-B912-F5800C8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E113E-4C7E-4138-91C2-E18F159F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93607-2BBF-4FED-A749-FD89CD9F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D7383-724E-4A59-9816-1695356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3D5BC-5FC9-4FCC-A3EE-57FB333E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92BB6-4D17-4F90-A207-F965045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0F24D-CAF7-4758-96F3-4C080915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DB2620-ED5B-4537-9DD2-90B46A5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32D89-56C5-4D5F-9ED1-B50F3A9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172F5-F348-407E-A294-B678BDC2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7411E-9595-4181-AA84-E0A35677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C39-0083-48E2-A4AC-3D4FD29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D0B61-FCBD-4952-8580-3671A8C3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FFEE5-69FB-4A7E-83CD-CC4C09F9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F33C4-FF5C-4293-A394-2E4EA5D3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F02-02FA-45B3-BFD8-50DE5AC2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7B8B-1DB4-4C7F-90F5-1331A4D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9622-9F5B-4CD8-843E-F5023E7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EC68-B3BD-4E10-A351-02CB2AF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533A-B824-4B3D-A7ED-ECA9049A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F36-8BF6-49E2-83A3-F8F232B3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D9B9-F6B2-45AB-A093-EF6326F9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F5B2-DF10-4D9A-A832-6DFE6727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DF2B-2C61-4B75-84DE-95508ED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D638-647E-42F3-ABBE-B2C683C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D34B-6F29-47AA-B69D-0A42C816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BE6-B69F-4464-BEAF-579F49B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9F94-C7E7-4932-A2C6-872AF2D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0D50-374C-4247-AFC0-714495B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6582-EC81-4D2F-877F-0DE8CFF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4A6A-F00B-45EA-A7A4-ACBF609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0C76-627A-4C97-92AF-F235C1D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51B3-B9E1-4FCA-B220-6F5CEABC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AF74-F3C8-4210-AEEE-9B119443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984A-1258-4344-9EE5-3344ED9D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3C8D-4B38-4553-9A20-0FCBA3B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A93C-66AD-483E-9B7D-C6F188C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CE0-2A2F-4C19-AF2E-CED06889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673E-CC9B-4203-8E10-7F74BEEF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3FEBC-0FF7-483E-B066-42B6726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185A-5346-457D-8CAB-3D9686D4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65B7-677D-4BB7-A3BF-03FA27F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64BA-EA41-4627-A1E0-AC68EC4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D282-C3EE-4886-9701-66EC866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662C-6AC3-4635-953A-6545F33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F1E0-6252-4582-8A79-0B01BD06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0CFA-4638-4628-9E1A-A46D30FD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2F31-9F7A-4C03-8EA6-FCEBBF70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C6B-0CCB-47FB-9AAF-70CA13E6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F223-A44F-4C56-9F30-7FDCC3CE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4BF1-D3B6-48E1-BDC2-ED5FDB9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2890-616D-4C37-AC80-449780BD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91E3-5A10-465B-A05B-10B287E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38F3-EDD8-483E-97F9-6E23CDE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01B3-838E-4AAA-9A13-E36153D0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31522-25FA-476D-95D8-533F5CD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9218-5BBD-4E41-9F80-E7923D5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92CBE-881A-4B6B-BE68-419606F8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D43F-4B08-49BA-990F-84B9F999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EB2-563C-4024-9D3F-ABE83B8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7744-EEAE-444E-A223-55B7ED1C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0E23B-7534-47EF-B6DA-ABF1E23A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F613-233D-4A4D-ACDE-D4FC8504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1FAF-7324-4D21-B0B6-635B3B4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13B4-D151-4E5A-A4B2-5819450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5643-B05E-44F3-BA17-9F25A8C6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B7BA-69A5-4FA5-B9B4-651BC8AB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A556-B532-4B43-BC57-0126C14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8A1F6-B024-4F1D-9C8E-BD12AE8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9C4CF-9F5F-4E93-92C3-BB6E36B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A0F-3C73-4BA2-A57B-F955731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2A7A-17F8-48E7-B2E0-09D9E0B5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8686-663C-41A9-91A5-D7CA3DBE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BF70-0B34-49CA-B881-A7CB37FD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1765-B423-4E90-ABD3-4B59672B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74B56-499A-476A-BB86-5D58D00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F6AA7-5077-4F03-A09D-2167B1B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17A2-753C-4EBB-B2F9-5A252FA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57FE-A4D5-43EE-BEEF-1BC1971D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3FD8E-19D1-412D-9DFC-298D1827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4E838-B405-485B-B699-FFA56125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1DE-5238-413E-A7E8-E716F82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B045-D80F-49D4-93CD-BDC30B1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47FE-CC9B-411A-A754-3FEBE53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91CF1-056A-4776-8E2E-D8446F63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A97F-984A-4C21-B19A-E72F92DB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5152-2DE1-42BD-83C5-C8AF43EE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6E12-E2EC-44F6-B70B-64D87C7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D8F7-1DFA-4731-8676-8FCDFA3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96A60-41B7-4017-9F6E-5C63D27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BAED1-9833-46BC-BC0B-586CCA42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2D69-E581-4A7C-84D3-FE889885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0AF-1885-44CE-ABD1-9D7F995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DA83-DFE5-4B3A-A55A-2BCF168B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203A-A002-455A-A14D-8BD558A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DE7C8-382D-4906-80A0-3B50E8E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8075-DD04-4944-A853-19EFA56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2C84-6C34-43AF-8415-F8667DC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3A0E0-DB09-44DA-900B-6A48911C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6B98-87FE-4A04-A7EE-E2056576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B5A13-430F-4AE2-814F-D088B7AB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BEA92-68BD-42D6-8565-9B4F5D2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1CCD6-3FF8-4FD8-938C-6844627D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AAD-2488-4F32-B03C-1A70678A30D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25D-913E-41C8-82F3-1D6D9EA2C6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D684-6887-4CA1-84E1-FD055D2560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CC56-48CF-4E5A-88E3-7561C358EB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020-C3A3-4DBF-8F28-1BCE3932551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5F4-A792-4EDA-9ABB-6B29AEFCDBC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DF2F-33F6-4DF9-93B4-F958811BBC0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5DFF-BF6C-42D2-8AD0-CD97DE7124F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C3FB-5050-43A4-8420-96E6FF05899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A5B4-82F7-4E02-B278-DC9E37BC0EB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07F-4CAE-4541-A23E-6483DF34C52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C43-9E70-4ED8-A843-1DC78B4543D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F30-9633-4EB9-B4F4-011B531F07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8CD4-6829-4252-84D4-4E3BEF4CEA3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D15-1E72-4E5C-835B-3499E8C77D8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D178-4CA5-40DD-9CBA-5F6AABC4B5C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 -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quency of sending your bank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 / 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„overdraft“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 = withdrawals from a bank account exceeds the available balance which gives the account a negative bal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Úč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typy účtů, základní rozdíly mezi nimi, pravidla při otevření a uzavření účtu a zavádí další pojmy bankovní angličtiny spojené s tématem účt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open an account, current account, deposit account, giro account, FC accou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ir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C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urren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ding 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rect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via debit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 fees or even no fees for running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ust keep a certain 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ch higher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rate is fixed for a fixed length of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withdraw money you lose the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iro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 of 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very high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aries are transferred from your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pay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nt, gas, water and electricity b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C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current or time depos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major convertible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is usually paid transferred into F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ent can ask for euroche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need your ID and you have to fill in a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some personal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a specimen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agree on the conditions of running your account and th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39Z</dcterms:modified>
  <cp:revision>14</cp:revision>
  <dc:subject/>
  <dc:title>BUSINESS ENGLISH</dc:title>
</cp:coreProperties>
</file>