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5C26-DFBD-45FA-9FB8-9F964885A90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0C3A-8B73-4389-A2C4-AA2A537D7D7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69AC-1D4B-45F7-BB7F-A68A66517EC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7534-0877-41A1-8548-FED885CF852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4CCE-7613-4470-B0BE-B13E15C5911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3002-038A-47F2-9D05-E7C28DC8E06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B1BC-ECFF-49BF-B894-4B0F6BFD0A3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772F-A2CC-486C-9F4A-C59DB010A22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E7E9-C85D-43A4-AAFB-374DEAE55AA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D487-50B4-4A84-8CCE-86CA7FB56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661F-F307-4D9A-8BB1-205D1395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6E93C-61CC-49A4-9F4C-B1ADAC4C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95E9F-C6E6-4DEF-8119-63895D7D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B8D0B-49B1-45BD-8B56-8613DB14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886F3-8BC6-4D3C-B82F-F24659A8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1EB8C-C28D-43BB-9D0E-628C7772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B75D6-F978-46D5-AB43-5E83619E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AF181-6D79-4A6E-8329-256F1585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1BAFC-10AE-457D-BF1E-6D4C09E2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A76C6-329C-46BE-ADD5-3527C8FEF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B02D6-38FC-4512-B454-A5F964A9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F058-7E8E-4486-B86B-CF1AC5C5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5BE0B-A0BE-420F-A572-C6682B92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AF9B7-90FC-4FC3-B8F9-EEC60CAF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A73425-A58E-4952-B59C-1973C493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AA525-87F5-4A52-A020-DED89B4F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C2984-14DB-4117-AACD-FF0EBCDD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A9018-1565-4BE1-B88E-03CBA0A9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BC8A3-AD28-4A0B-BB88-09F7B75F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6731D-EAFE-4595-9FF7-CD686D09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C8C5F-FBC9-410E-BC16-25F334DF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5E4B5-D421-476E-982C-2803C55C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BDD7-DB51-43AB-ADA2-6E859149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A0257-B6AD-495A-9FE0-12603E37D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C4613-15B9-42A0-9EFB-74FC43F9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BE761-9AF3-414A-A59F-04445DD0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8B4CA-3E69-4FA3-9173-7FE02BE4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4D194-733A-4387-8717-8F63BD0D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D212A-D252-4FA5-98B1-49122BCA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F9287-61B8-41EA-8288-4A3FB17D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38C26-2764-4536-9E68-8C15DC80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B9AE4-35FF-4A2A-A2DB-BF250CB7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28366-34BA-4501-90F9-81414987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2AAE-1E30-40DC-ACB7-BC8449E9C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4F395-7D15-490B-8160-DE8FDADA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CFBA3-6BFC-45CD-A1E4-A9FD0409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E15F1-E594-4213-A381-3A22AA07B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B21CFB-0A1B-400A-A0D9-3459D375B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0AC9D-C67C-42ED-AFB9-5C991271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B631A2-7A45-4AE1-A39F-C9C0A1CE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B29EC7-1B03-4515-99D4-56F769DA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0DAD4-03D6-434A-A12B-54BC9188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B7E164-A27B-4132-8067-D95D10A3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3BC589-020E-421C-B88D-BD4968C7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9995-06CB-49CD-AACC-0C863D61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3165D-67F2-47A8-A90B-9FB4617F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EEF08-8472-41D8-9C78-6A923CBC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1B4C80-B7A1-43D7-B94E-C9F9E0B1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E1B47-2C8D-486B-8309-91666E3A0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F1DECE-4794-4679-B3B1-E17BEDD1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394D02-816E-4177-A804-E76888399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F56E62-8DD8-493A-994A-537BF38A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C460BA-5A3A-4BE6-AEE7-8A5DDE51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E513F4-47A0-4F18-BE86-BCBBCC6D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569A9B-1BDA-420D-BC63-80F8D27F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360F-398C-48ED-B61F-4DB345DB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E77D91-86EA-4A32-94D7-48758B0A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F8D5FF-6C30-4998-B184-9A46051D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66E924-E9DC-47F2-91A5-F0914E11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F08052-D463-4E00-9945-18C8EAD7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EADF1C-77E8-4E72-8448-21388054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F7D420-8252-4C3A-A053-1198F69C3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4896EC-962D-4E88-B73A-59A0673DD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18E2C3-A056-401D-A32D-074BC0FE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13F8AE-0B0D-4F42-9FA5-F5139C24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43BF51-4B9D-4D0F-8DF9-54906848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B7DB-25A8-4998-8946-708F472B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DE0D99-360C-45DD-8F59-B65F6F63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C41096-DF6E-4C4F-9991-C862B6C7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644B69-8257-49FC-847A-4BF1CC1A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BD6531-C216-42C3-B2E2-13F33E12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3FCE26-F6E4-44C9-803F-C3E7F0D6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E9C1C2-9B99-457B-975E-766AB28F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75D22F-7053-4F94-AD27-15FF3A3C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2A648A-AD78-494B-9699-1148FA965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09FE6B-8C8A-4753-AFE9-571F97A45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AA95E9-8540-4163-9577-8C979EEF1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0178-DD6E-4A54-BEFD-CE56EB75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786F22-1E78-4093-B12B-721F44BC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5785DB-9D6E-40E3-B211-D4572141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F3E168-CDA4-4D1F-A429-7F3B0481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829BF4-1F0D-4734-9352-F728D434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F49205-9C35-464D-A5E8-A1BFF59A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BB28D1-90E7-45C7-985F-7C2D0B34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1FFFBC-B833-4EA2-8ECD-D33BD38B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7B4647-6FCF-424C-BBB2-F182A7F4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FC894A-17D2-4F92-8CA5-17FB4AB8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D67059-6A5D-4795-A8E8-F8E98E6B9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46DE-CE88-45E0-B0D4-826E95A4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102874-4B1C-4FB3-8E50-11E874B42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4C5F93-97FA-43C1-A869-ACE7D43A5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9622E3-087C-496C-8922-BBB8D546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5A6F33-E454-43FF-9D67-9A2A4099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87EC41-14F5-4BFC-8CD5-56B73391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C33375-5589-41EF-AD03-8A42FE24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DDA6B4-8918-4973-BF40-A9912194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9DD932-CE1A-472A-B46D-D14BCB95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E88B24-FE75-4058-A1C7-FD97DFFF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A568A3-A4B8-4ED1-8326-0C33599A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EA66-DA7A-4288-97AF-9E763AFB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F7725A-BFE4-47E0-8244-87CC9D5B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EE8121-C715-45AF-A37E-AFA6E30A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6C5A89-AE73-44E5-A665-BE0E0AD81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6F4C-1E7E-4317-9190-BBCA8E1F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88EF-7C64-46CC-8211-8399CC24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40C7-8AAB-4F98-A134-79F3F30A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F419-9252-40B5-BEA7-4870BB2F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6AB0-65D5-4152-8A5A-AC2E2B957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AC06-043A-437B-946E-898DF69A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E1038-F832-4546-93A1-A002D36F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CA710-639B-4A6D-AA94-C4FC9B25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FE14A-EAA2-4C3C-B2D6-1A41732A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5BB94-3956-4384-B5BF-2BFD7408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91BC3-17E2-40EF-8215-0E5A7691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9603-CFD1-463B-AD08-770FCFB2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EFBC0-7CED-4F6F-9DFA-992538E5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7C54D-C15B-4925-8C2C-D7A0BF14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BA71A-AAB4-461C-8F9B-BB7339DB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67901-0C78-4EC9-A5E8-44C7641C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79C04-F07C-4526-9032-C05B0E0F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4BB42-2F41-4533-B8CD-410CA923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07548-338E-4B9D-BA04-46371739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FE281-0319-492D-88B8-76312F28A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8B27D-A8BD-4101-A116-A1E058A0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306D9-21F8-4BED-A439-F9AC8457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109C-2B12-4C94-8416-30498D11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B0722-BB40-456D-9FE0-3D2E13F5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FDDF0-371C-4F08-BF86-AA0916D2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74403-6F98-475B-938B-46E3597E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DCF36-5A57-44DF-A200-7BB7675C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AB4EC-B518-4ED4-8E66-47DBCAC3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C5646-37DE-43E8-BA50-7D93A341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0D1F3-6844-49FA-905C-E2FEE9CA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484F3-5C44-47A0-9189-7FFF42CC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3FB18-BEE1-45C3-80A1-F51514851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B6CB2-6715-494B-B41A-268971B1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F58D-5DE2-45B3-A3D4-7AAF12B8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80402-278D-43E3-A2C1-0CD1D479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752FD-CC10-45DD-9F8F-35034548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E10E5-AD35-4A33-B327-03AE753C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2DFEA-18D9-440B-BBBB-193197DB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5B17B-D189-4437-A165-B2935923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ECA8B-9864-4A59-8612-8B11832D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1CD65-7DA7-44AA-8124-6001BDA5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F147B-9AC6-43F0-BEF7-EFB842EA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CC505-0CEA-4942-A0AA-54ED1E0E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E3FAE-0C2C-4E98-A55E-66347E12E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B3DD-33CF-46B2-828B-750D82EC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6E613-6F08-42DA-BAE9-D8E12513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A44E3-AE8E-4D6D-B41E-013FCCBB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27817-C140-436F-A70B-ECF6AE6A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847B5-11C2-418A-A01E-A82CFB9C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138AB-703A-4208-8BBC-5E30F5F3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A724D-0AD3-4757-B351-CEDAEA4D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0605C-1A0B-422F-8B69-1F53DFAA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9C834-61DE-45DE-AF8E-AD9AE5C8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C185C-4945-4D4E-97D6-CDE0B4C1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80640-5948-4AEA-B422-072865C9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48BC-7C1F-4512-AD60-B25C56C0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A6D69-4285-4D49-B315-BF8A3233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80A44-6BFF-48BA-9810-8D9CEB76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2A4FD-5255-4BB3-A6DD-F996CACB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E120A-462A-461E-95E8-E436AE2D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1311A-6909-4FA3-831A-D515CC68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A6C14-E68E-4283-839C-BE24BA7D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046DC-1A1B-4916-B01E-3D1D91F9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43C9F-38B6-46E4-AA2D-42B51A31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B79CD-2B25-4342-AA2A-B22FED8D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18621-2518-46DC-9F56-13C280B8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6C47-697D-40D0-95DE-B062B835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16938-8C0A-43B9-B43D-DB4879B0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45E23-5930-4608-BBED-2CAF6549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AC494-A3FC-4584-B0B4-85A227B6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B91A1-53B0-4B93-A137-4B48129E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1E91E-B5DE-4A0B-A9DC-DDAF0F24D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C1D89-FF94-4B32-A18F-BA3F1FDFE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3B5FF-4A09-49B1-850D-DA96ED99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DA141-1743-4967-B781-066F966C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33442-FDEE-4FFD-AA2D-88493F41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0EC34-F090-4F52-920B-38BDE0A0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306E-49D3-4422-90EC-0216697E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A43D4-2F19-4056-9419-3782AF64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15865-2CBB-4291-B2EB-CCB8DB72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21F96-894B-497F-AB14-FC98EB65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22318-A779-4530-B8BF-F03C5B52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C2391-748A-49AE-A4CB-0DF45775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11FF8-744F-42F7-BBFC-82D647B95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E3973-7559-489E-AF43-E3DDCEE28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19EC5-DBAA-45D0-BE48-209B7A9D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B845B-7208-4315-B5AA-53271FC1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FD1E1-078E-4C90-89A8-62984008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B67C-23AC-46D9-B9E8-639DDC53DA6A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E342-978E-4A3F-98EA-95DC56F5D4C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87F1-6241-45AF-A324-8DAA3D51FF0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8D32-987A-43AC-AA69-F8E707872B8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CBC9-FAF8-4C8A-AC98-F21CE974AB4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E54A-1AB5-481E-9E14-D2C0DEC5B95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C8BB-5DD0-48BD-81E2-21060B5CF63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A9D0-63E0-48AE-A63F-CC237D643D3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0770-EE2A-4622-8747-1DDFC87107E6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56E4-1BAA-4060-8A8E-E5E9B1D136E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7673-4C55-4314-8717-ADCA19F64A73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BC0F-0862-46B0-88D9-E41F5D76D821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B069-0C41-4656-8325-F04B091F388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0C47-6D90-4B52-83FD-F5A2140B401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F297-A490-45DA-995E-85A4BE8B047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40A6-FB06-460F-9A2E-2C5008385BE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9.12.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interne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earching for information, pictures, videos, new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ending and receiving e-mai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hatting with other people via messenger, skype, icq and other ways of communic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uying goods or flight ticke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interne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ooking hotel accommodation, sport or culture ticke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nternet bank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resentation of a fir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ersonal present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73" name="Obrázek 1" descr=""/>
          <p:cNvPicPr/>
          <p:nvPr/>
        </p:nvPicPr>
        <p:blipFill>
          <a:blip r:embed="rId1"/>
          <a:stretch/>
        </p:blipFill>
        <p:spPr>
          <a:xfrm>
            <a:off x="5724360" y="3716280"/>
            <a:ext cx="26197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-mai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Head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Greet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ody of an emai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losing lin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76" name="Obrázek 1" descr=""/>
          <p:cNvPicPr/>
          <p:nvPr/>
        </p:nvPicPr>
        <p:blipFill>
          <a:blip r:embed="rId1"/>
          <a:stretch/>
        </p:blipFill>
        <p:spPr>
          <a:xfrm>
            <a:off x="4859280" y="2924280"/>
            <a:ext cx="3791160" cy="22334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-mai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3366"/>
                </a:solidFill>
                <a:uFillTx/>
                <a:latin typeface="Arial"/>
              </a:rPr>
              <a:t>should b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PLET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NCIS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URTEOU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RREC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79" name="Obrázek 2" descr=""/>
          <p:cNvPicPr/>
          <p:nvPr/>
        </p:nvPicPr>
        <p:blipFill>
          <a:blip r:embed="rId1"/>
          <a:stretch/>
        </p:blipFill>
        <p:spPr>
          <a:xfrm>
            <a:off x="5940360" y="3411360"/>
            <a:ext cx="22478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1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Telephone, fax, interne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působy firemní komunikace prostřednictvím emailů, telefonních hovorů apod. a představuje základní fráze pro komunikaci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Telephone, fax, internet, telephone call, email, communic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43280" y="33573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TELEPHONE, FAX, INTER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6666"/>
                </a:solidFill>
                <a:latin typeface="Arial"/>
              </a:rPr>
              <a:t>Telephone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757" name="Diagram 2" descr=""/>
          <p:cNvPicPr/>
          <p:nvPr/>
        </p:nvPicPr>
        <p:blipFill>
          <a:blip r:embed="rId1"/>
          <a:stretch/>
        </p:blipFill>
        <p:spPr>
          <a:xfrm>
            <a:off x="841320" y="2352600"/>
            <a:ext cx="768672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ood ideas for telephon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Make sure you know the name of the person you are talking t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Make some notes in adva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Repeat any important inform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nfirm the main poi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ound interested, helpful and aler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eginning of a phone ca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Good morning, this is .... speaking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an I speak to Mr.Smith, please“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 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´d like to .......... please“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Good afternoon, this is .... from Whitefridges company, can I talk to someone from your  customer service, please“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ossible answ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es, of course, I will put you through“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´m afraid he is not in at the moment, could you call later, please“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´m afraid he is away, would you like to leave a message“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´m afraid he is busy at the moment, would you like me to.....“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eaving a mess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uld you tell him I called, please“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 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uld you please ask him to call me back? My extension is 231. He can reach me there until seven o´clock“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uld you take a message, please“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´ll try to call later again“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….. 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 telephone receiv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 dialing ton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n engaged ton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 transferred charge cal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n international cod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 hook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68" name="Obrázek 1" descr=""/>
          <p:cNvPicPr/>
          <p:nvPr/>
        </p:nvPicPr>
        <p:blipFill>
          <a:blip r:embed="rId1"/>
          <a:stretch/>
        </p:blipFill>
        <p:spPr>
          <a:xfrm>
            <a:off x="6156360" y="3213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11:18Z</dcterms:modified>
  <cp:revision>23</cp:revision>
  <dc:subject/>
  <dc:title>BUSINESS ENGLISH</dc:title>
</cp:coreProperties>
</file>