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DF83-4F99-4D35-B3D0-52BDFBF880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61DE-83AD-4325-9924-896779C76D2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5CC9-4C34-4A49-B671-3599885A29E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6F1F-D4B5-4D09-BC2D-3E680E5C134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9829-5FCF-4681-BF18-52F49001BE2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882B-DBC5-4AB6-A62C-6BE630F8E8B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F08D-A44C-420D-8586-AC2D9CAF6C2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EB28-ABD6-42A3-AEE4-E95BA1DDF44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5856-8479-4C52-A193-E294E9C7012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70F-B60A-4324-BF04-A70E2910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EB6-9AC4-4714-B438-AA60EF98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DE2BE-3BB1-48E2-8C8F-E93DDC81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74159-223E-48C2-AC27-A5EB0C89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84032-BA4A-49F0-84EC-0A208747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BF1EF-E5B4-4DC7-BE0B-FE13BE48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81634-FD14-499D-A2A3-ACE3FB1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D2922-0D55-400D-A00B-1DA3AA5B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1EAC6-0FEB-42B0-AB7A-4D624FBC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0268A-0312-41B3-917D-26F9C70C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363ED-35A7-41C5-8114-FD0E374B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827E3-DE40-41CB-9A97-356CFE14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0DD-B510-4C94-83EE-955AD5B6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25CB0-0E14-442F-85BB-F5F4D8C1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53EB1-5265-4DA2-95EA-5191B6E9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B142D-242F-4136-A7C4-5C72D044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DBB33-828E-4DED-8203-7C52981F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38841-7EE4-4DF5-8F7A-5A7735E2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5E73C-9347-432E-BAF5-46396A87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75CF3-25C3-47DB-8463-49A35D79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043A4-2E56-4BB0-B3C7-41E06413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23D43-BF46-40B3-A62E-3AB5DA86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79D79-CC3D-4C8F-B3EF-7E2677A5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62E-D97F-4764-93AF-D79AEE84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7DC14-1D51-4FCE-ADE9-939B1EF4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E9A6E-CB2D-490F-B678-9796C2A4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C65E3-851F-43E5-A49E-100F1A03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6378E-0F9E-4E4C-ABF1-73CB03D0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81EBF-7BF6-46E3-823F-1B58452D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B8DE7-3CD0-4C21-9C22-239D5C80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D8DD7-0995-49AC-8349-C3635526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FEFC4-17A3-4794-BE13-3707C8AA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518AA-0431-4EE4-9842-4385290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CF0A4-BC89-4D66-AF3E-742E0256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C77F-8EEC-4B31-950F-C13BC721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6C1E4-EE01-49E6-B885-17422797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D3A98-366C-401E-8D50-B73AB1FB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D3025-CF37-46D1-8540-AD5E9077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BA9EE-7EB7-4E4E-8F03-C9EB1EB4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9E45D-7CA1-44E8-9D51-844E7B34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07B67-E60E-4FA8-B9C3-7899D3FF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9C3BD-8759-423B-B678-6BFFA093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97482-B6A5-4514-8A94-E6EE6FED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33FDF-25AA-4B66-B329-629A6C92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19B5F-72CA-46BE-A65F-EB84C29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18FF-9A7B-4F92-A708-C4C73779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46589-9644-4825-A940-AAFFF20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866DC-E61A-4981-8B69-56EADF1B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AFEE1-DAF3-4F01-AF6E-02562370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2A4A7-6A9E-4BE1-AD0B-6EDC150D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EA214-BD59-4E39-B1CD-623F76E9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2594A-DA5F-4054-882E-1638DA31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A8614-707C-4A1F-991B-DF7C8687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9008D-F6C6-48DE-A28C-9450CC4A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6237F-E020-415E-A656-08B677DF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45E55-BF6D-4F68-B08E-7F5AE362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80B3-FA2B-483E-B7D4-43D81D9F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2CFEC-15F7-4A1A-937F-D4E8BEC7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EC753-C172-4E9C-BEF0-851CA39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8BA4C-AAA4-4B1C-A654-B2F8AB2C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87145-E8E2-4167-A8DF-D9AC400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56D9A-9D06-4C22-A34F-DF390119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5BF39-DE8E-41D4-BBD1-AA001725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86BEF-44B9-4822-AF4E-A4D86ABB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24115-5DB3-4590-A3BE-C8E3482D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914FD-2B7E-4A71-8E8B-DF613338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B59E4-CE29-4FC2-898C-D8F2DFCF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8F1B-56AA-46DB-BB3D-FBEE6438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FBA0A-B2C9-47C8-8A73-7508F4C7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3D560-89BC-4A46-9FF1-DD1828BE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6ADDC-FD46-45F9-B456-099D12A9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2AA85-D834-420A-B3DE-3AA1CD73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C507A-9685-430E-9574-8B51C5AB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B3063-382C-4F95-8835-6B724269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81759-C2C1-4172-85FB-5A63B06B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E389F-104E-42B7-A4E1-ED6DF3F8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BD842-78E1-4DCC-B6B0-0B1ED60C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2DE78-6ED9-47E1-8B62-DDDD2F3E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9761-EECA-4427-99B7-D94D83D7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AAF7A-BD21-441A-B1BC-1AFBD987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81C9F-38C7-4055-A7FB-67D84B2B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6F1CC-D831-48E8-A132-87525759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0E163-3C58-4C9C-A768-41764E5D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6ED0D-71B8-4523-9D48-02CF5ED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8748E-8598-4226-8BA9-C61535E9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39A7D-224D-4993-84B9-2FCEC440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F569E-2B01-4A13-8307-7A05AAB2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47DD9-FD88-44BF-9D71-27D56F4F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43059-9652-44C2-BD22-36FC14B4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6689-07E2-4E5E-8A50-CC299492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30633-C0E9-4460-B126-0E429A50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3BDA7-1AD8-46F3-BF42-25CBF61B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52A92-8371-4431-88C5-CCED7F8B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CC9EEF-B459-48D8-8810-D0B7B6A5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69A79-7380-44E7-ACF2-70C72B58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845A2-8009-4BCA-A6EE-E0666C07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7C978-398D-4691-8995-F5E3F03A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92EB0-EF88-48F5-ACF2-A3FDCD2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48B74-1855-4E3B-A9A1-224C02B3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AB60C-9D04-4971-8C42-35323F21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AB3D-2E4C-4E92-B07D-4245A0AC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99C99-C77B-417A-BCFD-98B985E1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5C611-BE43-45B5-94CC-5CED11A5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9F2C8-D10B-40B8-A754-38C5DFE0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C2C-D31E-4921-92F1-18C70182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CCDD-5F25-41AF-A3EF-D1CB7F87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A747-1CBF-4F28-B12F-BC6A3D60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DB72-4240-4112-BF76-843AC7C6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A33A-338F-436B-B82A-3B44F3F8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0CF6-AF74-415B-90BC-DE62C2D2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181F-5D2D-42EC-B7FB-C0865310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69B5-A325-445C-8686-B510075B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9269-BFAA-4943-9370-E4838CF8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6B3F-AF37-4000-83AA-E1D50305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37E48-AE0D-44B5-AE79-6627ED61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B74-5D62-4F1C-8E23-3341D843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FB39-816C-409E-AEC8-FA2CD22C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D33F-73CA-406E-8E6B-7B0323F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0A50-2B71-41BD-BEAD-CD9BB39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B541-940E-4AC5-AEFD-1B293538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9E1E-C78C-480D-9805-09472537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D4652-8F1A-47FD-895F-124A819C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42A2-7543-4F38-8FAE-4E9BEE4F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0EC76-8CBD-4ECB-A52F-EB764408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95AF-E243-43CB-AA37-53507106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1B80-C4A3-496E-B6BD-A14089BF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0DE-2528-4FD5-B191-E0B476BD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0F3A-D75F-42DB-80A1-6F6F1C5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A3C3-E59A-438A-AE0D-409BA946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102A6-B1B3-4A6C-92E7-B207F464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3EA9-71E7-4625-B9C0-D329D907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3119-E8D8-4717-846E-BD23EA4C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FD60-AB5D-40C3-A5C4-262D9DF4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4C63-3644-4178-B9D9-237C7807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2F04B-0D94-4B7C-A0EA-DA7E9B9F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8D50-42E6-40BB-959F-5F8A8037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EF93-9F5A-4154-9F89-C1D2B8AD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8B5-2430-41ED-B646-2560D9D1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09BBA-A813-4B19-94C7-E5756E02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3732-1964-4B6C-ACE0-F1BDBB3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658A-8C1B-4E84-8923-353D71E0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0D591-C50B-4471-8569-E5128E10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42C49-8AC8-4381-A656-5EA78886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A7440-61A6-45C9-88AB-B5521581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CFB9F-7098-41D0-9EDF-128E92DC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3B2EC-05BF-469C-B19E-5557831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4274B-4764-40E7-A4DD-89EF842B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87257-9916-4146-83C9-C8C17AE1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6D6-81E5-4FE0-B817-4587DB84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93E71-E4F3-4A2B-8C7A-CBF7C287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FDE0B-1B14-4FEA-A7F4-5EBA3031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54FA1-F3E2-4A16-AAF0-48DA5EBA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C34B5-1632-4185-8BC3-F9DB190D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0F73-7C8F-4CF5-8C9A-424C383D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8759C-864A-4548-A723-C2EF58DC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64DF8-CE72-4B86-9F11-B47170F2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6A752-1BF4-43F5-BAD8-5AED12C4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B8416-9368-45CB-9AF6-8049997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DAE6-E198-4433-87DE-F1F951C1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E2C-7B99-4558-A1C4-F13ACBBD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163C1-03C2-4713-AD43-0AB7A992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97369-C44D-4F0D-9274-496C8E13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C44DF-D689-4C1F-869E-DB66ABA0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307A-AACA-46BF-8EE4-4F5B5C9D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CA158-508D-4580-9E95-D76F67CC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95F66-49D3-45D2-81AC-6915FBF0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B4557-03C6-42C1-B48C-BE6D5DA1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0DB2C-DF09-42E4-9143-C9E829B1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E4809-8C38-4AF9-8CB1-0A32B255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D9345-31C7-4F0C-928D-0C68FD34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486-CACF-4F39-905F-69B19443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70DC8-F202-4290-88BA-0593D9A5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56D5-93B2-4C76-AA90-E1D251EE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D634-B32F-4D77-8084-4BADFFDF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19619-8D28-46A1-8405-4C1ACDB7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F6EED-0AD1-49B9-91F9-4FB6301B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9F21E-900C-4185-9E6C-F33E7DD5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0D333-477F-4AAB-B684-B9F1198A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96637-FEEE-4853-ACCA-439BA207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38154-2C03-4EC5-899F-13856325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BA306-87E9-4286-ACD5-33949BE4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3C5-E47C-462C-84DA-418E672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84FEF-7BC0-4B6B-AF47-4388D314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BDFFE-5708-49F4-82A3-2E1303CD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87F59-C8DB-4FF0-B3B4-ED8E3438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2046E-8DEF-4439-94E0-CEA0C2E8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A11C-0DCF-481E-BC8D-7C19AEB9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CFCB9-B3FD-436E-B8AE-6F932A23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6F8CB-46EC-41A7-8729-77578494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7052D-8A6B-4CFE-A824-ABC3084F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22358-5FEB-4FE4-8E51-6B946D24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A9AE8-CA72-4415-A753-E40EC841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408B-ED53-45A6-9827-5BFC6835EFA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DBB2-2A15-4A80-A259-3589ECEDBDF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61D7-87B9-4088-89CA-8D9D32AFBEA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9476-E005-40C3-8946-E73CC591594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962C-E97E-4EF5-9BC4-7C9166D7D75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BF6F-FD44-4150-BAB2-F699FD5C54C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73A4-CFA7-4909-95B1-89D17FFAB02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1E62-0527-4FDC-A6A4-96008177F00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B2A8-D82D-4E57-956F-21CF3314D1E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DF9-F697-4533-8861-182481EDA79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BACC-386C-4FDB-A55B-38DEFC6BA05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72FF-6844-4652-AE51-0315110039B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CEAE-4544-46CA-A9C3-31605337900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C795-90DD-4D1B-8531-903CD67F92E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A827-5ABF-45CA-9048-0FF4D84A80A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AA65-5E17-4F97-9B37-1F357F468C5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01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.W.I.F.T. co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code for international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8-11 charac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4 characters – bank code  (only let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 characters – country code (only let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 characters – location code (letters and digi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3 characters – branch code (optional, letters and dig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s´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ecurity which entitles the drawee or the holder to withdraw money in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0" name="Zástupný symbol pro obsah 2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26080" cy="16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s´ cheques must contai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words „traveller´s cheque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order or promise to pay a certain amount of money to the drawee or the h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ame of the drawer or the company and their sig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měna, cestovní še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nejdůležitější zahraniční měny, vysvětluje směnný kurz, SWIFT kód, podrobněji se zabývá cestovními šeky a představuje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ěna, směnný kurz, SWIFT kód, cestovní šek,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01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3573360"/>
            <a:ext cx="40132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FOREIGN CURR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TRAVELLERS´ CHE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URRENC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Currenc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is a system or a type of money a particular country u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ne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in any form used as a medium of ex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8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466720" cy="1847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to pay in a foreign countr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60" name="Organization Chart 3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761" name="_s1028"/>
            <p:cNvCxnSpPr>
              <a:stCxn id="762" idx="0"/>
              <a:endCxn id="763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4" name="_s1029"/>
            <p:cNvCxnSpPr>
              <a:stCxn id="765" idx="0"/>
              <a:endCxn id="763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30"/>
            <p:cNvCxnSpPr>
              <a:stCxn id="767" idx="0"/>
              <a:endCxn id="763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3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You can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pay by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3366"/>
                  </a:solidFill>
                  <a:latin typeface="Arial"/>
                </a:rPr>
                <a:t>Cash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red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2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Travellers´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oreign currenc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ustralia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australi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anada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canadi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Denmark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danish cr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6 countries of EU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U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1" name="Picture 4" descr="austrálie"/>
          <p:cNvPicPr/>
          <p:nvPr/>
        </p:nvPicPr>
        <p:blipFill>
          <a:blip r:embed="rId1"/>
          <a:stretch/>
        </p:blipFill>
        <p:spPr>
          <a:xfrm>
            <a:off x="4716360" y="292428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2" name="Picture 5" descr="kanada"/>
          <p:cNvPicPr/>
          <p:nvPr/>
        </p:nvPicPr>
        <p:blipFill>
          <a:blip r:embed="rId2"/>
          <a:stretch/>
        </p:blipFill>
        <p:spPr>
          <a:xfrm>
            <a:off x="4716360" y="342900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3" name="Picture 7" descr="dansko"/>
          <p:cNvPicPr/>
          <p:nvPr/>
        </p:nvPicPr>
        <p:blipFill>
          <a:blip r:embed="rId3"/>
          <a:stretch/>
        </p:blipFill>
        <p:spPr>
          <a:xfrm>
            <a:off x="4716360" y="400536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4" name="Picture 8" descr="evropska_unie"/>
          <p:cNvPicPr/>
          <p:nvPr/>
        </p:nvPicPr>
        <p:blipFill>
          <a:blip r:embed="rId4"/>
          <a:stretch/>
        </p:blipFill>
        <p:spPr>
          <a:xfrm>
            <a:off x="4716360" y="450864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oreign currenc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Great Britain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british p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pan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japanese y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oland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olish zlo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witzerland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swiss fran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U.S.A.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americ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7" name="Picture 4" descr="spojene_kralovstvi"/>
          <p:cNvPicPr/>
          <p:nvPr/>
        </p:nvPicPr>
        <p:blipFill>
          <a:blip r:embed="rId1"/>
          <a:stretch/>
        </p:blipFill>
        <p:spPr>
          <a:xfrm>
            <a:off x="4716360" y="292428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78" name="Picture 5" descr="japonsko"/>
          <p:cNvPicPr/>
          <p:nvPr/>
        </p:nvPicPr>
        <p:blipFill>
          <a:blip r:embed="rId2"/>
          <a:stretch/>
        </p:blipFill>
        <p:spPr>
          <a:xfrm>
            <a:off x="4716360" y="342900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79" name="Picture 6" descr="polsko"/>
          <p:cNvPicPr/>
          <p:nvPr/>
        </p:nvPicPr>
        <p:blipFill>
          <a:blip r:embed="rId3"/>
          <a:stretch/>
        </p:blipFill>
        <p:spPr>
          <a:xfrm>
            <a:off x="4716360" y="393372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80" name="Picture 7" descr="švýcarsko"/>
          <p:cNvPicPr/>
          <p:nvPr/>
        </p:nvPicPr>
        <p:blipFill>
          <a:blip r:embed="rId4"/>
          <a:stretch/>
        </p:blipFill>
        <p:spPr>
          <a:xfrm>
            <a:off x="4788000" y="4508640"/>
            <a:ext cx="36036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1" name="Picture 8" descr="usa"/>
          <p:cNvPicPr/>
          <p:nvPr/>
        </p:nvPicPr>
        <p:blipFill>
          <a:blip r:embed="rId5"/>
          <a:stretch/>
        </p:blipFill>
        <p:spPr>
          <a:xfrm>
            <a:off x="4716360" y="501336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change r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hange every d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end on many different th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fixed on the London FX market by dealers from over 200 ban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y be different in different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ow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elling price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buying pr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nfluences exchange rat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onomic sit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litical sit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mount of government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ket t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09Z</dcterms:modified>
  <cp:revision>14</cp:revision>
  <dc:subject/>
  <dc:title>BUSINESS ENGLISH</dc:title>
</cp:coreProperties>
</file>