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  <p:sldId id="272" r:id="rId35"/>
    <p:sldId id="273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slide" Target="slides/slide17.xml"/><Relationship Id="rId36" Type="http://schemas.openxmlformats.org/officeDocument/2006/relationships/slide" Target="slides/slide18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 type="dt" idx="4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 type="ftr" idx="5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6"/>
          <p:cNvSpPr>
            <a:spLocks noGrp="1"/>
          </p:cNvSpPr>
          <p:nvPr>
            <p:ph type="sldNum" idx="5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1FB3D-0CB4-474A-986C-A33E14F7A7F1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09C48-A707-472A-9B6D-AAEE96B67144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3ED83-A6DC-467A-91D0-DD6202F8A61B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9B34D-AED8-44D0-9A28-417C6391869F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FBD25-2405-4CBA-81A5-7AED413826DC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69811-D57E-4177-85DC-DE7B825559D3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30A5A-5325-4A8E-8704-AEF23645CA8E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6BED6-CEBB-44D7-8BF3-2CAB7C40CBC0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E92E6-694E-4793-8E7F-A586DDB18F90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C52E-24E2-4C59-814D-023B23773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5A08-A516-4020-9AA6-5E5E9FF00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ED8143-CFEB-4746-83FB-C46265C61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D0107E-D71D-49D8-ACC9-CF1AC85D3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17765B-1454-4272-B8A1-151633DBA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117B21-3418-4D5A-B834-A4CC0A15E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C52EAB-0C4F-44BB-91FA-A47F80E34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E51F86-C145-4AF9-A716-44EBCDE64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E23667-7D18-4D9E-895C-141A3B1FD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1BF196-FF1E-47B3-BD85-246BDA2E3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8FED6B-3AF1-4F16-AD4C-AFF4304F6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545C19-AEE9-46B8-B350-C21D946B9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FB8F-4F4A-4C84-9E61-81F9B7D4C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BAF1D3-6A30-4C0B-8BE8-33DE454D4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50E27D-ACCC-42FC-9A14-94602F795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8209D7-A682-4E0C-8437-F2D285FCD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6F68DD-2E73-4D05-A1F0-1B9D7DD76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B92780-EC0E-4CEB-BE18-B1F52E42C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AE988D-B12D-461A-801E-AEB8CDE49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B13F87-A473-4C7D-9A03-5BD712001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508FAD-D8D8-4C31-8C77-2665679F0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F50042-0A0E-4457-BFAB-255352C6F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B13A60-DBAF-4747-9A50-F4CC1A9D8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3D27-B4C4-4803-9B2A-1EB2A9A58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59875E-60EC-4B85-9CAA-4FDFFF9E1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AA2250-FA9D-4DA1-836D-3A43E3A58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A2E590-7E8E-42E3-82A1-F43FF1F2E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02342A-88C7-426D-9248-C8CBF56C1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45EC33-3067-4DAD-9B8F-E7F617F69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FB7E10-F12A-4B25-A5F8-55A749A3F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5131D5-9F77-4B4A-8151-A29338744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E44C90-B8B9-4ED7-B505-FEBF0B5C1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65D25E-4D98-4DAA-85D7-845EF819E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DDEC0B-EFA0-43F6-BBDD-67B67C8C0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06AF4-5B2D-4DB9-8F0B-B7251FA8B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E807FD-02B4-4F68-AFD5-8FE634C71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46EDEC-6D40-4DA3-9D18-C4AB7AD84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D1018A-8C09-4BE9-9C39-E8FACE7BD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7D0692-DEF9-49C0-A999-0FD66CE11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9C56C4-6E35-4CA9-A8BD-502251B40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9B38C3-BF97-4FB5-BA1B-DBABE8CE8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96D7B2-B2E6-4399-B83C-81F0CF593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2D76FB-4068-452A-BA11-A6E7C9F0A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83F831-4361-448A-93FD-00D74E251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383290-9A23-4002-81E1-5DB620F06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BBB97-0D09-40E8-B197-C675FFB38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2ACBDC-7756-4FAE-B9C5-5A608A604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DAA62D-B093-413F-A173-D4AC53234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7BBB70-7518-4DBD-A042-5FD8490A9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6286DA-E0F3-48D7-9329-8B4E5874D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D25155-FE0A-4212-81EE-4D1244FFC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FD295F-C8FD-485B-BBC1-5F50E4619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B761F5-8180-47FC-ADB2-F7B68BAE6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BA9AA2-BBCD-4EC9-B5B0-4F585CB30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A3F6E5-DDC8-4B4F-A1B6-E482A57DE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7137B3-6987-4B87-BF99-A5E2F136A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5281C-CE0F-4834-9658-19E61DD85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81357F-B54A-453B-9141-A857CFDA6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70A2D3-C6E5-4551-9BCB-F8FC99AAA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6B390C-98B4-4AD6-B123-25842AECE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E7717D-0E1F-45A8-B61E-04713CF6C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86A492-3E2F-4691-B911-CD36F6805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8D0539-61FA-4876-A9A0-D295F8883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92BF43-BA59-40A4-886A-C456F6760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23D981-4D3E-491F-9D99-91CDC7544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B1B616-E1CE-4FB1-899D-428FC3F90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57EF28-7C24-4495-9415-4D2956DD2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ADFF6-E391-4447-845C-CA50F19D8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425FA6-9348-4A79-8D45-736D3C1F5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844C9F-0FED-45B1-B911-223EC2699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9CD042-1A9F-4FFB-B7E9-150123BC7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17DD77-3710-4035-94E8-69D75F8FC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9E01C3-C446-44EF-9FDE-8269013A4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DD9A15-D64C-4CE4-85EB-0F4E8C06C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F9E559-397B-4096-89CA-80175A07E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4C46BB-2A8D-4095-8FE9-A6616A86A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7D6A6A-2A85-497E-82A2-CAD08214B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2CEFA9-DD66-4947-8038-0D37011B4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69D03-F294-44DE-83D2-15D68FC9A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18E90D0-F452-4EA4-9A6B-67F087142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B07921B-1DC3-44EF-9706-194CA0C34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D405592-2825-443A-996D-72A83469F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549D51D-A9B7-4B3C-8507-381AFAFFB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CDEE59A-270E-4A23-9447-9113020E0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C3926E6-DB21-4830-A878-8A0DBF1DB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C34A34A-4E69-46EA-A77C-540A9E069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1A89C98-AFD1-4145-BDAB-FAD0C9333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3D87DCB-39ED-405F-A808-32D15D183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CA4BE7B-3F50-4F04-A8F9-A31B8CFB3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158E9-BC2D-470D-BA97-95F3BD325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CDFCA0E-D4FF-466B-8AF2-AED521D45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2F6C008-4516-4C7E-BF80-F00FC3031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16096F2-F543-4136-811A-551DB58DC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1A14878-78AB-40FA-9D5E-E36B9E3C0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2F46C6C-99A7-4937-B5FA-6BAAC8CE9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8556EC8-602F-464E-B2AB-6C014290B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D410209-8263-4762-87C6-1EE8A6CBD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50D492B-9768-4D51-AC2F-F64A6A995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3D9B27B-6C00-40E9-899D-61250D06A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ADE8C4C-8C61-4B5D-A1E8-6B6D467E4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003F3-9CDF-4C93-8198-B78D07774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072793C-46EE-4264-9C69-54E3C43C2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56D6EA5-E388-45C0-B5BB-862354CAF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6072C22-6F69-4D8F-B248-1EA5D3053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D00F-6005-4BDC-840A-022198183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BCC69-731C-428E-969E-6ED66D087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B779F-3471-4EEB-A7B1-0F3E40934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BE5F2-CB66-4F12-A999-D03867E40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83B58-AB4D-4A18-8734-2D5DD5371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4FD83-539A-4C9E-8721-515B50225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3BD0FD-3E09-4BA0-B3AE-47E71FA25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7834A4-5F9B-4029-B5DC-9CA1760BF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4EC5CA-37E5-4DDE-92DD-318E2EEA6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333371-862D-4B72-8FB9-499D4D6CA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E884BF-F055-45D4-9391-6705BEC1D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F4C1-0FF0-4910-BE72-55DCFD656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EBCEC6-6AA9-4475-A3DB-EB16B49DD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E21AEC-F193-41EC-A1A2-3C18225CD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76902A-9B01-4E4A-8C6A-3A1579438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F66871-8760-47BB-BAC5-3EDDA9E8F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3D8D86-8104-4F82-B9F7-D43D7772B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8B8D1D-F507-441C-BB3D-184D2EC0D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ED9623-BEE8-4AD1-8905-EDC2A00B5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ADF372-6F6D-4B64-9FAD-6D6D3F530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10AEDE-D48C-442B-AB8D-DF665C6D5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733A07-3646-464D-B246-049176873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6F0C-1A17-4638-A5DC-CC55E19AA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746B25-45A4-4917-9B6A-237A585AF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C5B8F9-51C8-4CE0-B5A8-16D34714E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3627ED-F500-423B-9EF7-AAC210C7C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651D4F-FB3E-4C74-B795-FF16C629B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CA7776-4FD2-4019-99A4-DE3B20C35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767D26-FA41-472B-BB4D-B02BCD8E3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F45CD7-2677-4695-8556-AEEBE2CAF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EE31BD-9354-4E3E-9CEE-5A0613AA6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02EBBC-BD29-457F-9737-E309DF167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BD0405-A62D-4ACC-98B2-5AFB08BCD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64A5-38E6-441F-AD77-3062ADC8B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174401-CFD0-4619-A37F-1250793DB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39B8A5-A615-494A-8256-4BE3DFD28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1590F0-F40C-45CA-90C1-0585EEAE3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5193E2-1DE6-4FF2-AFEE-D5592693B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CC9337-B348-416E-B720-03BC94CA3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83231D-40B1-4E42-A495-32F83245A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E9799C-7B8C-42EA-88CD-5922D8B2A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51519E-924E-4113-BF71-E76DD4D50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328190-A260-424C-9813-77BCC6346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472993-F20E-4A55-A596-F9485C2C2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5FE3-BB40-43AC-A695-09AC94C28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AE048E-D608-4177-8EAB-131E6E434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2FB77A-1D02-4621-B3F6-13E9FB079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F9D1C7-9AA5-462F-BC86-5CDB58371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2A48A3-26F0-48D7-A229-013970B15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BC4CB9-8C47-420C-AF43-74E1E5036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A75BC6-CD08-44F3-B886-78A06EB68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845A0A-DC96-44CE-89AD-080AC9866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BAD7D1-6C20-4089-BE2C-F380126CF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502863-BA2A-4B64-B5CD-146F19319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5DD10A-0235-412C-8203-2B324F9CC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9BA7-0167-4817-8366-AC1789983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D9EEC8-46B8-4C6F-AF43-B536553E8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A57101-733B-4F1F-AE7A-C82B451B5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47BEF5-108A-4C3E-8C8C-73C5EE5FA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ABB796-B5D0-470E-9807-2D332831F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474B71-EB5D-4D83-B5D8-71B4757F9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11B5A8-62B5-4A94-AAC3-5D640F6EF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2F0B0F-7DEF-4015-A54A-4EFD65CE3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04A111-9097-4340-859E-9FE1E60A0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16C985-557A-454F-99C2-C01A5F270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4858EB-F575-4DB3-B21C-1356D9A59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9C11-A8EF-44FD-ACD6-329C94AA7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33A978-5B3F-49A2-8B95-BC45380D4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6A0907-731B-4FC2-A4A0-658B0C3C3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B3A407-DA6D-467F-91DA-37FB68521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1FECF4-361B-47C4-AA24-8C012269F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D02896-905A-4EB0-803F-457712EDF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9D7E0A-007E-4FB2-9E70-A2E931C92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CA466E-4D4E-44E0-A678-C84EC8527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D1E482-B494-4101-82AE-A6622C9B2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B2F688-A3F8-49BB-966A-3ADC7B90D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C87989-FE5E-40FA-93B7-3C9472332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F5E0-98AA-4CE0-94ED-4A37FFD09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3B4FF1-0997-454A-AC71-079B4811F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DA5245-8F42-43EE-8B8C-2E706F428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AE4657-C9F9-4E52-8198-371BD71CE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38E24E-AC9E-40AE-A351-A39624571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DBF671-32BE-4DCD-ABB4-318D41FE8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8B8CD3-CA24-44CD-AE6D-01DF952AD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D460F0-8F5E-456E-AE68-4C7496512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1E19CC-B330-4558-A789-53E5B6041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1083BF-BB66-4384-93CA-54BDFB496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7A620B-C049-4FED-8327-69EAAB7E5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69.xml"/><Relationship Id="rId7" Type="http://schemas.openxmlformats.org/officeDocument/2006/relationships/slideLayout" Target="../slideLayouts/slideLayout170.xml"/><Relationship Id="rId8" Type="http://schemas.openxmlformats.org/officeDocument/2006/relationships/slideLayout" Target="../slideLayouts/slideLayout171.xml"/><Relationship Id="rId9" Type="http://schemas.openxmlformats.org/officeDocument/2006/relationships/slideLayout" Target="../slideLayouts/slideLayout172.xml"/><Relationship Id="rId10" Type="http://schemas.openxmlformats.org/officeDocument/2006/relationships/slideLayout" Target="../slideLayouts/slideLayout173.xml"/><Relationship Id="rId11" Type="http://schemas.openxmlformats.org/officeDocument/2006/relationships/slideLayout" Target="../slideLayouts/slideLayout174.xml"/><Relationship Id="rId12" Type="http://schemas.openxmlformats.org/officeDocument/2006/relationships/slideLayout" Target="../slideLayouts/slideLayout175.xml"/><Relationship Id="rId13" Type="http://schemas.openxmlformats.org/officeDocument/2006/relationships/slideLayout" Target="../slideLayouts/slideLayout176.xml"/><Relationship Id="rId14" Type="http://schemas.openxmlformats.org/officeDocument/2006/relationships/slideLayout" Target="../slideLayouts/slideLayout177.xml"/><Relationship Id="rId15" Type="http://schemas.openxmlformats.org/officeDocument/2006/relationships/slideLayout" Target="../slideLayouts/slideLayout178.xml"/><Relationship Id="rId16" Type="http://schemas.openxmlformats.org/officeDocument/2006/relationships/slideLayout" Target="../slideLayouts/slideLayout179.xml"/><Relationship Id="rId17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89B7F-006A-4B8A-BA9D-DB44CCFCFEF8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Přímá spojnice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431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2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3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28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29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0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A5A16-A1D4-41D4-9003-EB2AE5E10F1B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475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77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478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80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481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3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3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3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6537F-BD8E-488E-92A5-3D71D3BFDC44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 type="dt" idx="3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 type="ftr" idx="3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 type="sldNum" idx="36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F25D8-0D36-4963-984C-7E779A57AD3C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5" name="Přímá spojnice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566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7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6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 type="dt" idx="3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 type="ftr" idx="3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 type="sldNum" idx="39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80D8F-3840-4247-B867-396028902817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 type="dt" idx="4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 type="ftr" idx="4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 type="sldNum" idx="4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72295-912E-4F17-9410-77B5E2409A83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0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651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53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654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56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657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65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 type="dt" idx="4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 type="ftr" idx="4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 type="sldNum" idx="45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71D2D-C4A1-4072-8C68-D3EFC29D7F2E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6"/>
    <p:sldLayoutId id="2147483832" r:id="rId7"/>
    <p:sldLayoutId id="2147483833" r:id="rId8"/>
    <p:sldLayoutId id="2147483834" r:id="rId9"/>
    <p:sldLayoutId id="2147483835" r:id="rId10"/>
    <p:sldLayoutId id="2147483836" r:id="rId11"/>
    <p:sldLayoutId id="2147483837" r:id="rId12"/>
    <p:sldLayoutId id="2147483838" r:id="rId13"/>
    <p:sldLayoutId id="2147483839" r:id="rId14"/>
    <p:sldLayoutId id="2147483840" r:id="rId15"/>
    <p:sldLayoutId id="2147483841" r:id="rId16"/>
    <p:sldLayoutId id="2147483842" r:id="rId17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4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4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B6677-9D9E-43B7-920D-9AE090A5E5D0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0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51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2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DE138-BF8D-4ADF-AD55-35A68998314E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6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ftr" idx="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sldNum" idx="9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17754-4823-436C-961F-4BFF95FE9A8B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103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04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6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7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146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7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8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149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0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720DD-3706-4840-ABD0-C5B746501EB2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193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94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195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6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7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98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199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0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dt" idx="13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ftr" idx="14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 type="sldNum" idx="15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ECA1A-6FF7-4BF7-9F90-78E4B150FE3A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Přímá spojnice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243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4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sldNum" idx="18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1840F-DB4C-4004-AC8F-0638C3CAD600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6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287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89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290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92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293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9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0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1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45CA4-BE97-47F3-842F-E4A3DFF9EE37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Přímá spojnice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337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3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7E2D9-3672-4887-8B51-12B7F821A030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0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381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83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384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86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387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8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B053C-F355-405D-80CE-4917BC1F2146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Rectangle 2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749" name=""/>
          <p:cNvGraphicFramePr/>
          <p:nvPr/>
        </p:nvGraphicFramePr>
        <p:xfrm>
          <a:off x="1332000" y="4172040"/>
          <a:ext cx="7415280" cy="36504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639720"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18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50" name=""/>
          <p:cNvGraphicFramePr/>
          <p:nvPr/>
        </p:nvGraphicFramePr>
        <p:xfrm>
          <a:off x="1332000" y="4751280"/>
          <a:ext cx="7416720" cy="109692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Mgr. Martin Frol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3.A 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/ třetí ročn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1 / 201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1" name="Obrázek 1" descr=""/>
          <p:cNvPicPr/>
          <p:nvPr/>
        </p:nvPicPr>
        <p:blipFill>
          <a:blip r:embed="rId1"/>
          <a:stretch/>
        </p:blipFill>
        <p:spPr>
          <a:xfrm>
            <a:off x="1911240" y="115920"/>
            <a:ext cx="5321520" cy="131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Suggest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9106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Under theses conditions we are forced to place the goods at your disposal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We decided to refer the matter to the court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Closing phras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/>
          </p:nvPr>
        </p:nvSpPr>
        <p:spPr>
          <a:xfrm>
            <a:off x="539640" y="2361960"/>
            <a:ext cx="83534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We are sure you will give this matter your prompt attention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We would appreciate your explanation by return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Closing phras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/>
          </p:nvPr>
        </p:nvSpPr>
        <p:spPr>
          <a:xfrm>
            <a:off x="539640" y="2361960"/>
            <a:ext cx="83534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We are sure you will give this matter your prompt attention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We would appreciate your explanation by return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Closing phras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/>
          </p:nvPr>
        </p:nvSpPr>
        <p:spPr>
          <a:xfrm>
            <a:off x="684000" y="2361960"/>
            <a:ext cx="82803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If we are satisfied with the shipment, we can promise you further orders in the near future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We trust you will execute this order within the stipulated time according to our instructions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Closing phras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8" name="PlaceHolder 1"/>
          <p:cNvSpPr>
            <a:spLocks noGrp="1"/>
          </p:cNvSpPr>
          <p:nvPr>
            <p:ph/>
          </p:nvPr>
        </p:nvSpPr>
        <p:spPr>
          <a:xfrm>
            <a:off x="684000" y="2361960"/>
            <a:ext cx="82803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We hope that further orders will be dispatched strictly in accordance with our wishes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We hope that the delayed shipment has reached you by now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Replies to complain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/>
          </p:nvPr>
        </p:nvSpPr>
        <p:spPr>
          <a:xfrm>
            <a:off x="684360" y="2361960"/>
            <a:ext cx="82087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f your customer sent you a letter of complaint, your answer should include the following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 expression of regret that the customer is not satisfied with your goods or servi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 short explanation of the cicumstances which caused the troub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 suggestion of a fair settlement of the complai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Replies to complain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2" name="PlaceHolder 1"/>
          <p:cNvSpPr>
            <a:spLocks noGrp="1"/>
          </p:cNvSpPr>
          <p:nvPr>
            <p:ph/>
          </p:nvPr>
        </p:nvSpPr>
        <p:spPr>
          <a:xfrm>
            <a:off x="684360" y="2361960"/>
            <a:ext cx="82087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 when the claim is justified the letter is closed by an apology and an assurance that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ecautions have been taken to eliminate similar errors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783" name="Obrázek 1" descr=""/>
          <p:cNvPicPr/>
          <p:nvPr/>
        </p:nvPicPr>
        <p:blipFill>
          <a:blip r:embed="rId1"/>
          <a:stretch/>
        </p:blipFill>
        <p:spPr>
          <a:xfrm>
            <a:off x="5867280" y="4005360"/>
            <a:ext cx="1876680" cy="243828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2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 u="sng">
                <a:solidFill>
                  <a:srgbClr val="330033"/>
                </a:solidFill>
                <a:uFillTx/>
                <a:latin typeface="Times New Roman"/>
              </a:rPr>
              <a:t>Použitá literatura: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5" name="Rectangle 3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Bočánková, M., Hedvábná, I., Kalina, M. 2004. Anglická obchodní korespondence. Ekopress,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Dyčková, J., Neumannová, O. 1998. English for bankers. RADIX,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Henderson, D., Streitwieser, V. 2006. Business English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Jones, L., Alexander, R. 2003. New International Business English. Cambridge University Pres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Mackenzie, I. 1995. Financial English. Language Teaching Publication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Měšťan, J. 2002. Anglický obchodní dopis se vzorovými dopisy. Nakladatelství JM Píse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2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 u="sng">
                <a:solidFill>
                  <a:srgbClr val="330033"/>
                </a:solidFill>
                <a:uFillTx/>
                <a:latin typeface="Times New Roman"/>
              </a:rPr>
              <a:t>Použitá literatura: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7" name="Rectangle 3"/>
          <p:cNvSpPr/>
          <p:nvPr/>
        </p:nvSpPr>
        <p:spPr>
          <a:xfrm>
            <a:off x="1258920" y="1557360"/>
            <a:ext cx="770076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Radice, F. 1992. English for banking. Macmillan Publisher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Skuch, E. 2005. Fit for Business English - Fráze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Tilley, R. 2005. Fit for Business English – Korespondence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Treger A. 2008. Inside the European Union. Leda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Abbs, B., Freebairn, I., Barker, Ch., 2003. New Snapshot Pre-Intermediate, Pearson Education Limite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3366"/>
                </a:solidFill>
                <a:uFillTx/>
                <a:latin typeface="Arial"/>
              </a:rPr>
              <a:t>Obrázky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http://search.creativecommons.org/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2" name=""/>
          <p:cNvGraphicFramePr/>
          <p:nvPr/>
        </p:nvGraphicFramePr>
        <p:xfrm>
          <a:off x="1258920" y="1700280"/>
          <a:ext cx="7416720" cy="452592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Cizí jazyk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Obchodní angličtina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Anglický jazy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Obchodní dopis - reklamac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 ukazuje, co obsahuje obchodní dopis s reklamací a představuje základní slovní zásobu pro psaní obchodních dopisů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Complaint, reasons, suggestions, regrets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3" name="Obrázek 1" descr=""/>
          <p:cNvPicPr/>
          <p:nvPr/>
        </p:nvPicPr>
        <p:blipFill>
          <a:blip r:embed="rId1"/>
          <a:stretch/>
        </p:blipFill>
        <p:spPr>
          <a:xfrm>
            <a:off x="1911240" y="115920"/>
            <a:ext cx="5321520" cy="131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3366"/>
                </a:solidFill>
                <a:latin typeface="Arial"/>
              </a:rPr>
              <a:t>BUSINESS ENGLISH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subTitle"/>
          </p:nvPr>
        </p:nvSpPr>
        <p:spPr>
          <a:xfrm>
            <a:off x="4643280" y="3357360"/>
            <a:ext cx="4013280" cy="122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6666"/>
                </a:solidFill>
                <a:latin typeface="Arial"/>
              </a:rPr>
              <a:t>COMPLAI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756" name="Obrázek 1" descr=""/>
          <p:cNvPicPr/>
          <p:nvPr/>
        </p:nvPicPr>
        <p:blipFill>
          <a:blip r:embed="rId1"/>
          <a:stretch/>
        </p:blipFill>
        <p:spPr>
          <a:xfrm>
            <a:off x="611280" y="3573360"/>
            <a:ext cx="224784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What is a complaint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9106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A complaint is an expression of dissatisfaction, especially by a customer or consumer</a:t>
            </a:r>
            <a:r>
              <a:rPr b="1" lang="cs-CZ" sz="32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If you are not satisfied with the goods you were delivered, you usually write a letter of complaint.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Parts of a letter of complain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9106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3366"/>
                </a:solidFill>
                <a:latin typeface="Arial"/>
              </a:rPr>
              <a:t>A letter of complaint should include the following parts: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opening phrase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reasons for complaining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your suggestion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closing phrase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Opening phras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2" name="PlaceHolder 1"/>
          <p:cNvSpPr>
            <a:spLocks noGrp="1"/>
          </p:cNvSpPr>
          <p:nvPr>
            <p:ph/>
          </p:nvPr>
        </p:nvSpPr>
        <p:spPr>
          <a:xfrm>
            <a:off x="755640" y="2361960"/>
            <a:ext cx="81374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We thank you for your consignment but are sorry to say that is has not given us much satisfaction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We regret to inform you that case No.40 of your last consignment arrived in a badly damaged condition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Reasons for complain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We are put to great inconvenience by this delay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We regret to say that the goods ordered on November 12 have not been delivered yet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The quality of the delivered goods is far from being satisfactory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Reasons for complain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/>
          </p:nvPr>
        </p:nvSpPr>
        <p:spPr>
          <a:xfrm>
            <a:off x="684000" y="2361960"/>
            <a:ext cx="80643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We have to complain of the poor way in which the consignment has been packed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On opening the cases we have found part of the goods badly damaged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It is quite clear that the damage was caused by unsuitable packing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Suggestions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In view of these facts we claim from your indemnity to the amount of..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We can accept the goods only on condition that an adequate reduction in price is granted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We expect to make up for the damage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4T18:42:48Z</dcterms:created>
  <dc:creator>Mgr.Martin Frolík</dc:creator>
  <dc:description/>
  <dc:language>en-US</dc:language>
  <cp:lastModifiedBy>Igor</cp:lastModifiedBy>
  <dcterms:modified xsi:type="dcterms:W3CDTF">2014-09-13T14:12:40Z</dcterms:modified>
  <cp:revision>33</cp:revision>
  <dc:subject/>
  <dc:title>BUSINESS ENGLISH</dc:title>
</cp:coreProperties>
</file>