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B10A-7EEB-45CB-9D8C-F7E51EB949F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EC8C-4397-48D3-A92C-40304642587F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7B40-7365-4C8C-8CDE-F04A5C6B016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8CE3-F978-49F0-B358-8A2F4361DFF4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5A84-57B2-4A5C-9B8F-967FE1F6C28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A153-FBD6-47F0-BCB8-044272C1537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CE96-551D-4500-AAF3-8D08F7FF9F4B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E796-8031-4544-BA0C-27D80EF1E0A4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BC0E-2638-4982-B1BA-01973F9B6C3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6035-B40A-4C1A-BFCA-F5EBEDE7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7A23-317E-4454-8459-4041117A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DD7B6-1061-40FA-84C1-49F429A0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F7DCC-F376-45B0-956A-7E72D1E6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5B9CF-7985-4E4D-A622-B6CA9EF8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F3365-ABD5-4A2A-9736-0405F77D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1E603-65F4-46F2-9F26-1003C32D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6630D-DB44-4664-9195-DB12E1DC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93F3B-6AB4-4458-8988-F01718BB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8FC16-68DD-4440-95AC-7D6D00F0B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FD525-1FB1-4607-8E1C-A4FB01CDE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82AB2-8206-4BB4-9500-3B22AE841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F8AA-C092-4052-8B67-F9F241BA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7F7A1-69CD-4296-8C3D-79815EF7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46FC6-5A4C-4F4B-BD76-737E4FFD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BF5DDB-1B0D-4355-B6C5-877D60CE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A8E7D-EB2F-406D-9999-57034ABC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BCCDD-8848-47A0-BF8A-FCE0C214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BA2BB-30BF-43EE-9B9C-B97BEECB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574453-1DDB-442B-9803-01BE3EE3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CAEE91-A511-4505-B879-219647FE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319354-FC51-46AF-9630-0A0D16C7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02FC1-D156-4510-B203-E8BC4BC4B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19E8-0998-4673-86DC-B0F76EB4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35873-514E-43A7-ABF0-342BBAE3C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2AD3B-97B5-499A-9405-761A5678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EC1AE-5EEE-47BC-85E4-B9F8D354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C9CAB-EF6B-4527-A0AB-E56FD292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51EE8-5442-45A4-92F9-F777B312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4DCEB-8C89-4C5D-8DC9-5F64B0C6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251D8-7702-41E1-BE9A-E88AA55E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469C0-67A8-4079-8B9B-2DA437F0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F4FCA-2A17-4970-AB10-29CC5282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A1EA3-8237-4009-AE57-11AD83A5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1B49-F957-423D-8EB1-54D2CA6C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39B32-7862-4915-854E-A15E005F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B4911-9989-4432-8B62-BFE6AED14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27423-5F60-41A1-8ABF-30489063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91CE9-59BD-4E52-B4C9-1E557FFA4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6080B-FA92-4044-A269-B89E46FD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FB0D4-701A-42CA-BEEB-BE0279A6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D37B5A-46FC-4AE1-82E2-00772B8B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62E62-104F-4CB8-B520-AE3379D3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B497E-926E-43B0-990D-4EF6495D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49E22E-AF86-48A2-9850-402879AA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4A25-CED3-4382-9E90-770CAE54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16062-0285-43DC-93B0-192A92A6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8F95A-5126-46E4-8174-315BE03C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168B75-0761-44EB-AAD0-7A3F865B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0D461-1587-4F6E-A598-771A33E35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6D8F00-B8A3-4BA6-8838-852E4DEF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C243FA-780B-413E-A5D1-14259A9D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74A367-7677-41D1-AA08-FA9DD34E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3EBF08-BCF4-4104-9FDF-8250D92F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125AB9-FBAB-4A8A-A925-365CC42D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3AE2DA-63A4-4B48-A809-CA074DC0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CFCD-69C2-4F98-AD35-60ECD000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6E6787-0A4D-464E-849E-6236E812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DA4FAA-5A57-4A95-B830-65C96FAA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6AFE4E-C455-4A3B-A8AE-19091FC5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2DA3AB-3320-43E2-B868-4431E820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B6D2F8-983D-46FE-A67E-FCC0C8A6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4C0E5E-D54B-46C9-A00D-8CCC1854C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469C82-3923-495C-A466-BD43D9B18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573313-F939-4E9C-B5DD-4841C100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2DA6ED-F8BD-45DE-8442-21974D28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4B0B2A-00F5-4B6A-8995-625E58D3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E744-889B-4E03-BEC2-FD16BE85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EC92EE-3D38-45E7-8215-A79420AF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5E9EF5-B9D7-4BC3-BB1C-C22D6E77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B69368-E855-47C2-A959-650D9B04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219128-49FA-48E5-B414-4BB35ABF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5C9C0C-8FFD-44DE-AD0A-591CD604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C53ADB-9ED9-47C1-9B9F-012FDCF7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96D98E-9018-4333-AA27-54F0DD7F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BBB0F2-301A-4214-8A9E-03896912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271F85-733B-4946-A9E1-65EC402CB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1C13E4-68C2-4D37-9D4D-3511968D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E7DD-DAF4-4ABA-A195-92C09FD6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9060E8-628A-41C1-82F6-772EA3D1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85EA12-F997-495C-941F-0F370FAD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DB42FC-CCBB-436F-B06E-A251FF32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65B56A-1412-4A7B-A4A2-F239A1BF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E8B14A-FE39-4A2B-B305-04305634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DA9264-5163-46DD-AAB8-AE9A04E5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904B8C-9B28-4FBC-B75F-1C3FC029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240AAA-DFDD-4EDA-900F-93B9FBB4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57DB79-BF95-4BD5-BFEC-1429D776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DD99F8-8433-420C-8366-1BA62279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DC6B-56FA-4642-82DC-E576853D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0138FC-767A-4BBA-8CAB-2936D6A9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376588-928E-4DB5-8C68-221320EFC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BBDD67-9B25-44E3-8F4C-73854605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29800B-A555-4EEE-A155-04D17E38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B52EE7-D9EE-4529-BEF0-8E17A774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147E30-8671-4E6D-A81F-F8F16853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29102C-EA01-4111-AB62-8AA92895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A1E67B-6F5B-4FE9-8C4A-2D0C5389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AA9979-0A7A-4D8F-9CC8-03B99E3B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9E7C61-A2D5-4479-8013-C78B9562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8D75-DF22-41D2-AECF-3D57AFF5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791EEF-1532-4322-A72D-43410CE8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DE6A40-8B52-4C94-8113-83B2805E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A83DA1-8950-4ABB-B37C-F638053E7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9E08-0574-4A36-A01E-57A75BDF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F57B-CD40-43C4-8B13-4F4ADCEE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6C6B-55A4-433E-AE9C-90085DEF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8724-D515-4BC7-ACFA-289040EE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3084-02AA-4D27-9755-793A9D6F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F070-16FC-4E85-965D-7B8FA68F1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E5CAB-E5EF-443B-8DD3-7BEBDA6F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3E69F-05B0-4ADE-BA07-15A313D8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F6172-CD11-4218-B532-D387F220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AECDA-62ED-40D2-96F9-A8415C52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A8EA6-7895-4948-A4D9-4EF79C78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808E-1C09-4501-98D6-2005AA7E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D86E7-0002-4965-B4B8-E84A411B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545D5-1BEC-4099-B6B3-EA8CC25B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79113-E954-42F6-BF2F-6A95E0B3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C72C7-1E69-4699-98D2-3B9B2D42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1318D-74A2-49F4-B83B-FA7E68E9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AC23A-503A-4A96-893C-D82A0FF9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4D2DA-2325-4062-A782-64712CEFB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AC796-7AEF-4972-8975-0C93B0C3C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6050C-220A-4E23-9E1A-B3DE2E88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9F6CE-8F2E-44C5-926A-C04A78AB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CB23-3BB9-4468-831B-276A7E3D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922BE-C899-4222-9886-BCFEF1C3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E3349-28C5-4E75-AB5F-1392FF21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7476E-45F4-4314-A210-BA222056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21D15-E7B2-48E3-A91C-F16868AC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E5DF7-FDBB-4F5C-AB4E-E30A8D40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45648-4CC2-4F52-84F5-A3CDDBE7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664E9-546C-4A63-BC23-296C852B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4B287-B924-47DD-B5BB-058B7A3A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B4938-832D-49EC-B180-4E1CAA81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ECD89-67E7-403C-880E-8A7C637C5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AE75-6B87-459F-AA1B-6256D65F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739A6-F45C-4B13-B439-20CCF77F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DC6F9-D5FD-4F39-B748-F1C5B9F3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26CB5-C18B-4A1B-B329-849ECA0D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9C654-04BD-4959-903A-A5DA02E5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2D49B-4071-485C-864B-07559C8B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28947-8651-43E9-BC69-8C5228D1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D548E-B9B5-41C6-8921-39AA2954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D26DC-3195-4391-BCA2-1923EA25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C606D-81F3-4F59-B3CF-AC8EDC63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84AFF-96F6-488B-9B58-4DFC7C25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DFB5-6E6F-4B7C-ACB2-A96354CC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0376B-F4B9-4BB5-A427-B9C89FA9A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C3441-E42A-4954-BB78-60C57FA2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3AE3C-119D-4A92-856C-E90C2C1A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19655-8084-4529-A4FC-3419C5B3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05722-453E-4486-B850-D56A88E7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8F2B4-9998-44C8-8DF6-3F1E6C74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F4F7E-7B46-46AF-B353-9881432C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3CAD8-E03F-4ACA-B2E9-681B8DDE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88BA0-22FD-4285-9D2A-0EBA026A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9D049-19B2-4680-A3AD-1EE56598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2E43-6DF2-4C32-9BAE-4015A2EA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FEAC5-B699-4CD1-9201-666560FE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BD897-D82A-4646-99EA-8E122EC46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E1C62-97CC-4A35-9225-6BD67443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01289-DE94-4147-A99A-549ED31A7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EC77D-5971-4EA1-8789-20DAB9C4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E3F3A-0396-4907-B3BB-A125BD5D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4C9A7-4329-470D-A57D-4F7469E6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1B256-0D5D-4B96-BC08-D40D5B82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021C4-397F-4A42-A159-98AF770C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E2D13-A3E6-4421-A036-D261AD83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FD99-D90E-4881-BF8C-65782C7F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D4047-4366-40A8-82E3-901B43E1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EB54B-D10C-4C0E-B093-1D9772F9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5115F-77F8-4929-BDBF-31A6FF49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B1F74-CDD0-41A8-A187-ADDC73205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3E8B6-351C-42BD-AD2C-B673B467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F6F55-8AFE-4091-8D9B-5F2A1DD0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256E4-900D-4A8A-BD60-57FB7EF5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5374A-906D-47F4-BDB5-394A10D6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2699A-7CE3-4DA9-8289-9306424E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4C5A2-AD90-490E-A7A0-0A9105CC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BE2C-2F14-47E6-A7BF-7ED76DDD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934D5-7A0E-46C1-B4DE-BE11E36B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AF039-77D9-4254-851A-F118576C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3D564-B6C8-4530-AD6F-C2CE9DA0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CD1F5-4AAE-443F-BC26-65829F9D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96835-DE62-428E-BD82-79C2BD57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D6EAF-F90A-4C18-BD66-6EF0A155C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13FDD-0B8C-4E2B-8780-273C3CA2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8DE41-9D41-4A33-992C-D18AAD35E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0EA55-3CE0-474D-95C7-69EDB53E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349F2-7347-4AFB-9149-5249A1F8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7B91-D4AA-4A64-9DF2-013700EA8768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DB41-DA46-4DFC-B6F3-5CB6B2C1E73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3135-8F10-4012-B12A-0C63ED267DA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A12F-3AAC-4E24-9855-06195EFC5EF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BFAF-D6E4-48A9-B185-66275960F6D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E54E-379C-48C7-8A68-39C54E62E27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56ED-316F-4D33-9DE9-527CFA0D443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7FAE-5B8C-4B59-9F01-44227542B35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E7D0-2E86-4B5E-8AA8-6CA52E4B5116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6C08-E218-4AEA-9FA0-2DB16116F51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70D6-AF3C-4B51-B15C-8500407EA6BB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CE3E-840D-4C85-B1B0-D53B1D5EA27D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57A5-A18B-4F95-B9E1-23DB5634E78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487A-3C38-44E7-81E7-6410C6EF5B5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036A-57D3-4717-B906-27D5EEF40C9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D24C-DF21-4CDE-8EA7-0A9AF69B6FF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 / 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pecifying the detai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insist on the time of delivery given in the order.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Please arrange insurance against all risks for the above mentioned shipmen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lease see to the careful packing of the consignmen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pecifying the detai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539640" y="2361960"/>
            <a:ext cx="8353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certificate must also contain the signature of an official of the bank who has inspected the goods before shipmen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reserve the right to cancel this order if the delivery is delaye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stress that the terms of delivery must be kep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losing phr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280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f we are satisfied with the shipment, we can promise you further orders in the near futur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trust you will execute this order within the stipulated time according to our instruction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losing phr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280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f you execute this trial order to our satisfaction, you may count on further order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hope that you will give our order your best attention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nfirmation of an or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064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A confirmation letter should contai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anks for the or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 details of the order (description of goods, quantity, price, payment, delivery terms etc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surance that the execution of the order will be given the best atten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nfirmation of an or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351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ank you for your order of May 4, 20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which we have booked for execution in Ju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enclose our order confirmation and would appreciate if you returned one copy duly sign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ank you for your preliminary order which we have not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nfirmation of an or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351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ank you for your order No. 123 if May 4, 20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for 300 T-shirts.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ank you for your open order to the value of EUR 3</a:t>
            </a:r>
            <a:r>
              <a:rPr b="0" lang="cs-CZ" sz="3200" spc="-1" strike="noStrike">
                <a:solidFill>
                  <a:srgbClr val="0070c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000 and, in accordance with your</a:t>
            </a:r>
            <a:r>
              <a:rPr b="0" lang="cs-CZ" sz="3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ishes, we shall employ 1/3 of this sum for writing materials and the the rest for toy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6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dopis - objednáv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, co obsahuje obchodní dopis s objednávkou a představuje základní slovní zásobu pro psaní obchodních dopisů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rder, confirmation, trial order, repeat orde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43280" y="33573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ORD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56" name="Obrázek 1" descr=""/>
          <p:cNvPicPr/>
          <p:nvPr/>
        </p:nvPicPr>
        <p:blipFill>
          <a:blip r:embed="rId1"/>
          <a:stretch/>
        </p:blipFill>
        <p:spPr>
          <a:xfrm>
            <a:off x="755640" y="3789360"/>
            <a:ext cx="22478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n orde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n order is a request to make, supply or deliver goods according to the customer´s particular requirement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You can often attach a letter in which you specify the details of your orde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n orde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 case a buyer wishes to introduce a new line of goods in his local market or to know for himself the quality of the goods, he give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trial ord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n orde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You can also buy the same goods on the same conditions as in the past, this is calle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repeat order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rdering goo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acknowledge receipt of your offer of May 4, 20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and enclose an order No...under the following terms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On the recommendation of Mr.... we would like to order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rdering goo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s your prices and terms meet our requirements, we order for delivery the following item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refer to your offer of May 4, 20</a:t>
            </a:r>
            <a:r>
              <a:rPr b="0" lang="cs-CZ" sz="3200" spc="-1" strike="noStrike">
                <a:solidFill>
                  <a:srgbClr val="0070c0"/>
                </a:solidFill>
                <a:latin typeface="Arial"/>
              </a:rPr>
              <a:t>13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and ask you kindly to supply the goods according to the enclosed order for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rdering goo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thank you for your offer of May 4,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and have pleasure in enclosing our order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We thank you for your offer of May 4, 20</a:t>
            </a:r>
            <a:r>
              <a:rPr b="0" lang="cs-CZ" sz="2800" spc="-1" strike="noStrike">
                <a:solidFill>
                  <a:srgbClr val="0070c0"/>
                </a:solidFill>
                <a:latin typeface="Arial"/>
              </a:rPr>
              <a:t>13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 and request you to book the following order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refer to your quotation of May 4,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and ask you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o supply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12:29Z</dcterms:modified>
  <cp:revision>32</cp:revision>
  <dc:subject/>
  <dc:title>BUSINESS ENGLISH</dc:title>
</cp:coreProperties>
</file>