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0394-4B15-478F-811D-6AF2B3A86AC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1A76-9355-46DE-A9D7-8BC4C967255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C532-89BC-496E-9F0F-83310BE3EF5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4EBF-4C7C-4B38-AD34-841A517C542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4ECF-8A68-4F9F-8208-80A40CDA2B4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E489-EB39-443C-9B6D-296883A4156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5C4E-186D-411D-AC22-418613552F6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A775-497D-4C46-8EB8-55DE2E5682B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8B7B-D773-4234-9CFF-CAB6FCE817D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1C7-32AB-48F5-93A2-AA0AA1E8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D1B-8A44-41E6-9D14-8F63C7EA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F3ECC-8980-4522-BC53-13404B65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756B8-3CF0-440B-8679-C9155734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993AA-E9A1-4128-8166-C5375E0C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4DECC-8105-4D11-B115-D0CE2C75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3F87A-2477-4AD9-A2FB-61239EAB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BED2A-AE4F-4E40-BE27-53C19A42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55FF4-BFB7-431B-BBDD-455DBD15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DD65F-9016-475D-AB68-139582BC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569BD-59DF-4698-9750-A7C7A44A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25CB4-9AF3-4BB7-AE49-874356FA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052-E6AC-4312-9E32-FED3E0EA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58A10-3290-4562-9C6D-C7EF6594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52DC7-78CE-4FCF-B0F7-9B460703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372D0-13B2-41DF-A5C3-EB687761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FFB62-FCA2-486F-BBCE-F2827D89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70530-A915-4550-8548-CE5BD1BD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EDF29-8BD4-4C9B-A087-44FBDDB0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9884B-73FB-45A2-91B3-193AC604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68D9D-AF1D-4542-B2C4-C13C470F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7B66F-1719-42FF-A33A-6F8BA6C9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B68AD-3B37-4C9E-B79D-D4711DA9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257-CAFF-496B-B0DF-46C4C133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0FFE3-EDA3-4AF5-9451-D90C2CC7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DE64B-3024-4B62-A6FE-A50F30D5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A60DF-0F97-4868-B720-4DA45792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0DD43-6002-493F-B466-CE0FBDB8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B499D-25DC-4816-A4D4-4199EF56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8EE84-BDA4-4762-B7BF-3516A61C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E7B57-BCF2-422B-8595-FA67C96D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9440F-3DAF-4457-B6F4-55066E4A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32274-A8C5-4C2F-B8EF-14878189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A5F07-4F38-427B-99E6-99719AA2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297A-3AD0-4472-870C-1012DE8E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63973-56AB-44DC-A3A1-DDA4AF9F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6518B-6306-435D-9940-1CBCB754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2B51E-3B80-4736-8305-C8E9101C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B7318-21DD-43A1-ACC1-86AD84DF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C3EE8-96C0-4750-A741-FCA009EB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9CDDF-6349-4699-A936-1901E580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0797B-472D-4B3B-B168-EF4E1942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B5601-E721-45BB-8D90-EA26D0B8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E1FB9-9BE9-400B-8149-21D78689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E0291-D2A9-4D3F-8F1D-092E21AC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7A77-3AAA-48A1-8662-05A5380E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8ACE8-DC1C-4A98-8DBE-85BA37F3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7F9FB-26B8-426B-8C2A-68BA3430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94B36-B421-4243-A2B4-ACB62151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51340-13DB-47A7-B420-F754DC9E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83149-58DC-47F7-9188-5ABEBFAC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53D46-B661-493A-B188-F6D6BA33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56D94-28C9-4435-862D-BF5E3253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3EE37-F7F7-4FCA-A3DB-CD664870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2C64E-756E-4D1E-8D34-14D5FF38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9EED3-3963-4C0C-8144-4850A0E9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489E-83E2-4B54-BAFA-A4F0731B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35521-DC40-476E-A3D2-D70D39A5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3C92C-F044-43E7-8AF9-63F899FD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7A789-70AB-4CC1-AE93-6F4D5450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3E871-9900-425A-B9F3-75125E28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97C71-F97A-4E9C-9457-49787981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1FF7A-15AE-489F-8344-5E8F7488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C56F65-2E64-4F58-8617-60CEC0B1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8CA0B-4DBF-4442-8E44-543EC0AB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C18C9-4E7D-4DDC-A8F9-3AB20C96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0D3F2B-12B6-41B0-9CC0-4F80E3DF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27A2-14D0-4645-A865-84DB6278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6FA32-E987-48D0-9EF1-BEC20216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756D55-F87F-4981-BD9F-CC0FB3B4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00EBC-8F78-4199-85DA-E2BC89BF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1435F-160E-43A2-8613-1830D0EC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FEADE-E66E-4F2C-956D-929976AC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F1C06-8515-431F-87BE-31318FDE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25567B-CD13-4F2E-927C-186C37EC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BF1BB-9C30-4443-B73F-D6C23091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64D767-AAD6-4FD6-8F4D-C80C8157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25526F-6DA6-4CA2-AA58-93D878CB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0DF2-DFE8-4787-AA1A-4190EA4D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2AA6BB-9275-4B43-9509-0F09E9BB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9E70BC-CC1C-4EBD-9171-01858732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8E9C0-C0BD-4BD2-AAFA-3CF1228F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90E22-2B2C-4CEB-ACB9-789E53C5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2A1EBC-E2FC-4426-9DC9-ED30280C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F30BCE-E379-4ACC-A663-4835B03E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4D8D3-987E-4B1C-8F9C-6C60C8E4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96812F-FBD9-4277-B862-27CC7EB1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CAE98D-E516-4B0B-9494-2100799C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6CDC4D-A7DC-4890-8316-2CB64D1F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3C01-2508-4F10-A057-BE0DE2D6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ACB8A-25E7-42D0-8A5A-2F25D74B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14DE71-2459-4018-9475-24441822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548423-EF71-4645-9D94-05A86BFB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D10CCF-2963-4201-A8BB-CD9FCFCF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230CA-2E11-4600-9D7E-50F730DE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18E652-0ED4-4843-8899-34F64616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2FBD8-7D14-4670-A42A-9C28EC02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C01D35-693E-4780-92AF-D5F9B2F1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90A5F2-39AA-4B8A-BBD4-729A4FBD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38C2D4-E85D-4D5C-BAAA-2B9B1D4F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8A20-BAD4-4CAB-89E5-F5258C27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9CA0FE-E197-4EE9-9ED6-26436269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81C679-560E-43DA-B95D-0E3B2767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0107B-9D5A-45D7-A221-C691FA68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45B8C4-FBAD-449D-9C2D-33658E09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E67C56-4AF4-4C9F-B64C-C81CFF53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2071AE-C5AB-40B5-802E-05B4D134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36E748-BF01-4586-B47D-36F2B24E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9DCD0-142D-4951-A874-6E549C88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C4DFB3-88E3-4820-8E89-826712E6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9DD715-837B-43E1-B9AF-1BB38A3E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9E0-10DC-44B7-9AD6-3CD89408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85C8-710F-472C-AE52-B72298A4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97765E-3352-4AFA-AC94-5313E662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743DAB-7D30-4A18-BD90-38796352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77C404-DFC2-4604-8708-AA2DD0BD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4630A-9F22-4DA8-8ACF-2D2C7BE2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6332FF-642C-4A65-9D86-8A047753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0A96D-DE3D-4C93-B71C-5340AC42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2BD954-3D39-4F03-AABD-CF8AE97B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1C6849-D887-4C1D-BC6A-230242B8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F67FFB-AC0C-4CCD-8DE7-5373E19E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CF1416-32B6-4B2A-AAB5-2FA83E78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14A7-748E-4179-93FB-7DDE5526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18CBA8-0DFF-42FF-9849-874AA962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E194F5-3CB2-48AA-B39C-363E317A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0C04DA-AD36-43EA-B89D-AA7B5615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03CA9A-E61D-4F78-A9CF-435E9229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44103-166A-4895-83DB-1E19C300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684A3A-000B-4166-9761-87130A42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F266F7-6609-4D79-BFCB-416EFA91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B54B77-F1FE-4BDD-BDF9-106D27B9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31124F-EF7E-4EFE-B609-2F28E5F6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B2A5B5-E6E4-4FBA-AD7B-03B51112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B836-45AA-4C54-BE2F-D6E0CDC4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E3D371-AEE9-46EA-9A87-595732EF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5F0357-FB41-4599-BE98-F0E72372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82837D-358D-4C7C-8AEC-F7DD2C92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FD3726-F085-433D-8AB9-B46F625F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864038-F6DD-4042-B6BC-E37C711C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52437C-BF01-4151-9589-86FAB1E5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C8E9F0-DFD9-4AF0-817F-B9CCC891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C2360D-A889-4A0E-9A82-263D3549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7D6F41-9F6C-4FCF-92DB-CC5CF65F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2C11CC-1002-43E2-9CA5-E4FE6EC3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D054-3680-4BA0-A063-837936D6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8779BE-AE13-4BC9-8B95-F23DAAE4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D58E3F-570E-4D72-8D28-4F450D37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4ECAAD-E4DE-41A9-8AFA-5181AD02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90EA47-9AF9-4B0A-911E-16A1724F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FEB27C-1183-4756-9EC8-C2BB6D6B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EA2D12-3800-40D6-B946-6B640403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34017D-0CB7-459D-9597-9C206262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C03BDD-4A31-425B-939E-85660A19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199661-2C4B-4624-B774-8CEBDC89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F2451F-488F-4C9E-9623-92CAC4BD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1470-5AFC-4042-92F7-2BAC9DEE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4FDDAB-F4A9-4042-9143-94F7A275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D5CC16-2F12-4DD1-A97B-7D25B64E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B226CA-BB57-4958-A40A-015DCD89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69D4FC-50DB-4D92-BBDB-6BA76147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180528-BF6F-49AD-BC63-995D881C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0E1A89-A2BE-4EDD-934D-1E30E0E5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06999D-5777-422B-AE79-3EC99425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720349-AEDE-4187-BC38-C5ACF41B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DF3CED-9A91-4148-AD78-C4117DED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DFD8FE-5ED8-4C6D-A36F-6C86F266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03DE-435D-4220-BC00-B4756403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631826-6D44-4875-BD2C-FD932749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0BE08D-9743-41CD-8C95-919A70F6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3DF903-1146-476B-A0DB-6473D64D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8F6922-2C11-4AE3-9F05-67CC10AE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F7199E-8F9A-499B-B69F-0B315165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7CE1D3-1029-4129-A7BB-6B947630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2B7DD7-26C9-4A20-8A00-BB4BC29B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37D77D-E75B-4885-A669-83E820BC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5EA8D5-0B0D-446A-B994-5E72681F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A454A2-4D8C-432F-A0DD-3F1F2B42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4268-090A-41BF-82A5-2C786B2D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2B2E54-67B0-4381-95EC-AE189647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8C88D5-0FE1-41CD-9F5A-577A720C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65D633-A165-4565-BF7E-3427F6A9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B4B358-3DC1-48A8-BB7E-651A937D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43A6B2-98BB-4A85-908A-F8B19254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0A04FE-3252-47C9-8EC1-2B722522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AB4E93-3DEE-489A-97A1-A0766419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01DFBF-C181-486C-86D7-939EA934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BC097C-63D7-4A6E-B855-7FDC2874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193598-AC58-4D16-B848-B5921D8B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77B3C-329F-413E-9150-8ED4004E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FC38E2-4E3F-45B7-92B7-CC6391CE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595ECA-C8C4-4457-B06F-07E31093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EEF707-AC0E-4AA4-8FE3-F164D373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929DA5-4125-446F-A6A9-6A3E120F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288F91-87B8-477F-A720-AACC9AE0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64824A-518F-4035-81F0-AEEB43B8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DA7DFA-3073-4F7E-A10D-78274FD0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592725-3A6D-4B98-B671-765137E5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E44790-4047-4272-8FB1-79ED1F47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8F504A-C978-42F4-A40E-23AB7E88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4B5DE-C2B6-40D9-813E-2C951B66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A52F54-33F6-477A-B353-653F99F6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57A9F9-312F-445F-8CA2-B7C9C2EE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406271-DDAF-4AD9-928B-9D9D5744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66F2D7-788A-4BA5-A85D-2F18079A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258E5A-D6FE-4635-89F1-5D903C09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CD45E8-163D-42D0-9D2F-5648CC99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B9722B-844D-44F6-9687-FDD6D70F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9EBA3E-214A-4D59-B067-7FFBDC01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4A5A69-4826-40C1-9E5B-62107E26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162A5F-A1B6-4899-AA28-A783B012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DDE8-2BE1-45FF-9D8D-28C72F83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EAB679-5253-4708-AC15-3FBB0F76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426581-8E4D-4CED-B1DB-349BDEDC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5324B3-9784-4D99-8C42-8D7BC63B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9106EF-7DFC-4386-9046-5DC4F39C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7F9E79-711C-4E7B-BB02-94B01434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CB4F13-6F00-44CF-97BE-D3565326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CF344A-3C30-48E2-8413-FB6B6230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B00F8C-51B0-4FB2-9D9D-AF3F6231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EB0761-9845-4D17-9651-01CC0E8A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826306-B2AB-4863-A34D-EC1C2011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620-501A-412F-B746-F5F47051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2D9F7-9C07-4E2F-A719-0D56228B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6E5902-A9D7-41B0-93FB-6024FAFE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1EF132-7974-497C-A34C-532B14E6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E0EB3F-06F5-4AFC-A3F1-47D608DD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51F107-D948-40AB-A3D2-E1E3A902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7E04ED-0B7A-482D-919D-1290F17B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E983BE-94B8-4E50-BE5A-DC8E43DF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30371F-FEBD-46A9-914E-93216C2F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D5D0BA-863E-4404-A065-F9442823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F09E4B-3B70-437D-A04C-2734C963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99FE6A-AB53-45D2-A921-F060B177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2B96D-80B2-447D-A714-2B9A60D0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9DF52B-8AB9-43A0-B6AC-DECB2A6F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98F598-DFE4-498E-B232-5E355FB0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5CBC88-B37F-4053-8389-F939816F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1CF446-0725-4F92-B864-7070DC45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C6770A-5234-4CBC-9321-BC24396F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EC41DB-0CF0-4450-89D4-78CB490C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DD366F-7383-4ECB-95CF-12BC1ED3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0FE439-6C43-45A1-A9B6-A260DC98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4CFC3C-AD99-419C-8DFB-58E47FB4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B24543-C42D-4015-8843-13F709D2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5F563-BFCE-4A04-8042-E33F5E4B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F9607F-F37B-4D1F-AFE8-10A8D090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7054FA-5BC9-46CA-86C3-2347C8A8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B15957-DF25-4A65-8477-276DEA6B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EFCD6C-9941-4AFC-843F-FB2FC345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9B5F02-EFD0-414A-A777-EF0EAFC6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841AB2-631A-4DD4-882C-D8DE4490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595DA3-EBD1-4376-A03B-30CDC1A6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51CBBC-21F8-4AC4-88F3-9081C33D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AACACE-7006-4628-9670-80D6BB58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A87B83-78D2-45F1-94AF-2931DB9B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5765E-8BE6-4947-B4AE-094B091F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F385DC-D531-45FF-8A00-5CCFA148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467AA7-0CF7-44EE-BCBB-A781B028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5B96A7-FCEA-42C6-92C3-BCD76758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B6A60D-49CA-4564-A12C-7A5AE6F3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2EFE5E-BE3B-4F8C-AB48-007700B5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A61DBC-02C1-4FAA-8541-7D70BDF8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D7E385-11C3-4735-8F91-BDDF291A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B66C6-EAA9-488D-9484-65C3A211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D3BF-AD5F-4984-B251-61C030AB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7D61D-4A31-42BB-BE40-B556CCD5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41393-9BB1-49E7-B4B8-2C613061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C3CD3-F90E-4E27-8441-124375D5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C182F-D1A9-40CA-AC2D-673B37E8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C2B-E3E4-4E2A-811A-02F225D9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77AEE-47C8-4654-ACB4-591D8FAA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32F07-5748-4F93-86F1-DCED2321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9A01D-9741-475C-9C26-BE6F1AEF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94365-CAA4-4033-928F-3FC8C3D8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D8BA5-9C93-4D15-9073-AA8D7E13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5CAD2-4BAF-4B8E-839D-28712BE3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17AEC-8D42-4A18-A8FD-66ABFE17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9BBEF-7F0B-4C50-BB43-AD4F5DC8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E6B5C-84FC-4B80-9F95-202744BF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DC164-8F2F-42D5-ABE9-2541079A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9E9-5C00-4F96-B1D1-3CA19F21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35671-CF62-45BC-B379-A027C7F2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038A0-9C35-44C5-927D-4C408292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0230D-507A-4AB0-A9AD-059FB8F3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F2114-E7BF-44A9-99F0-ECC76432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85C49-7507-4509-871F-E9FEECD1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26789-DE23-4921-A203-F0C2324E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DEC1D-4D86-44D4-A178-1137EF9E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3AC76-57E2-4AEF-BAE6-DEB9B356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ADA0A-633A-4478-A322-EE79CBAB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FBF15-F363-459F-9033-C0D43096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B1B-137E-4136-AE74-8DBF9AAB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FA2AA-833B-491B-8C27-D0B59510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82822-F79E-430B-8908-84F7AC63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C67AB-420E-4D4D-92AB-89E6EA9D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A5075-D2AB-461B-BAC3-832C04F2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53F0E-F4A4-4962-8E0D-01370903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BD128-04ED-47A4-A3B8-7B48267B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6BA73-BD88-4868-A83E-403D3C58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DD2DB-ABE3-4FEB-B7A1-C084F805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E6EF7-13C7-4A18-89D5-5FF05256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2DA07-4BEB-428A-AF39-255DF9E6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1B7-7185-4134-A87F-B54D8E1F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C97EF-6823-4A76-A856-BE1290DD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40380-0C2C-4E93-8561-0F380FD2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BF44A-7892-4DD6-A695-68FC7AD9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0379E-4DE9-4B90-9A0E-F443427E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2BFBC-0988-402E-B160-11FD7991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A7667-1926-46C7-9A21-51A8FB97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FA511-724C-4E98-8D12-06A49CB9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7AF77-392D-4510-B175-18FF66CA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0C455-2B99-4432-8FDA-4670882C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D734E-8C71-46F3-950A-D635BEA7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279-DFE5-4555-9A0C-3C65B05A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51D68-8C02-433D-B655-293372D1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24E80-C639-4EB8-BE62-4E5B2112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2B30C-841A-411A-BE27-0A46A9C6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F357D-CBCB-4BBA-9EA3-BB5D6420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922D4-A12C-44D6-B6F8-2C425475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6ADA6-FC93-4C82-85CF-F41E78FD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7DFCC-9E67-404F-85BC-C82B4D60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4318C-A5EE-4698-8CC6-D17FCF01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221B9-E7A9-421E-A0F5-B9BA3519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93017-7568-4940-944F-EBD3E846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BB9-ABB4-4FB4-A34F-84698E17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309EB-3525-48E7-BE19-A975DB4F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61FB7-D176-4F14-B71B-AA4717EC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3A769-29FB-43FD-825C-8EF3CABD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12A43-EEC0-44E9-8719-E19C3925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A191A-175F-401D-8BC9-597CA1C5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19C76-8012-4A42-B6DB-B2624E95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EF1C9-47EB-421C-8781-953C5C0B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BD6E8-224E-400E-9EEA-C938467D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8C356-E47F-4E47-ACFB-204E8E7E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233D8-E176-4ED2-A463-678A91CA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6C82-F1DF-465D-B22A-B0FB9C310827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3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4DD7-3C74-487D-8AAA-408D8A5C278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8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4333-0974-4DA4-909F-63DBD8A52E4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B8A4-EE9C-4E9B-846F-ADE387EBED7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98AC-37AE-4564-A011-BB5BF913D7F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1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226D-EA9B-467F-9DD8-62D35E8FEBA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AC05-7753-4F7F-9B50-3AF443BB660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7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1534-0711-4D52-9BF6-4F18E6BA94C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C003-0AFB-4830-A42B-359DD5B1DCF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792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51AD-5DF6-4DB3-9615-B002A5345C2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3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4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84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6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5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8712-321F-493D-907D-94B6DEDC453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2827-614A-4D2A-BD04-A140EEFCE17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88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5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5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9B3A-A507-4284-A5E9-1BDFD5C121C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3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0327-02A9-43E4-B478-5CDFBE253BA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980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6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6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6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8B7D-1523-40B6-85DF-E71289E9101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4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3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6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5E4C-5D6D-4DD7-BC64-0E78A213E43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48DC-825F-4A25-B93A-634994C5A9A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1115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7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7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6F75-B710-4D22-8DDE-CFBBC01FC73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992E-393B-472E-B7B9-EEAA3C7F3EE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0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051E-1A91-449C-AD96-201F74F9E18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7EBA-E331-4E19-B124-58B6ADD28D5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1877-B3AB-4039-B211-A43C3868C76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7123-3B23-4E57-A600-99A6303C314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CA61-F953-4487-B4D1-517D71E5ECD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B9B4-BA6E-46A7-AFBD-20457217565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9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5D21-01F7-4B5B-8951-7FD6F66D4A2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4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4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1878-3608-4A0D-939E-08BDFA678D1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8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C98B-A954-45DB-B3C3-54FAF8DD4B9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8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9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0" name="Obrázek 1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individual or an institution that acts as an underwiter or agent for corporations and municipalities issuing secur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 not accept depos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intain broker/dealer op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 advisory services to inves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rtgage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 long-term loans - mortg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ing building or buying houses or fla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wer interest to be p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redit un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non-profit financial institution that is owned and operated entirely by its memb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vide financial services for their members, including saving and len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osit is considered partial ownership in the credit u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entral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ve responsibility for issuing curr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dminister monetary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ld member banks´ depos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acilitate the nation´s banking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nk staf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ranch 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shiers / tell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X tell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tail ban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an representat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les assist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artments in a b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adquar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edit administration di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ational and domestic banking op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easury and ac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e operations division (FX, money marke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di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artments in a b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formation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rketing di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ach of them can have some sub-divisions, sections or tea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2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1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y, jejich funkce a struktur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definuje pojem banka, představuje jednotlivé typy bank a jejich funkce a struktur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, spread, fee, account, ATM, loan, deposi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2" name="Obrázek 1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N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HEIR FUNCTIONS, 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BAN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k is an institution that accepts deposits and make lo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ks provide a system for an easy transfer of money from one person or company to ano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k is an intermediary between a supplier of finances and their 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do banks earn mone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spread“ – the difference between the interest rate pay for deposits and interest rate they receive on the loans they m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on the securities they h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ees for customer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fe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Opening and closing an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Running an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Bank stat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Financial operations at the coun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ayments from your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Consulting serv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Home banking, internet ban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Withdrawals from AT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mmercial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tgage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edit un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entral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ving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financial institutions which receive savings accounts only and pay interests to its deposi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mmercial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ivately – owned for profit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ccept demands depos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commercial lo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 related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3:47:07Z</dcterms:modified>
  <cp:revision>15</cp:revision>
  <dc:subject/>
  <dc:title>BUSINESS ENGLISH</dc:title>
</cp:coreProperties>
</file>