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8F3-BF99-4FFB-B170-AEBCD87DB7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95B-8D3D-4BA0-A1F1-4ADD366BB35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BDE-31C2-4A39-8461-D166AE7E7E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E4A-387E-4638-949E-18BA266C372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C101-979E-4230-88F6-5E9875DA03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CB7-E153-46C6-BDC2-BE6B66566EF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832-6D98-4597-94BC-1E1285E4697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06B-4D79-4EF9-841E-57FF470E785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E280-12A5-47FC-93A4-F32396AD89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DBB-FCCF-478B-9F3B-24527D29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2D8-BE84-4DAB-B192-F9028554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4B8A-3E87-4659-B82A-D540B32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AC8C-DE1F-488C-ABE0-91480B6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06DD-02AA-4EC8-A27B-DD1AF060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F4764-4311-4CF6-9B63-8955BEB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1D87-B60D-4E29-89AD-85E957B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2D6D4-7D6C-4AF4-A018-FED3022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D1554-FFB8-4A45-BD53-6A64E0A9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B370-B2CE-4DE7-85C8-2CCBA7C7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29534-2E49-470A-8CBF-E1038624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D6260-2EEF-4562-88BD-3C4E04D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7C0-E809-4573-9828-FC16DD4E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E5CFF-5B33-4882-AAE0-49431C7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73E30-6BF2-4E31-91ED-5BC0160E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5E1B4-2B4A-4A15-A242-373D0C9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6F34-2480-4AA0-9207-6F7812A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917EB-2F02-4242-9102-133F2189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D5F3B-1E70-4569-AC9C-1EDD0EE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E737F-A074-49D5-A323-7EDFC66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8C3F4-D97B-4F9E-ACCB-65F59A51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F6835-393E-4347-98C6-C6AF6A0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1CC98-4C75-4F80-A1AE-2B3BFCFE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A20-5A36-41D9-A07B-4B285EFA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819B3-8053-4DFD-98AC-5E8B000A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AA3B1-8199-47C0-8C61-FC5A78E3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8C02-2870-4368-8021-205E725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F520F-A7E0-404F-9531-FF16BD2C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DDB30-17A8-4CF0-96D3-74577A7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B35E0-E496-44F0-92A8-21DC552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218E-7733-4341-AED8-E452CA10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DB39-CCD3-4562-9D62-586A70F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04389-C104-4442-8696-49391306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58271-FF9A-4E5B-8C80-5A8CAEE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0E40-591D-4656-80CF-929887E1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59EA-C395-4744-A7AC-76632C5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8B55D-C63B-425B-8B88-666629D6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AA862-D002-4C2D-B13A-B70F6755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D14BD-6DC9-465B-B6EF-C28BB29F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54479-5495-4DAB-892E-B144BFB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B453-AC94-4A77-9CFE-F57E9F50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A9671-6CDA-4DDC-975B-FBCBD01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CF36-2723-41DD-BB0E-12B81F0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3D5CA-AB38-4B45-9051-79CE97C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0C1E8-2C85-4E47-AD7F-06AB4AF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7A1-D0BE-454A-856F-D429DAB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88CDD-C9DF-40E9-8442-40F204A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6C9A6-0A8F-4EAB-B873-CB17927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0FD9B-FF7E-4E65-B1A8-EDDD0F8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5D1D1-2F58-4A99-8074-FC37AA24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1410B-033D-48ED-9C87-0E7E7D24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23289-EBC7-4179-93B7-1273198A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BD041-20F5-4032-AC46-C528286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4092A-7EA4-4614-AB92-8ABFC0C7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59B04-F525-4267-A287-20FC33D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EB027-E425-4604-9D94-54984DD3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230-9741-4BD2-8D0E-D243B545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59EBC-3A7D-493D-B7D2-F7B69754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6015B-B29A-4450-91E9-C2137ECA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A6AD3-CDE2-4AFF-B54F-A3073843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07EAB-691B-4172-8DB6-6F1B04D7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2BF2E-3040-4AFE-9A29-B87A68A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0E792-0D7E-4EA8-8974-5B7CA2C5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1C0F5-8E29-444B-921A-022D475A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054B4-2663-4986-A76B-53E3FF08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6D517-B0C6-4506-A88E-03DABE4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B67A4-8241-41C8-9C77-64D0E90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F7C-47D4-4F32-A362-D8C3761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5695E-BF62-4A01-BE1C-3189B07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2731C-DEBE-48F3-BE1B-13DDD1F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9C48C-4D57-4CF0-9DA6-350BD2A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872B9-C72E-4BF4-8B5A-1EC5E82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325C8-9256-4FFE-89AD-843C387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7F54F-00FD-4899-868D-4073D15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7ED57-F6E0-46EF-9418-C777A66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89F0B-7D2B-4548-B1EC-0F32192A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9111F-3F36-4E44-A1D2-87C9CB5C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85000-3A80-43E2-AC69-05B21AB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34F-7C29-4171-9FCB-7E4295E4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E1930-4316-4F76-A1A0-9A23221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BA06B-A014-4FE6-A790-582B4C1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B918A-8631-4F1F-8B14-4D8304C9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43D71-878A-431B-9F6A-D7B754F2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1E34C-5AAD-4F21-8F4A-9344A1A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5C67E-5BD3-403A-910D-61682E4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273BA-994A-4AD4-BA79-289BD37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04E64-843E-49C9-9A80-B27DEF4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987F1-843B-4F10-9589-388ACBA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B6B32-96F2-497B-8058-7160B9DB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F95-755C-4188-8272-2BDD5F4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2A475-D9AD-423B-B88E-373F9CBD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B3BBA-0C4C-4EB1-B99D-3F54A181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CD1C1-49CF-403E-8D77-74220B86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6C98A-02EB-43B7-8DA7-19EE81DC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7224D-0FFF-425C-A2D2-F661BCF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E339B-8AC6-4C4B-BD29-8BD80E5F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B452E-BFC0-45EF-B72C-DDD655C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0F3C4-E23D-4EDA-8960-D6E4AFAE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F1436-E498-4AD6-B2A3-3E90EF9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DC3E9-902A-45DD-9268-D3D113D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C65E-0096-4907-8E97-F3C0D79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C740B-3310-4703-809F-A44C9A7B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455F4-C005-401D-B1C8-506D190E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19C8F-38F4-4744-B870-54089EA9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12D2A-FF41-4F60-9774-127DABBD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440B2-D484-4B29-B4E0-5FF0D3E8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4386A-60ED-4113-B9D0-518C41E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566A7-2F4E-46C8-AA49-3BA9E058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161E9-7D4B-4B02-B18C-B1C338D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B7C16-C65A-4B0B-9E6A-5DD187B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77D60-A310-4902-9E1A-6D107947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F18-FEA0-4C81-8715-5573C689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F73C-B031-4654-A644-CD266CD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BCEE3-0508-4C2C-9AC9-BE4D530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9501D-F30A-467F-8E66-84117DF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6A6BB-167B-4E0F-924E-570EB98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FDCE7-E79B-42A8-926B-6959244E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1A690-18F1-4F40-B4D2-62AFD600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89B13-E681-4CFE-808E-FB8EDE3D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D8658-D935-4159-B19B-6C84ADA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AE05F-4C56-43D4-BF8C-584BBCA7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32CF1-7C08-4006-B975-4504FFC8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0DB93-D141-4FDD-A611-EF9F0B1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D23-27EF-49B8-BD8D-31189BB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AF1B5-A49E-449B-B0E2-1F53B68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69877-BE16-4D73-A692-CF652D0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0A873-4B01-4F1B-9185-060D4D8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2FABD-E419-4467-A41F-56F16BE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DDC40-7F49-49C7-AB96-75C4AF9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9127D-2F9F-4696-947F-248FA5A3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86268-C98E-4E86-8529-5245F190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3AAE3-1488-41D6-A092-395CFC6C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86690-73D5-4D39-B252-CA295379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07222-7A38-4C6A-A387-A5C891B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9554-4B1F-46E2-9BBF-A4062D76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8C7F9-DD96-4154-8716-A5903A2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FFFEC-157D-4DE3-83A5-5427B41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8A436-1CA5-4D30-A864-DBE0B71E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98EC5-1D99-43B6-B07A-2FD2EE9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CAD3C-E4D2-4C55-8E54-2A966D3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3EDDE-6DBE-4AB3-AACF-C14E91F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4460C-6A94-415D-8832-559F9C9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32BFA-995E-470D-A4C7-F24C91D5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7D3AA-D771-47C1-A807-A20EAB4D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D4FB3-D226-40AA-8744-6C1B1C49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47C-70F1-486A-83B6-FA95CAB0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8670D-CCFC-4DAE-B72A-C8FDFC39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D872F-B8D7-49AC-B83E-8BD26B2F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E1F8D-3967-41C8-8EAD-F2E1F19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8E252-511D-41C4-A39B-33EEA9E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A8A96-2786-4BEE-AE2F-2114F9F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5534C-071D-43BE-A2E0-713A239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B2140-3B06-415F-B85D-15A06BC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A4C53-5854-4376-A296-87A8626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4CACE-8EF8-4705-929E-50168AD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31433-0751-46A9-8F54-1D0E717B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124-4E08-4727-B7C8-DDF9E4E8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6FEF0-56D5-45BE-AB7F-0D524877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0E945-05AB-4985-AD9F-123DB0C0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BCE66-77CF-49D1-AF39-AD27362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A7BE7D-44B5-4985-814F-43A9FFE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A8807-89A7-4877-8A31-B7F6825A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B5DE4-ABAF-4CBA-8C3D-6FC0AAF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486C0-1B9F-4CF1-B984-FDB00E91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85C5E-2309-4C10-8196-582DDAD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DCDDA-975F-4F30-AF6B-3E3532C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C36F1-4922-426B-B44E-3C1F881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8E9B-30D3-4782-91D8-E8DF6E3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C2B9B0-FEF8-4996-8533-A7CB8E1A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A073F-3189-483A-85B7-8540D21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250F2-7ADD-45D3-9876-7CE54740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6659B-2F43-4627-9BF9-4171475C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EE6E2-820A-4C54-83D9-3650115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519F82-5882-4604-8198-F93B2BD4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63190-5941-41F5-9FD1-BA72350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E95B9-910E-403D-AD45-C666A00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68133-CE51-4203-8408-33BDF7C1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6D0A23-2019-4850-84F8-90B3B24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6666-D556-45C2-8EC2-62E6D76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073B9-84CE-442B-B29F-04DAA2A2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F54DE-F53A-4DDD-809C-F24E686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6FF1C-CDBC-49C8-85A5-BAAA566A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95282-AE74-473B-A179-EB6DB8FE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CADAD-159B-41A0-BAE0-D939E75A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94AF1B-4241-4C97-875F-D151EED9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0F438-BFCD-41EC-985C-1080C6D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7B427-6010-4B4E-86BB-4234A2B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82B82-864F-429C-B38A-B0DC0F4B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A075E-920E-4696-880B-8A0568B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F8D7-C370-4418-9E71-A4E8B42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0625C-79F8-40C4-953E-D79E0A7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83737-5B31-4B49-BEDA-0BF1D1C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BF6BB0-50BE-4A41-9455-5AFD091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665BC-36E4-4278-8016-B8D597FF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2BD8E-589F-49F1-ACEE-450D437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981C0-7F2B-42A8-B7FC-66F1835A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EE993D-43C9-4C30-B1C7-22E4CD66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88635-3512-4E90-9962-C7CC716F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F6581-3D87-49F7-B1E6-67F92F2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2480D-66C1-4D32-A6FD-7C7B819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2B52-0AF6-41AC-8C94-79F85EE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0D1049-DBF9-49E3-9E03-8121513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2A93D1-4FE5-486F-A4D6-94AB683A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20BF4F-409F-4129-83F5-CF2F19F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60B5BC-ED27-4820-9C35-B24805C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C71BD8-04CA-4850-985C-A684022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6FD45-B9BA-4366-AF4E-7ED2D06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C12D81-CAFE-4BF4-9DAD-DB48246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988B83-E40A-4151-9B9B-114DE415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23B05-B41C-4262-80A0-BD22694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372C8-5E5C-492F-B6B6-1FAFAAC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CEA1-7D75-47FF-848D-53C2907C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65D21-7B0A-48B4-ADEC-63237558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F61156-7887-48C5-BDEA-1428158B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3A6710-6120-4E1D-A197-1D4B600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AA1BB6-DD75-46FE-9526-FA19BBCB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30B378-B1A2-4F85-A8BA-59CCDD0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87CCBB-6C9C-4701-A4E6-3E13E45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534924-68B6-4D49-9754-F7B76B49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F1E5EF-CE63-4D92-A276-B6F7FEB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95DC36-73F5-47CA-B31D-B7041DE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5082CD-27FF-43D8-8D28-BFE8CAC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A4B-4362-4DDB-B749-45961730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E7A5-B407-4ADB-BFC6-F5920A3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75E9A3-4C03-47FC-8500-385AC70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778EB5-4570-46EE-8119-F915DEDC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F68356-B827-47E7-9F9D-012D0CB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57189-0692-4FDE-AD65-00470A0B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8121C3-6D7B-48DF-A900-571A89E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61D099-EDFF-40E0-95D3-74B24E1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0CC73D-95C2-457E-AC0D-F11B901F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4E2015-AD11-45B2-91E9-CB29953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53D13A-39F1-4CA7-8F36-5AA5823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68B45F-DD80-4B8F-802A-E780B1E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E393-6D22-4C6D-98EC-84ED5BE4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B9A97D-FE02-4F8D-ACD1-8BC44217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3A8680-4B44-400B-AB20-595656A9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81801E-A706-4907-9DBC-7447E714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D784D2-A9B2-4E00-9C88-9120D4CA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A9A6BA-6AF1-4EBF-9C3B-C4B127D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0FC79D-600D-4412-800B-26B8A97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837BA-3C3A-49BB-A630-1009026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4FB00A-44A7-4CB6-9262-C470A33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B848AF-26E6-48F2-AE3C-3D1D4A9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733473-A490-4F14-B366-C8D1FC8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DF0E-8D62-4229-8B8A-4BD9B4C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9919B6-9C8C-4872-976C-9295034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8B6E43-8F22-406E-8AE9-A5374E0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0DB66B-E31A-4D16-8AD8-CDF44647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C26BC8-1CE6-4350-B416-D389D64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382A9F-0C1C-4202-B8DB-9CAA721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5E6582-564E-42CB-8000-9C781CF8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CB2C9D-97ED-455A-B4D4-B9D044F6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858068-6226-4524-A221-EED70F0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24846D-4D6E-49A2-9E44-86035C9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E20EF2-89C1-4A26-8C8E-F4C4A61C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2084-7CBA-4256-BFCC-2D57ABB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F50325-030F-4216-95E0-3596A51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4D3724-0B55-4B40-868D-0604BD5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017679-8E2C-4BBD-A15C-A3B0524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AAE5E3-A379-4DD5-BBF3-E203070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2559E9-7451-46F1-9BDF-FE073D6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3A44CE-C5FE-452A-82C0-3173DCC6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6D298C-70CB-4560-8D96-3E8967CE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99E8-BD25-453F-9B8B-E1D3297C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1676-E5FD-47E4-889F-5AEAD5B5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AA79-9DC3-4EDB-8A1B-B174DC72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94DE-6F84-4C33-8FE1-31577CE8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FFBB-6974-4688-A357-9937009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E9C9-6C48-48B0-8878-CE72932E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C57-D095-4BDB-A383-204F3701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58DA-4A2C-42DC-9841-013222DE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3CD0-DE0A-40B6-A732-0ADCCFB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E13F-5D12-4A92-B42B-9974C80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9292-09FB-4B59-8A95-EE9EC61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1CD3-605E-4C87-A6B4-ABD02DC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DD0E-B623-419B-94A9-18019DB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20C7-0701-439F-862C-5943068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73A8-B10A-41CB-8C85-9708488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85A8-4668-4B44-8EA2-964702FA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3F17-EF59-4045-B88A-649043B0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29A-EB9B-4CAB-9B1F-DDDC0ACE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B67E-5764-4BF4-8740-81EAB5B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D13B-B4A7-4FED-9B67-5BDF9D0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BE9E-66DB-4932-9E96-975C064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E4CD-37DE-4D4E-81B0-DD8D85B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3CAE-A86A-4825-97AF-8811CEEE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2BEE3-13E4-4CFF-9656-C86BAB67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7BBB-786E-46C4-81DE-42B25C8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7CC6-5996-418A-B86C-0D95436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851D-60CB-41D5-A056-7D4687A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97BC-4E19-4E72-8F45-7F2D76E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E61-521C-4FB6-9C95-A1A46A4F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EA8A-92FD-4ED2-8A90-8BFAF3C4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B090-8235-44A0-8206-57FB9226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B225-AC16-41D6-A6F9-E48F4EB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F601-0044-4D2B-AC09-084BB75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9754-6BA3-41F6-B94D-4015F9E2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CE22-0EF0-45B9-86A6-B4CE5C9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D25A-5C91-4C1D-A51A-A06F967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8F68-B32E-4FC6-A840-B9105E6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F47A-5822-437A-841A-F2A2051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B55F-48A3-43C5-AA8C-D51C0CD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788-87F5-40B8-B1A8-F7A6CCD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0E6A-0A43-40D2-B14D-B702259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3175-A0CD-4939-8D30-8AF65FB8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43C3-2772-44C9-90D2-CF870D48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7690C-1BBA-4651-B874-8784C447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E813-0D90-4FB8-8A28-18DE7CB8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BBA1-745E-4E61-8E49-247F34F8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9869-1A35-4D10-95E9-009F4412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28C23-D0FB-47E8-B83B-FF02F1AE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7D8C7-31F8-4C2A-80F0-C4B48D91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782FB-C558-4AA9-9B3F-0069F2C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EBA-8838-4A8B-BAB3-5F166F9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3B17-61C3-41BF-93C3-2F0A9A6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3489-576C-4879-AF83-14EE8BB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80A1-210F-4CE4-8190-1F93B0B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CCF7-FB4D-438F-98D3-FE99F5F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5A9E-AB1E-4000-B945-CC1CB5A5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FE95-CC78-4A98-BD50-D2BBBFCC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5E8F-1591-418B-9AFC-D6A6AFE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5B3E-6390-4F31-AF25-CCCF1AA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2D4B-D292-4C42-9D22-D50ECA0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66BD8-FFA0-45B7-8136-6480B49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266-8CA7-4F50-9959-0FD866D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A321E-38D2-4B69-A317-0B245B5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C4DBF-ACF1-43B5-9425-41B2B3E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9C16-3BAF-4E33-A91B-EE0EEE2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E6BF-2CD0-4E12-9FB1-9E2AE7B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C2C2-275A-481E-8CF8-3925AAD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B154-8927-45A3-988C-DE3D2606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72EE-267F-48FF-9B64-CDADB28A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F764A-4852-41A7-9AE0-6D03CB33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EAD6-44BE-4A76-A38D-0D41FD1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48A26-BDF7-4563-B454-84C2D0B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DC4B-752A-481D-9718-14C593E9B28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695F-0E6D-46C4-A75C-6F92B054AB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9B8-A603-4F19-9B83-678AB72E5F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8015-BB7E-4387-920B-106743FAA42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5EDC-3B4D-41C8-8D87-20DC8A7096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30B4-903F-441B-8B97-850D74E361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13F-8A87-47EC-9DCA-A4A43C42DE4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B4C-7F7D-463F-B003-F579B899F4F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13A-C5D8-498C-B8AF-E17756356E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22F-4B67-41D4-A364-8133621AF3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32A-483D-4590-8B00-37AA2A120FB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D2E8-7D48-4B70-BC99-4F1357649F8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170-4883-4BAB-B2F4-3F334C22684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B9B-324C-4860-9288-C7F148AF2F2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A80-FC96-49C5-956D-ED1D3E084D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E16-1149-4989-BFFA-00A291D72E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A83A-2CC9-4339-BDE1-53D6C9E9E3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8FA-FDC4-41FE-B12D-442666DAC16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A406-A8CF-4C28-9EA4-E2A34C816F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82B6-9D94-4CC1-AF73-7A24B5950FC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CDA-0E4D-4018-9F9F-7A0B86C4B7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43DE-DBEE-4369-8860-D2322D71E8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689-C389-4984-A7D5-CB4F049476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E00-2ABB-49BB-A930-0FED7954374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8C20-1563-4364-A1FD-D84CA3F4B5D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745-DE49-46E2-BD12-573B8EF3A3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C5C-83F8-43BC-8E63-4F0F5EE3B8B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662-DCD2-4A7C-86EF-952DC1EA7E6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sultancy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surance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0" name="Organization Chart 10"/>
          <p:cNvGrpSpPr/>
          <p:nvPr/>
        </p:nvGrpSpPr>
        <p:grpSpPr>
          <a:xfrm>
            <a:off x="833400" y="2637000"/>
            <a:ext cx="7632360" cy="3023280"/>
            <a:chOff x="833400" y="2637000"/>
            <a:chExt cx="7632360" cy="3023280"/>
          </a:xfrm>
        </p:grpSpPr>
        <p:cxnSp>
          <p:nvCxnSpPr>
            <p:cNvPr id="1321" name="_s1028"/>
            <p:cNvCxnSpPr>
              <a:stCxn id="1322" idx="0"/>
              <a:endCxn id="1323" idx="2"/>
            </p:cNvCxnSpPr>
            <p:nvPr/>
          </p:nvCxnSpPr>
          <p:spPr>
            <a:xfrm flipV="1" rot="16200000">
              <a:off x="5918400" y="257616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4" name="_s1029"/>
            <p:cNvCxnSpPr>
              <a:stCxn id="1325" idx="0"/>
              <a:endCxn id="1323" idx="2"/>
            </p:cNvCxnSpPr>
            <p:nvPr/>
          </p:nvCxnSpPr>
          <p:spPr>
            <a:xfrm flipV="1" rot="16200000">
              <a:off x="51325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6" name="_s1030"/>
            <p:cNvCxnSpPr>
              <a:stCxn id="1327" idx="0"/>
              <a:endCxn id="1323" idx="2"/>
            </p:cNvCxnSpPr>
            <p:nvPr/>
          </p:nvCxnSpPr>
          <p:spPr>
            <a:xfrm flipV="1">
              <a:off x="4649760" y="3845520"/>
              <a:ext cx="2160" cy="605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8" name="_s1031"/>
            <p:cNvCxnSpPr>
              <a:stCxn id="1329" idx="0"/>
              <a:endCxn id="1323" idx="2"/>
            </p:cNvCxnSpPr>
            <p:nvPr/>
          </p:nvCxnSpPr>
          <p:spPr>
            <a:xfrm flipH="1" flipV="1" rot="5400000">
              <a:off x="35611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0" name="_s1032"/>
            <p:cNvCxnSpPr>
              <a:stCxn id="1331" idx="0"/>
              <a:endCxn id="1323" idx="2"/>
            </p:cNvCxnSpPr>
            <p:nvPr/>
          </p:nvCxnSpPr>
          <p:spPr>
            <a:xfrm flipH="1" flipV="1" rot="5400000">
              <a:off x="2775600" y="257652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3" name="_s1033"/>
            <p:cNvSpPr/>
            <p:nvPr/>
          </p:nvSpPr>
          <p:spPr>
            <a:xfrm>
              <a:off x="3976200" y="263700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1" name="_s1034"/>
            <p:cNvSpPr/>
            <p:nvPr/>
          </p:nvSpPr>
          <p:spPr>
            <a:xfrm>
              <a:off x="8334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LIF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S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9" name="_s1035"/>
            <p:cNvSpPr/>
            <p:nvPr/>
          </p:nvSpPr>
          <p:spPr>
            <a:xfrm>
              <a:off x="24048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NSIO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7" name="_s1036"/>
            <p:cNvSpPr/>
            <p:nvPr/>
          </p:nvSpPr>
          <p:spPr>
            <a:xfrm>
              <a:off x="39762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CCID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5" name="_s1037"/>
            <p:cNvSpPr/>
            <p:nvPr/>
          </p:nvSpPr>
          <p:spPr>
            <a:xfrm>
              <a:off x="55476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RAV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2" name="_s1038"/>
            <p:cNvSpPr/>
            <p:nvPr/>
          </p:nvSpPr>
          <p:spPr>
            <a:xfrm>
              <a:off x="71190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fe as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surance (usually over 20 ye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ertain amount of money would be paid to your family in case of your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accompanied with an insurance against serious ill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 be paid to you at the end of the con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back out of a contract under certain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nsion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saving with a state bene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gular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for the time you ret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usually cannot withdraw your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ccident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against acc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against damages caused by you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an accident (broken arm, leg etc.) you get som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before journeys abro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void high bills at doctors and hospitals in case of illnesses, accidents, car crash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your hospitalization abroad a member of your family can 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death the conveyance of your body will be paid from the 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ehold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burg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loods and other natural dis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rt of the loss is covered by this insurance and paid to yo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accounts, 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oderní bankovní služ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moderní bankovní služby a zavádí další pojmy bankovní angličtin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telephone banking, internet banking, insurance services, inves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ODERN BANK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BANK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ing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change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DER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sulta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lephone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payment orders or check your balance via teleph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ferring money between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ing bills and inv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ing your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der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movements on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money transfers to oth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a collecting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e-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-charge your telephone cred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 make a contract abo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rious types of insur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ing a bank card, credit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s and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es internet banking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a contract in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an access to your account and a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 the web page, log in, sometimes you get a password via 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financial operations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firm the operation with your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 o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35Z</dcterms:modified>
  <cp:revision>17</cp:revision>
  <dc:subject/>
  <dc:title>BUSINESS ENGLISH</dc:title>
</cp:coreProperties>
</file>