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F21C-82DE-4728-9E45-AF5C3C3244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9DCA-9CF4-4277-B79F-176E8C4DEEE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45AD-86C6-4455-8D43-961B1FE15C8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2E2B-DCB7-4A6D-AB6F-95060BEA4B1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F067-1A9E-4B8F-956C-ECD5B211FDC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E07-869F-4672-ADF2-A249C18A858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574C-1D9F-4269-82E9-1AB8C425766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7480-46F6-45A3-B073-877EB5073B5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032C-2EE7-437E-9BD6-BACC60F5DBB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F63-56CF-4223-BA35-43E80509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1F0-EAF9-44EC-88BD-DFD39749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91066-9463-4A80-87A7-B07CD91E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D11C6-54A5-4A50-8D2C-911293B8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021FA-159D-4E55-A90D-16FEAE73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31B72-A47E-46C6-BA07-4F0407D1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9F8A4-0633-4A85-9752-CAA6964A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1B74B-2DFB-4822-B932-3C1BCE66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AE630-CD13-4399-847B-B7A41375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AE45D-A4CE-4358-926E-3D6012FF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EE39A-4490-437A-92CA-D7DB150A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89BA7-9BFE-42F6-80EF-89A432C0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48E-B512-45AB-A487-7F88B215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44037-23C7-4AF7-A623-8176A6A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0C294-51CB-45DE-B4B9-FC67FEBD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259D8-584A-4E08-8A0C-4EA1BB09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A1019-3536-4413-9026-A933B33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255D8-7B6F-4477-A46A-E2BF3FC5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F4958-04F5-4216-A99C-4096E29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66E1A-99F2-4EA0-8AA7-B74E62AD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521B5-4792-47F2-B07E-567F8887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988F4-EBA1-456E-8A58-0A3CE14C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20395-F9B7-49C4-837E-62AE6563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DB6-EC63-4141-93F4-F7103DFE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A00AD-BCF9-4ED4-96D3-A9998824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0E828-BEEA-4687-9B7C-6C7E764E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F1098-48CA-4D1C-8AD4-D9846215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4CCF1-CAFE-4B76-9A8B-C2202F6A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8B46E-FDA4-4EE4-9495-3598DDA4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01174-DE6D-4E26-A0A2-B089AACA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ABDA5-D9B0-4D4C-8FDE-1380F118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D61E8-EE57-4D94-8B0E-C2D2089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8E34F-7E71-48DB-AF86-295ED806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15EF3-7152-4F9C-AC5E-3BBC9959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862F-4C0C-4FCF-854D-71DD6CAA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BB1AD-896D-4CEF-9276-B397D26B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7EF49-AD46-4A0E-A662-A4F9DB14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CC0E7-C9A2-4386-9D5C-538FADD9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AB1C1-50FF-4050-A653-8570B4D6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0BD0D-2241-4E8E-B2CC-A38CBB0F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76981-B391-4E69-AFEB-F3394112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3F03E-AFE6-4AD4-83D3-6576493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77F5F-8329-4C12-AF49-92AF3B78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12F48-5E2D-484E-9161-40CFB774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7CCBE-CF9C-4A2B-AEE6-8F7F34E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4A26-A0DF-432C-B87D-A099FCE4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B282F-3C39-4BB2-A097-541A353D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D4FEC-5522-4BEB-B4CA-571F155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4051B-C471-4CD2-92B6-905B5D87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D7C0A-571F-442D-BBFE-52419114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5001B-A929-4431-B926-60BAF37E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61C63-F5E2-44FD-9C80-F61344EF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E6294-5E02-4CD3-BF8A-9C1FFBAA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FEB00-A3D3-4EA7-B9B1-5563062F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405B6-C7BD-45BD-8F1C-CEDFAC39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D06BC-949A-42D1-9F83-014AC414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1307-A21C-43AE-A839-2E0CA4ED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97E48-9DE2-4EFF-A5DC-38F6322C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F33A6-85E9-4713-BA3F-22A9496F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7F03D-49FC-413D-A05B-48B95C44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C9957-5F17-4187-A9AB-D576CFE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3CF36-93F0-477B-BAE0-741AE217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EDB3C-5C1C-4C8D-A954-07A308E1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909BD-4D58-42EA-8D89-4E17839B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A6131-BDBC-445D-A34C-DF0C3A50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A76B6-EA60-4C68-A19A-94FA8F0A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FE608-84A2-441A-8113-3C0B4A1E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4221-8F46-48F8-960E-E5D11E5C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87328-5988-4F4E-B0C6-C2BF4E17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49F81-AE27-4EE8-9B88-1471D85A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A9CC0-CF58-4671-8407-05328623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1CBB0-ACA8-4118-AD4F-6AD6B007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9FDA6-37C2-4E0C-B262-D8036BD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3AAFC-18C2-428F-9946-E84D6411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62794-0654-4686-AD91-16768D58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8E8C6-E5F8-4E05-8407-6766C0D7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E6CB5-2016-46B3-BF1F-DFA62C48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6A6A5-A9B6-4BDC-AD2D-7C66A03E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96AC-D5B9-40BD-9161-922BEF4B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9796B-DD2E-4AC4-94AF-BAE7E106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D8C0A-8F5C-4DE7-ADBE-B010EF1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5A0C1-F6E2-4A5D-8FAD-B36ECA84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8B48E-5A4F-4ED7-BB7E-8B67C1E4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7081E-BC2A-4835-8704-023A7DE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9CBC2-2D28-4D86-8148-0FCB161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C6CFB-2BFD-4DC9-80A4-5120C5EB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EB868-84A3-4C0A-B5CA-9F3A053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38D71-6227-4F2D-9B81-28CAF10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75C34-6C81-45FA-B0A6-40182307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BFC6-30E9-43E4-9C20-470EE4D1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DDCCF-D893-4200-94A7-EA51C866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5DA4E-330E-4836-A409-8E517F2E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3D2A3-141B-4031-B466-278A3F49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28C6F-3AF4-43AB-BC7D-EACAFF78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D53DF-4B2D-48B5-92DB-84FD7C41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26BE7-CE5E-49CE-9EB8-DF25735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A0136-FF95-4916-8132-A4C32821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0DD03-85AB-4CDC-9FDC-F02280C5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BB54E-3930-4E25-8115-B4572CC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10F6E-D820-40D0-A657-00492673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87B7-8D3B-4902-8E47-2011EF6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1EE3F-C3E6-4A53-8C09-2CA028A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CADDC-B6C8-4DC1-BDE2-9CBCAAD9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A0447-9C30-4997-A55A-E389D663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ED1-4AF9-429C-991F-BB313361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B141-D8F4-4D59-B08C-3900EF0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F80C-D3D5-40FE-B1F5-FD77EFF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CB14-C8B3-4836-9F13-20E998F0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AAD6-29A8-46B9-B39D-FF7202C5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5FF0-18EF-4099-AF1D-F4561DFF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1038-43D8-492D-A3C1-71393D7B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0AEE-1024-4AE7-8CF2-2F388C13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CE5B-0B32-467D-9C38-7A8F757B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79F5-8A18-4DA6-9FE1-4626C278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2232-3254-4D50-B669-A9BC069F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7D8-38CD-46EC-8575-8AFE1111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9A94-7675-49F4-B597-6101E33C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1FB6-416C-4C10-BCFF-FBD9B8CA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AD68-E77F-4522-A822-61B27A4D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2729-5A48-47B6-AC40-9579796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C442-3886-4FAF-A781-D0BAD5F3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D948-481E-4A94-BD4D-D3E584C5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CFA4-EBFA-48D9-96CA-A061CEB4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C161D-0E7C-42CA-A8C5-59FD04DB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38D18-A8A5-4938-AEF9-2B5CABF4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35E77-CD13-44A1-BCF3-9B88B475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7D2-E049-48EA-AD21-51B28BC5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01B3-06EF-42A9-9610-5CD91B80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CA95-8B15-4308-BEB2-54C1C55F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CF4F-F749-4F15-9ADD-01413D82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D4B5-8639-48CB-BBC8-1418862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D424-32EB-439F-9984-E6F9D63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A6C6-AA5A-4C35-A4A1-060A608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37EE-740F-41B1-9B45-B4BA8C3C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7540-F36E-47CF-9638-FA7602EE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F70B-CFF9-43FB-BA98-FF0A19EA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ECF8-5033-4FD6-97C0-AB309CE3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69E-D7F3-404A-B8E5-92A8A30C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BD1E-2DC1-4B33-BC95-8E921EB3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7B98-05F4-48D1-B992-519C4D88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5005-ACBB-4A9A-89CD-844FF8B2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B208-4694-49FD-81BA-A1600FE6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AFED6-2E50-42D0-B5D3-3A92B72B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A1CBD-BA7C-419F-B649-6CC14C5B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07C59-0C62-43FD-8E91-044D2B0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53362-4C72-4F12-A3DD-A3D6F6D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B63DD-5B7D-4EC1-95AF-EC2C496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E7CB-3A8A-4B21-ACF8-9BB6E054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768-C135-4A4E-9CF7-6FDFD3F6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EC1D-8B4E-4C68-B6A2-1434825B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0017-2EFE-4FDC-89CA-7B226F51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8F07B-730E-444B-959C-90A55DE0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87D03-FF65-4050-A09D-A4010F9D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AEEA8-F981-41B9-9CF7-BFC795FC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A277-B28D-47B2-81BD-21673019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BA30-E4E8-431E-8A32-99B9096D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CD994-63A3-49BD-992D-E605364A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5FFF9-FEAB-4AC9-AC24-EEF60CD7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972EF-509B-428A-BB48-10A20785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98B-6F51-48CD-BEFE-4AB3D0F9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7AF3E-B0BE-481D-A03B-73632149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63AAC-9F68-4BC9-8D11-CB697DA0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F2CCB-DB6A-4632-998C-089733ED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678C-C017-4969-9FC3-835AC247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1839E-6391-431E-B852-36419953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4DB1-7E2F-4B96-BFEA-28CBD8C7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29E0D-3CAE-4E12-80CB-8281FF67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9F9C2-27DE-4A8B-AE09-8F5D27C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56684-34A5-4FA6-99CF-8727A21C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A28E9-B436-4F27-99C6-730D995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1CC-78E0-469E-AC69-322330D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AB6F8-774E-4B29-9D2D-E61723E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85619-F494-4EE0-AD43-A7E84BB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EC3AE-4365-4A0A-94F0-5D5015E4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524AE-B909-48C5-9D38-A78E15B6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012DE-B492-4FB2-AEAF-2E4F41D5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86C6C-874A-4B8A-B593-D25A07D9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3FD6-9443-4CF0-A7EF-2AF3D635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A7317-A72F-4008-BD8E-A8626F49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E8E27-DC71-44B3-8354-C26F80E4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3B8C-70E8-4CBC-8CBA-9C44FAA5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357-47F7-42D0-A9EB-5964A0B8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2942-EE6C-488D-82ED-0AAFF286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54BAC-1C0C-47BE-84C6-98278108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DD1FA-D070-4FEC-81FD-19CE4FC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ED7F7-1768-4139-B22D-337AFCF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CC172-1A5D-4FEB-BD90-0EBAD8AF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DE987-9FF6-46DD-8843-220CB0A4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3E243-E8C3-46AE-9749-F87E9C2C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2D0C7-222C-4846-ACC1-E09C03C3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63105-2980-4D0A-AC2B-DD5A071B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3501A-D328-49B9-AEB8-30F04562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099B-0CC5-4633-B292-7E17DA64ADD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D4F8-2D87-4916-8C33-DF5CA8307FA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73E5-50EC-459D-AEBB-514391F658D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683D-2AD8-45B0-8D00-89254EB3929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B61A-54B3-4293-8CBA-1257E722381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4284-D11A-420E-958E-F421441CC1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D9C0-413D-49B0-9A73-41D9B113FEF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3AE4-0769-4BFB-BAFF-4A5B0AB97E3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FEF6-B900-43F0-B700-ECB223640E7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E2C6-ED13-4A18-B7FF-2052C6CCF6D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944D-2EAD-4FA1-AE1C-8C54F7089EC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0285-F848-458B-879F-15BD7DC0410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A0AE-AD9B-48C7-A1CE-675E9E3180E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2C87-FC75-4BE7-8262-CB12431F2A2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08F9-5C1A-4655-A4B5-1B32B2DE3E3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2D49-C8B5-47E3-B68E-E64C7E91EEC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directly to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ultiple store group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arker → wholesalers → retailer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ys how customers can learn about the produ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olves packiging, presentation of the product, image, brand name, advertising, slogans, brochures, literature, price lists, after-sales service, training, trade fairs, trade exhibitions and public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nique selling pro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atures and benefits must make it unlike any other product in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4 P → 4 C  appro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duct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tomer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ce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st to the Custom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ce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ven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motion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mmuni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WOT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eng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reat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definice pojmu marketing, vysvětluje jednotlivé části marketingového mixu a SWOT analýz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, marketing mix, product, place, price, promotion, SWOT analys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marke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ocess through which goods and services move from concept to the custom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ct or process of selling and buying in a mark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have to produce what customers want not what we want to prod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have customers focused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carry marketing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produce and supply exactly what customers w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rketing mi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766120" y="2693520"/>
              <a:ext cx="734760" cy="296856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4776480" y="3683160"/>
              <a:ext cx="734760" cy="98928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H="1" flipV="1" rot="5400000">
              <a:off x="3787560" y="3683160"/>
              <a:ext cx="734760" cy="99000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2797920" y="2693520"/>
              <a:ext cx="734760" cy="2968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2"/>
            <p:cNvSpPr/>
            <p:nvPr/>
          </p:nvSpPr>
          <p:spPr>
            <a:xfrm>
              <a:off x="3801600" y="234324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3366"/>
                  </a:solidFill>
                  <a:latin typeface="Arial"/>
                </a:rPr>
                <a:t>4 P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3"/>
            <p:cNvSpPr/>
            <p:nvPr/>
          </p:nvSpPr>
          <p:spPr>
            <a:xfrm>
              <a:off x="8334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4"/>
            <p:cNvSpPr/>
            <p:nvPr/>
          </p:nvSpPr>
          <p:spPr>
            <a:xfrm>
              <a:off x="281196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5"/>
            <p:cNvSpPr/>
            <p:nvPr/>
          </p:nvSpPr>
          <p:spPr>
            <a:xfrm>
              <a:off x="479088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LA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6"/>
            <p:cNvSpPr/>
            <p:nvPr/>
          </p:nvSpPr>
          <p:spPr>
            <a:xfrm>
              <a:off x="67698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MOTIO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goods or service you are 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age, design, quality, reliability, features and benef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t be presented and packaged attra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products must replace unattractive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Should includ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value of the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ustomer´s ability to buy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ces of compet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and how the product will be s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ys of distrib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vailability of the distribution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plying and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9:57Z</dcterms:modified>
  <cp:revision>28</cp:revision>
  <dc:subject/>
  <dc:title>BUSINESS ENGLISH</dc:title>
</cp:coreProperties>
</file>