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111-E91E-44AF-844C-1AF7E0F147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771-E4E7-42D8-B41D-A2972E1BCB7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70AF-F1C2-4816-9FB8-A4134738DE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EB08-E534-4FE3-A432-5E1FD63132E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3872-E08A-4563-96AE-508222E3841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A39-0205-400F-91B9-17899339CA4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3150-E33B-4B77-AEFB-8895538A480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84E4-0E1F-4DA3-9A2D-0E1CB8B953F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27A-531E-4E0C-9DA0-D68E7111B43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FDC-5C0F-4C8D-8263-754D2E36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B4C-5BDB-4E39-BDE7-1FCBCA5F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79DA-A9F7-4F0E-8E26-71CC600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E1D97-C6AB-4899-9518-F4996D32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EDA5-2454-4569-A181-B5DD3C1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0952B-4565-4315-81AB-ED926CD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0322-A802-4BE8-BD90-48DC573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FB0AF-A6AC-4754-AAD0-480C992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3BA6E-8B4B-4030-880E-964440E2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35CF-5DB5-4771-823F-86D41941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AC3C8-61B6-4C17-A768-C392D87B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CE67A-F4C5-4856-AECD-59D1A569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D86-E250-46B9-AB77-9BAC0F1B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4AA86-D1F5-41BD-B2CA-0628D1C9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41324-4773-47F8-B095-581CC7A8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51F42-A473-4CFE-86FE-A3951035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55BF-DDD0-4471-B739-6C40D80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A6F87-25DC-4036-B929-16320E6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23D86-9816-4F45-AEC5-821D946B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64FCD-6E37-4763-95F6-9083EB0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0AC00-1553-4AA8-A7E1-785CBB3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3B436-BF48-4330-8F94-65F351D0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4715-6EA8-4084-A924-08C34111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C7F-924A-4CD3-88D4-DCB328BA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ABFC5-0DDE-4C04-A97C-A9F469CF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7551C-14FD-4CC6-97E5-D72EF980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BD720-931C-41F0-9681-897DF31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AD1DD-0B25-4258-9104-EC3F678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383A-F2F4-4DF9-85F0-7D3879D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8E8E-79EF-4123-B3FF-E61A7756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0B2C-70E1-4027-ABA4-5BCCF58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0F9D5-F9A7-47B7-8F43-ACF25C7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181D9-831A-4599-97A7-43D88BD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C48CE-BF28-406B-A721-BFA72570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78C-BBD8-4A3A-BCF2-500CFCDE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70C96-2400-48A9-9E1F-0C3E3EF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38D30-6D11-4652-904A-C2A695A7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28121-AFDD-495E-B18A-3314C033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07610-542B-45C8-A509-B86CE110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9F2A6-9826-44E4-86E9-820A44C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7E58C-C400-4F21-A503-FDA3B483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C56D1-AC9B-4176-B064-6D4ED297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1E359-27FB-4617-AD00-B3FA453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21386-167A-4CFC-84E0-D3CCE79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2A979-5A97-4A93-8BB5-227EF785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747-3415-4548-9069-5F1AEF01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EFCFC-99ED-4F2A-B0BE-15262DF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62F66-F104-4ADA-B269-704E2CF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F4E58-126A-4651-BF03-873ACDB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9A351-3AA4-4002-AC31-8B745B3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3A7F0-A9C5-4E2C-A598-9AB67E44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68710-DF6B-4BD4-869C-57B58599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3EF39-84A5-4C3D-A1E9-F47A7AD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72181-4DD9-4368-BA25-1F47CA7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8527B-3D0F-43A7-B49F-A3EB74C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329ED-7681-4B4A-86F3-E983D4E1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B33A-16C0-48F0-90AB-FEA9501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9A9CE-4084-46DC-B44A-2629074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6B19E-81AD-4A6B-93A5-5452351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A6377-F42F-4518-A926-A55CA5E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E0695-0E04-4893-ABF4-8C1B876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FFABC-DC5D-4997-AFAC-9D336EB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B4250-D899-4A1A-876F-FB9838D7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364F4-1138-4DBE-9E71-181595CF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FF3DD-A5E6-4E7C-BFD5-C04E0E02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6F7C5-7F99-48E8-9311-B2E12D7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7CD0C-1477-4F6C-870A-06DBC8F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725-B5F8-4F0B-8AC9-BED259FC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8085B-3E47-45B2-97AB-95A9087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2C718-EE5B-4A14-B771-548DFB85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170E2-BA32-414C-96F0-DB7D6026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2AFDD-2001-4C36-B694-0D36244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82FBD-B5B6-46A0-AA80-BE1C7AA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EC9EC-25F5-4BAC-ADE2-F4A22AD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C60EF-E13C-4764-B415-0B5AD52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606DD-1D7E-463F-87D8-F28B3898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5DADB-01BD-44CC-AEAE-532B555C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D9C24-E4B6-474B-8904-528D3D93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FAB2-7BBA-418E-BC8C-4A117A04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0E50E-6624-4CD0-9544-572589E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80420-8C6E-46F2-AF1D-8167FBD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6D8FE-E6B9-40CE-847C-77385BF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824AC-B576-4D35-8F9E-BA6515D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64165-12C4-4626-90E7-AEC53F3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881DC-CB46-4010-9CF8-67656B3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8ECA9-F96B-4927-81F2-9FB2E05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EDCA6-7D64-410A-A916-DFDD191F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F90D0-BC2A-4D64-A591-76ED14A4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3046A-45AF-4473-8D60-CEAD38F4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10C6-1CF1-451C-89C4-FBD257EB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66B3B-A7E9-4F5B-AE9B-0607E537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68ECF-1739-436C-8DE8-89DD25ED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BA313-6000-428B-99A3-642D494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0A5B1-A467-4767-B2DE-2A4A17B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EDFF9-4AFA-41E4-9963-668CAC32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3B92B-632E-4E63-B884-BE3143B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79950-85F0-4B6B-9125-D7209EE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B1038-4116-4F6E-8CE2-D75A3D2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0568B-7AEC-4DBE-8FAA-28F74A2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09BE0-2106-4D24-8F40-F581A8E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F02F-7EDF-468B-BFD1-1C257E3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D9827-0EF3-4166-8293-787A34BB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D5552-6D2B-41F7-BA91-39741360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74362-2696-4AA5-A70F-5843BEB5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607-5EF9-41FF-853F-79D2AC1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43C3-87A2-4B28-90CA-736FAB8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FFE-D597-45CE-935E-883B62A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997-96C4-4180-A047-7C39B8D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B79-2E3D-4E2A-9A5C-5514994B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555F-E062-4332-8719-371B4F7C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A615-6FC6-4707-AAB6-CDD0561C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600A-1727-4B0E-9C65-5DB44F7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3AA5-15CF-42D4-B7F6-9341805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0FA2-EDD1-4031-8978-FA0055A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A0E7-4E66-43C0-A7B1-80029A96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7C6-C536-44DE-8EAF-48D6E0F4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30BA-6D7E-4400-A942-C9C2EEE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C3EE-9429-455F-B304-BD9A1AD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2498-5EA0-4BE0-84F4-8AE5A65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53F0-0938-4CB8-8963-9775442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4D22-C1D1-45D3-A518-128068B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50BF-0643-4F1D-9185-6BFA829F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BB3E-439E-41F6-BF55-6137E382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1720-2287-4C20-82EF-A51637FF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BCCC-A647-4AFD-BC89-751352EF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26E6-4F8D-4D11-9D4D-86D1DFEC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A89-436F-459B-9194-22F5355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AE43-06A3-4546-9420-9D3CBB02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BB29-C41D-4F0A-BAE5-A6EEC39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C25C-F5B8-48D7-84F0-BED3BE74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5A5A-B3B0-46EE-9515-DECEC51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B4DB7-2C3B-4A78-B62C-939F792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8CE9-DD00-42A0-B090-0712C96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1C50-6B48-47CC-94B0-31C1A36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B788-6ECB-4BB8-81FB-BD14C4D3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9742-D35A-4221-818B-9147F7A0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83A5-02D1-41BB-BAE8-408FE87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241-F2A6-4952-AA60-2C9432E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1529-D607-4A52-9D81-A08EFCB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DDD2D-9C57-4F7C-B778-44DE864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4E74-F401-4551-8E1A-DB22125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537D-89EA-4C22-A41C-550CE32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B37C-3E63-4873-A4C6-8CE41FBE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6606-8156-43EC-962E-8229A0B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B5B3-8B6C-4DED-9E7D-D95D263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ACCF-7EFE-413B-A5DC-C46D477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2D95-4154-4B36-A856-FC1D366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F405-0EA2-4A59-93C3-4FB0F70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9D5-87E9-4FB7-9E61-EEB4B91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0CE8-272C-4C7D-A04B-E70EC349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19769-99B6-4A2A-B9D8-E20DF1C6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1AC96-5B71-40BE-913A-B5281BA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4FA7-E8BF-4FBC-BC05-9E02C222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C148-0EE5-4EEB-A113-570F8AA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F589-641D-4E97-953F-6774F0F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0B004-BA89-4404-81ED-8D0AF80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C2AD-5E2D-4905-BB28-03E2BDB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B5D2-0B73-4610-9B95-53633E3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9918E-2762-4B14-A186-0DC6DCC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881-754A-40B1-AE5C-8EA4C130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0AB9-C616-4AC6-B85A-4CBD7B78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015F-641D-434A-A492-5FB34BFC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6655-5A4A-4050-8B1E-FEE0376A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6C77-4D43-44C2-89F5-C1017763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07E5-0BBA-4884-B82F-A8B0737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08FA-D384-4D70-9C68-F8D511A0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7D65-9333-42F6-AEB6-D995C68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4C998-1C59-4945-815D-FD58A638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BE023-27F5-42FB-B811-600BF69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EBCB-D873-40D0-8FB2-4572586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C69-C5EB-4EB8-B312-A8BAA1C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53D2-24C2-47DD-B0F8-96AB545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1DDE0-0E55-44A6-9135-59C9657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26C4-8B27-48B9-8A0D-C92ED63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159B-C604-4785-A2B8-40E1B647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456C-A4A8-4C34-BCF5-C3D94204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5FD22-4B05-4CB2-B7DF-DBE94363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72E7-317A-4452-81A3-69DB43BE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2217-7755-40F1-BDA4-D3E9A99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424E-D9D6-45CC-97BC-57E13A5D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4773-6673-49D9-8B65-81D28DF4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C4E-14D5-4B0C-A0B2-5122939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BFE8-3F85-4048-A89E-EFD4628C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6D380-444C-4497-95BF-076A837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60A1-99D9-4867-A35D-DF8468C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802E0-3D32-45D4-886A-243F60B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9CAA5-3C0E-4D62-ABCA-42CF7877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DB32-14FD-4A43-9882-8051B8F7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6D53-F8FA-43B4-B73A-B2CFB291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D38BE-DE19-460A-A78F-BD9A14ED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8A7DC-6B3C-4663-BADE-9140C77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B3C21-5CAC-419F-A4DA-337AA78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D16-ED67-4FE0-B372-66333BDDC56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30D7-C995-4636-ACDF-B943C26596C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F55-512A-4126-9D83-D09AD23EC4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200-7F14-493A-B302-1A41056314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87F-5358-428C-989E-94251E5902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2565-6EC3-440F-BB44-0B1DF3BF84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2D2C-50C1-4BAD-AD31-C7447D6C596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35F7-2C52-41FC-ADA3-AE50DEBA275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70D-23B6-4EBC-8462-909E43A0140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6028-8816-4DC0-AC45-5C6AD7A03B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35F-361E-4032-BC78-02DDB32DA5D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4EE-E3A5-4667-91FD-86464BF1082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5497-79A9-436A-B7B2-D56DC8C4CE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E76-0B36-460A-8120-308510DB37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7D3-46E6-4BF7-B9E2-A1D896B02C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0DE1-DCAB-4A53-B337-8A07D9C5C16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st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ney market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x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investment strategi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uaranteed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mov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ying a house, flat, piece of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urchase through real estate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possess the immovable and can use it (house, flat, garden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make further investments into the immov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 an individual you can buy many various things which can get a higher value in the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, silver, cut g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intings, ar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pany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investmen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PROFIT (OR LO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pojmy investice, investiční příležitost a typy invest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ment, profit, shares, bonds, valuables, stocks, immov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invest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oney that people or organisations have put into a company, business or bank to get a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omething you buy or do because it will be useful for l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opportun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8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sto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movab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uable things - paintings, g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4670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for a certa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become a shareholder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et regular dividends according to the prosperity of the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e risky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dium-term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way how to inv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at a fixed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stock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ferent portfol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invest into different companies at the same time which can keep a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under control of the Comittee for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56Z</dcterms:modified>
  <cp:revision>18</cp:revision>
  <dc:subject/>
  <dc:title>BUSINESS ENGLISH</dc:title>
</cp:coreProperties>
</file>