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4A8B-42BF-4232-ACD0-BDF2E556753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E974-AA2F-4D18-9123-0237F280749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086B-B7DE-40CF-A910-B5575C17750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8408-A63A-4012-8873-F071E2E8655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26E2-3D99-443C-89A4-C421DC21096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16BA-F993-43B8-A1C4-15701707A50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FE5F-6365-4C83-B308-A247E4093C1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67BE-707F-4F7F-810F-1E043C16291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CFDE-5103-411B-854C-975541C089A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CA4-B1FD-4433-931B-4E8B10A2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3F9-FF54-4957-ACC0-42E0D70B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53C6A-32B5-487D-8A24-58132578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4653E-7A62-4A22-BA55-F61EEBF0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5CDD4-9505-4802-9E11-4FB43231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528FC-09C5-4EC0-BC57-2E8321D1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B3DA9-F50B-441F-95ED-C0AF567E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6933C-A0A9-497A-8CDD-9365DEAE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A5E2F-929D-4304-BFA4-E6CA2EE0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E049F-5E11-46A2-B3E6-92CF96D2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16282-F6DB-4230-A8CC-00C7EB23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6322C-CDC4-4CCA-BDF0-B8722125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C02-56B2-4B58-8757-69455162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6FCA0-13EA-4C20-883F-88FE3092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E8773-DD84-4919-AFD8-B3B21E4C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B18CB-04BF-4BC8-A63F-E47E40A3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F3774-0B6B-4605-9DBA-B1C5DAAA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7D51A-785A-4049-B4C0-F3FCCD83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B00B9-0BB2-45F9-9B65-67653863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2246C-BC6F-43DE-BA5B-9BC4934D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C9332-E522-4F80-9B0E-1031B57D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A5F60-8DE4-4F05-A2D4-64B0BEA3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39FCA-32CF-40A1-B9F5-FC55CECC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A12-AEB6-4360-BAB0-10AB0C8B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A4EC9-A1B9-42AF-AAB6-CDDCC856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82CB2-7F09-4BF3-B63F-46FB2C39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9E97B-8DE5-4905-B425-BBF60896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40520-9E91-4251-9910-B3A66E81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00A5E-6752-4725-98F2-52C2B027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63BAB-C457-4D07-B60E-F5D523ED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F863A-04B5-4DA9-AF40-B6CED9F3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315C1-72CA-4568-A1F4-DBCF434E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8C388-0F0C-47D8-91DF-F06BEA34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A61E0-0701-4465-B00B-E883EBB8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F531-36BF-4921-A216-3EBF3A88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AB7BE-A7C7-47C0-98BC-4805B3F8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163FF-0CFA-4184-B8F3-E801240F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BAD78-6E3A-490B-A4F2-455E99DF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DCEF5-71E3-408D-941E-5359CAC3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A6567-DCDE-40D7-BF03-88494C69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5C4E4-DAB0-4A14-8107-099D4C07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88B29-C8DC-4D3F-A736-DB10D75F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FC7A0-3117-4890-A662-B9A53FED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855B9-B7DF-427C-8619-5143A9E7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601B9-DC71-4054-A99E-B9B4A6D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C674-043E-4A1B-9A92-492BAD24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D4CCF-40CF-4EC5-AB05-40F33017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0966D-93B2-4DA3-AD30-B09E7754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D7CF6-B7F7-428D-AC16-1DAE0723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9E869-1D69-4DCA-AC0B-F62AA69B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6FD3E-9BCA-4F01-96A1-AEE2867F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AD7E2-3F51-4256-B044-E3EE6D68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2980F-1468-4DC0-A4C4-C760A97D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B1B26-2DB9-4584-A3A4-C16607A2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EBCDC-9441-4C3F-AC37-0E330B9A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735C4-B5E3-419D-9252-384BD5FC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ECC4-EDF6-4684-BC74-7E79D1F2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3430A-F8B9-4D16-A529-2847E5AA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DCBEB-3E60-4E90-B3B2-8D05D16F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885A8-A69B-483E-8226-3FE188D6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26B53-71B9-4D1D-914F-27A6F155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CF656-8F42-494F-8044-FFF3D204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173A4-D340-4E9C-A2CA-3CFD6501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94632-9C4E-497F-8926-4B8F17B0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D3574-37AD-40AA-B4CB-78665A65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49077-BEE3-422E-9360-5FD1F037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E1290-8DA1-44B4-B48F-9B314DE4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B19B-3C0A-4431-A142-F7E928D9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F2B1E-9F60-49F7-ABC3-0F441C91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44F0E-D148-4B13-B8D9-CABCECFD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213D9-2C28-4A74-81F9-B7072335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11ECF-703E-4B76-9BE5-EE14F851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B5D80-6F35-4DC8-B224-6EC1935E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F5ED6-9C83-418B-8AD5-93CF6A5D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77879-7B46-4196-A60F-F78326A4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286E4-09F6-489E-8B46-1C75562D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62A30-EF25-4486-80DD-4E7A4991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19938B-0AE4-4E7B-BE08-2D4B38A9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A224-58DB-4ED3-A7E1-87B44167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C6144F-91FE-48C8-A4FA-7174970A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DDB74-77E6-4306-989F-3A78B638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18090-FBDC-4F26-AE73-7D52841B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DB540-4236-4819-AEAF-D8B43D8B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86C7D-A1E4-4A57-ACCD-8CC3C2C4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66CBE-AE28-489E-9AC2-5808CB2C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63EC6-5115-4AF5-A379-5081FF62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34954-2C17-43DC-964B-C5414416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5E9D78-0ED5-4DDE-A8BA-784424EF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16D3D-E256-490C-9AAB-BA70C8DE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C92F-906A-4AD7-BC7B-0187A679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948F7-C2F1-4A0A-96D3-19CC84C9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B6AD4-C177-4834-995A-80FD0D40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7E2344-0A74-4497-830D-680433FA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4545E-A607-4170-819A-827F7682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1E5CDA-0E69-4BF7-AD8F-BAFC14BF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B7F74-F41B-4A3A-BBE1-62F00253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554A09-CD3C-4EE1-BF2D-B5425A67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966E4D-EEB1-4512-877B-BF970138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A5B37-9A3B-4F33-B595-E5117B83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58DA3-8F3C-4031-853E-3012172D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4F78-5206-489C-9441-0BEDE3C8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BE1E5-A2C6-4AD2-AA0B-C6A26D49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42642-5583-4BE7-BCB9-610B88A7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3E7866-EE90-4D1D-941D-6618568D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E4333-48F9-49FC-B8A9-91972396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6D805-8B86-421F-9BEB-3082AA95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8CA1F-5216-4B61-9778-2EBEEADD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8AC746-5515-4959-9F25-03209E7F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214B5-EAED-4196-B7C7-2FCD112B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80B66-5B59-471B-8932-C7BDC733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D28009-0F3A-4A58-B9B8-1A88C2F0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9BE-6530-4EBE-AD46-45FB5BC6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8343-93A6-49F2-867E-1010EF1E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731E3-D5CA-4B8F-AEC3-A55D6663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A0304-3DC0-461A-AB37-A215D87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1F15C-F5BA-4428-9422-076A9D2C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601489-EA6F-4421-AD44-E159A56D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CF2EF-F799-4FD2-9148-9864844E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B6AF-2E85-4757-8DF0-DF7BF8A2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3BE3-FED6-4D6B-8C8B-00CD2987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E149-2D23-4C4D-A754-0784435A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54EB-BEDC-4D24-8299-A10F474D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E643-36A9-4C4B-AEB8-D58B6236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ED84-B8D1-4797-B70A-13C0E68E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BED61-0C3D-450E-878A-F52C0EE9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3367-C5E5-4E54-B800-098CD618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5BC24-070A-477B-A8E8-B32CC615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D53-60AD-4EDA-8187-18F791F8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18D94-8D34-4885-9A05-5BAF4D0F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D3AB-8973-48D7-9DB1-1158BA10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88C0-138B-476D-B140-8AB13F2F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5680E-45B6-4B1A-B6CB-13D59A27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EA00-4EF5-4C3D-852E-E7D60545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EB7F-A190-456F-A572-E1CDBB20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529F-7D78-4EF4-BE4E-F6911B7A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4A1A8-A369-457D-9E41-599FDD89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ADED6-F1B8-49C5-92CF-94701C8C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8120E-F235-402D-9217-EFFB4B86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D2C-8693-4F1F-8531-0E68F8DC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74429-EB63-46FD-834D-85909775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59BAE-4C86-46C5-B8FF-EEC454C1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61151-F541-418A-A1A2-86AA989C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5FC91-46AE-4D63-80FE-F7715FBD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5C240-8867-45AB-9743-E774361C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637DD-DCE2-47D7-B0DF-F3FE75C8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9D40-9F30-46DA-B80E-D4C199EB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AC72E-B0C1-4A09-922B-72282192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A26B8-5822-42A3-A608-35B33A5C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E5E6-D7F1-4F13-8786-56B2C19C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3B3-D40E-41BF-8CC4-35B3FAAB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2AE2-3963-464C-8CE2-FB5B1C6E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44A11-D1D2-4330-8E6F-E8E8CFFB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E92BF-A56E-4332-8C8B-8FEE76DB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71B25-2B22-4340-9CE9-4225D286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9319C-1FE7-49C9-84ED-18E218F9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B2BFF-0FC7-4514-A6C8-165733F3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16EE6-86DF-49C2-87B4-1D4C48DE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C57FA-888E-440D-B091-C1F291D5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3FD5B-931C-4868-BFDE-F76AC9C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AF6BA-F398-45CE-B2AA-DD003A4A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BDD-731C-4DDC-BD04-FBF4A0EC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B25E1-44FE-480C-8596-B298E55F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6F50E-E062-4A14-8CB5-7C36585B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740D2-F82F-418C-B4A3-F2013A0B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D3E69-031E-4191-BE70-B4B77B7E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F1EC6-B540-4F70-B7A3-FAFC3D59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E19DA-41D7-425B-986E-115D1635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2448D-D8B7-43C8-BB38-9D617304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4F29E-0450-4DF6-A9E4-F05E0A81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2B4DF-3C70-4469-B114-12578C42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75575-BF68-4160-8782-2659999B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AD8-607C-4BBD-978E-8B8174DE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280C7-434A-401E-B1D3-F92042EE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3B4AC-D43A-4280-B2C9-DBB52D10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09BAA-06F2-4210-BF7F-8CB98860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0B494-8E67-4013-AC28-134447DE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7512F-945B-44EC-B7EB-867D1CEF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C65BB-5B97-4C13-9419-7571E0BF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3EEE1-7E99-41EE-9B4E-F19A1828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2412A-1B7A-4EE6-9C8B-F8D4252C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531B4-0BDB-426E-899D-4448B7F1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6E9A9-CF33-41F8-AE45-92ECE7AE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122-4BC3-4931-AF99-C329B4D3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E25F0-ECF5-4DF2-B5FD-DBDEE8EB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075D0-85E9-43E3-9644-AE0770E7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F6248-EB40-4AA3-9861-4737E3B7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0BE47-17E8-493B-B19C-70ECAEF7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F976B-E970-47B4-B5C3-20C8335A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90959-6257-44DF-BE05-E2616CF4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FD3E9-E050-4CFC-A3DA-F3B980E4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25621-F963-4E4E-A731-230FF463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BBACF-F894-4F04-BA14-E376ABEE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1D253-A1B3-40C3-83C9-86CD9AB7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A44-3191-428C-A3AD-227D6380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E59F8-5D4B-42B1-B242-4F68FE29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91FBF-3586-4541-A316-50374FDC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16B3A-0449-46EC-95A8-2AEE868F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A875D-C166-44AF-BB54-B2310059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2DD7A-4C3D-4118-884F-352EC8FC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DD856-4672-4F84-BDAE-B91A0F9F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CBC60-31C4-4DE5-9269-0C9B3915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BBE49-7205-49AD-9CDE-E003E44D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4F422-258D-4501-8596-34F07450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8134B-4DDB-4EC7-9E25-EA6C9BD5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B473-E11D-4369-96E4-787DAD33B20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2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2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99AF-D06B-4A76-81FB-CBC4976A48A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7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F394-A130-48CD-9521-8549AB5D664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2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84FC-E583-4211-A695-61BCA2201C0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0634-26F8-4041-BEEA-115E7FFD516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0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1CD9-574E-4CEA-A448-035BD2BBCF2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289E-8F4A-4CBC-94F7-B293C8445CF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92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9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9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A0AD-AB43-4A2F-A934-BA48A12163D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A212-C7B4-4FAB-937D-3EBAF61DEEA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1565-4862-4643-AD79-D732BBD2BD9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0582-EEE8-4EA8-86F3-A8745CD61EA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5E80-97B4-4794-BB84-B9CBAC17080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4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4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F6BF-D394-47A6-AD31-8BAD6D1E5C7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A19D-DE56-426B-AAD7-F0A36F41748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84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55CE-7472-403B-A2A5-20D2D0DBD29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28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0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1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34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7C7B-AF1E-4073-9B51-00CEC5F7BB2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78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3AB6-4574-45B8-8912-76D6AF7D756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2" name="Obrázek 1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b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7 – 2008   Kalamity bank (tell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5 – 2007   Vodárna Troubky (accounta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4 – 2005   Mrazírny Eskimo, Orlová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personal assistant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ngu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glish  (advanc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rman (upper intermedi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apanese  (beginn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r: English (actively), Hungarian (passivel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kil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puter skills: MS Windows, MS Office, HTML,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iving licence – group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ypewriting, PC writing, shortwriting, hand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Oth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bbies: sport, dancing, knitting, embroid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s: languages, econo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commendation: attac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VERING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ning the covering l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y are you writ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re did you see the adver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position would you like to apply f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do you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ing a personal me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osing the covering l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ttachements (enclosur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Životop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složení profesního životopisu a představuje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Životopis, osobní informace, profesní informace, průvodní dop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4" name="Obrázek 1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0033"/>
                </a:solidFill>
                <a:latin typeface="Times New Roman"/>
              </a:rPr>
              <a:t>CURRICULUM VITAE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SINESS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and sur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ate of bi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ital st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lth st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lephone and e-mail cont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ucation and cour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rtificates and ex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b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Name and surname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hnny Wal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Date of birth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bruary 30, 197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ddres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 lesa 1234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IP code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33 01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own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rviná – Dolyw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ountry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 re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Marital statu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alth statu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ery g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elephone contact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+420 732 733 73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-mail contact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zonywolkr@email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ucation and cours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4 – 1999  Univerzita of Franta Vopička, Postoloprty, Economical faculty, branch Marketing and rac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9 – 1994  Obchodní akademie Karviná, branch Business academ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4 – 1982  Basic school ABC, Karvin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ertificates and exa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type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short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hand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certificate in Engl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0:14:44Z</dcterms:created>
  <dc:creator>Ing. David Holzbauer</dc:creator>
  <dc:description/>
  <dc:language>en-US</dc:language>
  <cp:lastModifiedBy>Igor</cp:lastModifiedBy>
  <dcterms:modified xsi:type="dcterms:W3CDTF">2014-09-13T14:10:12Z</dcterms:modified>
  <cp:revision>10</cp:revision>
  <dc:subject/>
  <dc:title>CURRICULUM VITAE</dc:title>
</cp:coreProperties>
</file>