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0301-54ED-4A9A-A721-6B261DD338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83ED-C9AD-4077-B61F-F6A3896545C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254F-95F2-4252-BFE5-881A29B39A3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078B-73D5-470C-9410-2903E681F5D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ACA0-5A2C-4C2D-9990-C585434B602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552-79D3-4EDC-9DA3-5FAFD1F1DA3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F0C-C6E6-4907-B657-04B791E84B4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960-63A1-45F4-A8A7-B3B352D9793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25C4-35AB-41D0-AB6A-B94D8F3CCDC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25A-A3B5-48B1-B69D-D43A0AAB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D94-13F4-43E8-A3A6-AB1C5293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38A4D-695F-419F-8708-42223BEA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7331E-3B53-45AD-A409-0948F047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93FE7-8F8C-4DD6-91B3-0792777C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23F89-B119-4ECD-9398-EEB41E79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408D3-6504-40C3-AFCB-96B8ADDE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83216-5314-4C59-B678-15475A7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0C46-B29B-47CC-A72C-185C10EC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0C125-7A37-4939-A692-C7E1F579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D96D7-3B05-4E28-A3D6-4AD8827D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5ACC2-4C31-4443-B4D8-FE46A831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3E7-8FEF-4F6C-A96C-A6EFDBEE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F7D2A-ACBA-44BB-B2F0-8261B67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3A5C4-6A28-4C0A-A69C-BAB27A39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00901-BD74-424C-B1F1-471597C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84632-8ACA-4E59-A9EE-7283B2AD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AF9A4-1D8F-4C15-8AC6-1808961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58BB-97CB-4424-BCBF-EC850EB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0077D-18B8-450F-A47D-BA52E8A8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F990B-2E41-4E20-AF61-5689BCA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7B6DA-BD27-4D51-BCA2-88D00530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9D005-89E8-4968-A853-82BEC7E4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2C4-51D1-4075-AC33-23908F3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A9D74-F978-42D6-9742-7B7E887F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E1929-A53B-46D5-BE75-45C664CD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22B2B-11EA-4C3C-92D6-BE0A51B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5E91-18AB-4597-874C-E6A067F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33657-5224-4BF6-9BBE-79195FE1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3E49D-2470-43E1-8AFD-506C63DD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562E-C07C-4F55-B61C-54DDD87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BD1A0-3184-4819-A991-EADDEF5B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BBB40-90DF-4C6F-842E-C5CF3CB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43155-F88C-4B2C-95C5-E4707EB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88A-603B-445A-97EE-1F725CAA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FC14-54D7-499D-955D-6B65CC06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EA1F6-D107-457A-9A11-248B4CD3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E3A73-42D9-4D7D-ACF9-C8E1D3F2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54DF0-F0BB-4B6F-B101-C46EC4CF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77B45-37B7-4B5A-8726-EF429EB7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B88AC-E155-4C13-A460-F40BB256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B103F-C4D4-4CCE-8358-B317D3C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6F043-CE67-4740-9A0F-3ACC86A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27748-0227-46D0-98EE-250B700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1518F-EEBB-42D1-9895-72E47764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A9E0-90D6-431A-8E8E-EAEC6CA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6A3B0-DC53-4688-ADC2-0E77BD3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56F19-6838-4977-9AE4-815F8B4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78741-85F3-4EEF-B3E4-B1328D3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3282E-B6E2-47AC-A9C9-1E63B858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8E7E1-2593-49EE-B0CB-6FDD5BC9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F0751-436A-4C1B-9494-86BB30E0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71873-5E25-49C1-89E0-D452CA38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1B738-EF53-409B-9D5A-0AA9CE8D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8CC34-B288-4746-8494-51E2D68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685B7-6E37-4EB1-9B74-8D3BDA5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FD89-D706-4FA5-96BF-9C2C1AC8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AA81E-2B79-43D8-AC80-C49FAD26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DE9EB-63A7-490F-AE38-75EB774B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B23B4-6841-436F-AA28-0DFCA2D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17670-07EB-4548-9F75-5E7BF63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12CD3-494B-40FC-BE13-D3B52B5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144AD-0914-4A44-BB2A-00FE315B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FE351-DA6E-43B4-B05E-ADCF9C29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CFED5-CEA6-47C5-A92D-469B26FE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252B7-224B-4FBE-9EFA-206968A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D7AF4-7B5C-440A-958E-9DDFB6E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7C6-2A99-4DC8-9516-ABD93B0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1A364-D0A8-4DD7-83E3-408F1E7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6FE13-293B-47EF-9548-3A8F2CA5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941A7-927A-4A5E-A695-C05791C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1DDC4-727D-43B2-8BC5-DF7E8DD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5154B-7C37-408B-936B-F1F7DD3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A52A3-3631-40BF-A98F-2160F27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7D31A-360E-4E33-933B-36D4842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BDC8D-03A6-46E7-AE5F-1F462100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93769-23BE-460F-BACB-5678C4A0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A149A-B125-4841-8DE4-E172B2BC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5446-B5F6-41A0-B77C-8398A0C3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56B67-3311-4F0E-8233-E499D992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0DD7E-907B-4654-B15B-50739D77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7BCC1-C055-4B43-B00C-0235F78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5382F-B5A5-4F1D-A27B-F67493A8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28B9F-39B7-46D2-A51A-F43DBA4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D9EBF-96FA-4CA1-94AC-942F7B3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84D6A-4306-46C7-9D7D-6AD4641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7846E-EE5E-47C9-AB33-97EF008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B443E-6431-4BD9-B967-6A2BFB43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198B8-78A4-4E3F-8B8C-EE86F04D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227C-CA50-443F-88AD-D2814979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C9C79-A7C0-468E-9C51-481F9D10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7BA25-421C-42A8-99CA-2BAD05C7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473CC-155B-47BC-A642-8A53E376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D8825-DD24-4938-896C-2E13CC33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9C520-054E-4E75-BE6C-6E457BD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9A0A8-0AB4-4370-BF20-99132B52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AEF25-6285-4555-92D7-A321CE7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54774-7F82-4881-A87E-E0FD68D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94A1A-B960-4B46-95D4-479C221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B4F99-52B0-4126-8089-7EC4A2B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476C-C83F-49BD-A6D9-E702A6D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83DE3-81A9-470A-9512-AB60C06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48B18-720A-407D-959F-0A1241F6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03E5D-4E75-4FFC-A9D6-1D3FD899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BCF-C3FF-406C-B2DD-E6EAC61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1DA1-A835-4776-B52F-0AF9FFF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3BC-BDC7-4351-BDC2-27F08AA1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BB1-7049-4DF6-9C91-0239C58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8C4A-6FA1-4773-B83A-6CD1BE35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C7A-74EF-4108-941A-B82DEDD3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1BD6-1F59-463B-B550-223082B8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2E23-7AF0-4C12-B983-B659F37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6F79-03B8-4C7E-AD15-4B8A7B3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91FE-FB65-4D1D-828C-C463762E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2119-C4A3-48FB-9206-528FA8D6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094-8CA0-4919-8B0A-97B361F6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D6BB-7C46-41C9-8ECF-0D3D291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9349-4144-438A-B26C-A5B0B9D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70AE-25B9-4F61-8CD9-A56A9EBB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A9AD-50F0-414D-9190-6D0E584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29A3-AB46-4436-863E-736F5DA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708A-7DBB-4E38-B1CA-FB6490CD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A80C-38E1-4D5A-98C1-42ADD0C3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4D0D-DCF3-488B-AD89-4452CD33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B352-7A9C-476C-AE3C-1F305DB4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AE0E-36EC-473C-8F57-6A0068F4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962-F0BB-42AB-BF4C-70C1B9CD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2456-7932-465D-9F27-92C04BD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995C-6B87-4B8A-91E2-61BF24E2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0CD6-124E-48D0-8E59-E2685FAB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43B3-6BBF-414C-BD59-DCB5963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1E9E-AA8E-4A6B-A35A-7DCF98F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76420-B0A5-4D1C-9B6E-2C0D515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CBF3-313B-4B47-B4D5-AF67143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9EC6-1B98-4B4E-A93D-2CC8C768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3EAA-CCD8-475D-AB76-47450932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7506-7C76-4756-86AD-AEDF6851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76B-26A9-47ED-8C42-7C8897E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3E09-AC47-444F-9978-A4C085AD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2400-F2A5-47A9-9662-9DF9BDCD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E41B-DC74-4C07-BC78-E3FE626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6CD4-7B37-494C-9C21-49E7A8C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FDBF3-6A40-4344-B4DA-9C1F5989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4B70-38FB-4C4F-A573-62D88AC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59D1-CA44-41D0-9DD2-5E50C7D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5520-82B7-4431-8810-A17EE3A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C2F6F-F0F4-4B95-8E03-D3A5380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3E3A-329F-4301-A5F2-5E8CE6A9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FD0-FB31-4C4D-9B06-64D85C74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B9D6-F8D0-4DEF-BA1C-1B38B4A1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535D-4BA5-4253-9CEF-BB0DF815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3A621-9684-42E0-A47C-D08122A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278C3-4C79-4241-AC3E-1EF15A7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2760B-CF58-403A-B5AF-5C48F5A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DD74-956E-4E33-B3D7-10D53744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58F0-DE0D-4081-8BA7-76A78F3A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D6DC-A3C4-40CB-B1E2-F4756402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29E5-F574-4081-8E65-A5E0C2C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81714-E4F5-4EF2-90C1-D54654E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0E3-D04B-4723-9EF1-4866707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87749-B008-4E3D-B6EA-8AF2087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2AAC-7BB5-4C66-8636-2AC81462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04DC-596A-4490-AFD7-C107AE43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9978D-A3D9-4A1E-8931-DF0B3701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63CA1-CEE2-43C3-A47A-B941A3A0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A13D-4221-4F07-B2A8-C1EBCE31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23B9-D19A-4A78-9714-ECA4E939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A9116-6913-46C7-9E64-6B784A1E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CB0D-ECF2-4DB5-9B9A-158F7DE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BFCC4-308E-447B-B10F-7489E19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539-3CBA-4CBC-B889-655704AC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6B5E4-E234-45C9-B148-AC1D4BC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228F-5C05-4ABC-9C37-C3EE19A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37A47-4722-4709-83B3-32C61C82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DC7D-B570-40F1-9334-AEAD18BF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26B3-45D7-4084-B8EC-7E49A483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E364-BA56-4858-AD4E-2CFC1FD4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2DA8-1D5F-4190-8761-CB89027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7801-1ECD-47FF-9026-87250EB9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5F696-4C63-43C2-BD93-41CA8E5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B9435-951D-40E7-81B6-21461DBC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D6C-4F67-43BC-A6E3-16AF3B41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352D-C4D7-4A97-8E3A-783F31D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1186-6329-4C6B-8BF7-3C6A385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2E19-936A-4342-A7A1-CFA7E13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86B7E-29C7-4B71-8024-71A1EF0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43809-C67D-492A-8AA1-6DD289E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58F6-9686-4EE6-82AC-0D761E02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FBE4-E9F7-4151-B935-A797B94B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9D392-7AD9-4C8A-A2E6-44ADC067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A2191-59B9-42E9-8593-243929B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5D497-B0B9-4EA7-A4DF-0DC6458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EB23-2831-47A5-8CD3-2586A71FF39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FE9D-F80D-4AFF-8B1C-4DDFB80D5FB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B367-EE52-42C5-9A2F-E999CD1A8DD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0290-5D2E-4679-9B14-68F0AA35F65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7E4-7B9C-4BFA-9BBF-C279D99364D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9210-7576-4B02-BE8A-EDC0A87735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61E-2020-41ED-9FB6-92E02F5DED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A8C-4275-4400-8448-057A70D1D86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EB9-C06A-446F-BB30-68207E242DE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6A01-50C2-4CE9-A287-98B822D853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F0E-9FD9-4A42-B6AD-124E566CB0B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453-BE29-4264-95BD-5F528A30F4A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71DF-33FB-4150-8CAC-BF01E3453E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209D-A640-468E-9926-5A50477251E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A6B8-27F3-47DF-AE55-356A689C7AB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09C-A969-47F6-9847-4588A189629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would appreciate your sending us your catalogue and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should be grateful if you let us know what you have to offer in the way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interested in the products you adverti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ll you please send us a sample of items listed abov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like to know if you are ready to to give us a special discount in bulk order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could place large orders with you if your patterns and prices are suit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demand for these products i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quite consider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s we have a big turnover, we hope to be given special ter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let us know if you have the goods in stock and when you can deliver th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shall compare your prices and if satisfied, we will send you the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shortly be able to furnish us with the information reques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you will shortly be able to make us an off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re looking forward to hearing from you so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should be very pleased to make business with you and we look forward to hearing from you in the near fu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re you that once we are satisfied wit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lier we do not change the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rust your prices will be competitive enough for us to conclude this business to mutual advant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f you can give us any further assistance, do not hesitate to contact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popt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popt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quest, refer, turnover, satisfy, price list, catalogue, sample, discount, goo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REQU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900000" y="343548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letter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hort introducti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 your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opening par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n explanation where you get their address or other conta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ques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some information about what you would like to get from th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closing pa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Introduction of the comp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 leading steelworks in the region of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am writing in reference to my company, Ocean Steelworks Corp.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n importer of .....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ur company deals with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refer to our conversation at the Milano Trade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Your name has been given us by the Chamber of Commerce in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have obtained your name and addres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m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have seen your stall with your products at the Frankfurt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heard you are exporters of 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have recently talked with your representative, Mr.George Black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business partner Mr.Thomas Ward has recommended your firm to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r.Thomas Ward from Luton was kind enough to give m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your name and address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have been referred to you by Mr.Jones from Whitefridge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seen your advertisement in the local newspaper and we would like to ask 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r your new catalogue and a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seen your advertisement in our newspaper and should be pleased to make business with you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been informed by ... that your firm is one of the leading importers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16Z</dcterms:modified>
  <cp:revision>32</cp:revision>
  <dc:subject/>
  <dc:title>BUSINESS ENGLISH</dc:title>
</cp:coreProperties>
</file>