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09A3-5F3D-48B9-B6BF-9E95D434A62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2559-28B4-4CE6-BDA6-00ADDE0E8EF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7E48-D84D-46EA-9009-2921DE24F22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756B-0C24-4C8A-9EFE-A91E2DDDE81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29E7-9D6A-41C4-9F88-A74EC380FE2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2013-F64E-46C4-BF81-DEE73526E40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E93F-1C90-4EF0-B30D-DB5FF4DD172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8FAE-721F-4DD4-A896-CFAD7FA0B43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0D5A-6D79-41CC-80C0-90FB1A8858B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B5D-6A80-4FBF-8D0A-4F1BD9FC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C51-832F-42AD-9829-04944A5B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7E2D0-D047-42DC-8D5A-0217CF07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D97A3-2725-488B-B95D-2FD3C77E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A2228-9D04-4F3E-BAA7-56B02D7B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FC0BE-66EF-4A2E-8F49-21E80D5E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277F9-63A9-435E-9E7B-822443D4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6BB3E-6271-445E-88C4-D065AC71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EF57E-9AED-42BC-8285-0DAC2621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7A2F7-C03F-4CBA-9148-3D10EB5A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B22B5-1504-478A-9879-EB73BCD6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BD583-611B-4A48-8485-D7CD64C9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64C-8683-43D9-BF32-6D3B3665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74855-B555-4EC6-B7AD-9A34F8A3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20FDC-6B52-45FF-B415-84D4CAC8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6A5CB-1C4F-4D85-BDB2-F7915364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FE7C6-33BE-42A0-806C-1F87971B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F3506-B691-40AB-A931-0E3BF8F7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74873-1442-4CDD-A2BD-F18E91C1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704F4-EFC0-42E6-A007-60CE34A2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FA05B-F69A-4661-8C2D-EEA31988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9270B-9034-4DA0-89AB-4499AB45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081CA-F354-46D7-9E10-EBB4953D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A53-F50E-4E48-8B06-995DA7EC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6496E-07AF-4427-AE89-91EC23D6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15E97-0DAC-429B-BC9C-FE5CDF9C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61449-F78F-44A5-B5B7-53C931B9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B4983-B313-4F3E-A5A5-CAC919FF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4C027-4357-4DD9-A67B-45DC4A34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E30F6-F6D9-4078-AE63-87928FC8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B3F8C-9C4F-4E95-9A79-BBF5F028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D3344-AA16-432D-8FE2-532E64AD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B1B77-F311-444E-B1DE-9AE4CE7D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C7054-2A75-47A7-8287-57E40F69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2CC6-D2A9-4754-B8AD-36EBDD14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921E4-1B59-4409-A194-CA0761D8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5CB33-1107-4262-8999-549E181E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BEF1E-DEAE-4CFF-BD0A-BC48DB09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28721-87AC-46BC-ACBE-9A19EF44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25B6E-4EBA-4041-9018-1534D334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C5A6B-73DC-47A6-B852-39D6E02C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F6026-CDA5-4C4C-B76A-783ECB6C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053BB-A2E3-430A-89C3-F5B9BFD6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D8D52-9A15-4DDA-AA4C-2263842C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9AFBE-7A42-4D25-B043-252108CE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F456-430B-4CB8-A42D-5A659F7C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E80A9-5083-4278-AB71-AF7275A0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83FEE-9C62-4B1A-B32E-A99F407B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D1CE4-A54D-48C4-8184-268EFA8B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5ACB9-17D4-4C79-ADC3-FA10B59E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13E6A-98A7-4DAA-B58C-10DFBD81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BCEBE-245E-47CA-9C74-D65C3EA0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ABF7A-433F-4892-B929-0E3501B9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2E323-9AC4-4AF9-BA92-47886792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B639C-2422-42CB-AD72-12D9F9DC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18FD9-56B1-4561-BDAB-3C4D4AAC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50EB-C915-4DD6-9053-4F271FC4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EBB76-2F69-4CA5-AA77-CB88AF7C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15ABC-CEAD-46C0-AA74-F5D61862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48BFD-83EA-40E2-A2BB-3AF21C09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C0D22-AE67-4EAB-BEC8-57086329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011AC-F7E9-4DDB-B6F7-847526FC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EF4DB-57C9-4DCC-9817-BCEFA9A9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AAFAB-FDCD-42EA-92AE-45C7A2EE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C6997-751E-4A26-BA74-847DF874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B96947-E013-4C28-BEA2-9AFCED4F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B6302-C02E-4E61-9551-FBF5541D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579C-8BE5-4280-BB61-5FD679A8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C2738-F784-4F6B-A138-02C7C1E1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13D4B-FAF6-4C6F-8B69-D049FFE5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10303-4C3A-40F6-9C7B-5ED14A0C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30CBC-FC96-40B0-B176-BA36DC7A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B3D7D-36DD-455D-9A91-FF2D1856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3EDCE-F7F7-4C4E-9543-9806D23B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005A1-9AC3-43A9-B7FD-095D99E0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0FB8D-B0FB-4CEA-8E31-48D21331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6726E-E754-4050-9DFF-0DA88175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C58CD-8E2D-4355-85E7-02F3F27D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88C7-C6C2-40AD-9C9E-BB34C0F4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CD7B6-BACD-465F-A26B-CA200A2D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11F90C-B2DD-4765-B176-4A387BE9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1DB8C-B3F1-4A1B-9386-EA9963B5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058DD-35C5-48B0-8DC2-B68C92D1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0C640-3F5D-44E7-95E0-B4C18995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A19F1-E178-4BA8-A0E7-76236800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5D2FB-5E8E-4E7F-96A2-FD14D9B7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DF3E2-747C-48F7-B99B-088E25F0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4E830-AC43-4D30-84D8-ACA9E28C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140AB-0823-4476-ACCC-F6BA33D9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7803-B511-4FF2-B0B1-B328D84E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42AE5-A0FA-4D1A-BF57-62D4F672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E55375-7C7B-4696-BCF8-8F573FE3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C46E6-6386-4DB4-BDC7-84C11979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8A674-B702-4647-93A6-D51EBF2D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385A5-EA4B-45A7-BED5-A6EB94A0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4D58C9-0980-4A75-9F75-D2AEC98C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4C175-9AFC-46C8-A465-DC283C24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4D0230-7E48-4BF8-88AB-3B9B0022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F9ED6-1CA5-43CC-BEFC-D72BD626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C55F8-C891-4B2A-ADE6-C91FA477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1B10-EC55-47AC-A3B6-7B72D288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AF95B-AF1C-42A7-9ECC-0E0FD474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F9927-3A92-479C-AAA1-28BF82A7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6288AE-5107-4274-876F-E49D3228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D4E-8909-4FBE-8B34-F1DF6460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462B-CC0B-49B3-9122-84EAB924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396E-582C-416C-B7DD-B1D2AEC6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8488-FA6E-4288-A22F-043C33E7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0FF0-B1FD-4856-9290-06C33AD3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0DB1-C3FF-4FEB-913E-EF2ADB23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C7FE-0750-41A9-B344-10B6BD14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D4CD-AC7F-49B7-8438-1467C0EC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6B41-E703-432B-AA32-BCADDBF8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522DF-4610-4737-B4E5-462676E5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66AF4-58AA-4532-8C3E-B5BC0959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8F2-750D-4B0E-AACB-79C53145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5B10-29AE-4E4E-9659-D2B8FD0F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01FAD-718F-4324-9430-E926A099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3DA4-C0B7-4D5F-8A54-181567B9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C2B48-B23D-44C7-BCB7-CF7100F8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4160-232F-4C6D-B54D-B1C48B06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E2D0-786E-45E3-B1A4-34726DE9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7196-183B-463B-B1BE-8995DE1B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019A4-0CA5-48F9-9506-EFEDDF56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BCD9-B81F-4B35-BFF3-69D09349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C07F-0E60-4C26-8B4B-99CCEAC0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E7F-48F5-4F5F-AD24-44B4F31D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5E83A-AB41-471C-9DF0-A62AAC7B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F888B-3E89-4CAB-96D6-CB503306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E62CB-919B-4DBE-A469-4E965613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3D34-9CA1-4EF6-A3B6-BDD31568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E90D4-817F-4867-BBF2-B65A1F1F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A5FDC-E4AD-44D7-BD6C-513EA07E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B5674-4880-458C-996B-20EA7326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2F23F-B0E6-4494-BA59-B00CD94D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A06D-EB6F-46D9-9A56-BDF12D9D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08098-E217-43A1-B740-E1719073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B72-5CBB-4C4F-A01C-C915F38E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E1394-93E5-40EC-8E00-66D25AB6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EFF27-12BC-4340-8C03-5F6BE899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2BD70-9FDD-4C50-BB13-2D4F955E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E31F8-9FE5-4E96-AA83-B6811E69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82752-1CA1-407F-9E8E-E9CAA97F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056B8-1FA9-4E95-A04E-F05D7136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D1780-BE69-46C5-992E-B6A7EF99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4FBE2-85ED-4DAE-A84D-C4E81B5C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8D1F4-D28E-40B5-B225-1BD7E890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41566-C3C3-4B5D-B21B-5BB7C497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DC8-1D2E-4239-9CE2-3431A4D9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74B55-90D2-404A-A71A-BB7F99E5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61A6-EE72-49F1-8019-39381329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AF012-BD2A-43F3-8198-F1709074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76BD2-B8DF-4C62-9915-BA05ADBA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7A89-B812-4558-81C9-B3511D24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E0259-1CF3-4D6B-8699-DCFF3E2B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100E2-7891-4CF8-AE44-33B9FE93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E5146-F60F-4B24-AB14-E55BFF58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EB5F2-8456-4941-8766-725C9D54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558FC-E8D8-4722-8AA5-898184F8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386-97A6-493E-AEFB-BCC05998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2D225-49AB-4DE4-AF50-1041FCB8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D5F0B-A4B0-4B93-BECA-49E486CF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CFD03-02DA-4095-8D8A-80437D67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6B530-4EA4-4CB7-B559-5B25D814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1AD2E-B729-4D8F-904A-89C599EC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3C2DA-BA07-4C2B-BE92-C43DCEE8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0E537-CAD9-4161-84E7-79FDB2B1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EDBF2-96E0-4012-8D0E-C0A05A7E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E8594-5F32-43EE-BCBA-34319402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72F8D-A4E3-41BE-90A1-24891691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808-E3AB-4497-9DFB-58B5C606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A94F3-3DDD-4328-846D-ED77CA47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5C882-E305-447D-97F0-0323110A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F0D8D-1CA7-4AEA-A8A9-EA1D15AC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71DE9-F73F-4919-BBE7-2E0D8B10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6534F-25CB-426E-8149-ADEE9F9F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1305F-8E4B-4B34-807F-0389FAD3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17370-75D5-4BD9-9D0A-54AA1218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EF7D7-75B4-4B8F-9FA1-2C7BE347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E802B-5ABA-43E2-9ABA-D985F256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19919-571A-4A77-9E28-F420C4ED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04B-CEDD-4515-B0C9-C1E82551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46952-1504-4466-BBE2-15ECD641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1114B-C315-485F-BE52-5DA537B3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612CC-3BCB-40AE-9A78-D342CF21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E4638-01FE-4320-987A-1AC923F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1C476-BFAF-48F5-AF92-93694232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69DD5-EA1C-4620-8A35-B275E737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1B921-B4B0-423F-82B8-DC4435CE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1418C-7E03-4B00-BFBC-D74DFAA6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8E9F8-378F-4DE8-BA58-5F97C5C6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1376E-D290-4191-B4A1-BCCA7386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5CDF-FECD-431A-BC45-D5F244E2049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A7CD-91B9-47E1-AFD2-504E3A6AAAB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8507-9A0E-46B2-B93B-67B4AC6884C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BA46-BC2E-4333-B250-77CEC3969D2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C9B1-18D1-4737-A57B-43ECD8BC1AB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0480-4CB4-4ADE-A796-2B0F5B89F3E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A247-AC27-44AF-95D9-3BDA3ED9AE7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1887-DDF2-41CE-94E9-606F0BBE6A0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F511-A512-4141-B487-96DA919F9A5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D90F-F753-4B25-B0C2-5D23078AAD3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46A9-5927-46B1-AF67-95400F3C4B0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7F72-EC96-4858-BC4A-7DF9E4F0545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5FA7-04AF-46D6-863B-962E35A3E88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7CAA-8872-4504-A2A4-E66D4394A6D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8A15-4DD9-45AC-AF2B-A7087375640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CDCC-9A51-4844-A706-A61D0A75C82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mportant things to think abou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ffice environ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rporate cultu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mute tim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boss and colleagu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alary, benefits et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acovní podmín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se zabývá tématem pracovních podmínek, vybavení kanceláře a benefitů, které společnost může nabízet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Working conditions, place of work, benefit, office, equip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WORKING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orking cond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a) Place of work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b) Equipm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c) Benefit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d) Other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8" name="Obrázek 1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343240" cy="1952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of 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Is your offi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mall or larg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ight or dar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fortable or uncomfortabl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r one person or for more peopl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quip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rniture (tables, chairs, shelves, wardrobes, filing cabinets, other furniture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C, printer, scanner, fax machine, telephone, copy machine, internet acces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ice supply ( files, stapler, punching machine, scissors, envelopes.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emiu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bonu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th salary or even 14th salary (summer holiday, Christma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 employer contributions (e.g.additional pension insuran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c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phone bills pai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flat (or other accommodation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7" name="Obrázek 1" descr=""/>
          <p:cNvPicPr/>
          <p:nvPr/>
        </p:nvPicPr>
        <p:blipFill>
          <a:blip r:embed="rId1"/>
          <a:stretch/>
        </p:blipFill>
        <p:spPr>
          <a:xfrm>
            <a:off x="3338640" y="4292640"/>
            <a:ext cx="2466720" cy="1847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cante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tudy trips, seminars, cour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ances of your promotion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kindergart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0:42Z</dcterms:modified>
  <cp:revision>24</cp:revision>
  <dc:subject/>
  <dc:title>BUSINESS ENGLISH</dc:title>
</cp:coreProperties>
</file>