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FD9-6711-4AEC-9893-4CAB75B422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DAA-E40D-42E3-8328-1D10A334797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3BD-9801-43E2-8623-2203862F543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591-9CC9-4F53-93D3-90B8E5CCF40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72F-8FD5-4B04-A562-E3A8413CE64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B5B-12B1-4ECD-BB3F-F693EC94F98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1CA-0ED7-47BE-A351-A473D2F7995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969F-D15C-464E-B6F8-2E7D74A61EA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D26-DE9A-4279-B70D-D9824E927C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3F5-2555-4D0B-80A4-F602EFBF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D17-A1AA-4F21-9B2C-D68A6423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7935D-73FB-47BC-BC64-84DE5F9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3E945-1925-4A99-B36A-E045009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9C5B2-75A9-494D-A399-E66B507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D1EB1-E301-4AB5-B61B-EF9B6805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E7AF-4BF1-42C5-8245-C155FA0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3884D-AE30-4CB6-8C82-B643837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56CAD-3795-4CD8-890E-FA4C5F5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D037-51EB-4C23-BD52-1288A7A2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46B5B-505E-40AD-8FC8-91B8E110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E84C-5DB3-4A59-8891-FCD5EFE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59B-277C-47EB-A038-74B5837E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DABD0-CB66-474E-BC69-A6389D85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E719-3117-4E8C-A02A-4A7F578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DCCEE-5ED1-4628-AFA2-E2DFF773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7E258-34B0-48DE-BEF8-96379916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74B3-3CE9-4190-939D-93FD525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DA33B-0403-49D2-B69C-B9181A3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8AC9-8336-4FDD-854F-3AB9A49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2E53E-1378-42E7-8FB2-004A870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76A55-0D43-45F5-B971-4E3562F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9F701-F874-41FA-8490-2F66B3C4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B46-656F-4930-8E3A-6F0F29A2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09659-1B57-4941-8E9D-57C697D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2718-1CA7-4AFB-8897-B64ADD4A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3D226-199B-47DA-A889-7A11E05A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4E5A5-D412-4240-9B58-717A671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B2D66-2E57-4129-A1EA-54E116D4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CE3D8-DC2A-4057-96BD-1F69B08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B760-382D-4E2C-B3C4-DF23CBD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0A87-32C1-4D01-885C-4683A8A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474A-8EA6-4D38-8CC1-AD99440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E1A0C-3AF9-4D78-BB95-0A15EEC6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B3E-5A5A-42B3-8ED5-43E4B75A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C6EC-F9E7-40CF-9D2B-8A980F0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BF72-0B1E-46E1-ACEA-9C99E301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0DFC-657D-4A93-8985-9B9EEE14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1599D-695C-4D87-BC27-AFA44675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D1D1E-7D5C-47F4-83E1-70EAFB8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E2C56-9EFC-48C9-9D66-145C0B0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9CB0C-A90A-4754-A1EB-E1E8141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7D608-77FC-4AAB-835E-1EE7EB9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BFFCA-B302-48EF-BA9B-C1C3781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5A66C-7508-4E66-8F0D-600BCDD5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5852-8946-4C2C-9CBE-0BFDE26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99946-29C2-40CA-B27C-2ED624B0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4F98D-3A17-416F-A318-74FE003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AA8B2-1156-4C4A-8B33-61D7B16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EB57C-3C26-49DA-829A-700E3EC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FAC2-ADF4-49A4-978A-91B0665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6EB2C-9000-4B5D-8CA5-B9FB65A0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D20CF-A95F-49FA-9777-964AC44C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E58C0-0F3B-4851-B920-20154A6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D200D-D642-4870-947B-F7DB6EFE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61DC4-E405-4407-9F7E-1DD331A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F0F3-0B17-43AF-929B-60FC146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332FB-D8EE-462D-A2A7-368A9A2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56744-AD16-4ED9-83D3-C9EE2AB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8296E-6906-4D19-BACF-A516CC3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8A9CB-B832-4A49-B7A8-C4EB86B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6124-D6A6-4EF9-9861-38EDA77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958C8-EC15-4535-B884-F08A06D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43AFA-6076-47F2-9677-8496A136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3BC2B-94EC-4163-B6AE-9BB3C670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70FC3-4B66-437B-AFC3-6DDA0F5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0E287-B0EA-47E8-BF06-35460BA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94A-E0E2-4559-94FD-BB93376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F019C-C102-4B4A-B638-E0D6AAF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C92EE-D859-4338-94E2-37EB93EC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B3A51-FC31-450B-A285-D256381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ABA8D-62AD-45DD-99B5-74F37C3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D306E-F938-4FD1-8AB2-B9A0DB1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AE6E4-AC29-460E-8A11-24F5B50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C1839-67D3-43AC-9822-157113A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3E737-CC8A-474E-9061-33CA1E4F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A9840-A5F5-4EBF-AD9F-27D2A618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D8FB6-C3E9-451B-9174-BCF11106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1958-9D4B-42A8-B242-E7F5169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A1EF3-F957-4149-A261-F6C5250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A9367-3305-49A2-8077-41D5C900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89B17-36DD-438C-A364-D9AAD54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4AE44-B7E9-4210-A8CF-3AF1247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D5D74-1469-41D3-AC62-629D0C0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A6AC9-BE51-4160-9BFA-C1FDFF3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435AA-D7D5-44AC-9D41-0479067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EFB1E-B3A3-492D-AEC7-D785D3F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55F0B-B8AC-48FD-B6D5-8500441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DE9B1-BB55-4C4B-B900-6A95C6F5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1CD5-0820-4BF2-9032-B4F3A61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A8B93-72D9-4B84-AB46-6C23FDFC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AA644-2FAC-4C17-950B-3D14CDB6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273BB-87FA-43A2-8EA7-9AC3BC39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1903E-E7A3-4730-8F23-3D1C564E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A9BBB-FC06-4A02-9129-427E4C2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CD99E-74A2-469D-AC52-64C351A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B2DBC-04D8-47D7-B624-5B51F6D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4166C-DAD0-4FFC-850F-2023DD3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DFC39-AC80-4627-9ADE-3878AB9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13A6A-55E9-47B7-8E89-CC50173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AB4D-C4DC-425E-9D7A-8A6A89A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CB8D2-C1F8-4666-8566-2E7D833C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9B6F7-14A6-4B10-830D-A5243CA9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F21EF-B2D0-4DD5-AA6C-1C45CC41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FE8-BA30-46EA-9EC5-9A3735D4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328C-69AA-4B08-AC0A-A433A38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F6F-D297-43F2-A302-D55082B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85CF-35CA-4E27-ADFC-FDEEF634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788-8106-419A-B59C-C2BB43E5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F6B8-3482-48B0-9127-C5EE2E58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3655-0D89-4698-9A4D-9380F6F8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306A-35F2-452D-82C6-099FC5E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0AAD-AEE4-4603-B800-0094F62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A760-B9A4-4D86-B507-24EAB76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8BC1-47B3-49A4-8A52-7DDF709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6BA-6DAB-4CFB-9F43-7199816E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76A9-9081-4054-AAC4-A4A0D686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5820-2D43-475B-B7B3-931E33C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478A-07D6-47CA-94ED-754A519C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1429-3C64-45CA-9F39-62537D6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628C-DA42-4FE1-B710-B3E49A4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8299-B639-48AD-9D08-5DD6D075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78FA-B123-4E16-B052-991E6065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1F24-E581-42D8-B4F2-40B4E3EF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A651-6FF6-4EDE-B5FB-641ECBDA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533B-EFF0-4593-9B71-FA9DF8E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A3F-ECD8-409C-AD40-873EE63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600B-5202-4897-9B39-C674DE0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8740-7C40-4069-AC08-E0AB2E21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71E8-7D03-4E73-8C7C-F85E02C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38ED-3ABF-42D9-8BC3-305838E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FEE7-2E6B-45AE-946F-A9B6574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7D4B-31A1-4AE5-BAA0-B76E5AA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5E77-0FA3-427B-B7B1-349FE5F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BA2F-F65F-4046-B7C3-CA99FD18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BE88-5B29-4416-BC08-3EE44005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6937-6F4C-488D-A04D-E231ED2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334-BEC3-40B4-BE82-E3D64BA1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06A7-E6D6-4B24-833E-A36D003C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E85B-29A8-4DB2-88C9-BAF652C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3CEF-C193-46AD-924B-A75EF70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A9F6-F440-4599-A3C4-02034ACE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E7AC-25AA-4A29-8CB4-EFA70DD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6DB1-1FA7-4763-9866-5619A297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4EF7-C736-46DD-83B7-8773D3C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9C1F-45A7-4AE9-9FBD-9FD67AD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D1A4-74D6-43EC-BC22-0DB4127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FF74-1A5A-4BFF-8199-FF0DC5E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6F0-1D04-4E38-85EE-DAFB29D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F1B2-8A57-4E4F-9637-1D0F9547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2278-ACF1-44F5-AD82-5203DAB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221C5-87D4-41E8-85BA-66C6BBB0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E52F-D11F-4315-9077-F005EF60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55A8-0F0A-4EA7-A9F5-63C9615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6723-2F0B-4EEC-9534-7EC11E2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D1C20-590A-443E-A4F2-A660CC5E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5D67-16D4-45AF-B775-EC7401D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2506-569F-4666-AB97-7544DD3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BB8C-2B3B-4F97-AC7C-9D9C8DA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476-12FD-4DB4-A944-5D5704F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D476C-FCC6-46B8-BE6F-0A14F862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DA7C-4C02-4B66-BD88-F3FE289C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A176-2AB7-4FE7-B60C-2E95992E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2E71-8B9A-4224-A4D0-D7F930DD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0CF5-82FA-4D93-839F-5F668FD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796B-5378-4A4D-9DD5-8E291DA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2B15-6EDD-4B46-8312-7A1BDD6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343B4-B563-4152-A3ED-1474E1A0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AD38-0672-47CD-8F47-12E6D5A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D099-17E0-4596-ACC1-A27EA4D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9E1-7867-49AC-8F2D-DAD7404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43E4-7774-4A07-9A6A-C3D975C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33BA-26D0-4815-AB0B-C96153B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86E4-4AC6-49B7-9CF3-9720B046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E7A2-86C3-478B-8214-EDF3A5E8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A439-9217-4B9E-AD2C-45794E92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49B7-CAE9-4CE0-A93C-A9D9FC92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C3EC-7770-41CF-8839-636D0B2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FECD-F64B-49DB-A3F2-28CE9D87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675D-37DC-47B5-BB04-C6306AE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F592-C636-4506-8A7A-152EDA98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346-024C-4CAC-BF89-21CE4DC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EA49-C4E3-4BA1-8DB9-E16FFC9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0BE0-E2D4-4B3E-9915-CB1F0A5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C9A3-0743-480A-8531-8DCBE05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14ED-1649-4213-BA67-8C699EA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0D9D8-6C63-4B6E-B1D3-D563124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42D8-1EF4-470E-8262-3EB3A82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A6411-3228-4FC3-AE0F-6360CF9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5C724-3091-4394-8324-8D148EFE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345D8-DC12-466B-A666-A52EB88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DE77-B900-4E29-901A-2C933C3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0A76-D950-420A-82D5-FF603BDC252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4950-375E-47A3-A293-98B9A30EDE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905-6448-4ECC-97C7-303F4093BEE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C78F-F866-4A96-826E-88C27991664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87E-02AA-4A7B-875B-3983004B0B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4E2-336A-4DBF-ACB2-B69FD3FADF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19F-03A9-4C2E-8015-478CA74EC78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82D-5EB4-4DF3-8C41-417879C6CE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FE0-4FAA-4589-924D-D56DBEEFCB8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8B5-B302-432A-8029-A81E61257A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BFFF-CC0C-4FC3-BC94-DE1D4FD43D6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3E7-81C5-486A-B5E7-596A32CE640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D7D0-96F9-412C-9B0D-A3087B17BD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7D7A-8A9C-4B2D-9CBD-2DAEBBBBFF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ACE-5890-42B6-ACBF-2884656D7A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158C-AB99-4C6F-93A1-9FD49CCBE5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1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Academic and aristocratic titl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EFORE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f.Arthur Whitesnak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sitions and university degre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FTER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Arthur Whitesnake, Ph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) number of the house and the name of the str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) name of the town or city and its post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)  name of the coun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Neil Bradbury,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bbey Court Hot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0 Pembridge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2 4DU Lond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alu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Jone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s.Staplet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y you wr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offer, order, request, complaint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eep the same style whole through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radbury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ank you for your order of 10th January for 5 Electric Dishwashers, Model AZZ 56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dishwashers will be delivered by February 20th, 2013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mplimentary cl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pends on the salutation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 ………….... Yours faithful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lack,…….. Yours sincere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ign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cccc"/>
                </a:solidFill>
                <a:latin typeface="Brush Script MT"/>
              </a:rPr>
              <a:t>John Walcot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John Walcott, Sales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ite Dishwasher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saní obchodních dopis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pravidla psaní obchodních dopisů, představuje typy obchodních dopisů a jejich jednotlivé čá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usiness letter, heading, salutation, body of the letter, signature, enquiry, offer, order, compla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RITING  BUSINESS 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usiness let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rders and their confi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ecution of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aints and replies to compla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min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business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heading and the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insid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alu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body of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omplimentary clo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igna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h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sually on special printed notepapers wit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ame of the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ax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3" name="Organization Chart 7"/>
          <p:cNvGrpSpPr/>
          <p:nvPr/>
        </p:nvGrpSpPr>
        <p:grpSpPr>
          <a:xfrm>
            <a:off x="833400" y="2565360"/>
            <a:ext cx="7632360" cy="3310560"/>
            <a:chOff x="833400" y="2565360"/>
            <a:chExt cx="7632360" cy="331056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802120" y="2735640"/>
              <a:ext cx="662760" cy="296856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 rot="16200000">
              <a:off x="4812480" y="3725280"/>
              <a:ext cx="662760" cy="98928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3823560" y="3725280"/>
              <a:ext cx="662760" cy="99000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1" name="_s1031"/>
            <p:cNvCxnSpPr>
              <a:stCxn id="772" idx="0"/>
              <a:endCxn id="766" idx="2"/>
            </p:cNvCxnSpPr>
            <p:nvPr/>
          </p:nvCxnSpPr>
          <p:spPr>
            <a:xfrm flipH="1" flipV="1" rot="5400000">
              <a:off x="2833920" y="2735640"/>
              <a:ext cx="662760" cy="296892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6" name="_s1032"/>
            <p:cNvSpPr/>
            <p:nvPr/>
          </p:nvSpPr>
          <p:spPr>
            <a:xfrm>
              <a:off x="3801600" y="256536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HOW TO WRI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 DATE?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_s1033"/>
            <p:cNvSpPr/>
            <p:nvPr/>
          </p:nvSpPr>
          <p:spPr>
            <a:xfrm>
              <a:off x="8334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th May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_s1034"/>
            <p:cNvSpPr/>
            <p:nvPr/>
          </p:nvSpPr>
          <p:spPr>
            <a:xfrm>
              <a:off x="281196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 May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_s1035"/>
            <p:cNvSpPr/>
            <p:nvPr/>
          </p:nvSpPr>
          <p:spPr>
            <a:xfrm>
              <a:off x="479088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th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6"/>
            <p:cNvSpPr/>
            <p:nvPr/>
          </p:nvSpPr>
          <p:spPr>
            <a:xfrm>
              <a:off x="67698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ay write the date in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4 different typ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February, 2009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 February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!! Use words not figures for months 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   –   is used for m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s. –   is used for a 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iss –  is used for an un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s.   –  is used for both married 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nmarried woma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32Z</dcterms:modified>
  <cp:revision>21</cp:revision>
  <dc:subject/>
  <dc:title>BUSINESS ENGLISH</dc:title>
</cp:coreProperties>
</file>