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ED4E-577D-4A1F-AA5F-F83680AFC8E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A6E9-B7EC-4716-86A1-9CA09FBD343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6C43-5ABC-49F9-88BC-0BD282E9274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4113-7181-46F5-B81E-9B2A307C7C6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4AD8-18F7-4711-9683-7041667852B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25FE-9823-4ED7-9D25-EAADFC3A36B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F12A-5003-4641-9041-CD00779AADD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A23A-030D-4E1B-9AE7-7D748C3E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4036-9877-4691-B0D2-BAD92EEB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28B8-48C0-47A5-AC7D-1A6DF966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EFE3-1890-4DE5-BB0F-031AB8DC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D583-B1C0-462C-BF43-F3536F85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1E19-C799-43AC-8878-36C67569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8A57-7A7F-4CD8-9361-AC51F1FA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382D-0FC7-4AAF-93DD-D5C8AD3E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7A63-BDD9-4DA2-873E-D8F434DF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623D-70AB-4FB8-B885-F8F96291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6562-B1D7-482D-AAF2-B595A653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AB5B-E7CC-42DE-8015-BA4EFDE2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E355-8F33-4854-8045-3AB399F1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D05E-838C-4205-BB44-4FD0A71A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3C8D-04C5-4776-8F8F-04F54545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07A7-6DF4-40B2-A33B-AE9C508E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2DBF-5F35-49D9-A58C-3573B2C9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39E21-7781-46F7-A748-90FC6740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A20E6-4A16-4A8B-9C6B-CDE77333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46AC7-A216-4B5C-8FD9-F55043A5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17269-923C-4F00-820F-F624A882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AB01C-0CEA-4F62-A406-97EC3BDB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881A-1A63-4717-A0D0-6C60261B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440C0-C00C-4049-AECD-F48E8E76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B89BD-11F2-46D0-8889-8B3E6262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335F0-DD60-4E8A-9AEB-A1107714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33CF8-DC1C-4B6D-8F70-285BE272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48110-67D4-4C35-AB18-D4C2B188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E3ACE-023D-4ADF-B3FA-F465817A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EC686-4AFF-4268-B76F-758C269E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BA6A2-061B-4096-9B13-E2EF2335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4C9D7-1F6B-4486-9672-1BC7AEA6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BB2BB-A992-4840-87FE-3D8793E7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62BF-F49D-4644-99EA-AAAD6DFC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95A1A-9BC4-447C-A001-85D44B81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0CDF3-66C9-4EE0-9C85-84F12838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24981-9BB6-4564-B569-2D0730C6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C0035-9D33-4EE3-A40A-C95D7BCE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DA93F-0F0F-4615-AA71-1D5F790B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6BE68-5278-40B8-9EC8-64A2E044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E8B8F-8A0E-487B-8B5F-CE7E5AF1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36766-F1FF-46B8-9A4B-B2224AC4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DF237-488A-4368-ACD4-E251517C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119B9-E66B-4851-BF2A-492C354B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1932-85C4-4129-AAB8-50FCCF1F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5DA8F-5C74-4FBC-B674-242E852B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D5665-1CD9-4B5F-B103-CCCC096A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2E8F1-0D88-4D7E-A187-619CFC31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7A399-11F5-4994-9D8E-01097689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78A87-41B9-4483-8E2B-22134A7A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23B0D-E90F-4DED-923D-0296EEDD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6E4D0-5D18-497C-BE83-01F5B239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09453-D441-41A9-9337-DBAD6A50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38540-488A-40B0-81F0-2BA2942F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80854-17AE-46F1-B3B0-AB0B98B7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2BAA-0A2E-4F57-B891-72960FC8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85016-297A-453F-99A4-450055DC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6B2BE-CA43-4A14-96AD-4AE23ACE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43D25-3D15-467D-9AE7-5BC6BE29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86D57-E885-429A-97BB-4B35E7C6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5FA0E-8CA7-4CE7-BECE-5E3F1D76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F2892-4DD9-40B0-889E-79785B9A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2DC73-84FA-4BED-A8C8-0A08D147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52997-C581-48E1-A78C-2FA7F48C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34A9C-C974-4AFD-AAD2-F79F22CB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0D0BC-602F-4313-9D43-1EDE89F5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1FA5-3925-4D29-8329-4161FC9F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CE7F1-B616-47A7-AF95-F446368B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077DA-5CDE-4857-BBA4-98A1B611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90720-EDB8-4FEE-A962-84EAB669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E21F-BFF7-45BF-8697-20C9F487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A9A-27FF-4ADB-943B-9375A33F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016C-3F4C-48ED-85D3-5D6109F711B3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FA57-B270-4024-8F0F-1CAF74E48C57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15EA-A3D8-459F-8418-B9A33B0892F1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8A19-2111-4AC7-A342-4C7EFD4F4831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EA86-C46D-48B7-8AEB-877615E857E1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2AB6-4C71-4D95-9CB2-66EA11657CC9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VZTAŽNÁ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42" name="Zástupný symbol pro obsah 5" descr=""/>
          <p:cNvPicPr/>
          <p:nvPr/>
        </p:nvPicPr>
        <p:blipFill>
          <a:blip r:embed="rId1"/>
          <a:stretch/>
        </p:blipFill>
        <p:spPr>
          <a:xfrm>
            <a:off x="689040" y="1968480"/>
            <a:ext cx="77724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VZTAŽNÁ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44" name="Zástupný symbol pro obsah 5" descr=""/>
          <p:cNvPicPr/>
          <p:nvPr/>
        </p:nvPicPr>
        <p:blipFill>
          <a:blip r:embed="rId1"/>
          <a:stretch/>
        </p:blipFill>
        <p:spPr>
          <a:xfrm>
            <a:off x="689040" y="1968480"/>
            <a:ext cx="77724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NEURČITÁ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46" name="Zástupný symbol pro obsah 5" descr=""/>
          <p:cNvPicPr/>
          <p:nvPr/>
        </p:nvPicPr>
        <p:blipFill>
          <a:blip r:embed="rId1"/>
          <a:stretch/>
        </p:blipFill>
        <p:spPr>
          <a:xfrm>
            <a:off x="676440" y="1981080"/>
            <a:ext cx="779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TÁZACÍ  ZÁJME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7632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HO?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AT?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ICH?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HER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HEN?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Y?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HOSE?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ZÁJME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042920" y="3068640"/>
            <a:ext cx="7632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 WHI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at colour do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Whic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colou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you like?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do you lik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red or gre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ZÁJME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7632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present is for …….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present is ………..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present is …….. idea.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……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bought this present.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ZÁJME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7632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present is for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us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present is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ours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present is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our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idea.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bought this present.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hled zá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druhů zájmen používaných v anglickém jazy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Zájmena, osobní zájmena, přivlastňovací zájmena, ukazovací zájmena, vztažná zájmena, zvratná zájmena, tázací zájme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258920"/>
            <a:ext cx="7772400" cy="21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ZÁJMENA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71640" y="36450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řehled záj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OSOBNÍ 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84360" y="2276640"/>
          <a:ext cx="7772400" cy="3109680"/>
        </p:xfrm>
        <a:graphic>
          <a:graphicData uri="http://schemas.openxmlformats.org/drawingml/2006/table">
            <a:tbl>
              <a:tblPr/>
              <a:tblGrid>
                <a:gridCol w="3670200"/>
                <a:gridCol w="503280"/>
                <a:gridCol w="35989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dnotné číslo  (singular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ožné číslo  (plural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, she, i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OSOBNÍ  ZÁJMENA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(4.pád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84360" y="2276640"/>
          <a:ext cx="7772400" cy="3109680"/>
        </p:xfrm>
        <a:graphic>
          <a:graphicData uri="http://schemas.openxmlformats.org/drawingml/2006/table">
            <a:tbl>
              <a:tblPr/>
              <a:tblGrid>
                <a:gridCol w="3670200"/>
                <a:gridCol w="503280"/>
                <a:gridCol w="35989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dnotné číslo  (singular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ožné číslo  (plural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m, her, i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m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10920" y="38088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IVLASTŇOVACÍ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684360" y="2276640"/>
          <a:ext cx="7772400" cy="3109680"/>
        </p:xfrm>
        <a:graphic>
          <a:graphicData uri="http://schemas.openxmlformats.org/drawingml/2006/table">
            <a:tbl>
              <a:tblPr/>
              <a:tblGrid>
                <a:gridCol w="3670200"/>
                <a:gridCol w="503280"/>
                <a:gridCol w="35989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dnotné číslo  (singular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ožné číslo  (plural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, her, it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i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IVLASTŇOVACÍ ZÁJMENA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(stojící samostatně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684360" y="2276640"/>
          <a:ext cx="7772400" cy="3109680"/>
        </p:xfrm>
        <a:graphic>
          <a:graphicData uri="http://schemas.openxmlformats.org/drawingml/2006/table">
            <a:tbl>
              <a:tblPr/>
              <a:tblGrid>
                <a:gridCol w="3670200"/>
                <a:gridCol w="503280"/>
                <a:gridCol w="35989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dnotné číslo  (singular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ožné číslo  (plural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s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, hers, it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ir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VRATNÁ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84360" y="2276640"/>
          <a:ext cx="7772400" cy="3657600"/>
        </p:xfrm>
        <a:graphic>
          <a:graphicData uri="http://schemas.openxmlformats.org/drawingml/2006/table">
            <a:tbl>
              <a:tblPr/>
              <a:tblGrid>
                <a:gridCol w="3670200"/>
                <a:gridCol w="503280"/>
                <a:gridCol w="35989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dnotné číslo  (singular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ožné číslo  (plural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sel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selv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sel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selv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mself, herself, itsel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mselv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UKAZOVACÍ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684360" y="2276640"/>
          <a:ext cx="7772400" cy="3109680"/>
        </p:xfrm>
        <a:graphic>
          <a:graphicData uri="http://schemas.openxmlformats.org/drawingml/2006/table">
            <a:tbl>
              <a:tblPr/>
              <a:tblGrid>
                <a:gridCol w="3670200"/>
                <a:gridCol w="503280"/>
                <a:gridCol w="35989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dnotné číslo  (singular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ožné číslo  (plural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s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at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se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4:34Z</dcterms:modified>
  <cp:revision>43</cp:revision>
  <dc:subject/>
  <dc:title>PRESENT  CONTINUOUS</dc:title>
</cp:coreProperties>
</file>