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7EA0-F3C9-4387-AB06-67C27CFEA1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47F5-70DE-4B7B-8D75-1E298D74100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E231-79D6-4175-8CD5-F7D15F14476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7083-2B82-4D63-B322-E79C7EC8D65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75D4-8FE9-4BB0-884F-4451B562361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F91-2830-45DC-AD61-CC087A87651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65D0-6F74-4BCC-9806-A850BB1A270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8D3-6242-49FA-A977-EEB5D57D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8FB-7ADD-4EE8-84DD-97547DB5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FB5-6762-463D-AA1A-44036019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9ED-931A-4C89-B621-CC62BE56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6D7D-4162-4047-94E3-7BB91D45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FCF0-10E5-421F-AE7C-9EA598E3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399B-B4A3-47D5-B8FE-2A3CFF8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D43C-4491-4774-9B60-A7599A4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9077-9D2C-4D6D-8588-21B13942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59E4-AA58-46C1-A313-33033703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0303-07EE-4DFA-B9F6-7267F4A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FE3-D736-408E-A52E-92D5D0A6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B46E-1012-480E-80F8-C978190C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765E-F21C-413D-A3D7-54E2BF88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526-C977-4AF6-AB65-019D0DE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2064-83FB-4704-9D7E-44B3FB55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B58B-1E37-4CDA-9A7C-DDBC2BF1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6332-2B5E-492A-8347-AFC620C0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361E-E7EA-4B84-8DAB-2B3CE44C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5DA0-F6DD-4ABB-B3E9-8485C491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8529-EBE1-48A9-AA98-EC1AC308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2FBE-95B5-40C8-81C9-7908772D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BA4-4984-482B-93DE-86DC45F1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6592-057D-4541-9613-B501AE9F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D46F-A62D-415C-9A89-4532B35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44C5-516D-4615-80FF-447F0103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E59E-2B11-4E82-A1A2-630F0DE5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6D30-5589-48EE-8BCF-54854007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71FD-C896-4386-B67F-90BDEB2A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1633-5B65-44C9-A60A-DFD18FED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E7653-5074-457D-A695-FDC8607D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EF05C-3058-4B68-803E-A7BC94AB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85BE7-EA61-40C8-AFCB-094C57D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34E-FBAC-4C1D-B15E-A3E997BC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4B5C-58B8-4F57-8C92-4B8E2CF1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A02CB-1903-48AB-BA4A-49E9D7D2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81755-CFDB-4179-A0E7-6DF6036C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35AF-BDA9-4B45-ACB0-1596990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293C-A3DC-42A0-94D8-20873DB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1BD8-5AA1-40E4-A620-35405C03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A24F-51D3-48B6-8EC1-6EA43092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5D62-95FA-4B14-A30D-A781DB6B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A2094-1D35-4735-B4E0-56F8A09B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4938D-F7AD-41EA-BCBC-2E89F54C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6BA-30B1-40DF-9D43-AC1EB938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D9342-1329-4EC8-B38A-4BE8C345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B9098-737E-4D34-B6B2-A96ADC51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1BFF-2A98-4D00-8C04-83398DEA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A588E-9807-4853-9611-062EBA59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7B353-E9BA-4AC4-AAED-92C71F31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5B9A-C8B5-4276-8CBF-C73F9CF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7C2EA-8CBF-432D-902D-01B5514A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99DC1-C367-478D-9FA4-47BAEE79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6CA52-5915-4E0B-B27D-10A186C2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80111-3816-4570-9721-C3800BCD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760-5172-4527-8F29-27F17AB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27BCF-E5E0-44FA-9C0B-35AE6CBA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E543E-4CA8-4640-A68F-B6B192AB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4B092-2152-4AEE-82E5-37FB54E3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2502D-A1B5-4D30-857B-7098F4C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9B5D9-DC6D-4EE3-BE5E-5CF36B85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C66E-C2A6-4F1D-AF0D-A5F70FEA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CFF5A-14C3-4718-AE24-2F571729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CCA9E-CEEA-4F34-9CAD-530DF6D0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1694F-DC61-4AFC-AF6E-40799283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8A452-4A38-479C-BB80-0C7CAEA3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D26-6D95-47CB-8D6D-70D939E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89992-38F7-48F1-88B3-F21A4C2A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7F946-5102-492A-BEA8-AFE8F4A1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1313F-4A35-494E-8500-570DB39E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DF8-9B27-4376-8BA9-3403EA41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785-E8D5-4FC8-9BE9-BC7AA182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43A6-BEDD-4128-BE5F-CC9D80EA9BB6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35DE-793A-45D6-A432-4D421927A75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494A-BD09-4DB3-A90D-68AC5AF0B00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171D-73CC-4EC8-ACBE-DBAAFA0FFA1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9EB3-61C8-4498-94AB-F9EB2871613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7D5F-462B-430D-964F-E13AC2EFC7C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giv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oesn´t know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help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learn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pa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urry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mi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BE  CAREFUL 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R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home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m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.podmínková vě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tvoření 1.podmínkové věty a správné použití slo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lovesa, podmínková věta, spojka if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bs, if clause, main cla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ýká se budoucn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ínka skutečná (může nasta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= jestliže, poku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(if clause)    …..  (main claus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time, 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s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has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oney, s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buy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oesn´t com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leav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oesn´t com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on´t wa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meet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give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know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help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learn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pa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hurry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mi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7:13Z</dcterms:modified>
  <cp:revision>41</cp:revision>
  <dc:subject/>
  <dc:title>PRESENT  CONTINUOUS</dc:title>
</cp:coreProperties>
</file>