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A2A6-3E38-4733-A044-3B8DCAA3AB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EBDE-51BE-4F79-804D-F748392BAF2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14F-B9AD-4D1F-B85C-5FC35D1C853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37D-EC25-4B2E-8E66-C559E464EE7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72AD-B62D-4CAE-9A58-CC3057E36E2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683-8F8C-4717-9C33-4B573D1E348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637-DFED-43DB-B113-FE537D2D57B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CB2-A3C0-4F4C-A041-3B2F16DE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0DE-988A-44BF-AAFC-735507C6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9CB-88A9-4436-9DF5-31B417CE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9F0-8C32-4DD4-9D8C-27293ED2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73D-6C3A-479B-9D4C-BF71FAB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5639-D86F-4A63-8A91-0ACD06D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9366-FFB6-4227-A5DE-88C8548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D714-61F5-4A07-AFF3-2D4720CD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17B-70A0-4984-BBF0-B7B8E94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E20-0506-4F55-B560-54E24CC7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8448-6C8B-4664-A275-40A3C94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DB9-507B-4CFC-8814-B53E4EE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48A-4F7B-4C74-829D-9D307B1C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28FE-6090-4213-B831-0AA7BAB0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859-A75D-41C8-ADED-2F4571C4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002-61AB-4D39-A500-2E3C55B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ABE9-B7EB-4673-A680-015FA06C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21BC-B9D8-4005-903F-3AF56CAB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17CA-5772-467F-BF5F-6E43065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7392-BD9A-44C7-9622-566A002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F8B0-3B4C-4954-ACFD-A795E31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52F6-8620-42C9-9B70-3BB4DFE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3BD-7365-4FE3-A5F8-FA76B1B2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435E-83D0-4B89-8645-409EB5EB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21FB-8BF9-405C-800B-A35988F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6929-44F0-4390-960C-73078BA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3AFF-D25C-4D9A-83DD-9D33DA9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7243-CB16-4A14-AC2B-FB22C127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D95B-9599-42CC-99B0-40E0C4C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E821-B5EA-4E00-8A6D-231407CB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412A-7F34-47FE-B60F-9BE29EA7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17D1-6457-4E92-9A59-CA3DBA1E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653F-BA9F-446B-9092-9CCA04A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9DD-6C3D-4019-A298-14D65516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2FDF-4C8A-454C-AE5B-EFCB968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B17E-1640-4B8E-95D4-7D1E2B00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8568-17B3-49F2-ACD4-B2D2C452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ADA5-6D3D-46D0-B8B9-DA39BC5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8165-6E29-41CB-B604-70182E3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511B-6D91-4EE8-8C44-58E0FBB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F0C95-324E-4334-9BEB-521D79EB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5168-E462-4E30-ACC4-C845B80D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6659-FD4C-433A-A939-472E6D5A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5ED1-FC58-44FE-84F6-691438ED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1A9-9302-4604-906C-A9CE45DC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92D2-2B97-42DC-83F5-5E50136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1C59-FCD4-4FC8-A34C-9AF96B0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0D77-43D2-403E-AB48-70EFE38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585B-DA91-4F47-97B4-215E12EC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5F35-18BE-437C-A591-E318BCE0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7C25-8099-4291-826D-046110F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55381-D8F6-447E-AB9F-A396BF6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A00F-D6B2-43C5-9C40-5B5A5E6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9578-3444-4979-B02A-494ED8C1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4124B-7C36-4008-8325-961382E8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ED9-FBA0-49B4-8985-F1951DC7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0DF7-34C2-4D7E-8A55-8788E2B7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1083-ECD0-4D29-9521-DC125A1A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4B31-CBD6-4487-8204-08569138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7BF7-F9D7-4315-8A20-115813B4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17AD-30F5-4664-8206-029EDDD3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6376D-69A5-4367-B362-4D07AD26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3DC0C-35D0-4180-B79C-947E067C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A70B-0F1A-4664-BB6F-0508C0D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566B-7FA6-4EE3-909A-9108199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01A7-5D9C-452F-9242-9745947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BF7-44DD-4A60-A3EB-A523B87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6A81-9DDB-4CE7-942B-CDCF4BA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5784-2A4B-4E62-8293-A126E0B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C5F8-4D8C-4183-8533-13521DA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04F-CEE7-45AF-8DAC-AB8C27C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772-90A2-4BF4-8BBD-CEA837C5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5B1-A1AF-49B2-BD94-6ECBB5F6EB3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D56-0DF2-45F7-A52F-C29AFDE0D3E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E326-05A3-4DF0-9F61-8AC36FE348F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83AD-E338-4B11-BF54-638C55147E7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8877-66DE-4E89-8E16-801A9610C36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C302-745B-438B-A2A7-3BB34BB29B8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uggag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ffic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us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cener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tertainmen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UCH, MANY, A BIT OF, A F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000" y="2492280"/>
            <a:ext cx="381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Times New Roman"/>
              </a:rPr>
              <a:t>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2491920"/>
            <a:ext cx="432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00"/>
                </a:solidFill>
                <a:latin typeface="Times New Roman"/>
              </a:rPr>
              <a:t>NE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LIT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NY   x   M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ir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FEW   x   A BIT 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tato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a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co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policem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ugg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informat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hot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eache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cof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mone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ollu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ap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gam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ost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ravidla pro počitatelnost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á podstatná jména, nepočitatelná podstatná jména, much, many, few, littl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 few, a bit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čitatelno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3" descr=""/>
          <p:cNvPicPr/>
          <p:nvPr/>
        </p:nvPicPr>
        <p:blipFill>
          <a:blip r:embed="rId1"/>
          <a:stretch/>
        </p:blipFill>
        <p:spPr>
          <a:xfrm>
            <a:off x="676440" y="2425680"/>
            <a:ext cx="7887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42560" y="3573000"/>
            <a:ext cx="74898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me počítat po jedn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voří množné čís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 před nimi stát neurčitý č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76327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y             two boys            thre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ok             two books            three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ed             two beds            three b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se zářezem 1"/>
          <p:cNvSpPr/>
          <p:nvPr/>
        </p:nvSpPr>
        <p:spPr>
          <a:xfrm>
            <a:off x="2411280" y="3681360"/>
            <a:ext cx="720720" cy="3668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se zářezem 4"/>
          <p:cNvSpPr/>
          <p:nvPr/>
        </p:nvSpPr>
        <p:spPr>
          <a:xfrm>
            <a:off x="5211720" y="3732120"/>
            <a:ext cx="719280" cy="3668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se zářezem 5"/>
          <p:cNvSpPr/>
          <p:nvPr/>
        </p:nvSpPr>
        <p:spPr>
          <a:xfrm>
            <a:off x="5637240" y="4535640"/>
            <a:ext cx="719280" cy="3650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se zářezem 6"/>
          <p:cNvSpPr/>
          <p:nvPr/>
        </p:nvSpPr>
        <p:spPr>
          <a:xfrm>
            <a:off x="2627280" y="4535640"/>
            <a:ext cx="720720" cy="3650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se zářezem 7"/>
          <p:cNvSpPr/>
          <p:nvPr/>
        </p:nvSpPr>
        <p:spPr>
          <a:xfrm>
            <a:off x="237960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se zářezem 8"/>
          <p:cNvSpPr/>
          <p:nvPr/>
        </p:nvSpPr>
        <p:spPr>
          <a:xfrm>
            <a:off x="521172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8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me počítat po jed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voří množné čís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 před nimi stát neurčitý č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water ??      one water ??    two water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snow ??       one snow ??   two snow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S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Veselý obličej 2"/>
          <p:cNvSpPr/>
          <p:nvPr/>
        </p:nvSpPr>
        <p:spPr>
          <a:xfrm>
            <a:off x="3944880" y="510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l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ilk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0:32Z</dcterms:modified>
  <cp:revision>36</cp:revision>
  <dc:subject/>
  <dc:title>PRESENT  CONTINUOUS</dc:title>
</cp:coreProperties>
</file>