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0F18-D510-48BD-9913-E247BEF3171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2961-16CD-436B-8433-8E62AA0CB14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08D1-DDAE-4023-88ED-7D6550956263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1DAA-9D7F-4D5F-929C-108FEC4E771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2DE0-1CCA-4D4C-9A3D-DEFA2075C36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50FE-97D6-48D6-971A-67DEC02779E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75F7-198D-4F51-A87D-54B71E77AF6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DB2E-74BF-40A7-9937-345AAC31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556F-02D1-44A2-8A35-9B139BBA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97F6-28E5-48CC-8CE3-82741C80C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10EA-52A4-4CD2-8D05-1A4972E4E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CB56-66E0-476C-970B-DB8CEE0A1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B010-BEF2-4E53-9F39-13A1D32E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6A5E-6190-4156-9A6F-C15EE568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B0DF-6A11-47A6-868D-E4C8B46D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8FA5-88FD-40AF-AFFA-B4AEE021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7F2B-6869-44D5-A03E-9144E19E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5CA9-4682-46B2-B10C-98CA6FC0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A181-5ABE-4771-9AA9-D2FF657D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FCC1-650C-4AC1-AD5C-5017C00C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1F3C-4FD9-4F91-9748-1688DFC9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43FC-775F-4638-91A3-FC93A8D9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4AD2-7745-47FE-9639-D5240D12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253F-16F3-4A76-BBA5-ADE02C8BD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ABFD0-E48D-4327-A0CB-1BBF405EE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CE88A-93E2-4388-BFA5-BE2E87D6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9044E-4D18-4070-9D8C-4850F422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D908D-74FA-4990-88BE-DE2CDE3D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E4B7F-D322-40B3-BC43-E6D712ED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44A1-8656-48C0-AB4A-2D448AED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8CA71-C67C-4EDB-8A22-68DC1BD6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C71EC-B5B8-4228-B046-851E3FD2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11C60-2280-4911-80BC-E4E92F77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1CF2E-D705-4A96-8B8E-CEAA92B5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B04BC-0E08-4D30-B5A5-35D874A2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3D702-9801-44BA-B893-9335E1AEA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8E0AE-27E3-4FAE-9C8E-67E25EB8C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D208C-6DA2-4659-8DB0-E421671EA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7BD43-2781-4C61-9A21-08CEE616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EF86B-ACEE-437D-A5EC-B197B475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93E6-84FC-4602-8329-FF2CCBF3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49694-0BDD-4E80-BF1B-91284443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AA235-0BB9-4F64-BC7F-53659797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AF991-A550-4D74-B215-1D410549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8EB02-ACE3-4C10-8397-321F0052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90271-62CA-45CB-A2D6-D47A69E7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0951D-8D0C-4554-AA84-A5CB94E1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96A84-9E3B-4E51-BCEB-E5AF42AB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FB27F-C423-42F2-A653-349429CA2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646D3-80C8-4C11-9AB7-22D95A90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2FDC7-4658-4365-9921-949046B1C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EA41-AB42-4D3C-B497-A9162422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EC250-3607-45B8-837E-9EDE2A92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2C681-6A1A-425E-9D7E-BEFAC2FE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56D35-624B-4AEB-95B9-61996E9D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D2EA9-A29A-4A19-975F-521DFF1A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EC1A1-02B2-42ED-BC3F-3BD6BB6B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31BC9-EF8C-4C09-9235-B38F3657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60579-6184-4550-8A39-F74C8178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BA347-2466-4111-9B1C-2E321DF3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3637C-563D-4A24-9650-546D26C0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5C117-15C7-4394-B7E9-E3BB52EED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DAC2-A4C6-44D6-9E04-9CDF7DB5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40580-F68E-490A-86A9-0191EA07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39945-30B9-430B-906A-4BC7866C9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202AD-2AF9-4EB1-8E19-F47A81D9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D249A-C90C-444F-B44C-BAE09335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330EB-8D5A-4956-B678-23408560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F58C8-A7BD-4366-AF08-B0DB3647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99D2F-79B4-415B-B550-332E2707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6F2D1-7309-49F7-980A-6E5476C7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8BF36-5C79-4E6E-A86D-BF00C3F3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1D416-5E25-4D6E-9B49-31EAFE98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C7CE-B5EA-40B9-B6E8-A09C94CE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D4A75-FA8C-42CA-91C4-FA9653A0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28032-0AA6-48D2-83F9-D14246AFF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AF735-FFCF-4770-8C27-521540BD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A6B0-82AB-4861-9055-585A33B4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02E9-DCF2-49B3-A8F2-B8A27EC8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5802-7BC8-41E4-B4FB-720E41FDEE1F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C2DA-3441-4D93-9016-E006F38699B4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EA9C-EDF7-4B8E-A3CE-2C03B75232ED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35FF-F63E-4E95-91BA-8FA51E9000A7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CD76-A053-406F-B33A-170235C91CAE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BD22-143A-4AC9-88E1-F48720907CF7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6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AST PERFECT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(předminulý)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oběhl před jiným dějem v minulost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oběhl před určitým časovým bodem v minulost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zpravidla se při vyprávění vracíme v ča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(budoucí čas)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avděpodobně proběhne v budoucn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okamžité rozhodnutí o budoucím děj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vrzení o budoucím děj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lib, nabídka pomoc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713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GOING TO“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(budoucí čas)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4360" y="234900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stoprocentně proběhne v budoucnu a již teď je to zřejm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 naplánovaný do budoucna (hodlám, mám v úmyslu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8355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ehled časů v angličtin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časů používaných v anglickém jazyce (upraveno pro studenty středních ško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ítomný čas, minulý čas, předpřítomný čas, předminulý čas, budoucí čas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rostý čas, průběhový č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544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ČASY  -  PŘEHLED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Times New Roman"/>
              </a:rPr>
              <a:t>Přehled časů v angličtině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PRESENT SIMPLE</a:t>
            </a:r>
            <a:br>
              <a:rPr sz="5400"/>
            </a:b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(přítomný prostý)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ěj, který se opakuj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obecně platná pravid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stav osob nebo věc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RESENT CONTINUOUS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(přítomný průběhový)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ávě probíhá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očasný nebo přechodný děj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oběhne v blízké budoucnosti, plánování v diář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pojení s příslovci now, just, at the mo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AST SIMPLE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(minulý prostý)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ěj, který proběhl a skončil v minulosti a do současnosti nemá následe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zpravidla je udána doba, kdy děj proběh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AST CONTINUOUS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(minulý průběhový)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ěj, který probíhal po určitou dobu v minulost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dbarvení jiného děje v minulost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vyjadřuje nedokonavý děj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380880"/>
            <a:ext cx="83534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RESENT PERFECT SIMPLE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(předpřítomný prostý)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, který začal v minulosti a dodnes tr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, který proběhl v minulosti, ale do současnosti má násled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, který právě proběh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 spojený s předložkami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sinc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 spojený s příslovci času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ever, never, already, so far, yet, just a sti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380880"/>
            <a:ext cx="8207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PRESENT PERFECT CONTINUOUS</a:t>
            </a:r>
            <a:br>
              <a:rPr sz="4000"/>
            </a:b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(předpřítomný průběhový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začal v minulosti a dodnes trvá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 spojený s předložkam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sinc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f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 spojený s otázkou, jak dlouho něco probíhá (</a:t>
            </a: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how long?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18:16Z</dcterms:modified>
  <cp:revision>12</cp:revision>
  <dc:subject/>
  <dc:title>PRESENT  CONTINUOUS</dc:title>
</cp:coreProperties>
</file>