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494-B196-4625-82BE-8AF79C7378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644-ACF7-4B95-B233-269FD5F8701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C7E-7D6B-4A8D-A3E2-F613C4CAE3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B6A-1396-4798-9B75-7CAD9DED5BE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301-5E42-43BD-AEC2-FADB96A9023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059-41CC-40A6-9F8F-960110A9279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7AE-DC36-4602-8345-54B53DAA62E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CCB-9D2B-4F9C-896C-8C88F2BA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0A3-6A60-4232-B13F-E0AED48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C0B-3640-48BF-B25E-77E3DD50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FB3-C7BF-43DC-91E7-3519AA18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26AD-F03F-43F9-8B53-382541D9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D286-C881-47C0-AA8A-C016339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A96-2D9C-4F30-A7F4-0E09BFF1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BBE-35A1-4693-8554-727AA76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E9C9-8B30-443A-87E1-24134D1A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3DC-9D31-458B-AEAE-A6667331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3CC-A6D7-43B7-9D88-24632BB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9B6-EEBD-471A-96B7-55E8A919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D42B-C9B7-46DC-94F5-008F50F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B12E-8D18-40F9-AEF3-D57FFB2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2169-3A90-400F-8C5F-E540927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F94-7680-405C-9C5A-820D9F53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6C1-2618-41EA-B1CC-FCAFAE74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3754-A22C-48F7-8F54-FFF803B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CADA-5EFF-4F15-AB86-C2FE49E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0B3B-42AD-431B-855E-C11D3FC7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05BD-FAEE-47F5-81C7-FF85366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2F1B-D55D-4425-A1A4-751A7CF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8F6-3BE4-4705-B1C5-788BF38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F72A-2D5C-4D8C-8265-D5F50ABB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5689-7EE1-45C0-9E42-F508982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1756-978F-4F9A-93E2-31329D9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4C27-5874-4281-A7FF-FB7CDEF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5440-286C-4822-A30F-12F7E060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BCB3-350B-494D-9DFC-F43AEF40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D213-0E23-4833-909C-0C0CB5D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0A6F-2C76-4D9B-A879-14C58B87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1EB9-4A44-4473-B7A5-6D819F7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D58D-562D-4FD7-99A3-739E73A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B41-98C9-4F6C-8BE0-752C798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6933-A555-453E-86FF-15218E0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8900-98BB-4E1D-B5FC-BA10B4F0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EC56-4112-4B8F-A4A4-C86F96A8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537D-15D8-434A-B939-39173C9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6098-E490-49FE-91AB-0304D7A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1A09-830E-4285-A95D-2D7645F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8852-3928-4B04-AC5A-9124AD0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7DCF-7DD3-458C-A595-03C8F067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174E-E653-4C4E-AE84-A81979B5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B861-BA66-408A-B6BA-C0B023DB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EAD-3E35-428C-B356-BD554531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C36F-445E-4533-8EFE-BAAE10F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9B2BF-8442-45B9-9C24-E67C35BE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53F8-DBFC-4064-8740-ABC27ED4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4495C-EE59-420F-B10E-D4011C15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F19BB-F7FE-4C03-B235-FC3FD10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1E7E-594C-42F9-A611-9DCEC58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DC05-6999-41D6-9456-1F7DEAF3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E0C6-23AD-4911-A883-CCAC0C0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A532-B159-4E1D-9226-E8FF45B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5D0AF-C5FB-4A6F-948A-43C7AB4D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286-6943-4015-9938-B3874B0F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152F-D031-40F5-AE56-2D2102B5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E651-B17C-4864-802B-F9FAE95F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4608-59DB-4296-9A73-D84F10C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B299-257A-4516-90E8-A97675EC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C683-A13B-4FFF-8D66-8FB733B2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67A3-3325-439B-A4B5-CCEB20D1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AA7D-61AC-49DA-9960-7F0CADE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F611-678A-4A3B-93A4-DFCF20C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C1CA-8EC2-4CAD-8EB6-BC6A65EC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C596-A359-42A1-AF29-BE20103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AFF-D3E0-44A7-9631-8F5F785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382A-CD71-4617-BC82-A17D6E5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29FB-3274-484E-A55C-5C85DBDD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A56F-5A03-4561-A67E-47AFDD17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B5E-30A4-43F8-B527-2640B9F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831-BA86-45CD-9554-CDC9F76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DF1-9832-4E2C-8129-4CFE44A0D67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641-8F61-4A31-A8CB-5A918E140D3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CD67-DAEE-4047-BAF9-116BA605BC1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11B7-08FF-46BC-8A14-C43759762E4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B06-4FCB-4761-B74F-5CBAF093DAD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D23-687E-4CFA-8B87-A1CC6C18677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Tvrzení o budoucím dě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7 billion people in 20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re countries in the European Union in the fu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lib, nabídka pomo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it a minut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help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n´t worry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window, pleas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pisy způsobových s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 much lon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bl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lay squash ton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 the ca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U časových a podmínkových vě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you come round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watch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win in a lottery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new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I get to Paris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will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„will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6028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opisu způsobových s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 časových a podmínkových vě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sloveso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7920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NOT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+ sloveso 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57300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avděpodobně nasta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ate, I thin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pass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exam, I suppo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not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ime at the week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´s ill?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nd see her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´ll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chicken steak with potato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5:23Z</dcterms:modified>
  <cp:revision>11</cp:revision>
  <dc:subject/>
  <dc:title>PRESENT  CONTINUOUS</dc:title>
</cp:coreProperties>
</file>