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F05-D2B4-43AA-B46C-D57B285D40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70A-DCF1-46F9-AA0E-81F400626BF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DEEC-119F-462D-8676-E54F9D52C5B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BF1-2A59-4A1D-9047-BE8A5E1106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311-320E-4782-9BBC-DC34FBEE7D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A3CD-D6C1-42FC-9A64-CF395A2BC01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7BF-018B-42A4-AEA9-40ACDEA7368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473-B9C9-4474-8824-084EED83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46C-B44B-4B25-98C0-2E1A758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FBB-AA66-4046-91CD-A43C976E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667-948D-4CAE-BF17-9AB36187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ADEE-E212-4A42-8F5A-08444FD3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8469-25B4-4ECF-A628-13AFD6A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963-74FD-4E2B-BB23-EDD5F92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DADF-0914-4387-9F4E-E5CBF43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D3B-E2DB-4F64-936B-EFC8E272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79EA-D8AF-4E33-85B3-A29D9AB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6D1B-EF26-4516-918D-8BBF901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F77-0D20-4AFF-AC34-1BC51C7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D33B-576E-4B9A-B93A-401A4185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8BE-8F45-4CB9-B591-60F5B80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FE8-9F84-4B3A-9CA2-A6B2718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9CA2-93C4-4700-91E8-4E8D0BA5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F59-3D89-4A36-A2E6-EC29C8B4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EFC9-9025-411D-83DF-D2135114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ECEC-650D-41DE-999B-F26403D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CE05-9C5A-4EA2-9D37-B38CA1E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6DFC-CEF9-47AA-A08F-D2201C09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C4CF-0200-4466-9766-5CA8F718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7A8-77A4-41E4-B3BB-E578BD6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5090-FF06-429A-A98E-6D94368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2C8F-B6A5-4C92-91A5-81808A8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43B4-0E94-484A-A686-FCF528E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CEA8-96BA-4D6A-B51A-28448ED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CB4A-3B4F-47EC-BAFF-00FA001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1A44-AFB7-49B2-84BA-6ABEF36F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79E7-CB0A-448B-A9C8-460085B4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8FC3-2827-47AA-993D-4E2E54D7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ECEF-4F94-4011-83DF-83D74CA2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2ED8-A0A5-4BAE-BC8C-DAB653E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7A3-B818-4D65-A7D9-9F0F6A4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AA4E-D0BF-44B3-9866-5735A95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79D4-9703-4B2B-94A1-44529CE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35A2-8FE9-4352-A630-DC65E562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B709-BFDC-4B62-AEAC-753A3E7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89C7-B365-469D-82B7-5D4FD1F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E759-33C3-45A5-AE25-0E66F60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DE19-0D64-4423-BCEF-3DE614D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0386-AD24-48A9-A3D4-A8CC835F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4D88-CA41-44A5-9A82-61ABD25F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79B5-9258-4677-9F5B-E9853F62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690-94A4-46FD-B251-D9522AC0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4F8D-D300-437D-923E-0FAE5B30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C2C4-DC26-437D-BE3E-90162F5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E57C-CDCD-442E-8BAD-5BCB707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29CE-EE67-481A-B071-E7A82D0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877A-AA46-4FEF-B3D5-D84EF91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767B-1057-4DC6-807B-A56AC52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50B7-28CB-4F92-99B7-307E9D0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5247-9057-46E9-B604-17B69C7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5B3BC-0010-4E7E-9858-546BD9FB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E3FF6-7871-44C4-91EA-9A0DFEEF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541-F298-4A77-B58A-555DE51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3903-C080-480D-9C1B-BE4A825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D356-F79A-404C-81E0-10F3D26F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F98A0-7BDE-4F92-A471-E080B2CA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000D-F1FC-40B5-85BB-B95E708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02829-A526-4BF8-9D7F-F4EDEE94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6F45-163B-4B89-8F82-5DA64C7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D85E-40BD-479F-A575-02ACF2C4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8C80-57A7-48B5-BB79-4D2C012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B93A-C525-46C1-A9E9-A3A16FD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2C03-9D9C-4705-BB36-9063FAB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B06-6C81-4188-81DC-6E0872E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8E037-8576-4E27-B5D2-C313FFB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96DC-035D-4E4C-A124-6706086D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66FFF-A6EF-4F24-802A-393C35AA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279-BE44-4368-8F85-0EA9906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A97-7049-41FF-AD55-1072520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524-D0CE-4C5B-8058-0766D321FFC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95E7-B897-4EDD-9AEB-D982CDDC0CE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AF6-C95E-479C-8457-4D1DA58A6A8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4895-8B0D-456E-8BDE-25F4932C0CA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AC7-17C0-4D3D-940D-9694A908727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5E2-FDAE-4FAB-8947-7A9DE43F79B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ne v blízké budoucno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leaving tonigh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going to the cinema this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´re moving nex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lánování v diář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am having a meeting on Tues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e are going to the theatre on Sun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are you doing on Fri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is writing homework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just going to the c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 at the momen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opakova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stá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probíhající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pouze přechodn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meti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very d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 to school every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live in Karvin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s foot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o not read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going to the super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living in Sp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is playing squ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not reading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116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to be + sloveso (-ing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000" y="3733560"/>
            <a:ext cx="8351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to be not + sloveso (-ing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4920" y="357300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 be + podmět + sloveso (-ing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í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working in the gar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watching 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not writing to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očasný nebo přechodn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living in London.  (only this month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aren´t staying at the Hilton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having a part time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0:44Z</dcterms:modified>
  <cp:revision>9</cp:revision>
  <dc:subject/>
  <dc:title>PRESENT  CONTINUOUS</dc:title>
</cp:coreProperties>
</file>