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8EDA-36E4-4B91-A12A-DFCE956883B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5747-34EF-45CF-835C-3507117B5153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5FD9-E8D8-49CE-A298-D04FCD7E6611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B38C-3D73-48D0-BFE4-8B671C30A3DA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75C0-AF29-4AE9-8F3A-D84AD94D2296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00E4-9052-44B0-B7B0-1E4AA46B0F4F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DEE3-81FC-467B-8B61-7D07D9C05932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83DC-4719-4EF0-8B8C-A398FCC55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D417-6725-48BB-8F4A-B3321C20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07B0-13AA-437D-8DFC-357476C4F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373F-D1F8-4F47-B4FD-5E5CBA639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3A5AB-BCB9-4F13-B6F5-8F1651397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01F5-F9EE-4483-A185-C0893360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5B26-EB26-43F0-A18B-9F4DE6D8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FDFB-370A-42AE-88FA-9E99197E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C6081-4CA9-499F-B61E-CCF3D5BE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BC25-A103-4D1A-9932-4549F3FA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200E-31B9-4416-8538-B2F814E8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C0AF-1840-4698-9C0A-2937028A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6B3C-665F-49FC-8413-FB9A7DF5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1C45-0B06-4920-9091-C1E647BF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BD77-E00A-421A-BC6B-AD5BEAD0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0327-41FD-4C92-AFD8-E6A9ECC10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9E12-1F50-4338-AB4E-49961304E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C12C2-CD04-4E7E-AA54-986F3165D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E3717-688E-4908-AC12-0E5D0B6C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BE4C1-05F8-40E3-87BA-D7EE7184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1AD82-F34C-4D4C-8CA4-3508AD6B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CBDAA-F0CE-426F-BEDE-CC1A5C78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367F-3B06-43FC-AB45-2E4ED4D5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62F0A-6B03-4148-A35C-573F6CFB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74F44-F38C-4C83-A47B-01B74487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FB480-4CD8-4E0E-A52E-F9F8F911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96773-FA06-4207-984E-7F945C65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C3070-BBEC-4627-B052-C16EF3C6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47534-6C84-4052-B03B-DD1170EA6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6A655-6F70-471C-913A-BC57FB7C2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1A41C-A75C-4649-B83F-D72FEDA4C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F74B1-D478-4481-BEDD-2A8C81D3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15F34-C988-4FF3-A4ED-3305B669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ED3F-B492-4195-AF29-4DE61589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1089B-C5D3-4535-9261-A73BD73C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245BC-A2DE-4166-8A86-BD43EAE1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BBF1B-167E-4AAA-B76C-BBC0E98E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E3C50-0FB0-4AB2-91C8-C28446EB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0E6DF-81AF-4CB2-9030-D7F3DFA3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7BB97-BFC9-4902-AFEC-3BA4813D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DBF14-9753-485A-8D24-D243D768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25BD2-7568-458D-B360-7AA56282C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6CDFE-8A10-4501-BD1E-98CA95815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BFD18-23E0-4087-84A3-40F82E05E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5929-6B2F-4A36-8417-CBE1D40C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4BBE5-65D8-491C-B484-C29C0ACE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52DBD-8F12-4DAF-AB13-FF5EB48F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21324-3DD6-4F2A-ACA8-5E87FACF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71230-5300-4BBF-9AE1-2CE48CEC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F3B7A-2F40-4605-B9E7-79DE71A8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84DCC-BB52-41DE-8B2A-A753E02B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5656F-2660-44A2-9E40-B270AADF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61958-9C51-407C-9D99-415441DF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D9C15-3177-47EF-B044-42AC64EB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D3D24-2E4B-4111-BF7C-735FD47C6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582B-4446-44DF-B3B8-87B34FD4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A9A5F-5C90-431A-A682-8442ADE76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194F9-2DB0-47E0-BF58-8D1D54ED6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D4A80-4D9D-42E6-8682-378D93FF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930F3-AF34-4910-AA51-456104C3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93CC0-ABF0-48E4-9959-9405C2F1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932F1-C37E-41BC-972D-B616BA61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1529E-132F-4EC2-98E0-03823DF2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6675F-A08C-4983-9B36-5993242E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1F21A-7A3F-4401-AFAF-6F46EB0B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525E9-D9C3-4C6B-987A-A5E70D53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49A4-59E8-4CB2-98A5-F97F71A5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20BE9-46DF-4DCD-8DFC-B514A2A8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B2FC6-2615-4FC0-ABC6-A3B11E380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D74C8-A9A3-45E7-8B9D-37E896B9D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3131-405E-48D9-BD28-38ECABE7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8BAA-77C1-4268-A29A-CF499D44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2CE9-DDBA-4BD4-86AD-5242709E41A3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8D02-3B33-47C3-B314-9DFBCFC2ACAA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3C13-CA12-4B28-9888-90B90E5C8E45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7545-6629-4EE0-B2CC-EB164F50001F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4A44-A583-4B45-BE25-D19533C8B99F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250B-7F29-4C8B-8C83-5A2EBF2078C3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33336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920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ut in the correct ending: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899640" y="2781360"/>
            <a:ext cx="7488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drive                .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………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dance              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….......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olite              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………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distribute            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………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Šipka doprava 4"/>
          <p:cNvSpPr/>
          <p:nvPr/>
        </p:nvSpPr>
        <p:spPr>
          <a:xfrm>
            <a:off x="3780000" y="2997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Šipka doprava 5"/>
          <p:cNvSpPr/>
          <p:nvPr/>
        </p:nvSpPr>
        <p:spPr>
          <a:xfrm>
            <a:off x="3780000" y="3789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Šipka doprava 6"/>
          <p:cNvSpPr/>
          <p:nvPr/>
        </p:nvSpPr>
        <p:spPr>
          <a:xfrm>
            <a:off x="3780000" y="450864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Šipka doprava 7"/>
          <p:cNvSpPr/>
          <p:nvPr/>
        </p:nvSpPr>
        <p:spPr>
          <a:xfrm>
            <a:off x="3780000" y="5391000"/>
            <a:ext cx="977760" cy="486000"/>
          </a:xfrm>
          <a:prstGeom prst="rightArrow">
            <a:avLst>
              <a:gd name="adj1" fmla="val 50000"/>
              <a:gd name="adj2" fmla="val 49831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á gramat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Koncovky podstatných jm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tvoření koncovek podstatných jmen včetně příkladů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Koncovky podstatných jm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25600" y="1890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258920"/>
            <a:ext cx="7772400" cy="21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ff00"/>
                </a:solidFill>
                <a:latin typeface="Times New Roman"/>
              </a:rPr>
              <a:t>PODSTATNÁ JMÉNA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971640" y="3886200"/>
            <a:ext cx="7416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Koncovky podstatných jm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KONCOVKY PODSTATNÝCH JM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30" name="Zástupný symbol pro obsah 5" descr=""/>
          <p:cNvPicPr/>
          <p:nvPr/>
        </p:nvPicPr>
        <p:blipFill>
          <a:blip r:embed="rId1"/>
          <a:stretch/>
        </p:blipFill>
        <p:spPr>
          <a:xfrm>
            <a:off x="469800" y="1981080"/>
            <a:ext cx="8004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-men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899640" y="2781360"/>
            <a:ext cx="7488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entertain            entertain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employ            employ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excite              excite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Šipka doprava 4"/>
          <p:cNvSpPr/>
          <p:nvPr/>
        </p:nvSpPr>
        <p:spPr>
          <a:xfrm>
            <a:off x="3780000" y="2997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Šipka doprava 5"/>
          <p:cNvSpPr/>
          <p:nvPr/>
        </p:nvSpPr>
        <p:spPr>
          <a:xfrm>
            <a:off x="3780000" y="3789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Šipka doprava 6"/>
          <p:cNvSpPr/>
          <p:nvPr/>
        </p:nvSpPr>
        <p:spPr>
          <a:xfrm>
            <a:off x="3780000" y="450864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-ion / -ation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899640" y="2781360"/>
            <a:ext cx="7488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nform              informat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suggest              suggest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organise              organisat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Šipka doprava 4"/>
          <p:cNvSpPr/>
          <p:nvPr/>
        </p:nvSpPr>
        <p:spPr>
          <a:xfrm>
            <a:off x="3780000" y="2997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Šipka doprava 5"/>
          <p:cNvSpPr/>
          <p:nvPr/>
        </p:nvSpPr>
        <p:spPr>
          <a:xfrm>
            <a:off x="3780000" y="3789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Šipka doprava 6"/>
          <p:cNvSpPr/>
          <p:nvPr/>
        </p:nvSpPr>
        <p:spPr>
          <a:xfrm>
            <a:off x="3780000" y="450864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-er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899640" y="2781360"/>
            <a:ext cx="7488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work                 work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lay                  play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teach                teach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Šipka doprava 4"/>
          <p:cNvSpPr/>
          <p:nvPr/>
        </p:nvSpPr>
        <p:spPr>
          <a:xfrm>
            <a:off x="3780000" y="2997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Šipka doprava 5"/>
          <p:cNvSpPr/>
          <p:nvPr/>
        </p:nvSpPr>
        <p:spPr>
          <a:xfrm>
            <a:off x="3780000" y="3789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Šipka doprava 6"/>
          <p:cNvSpPr/>
          <p:nvPr/>
        </p:nvSpPr>
        <p:spPr>
          <a:xfrm>
            <a:off x="3780000" y="450864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-nes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899640" y="2781360"/>
            <a:ext cx="7488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tired                 tired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n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homeless               homeless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n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lazy                lazi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n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Šipka doprava 4"/>
          <p:cNvSpPr/>
          <p:nvPr/>
        </p:nvSpPr>
        <p:spPr>
          <a:xfrm>
            <a:off x="3780000" y="2997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Šipka doprava 5"/>
          <p:cNvSpPr/>
          <p:nvPr/>
        </p:nvSpPr>
        <p:spPr>
          <a:xfrm>
            <a:off x="3780000" y="3789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Šipka doprava 6"/>
          <p:cNvSpPr/>
          <p:nvPr/>
        </p:nvSpPr>
        <p:spPr>
          <a:xfrm>
            <a:off x="3780000" y="450864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-ing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899640" y="2781360"/>
            <a:ext cx="7488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feel                 feel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read                read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swim              swimm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Šipka doprava 4"/>
          <p:cNvSpPr/>
          <p:nvPr/>
        </p:nvSpPr>
        <p:spPr>
          <a:xfrm>
            <a:off x="3780000" y="2997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Šipka doprava 5"/>
          <p:cNvSpPr/>
          <p:nvPr/>
        </p:nvSpPr>
        <p:spPr>
          <a:xfrm>
            <a:off x="3780000" y="3789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Šipka doprava 6"/>
          <p:cNvSpPr/>
          <p:nvPr/>
        </p:nvSpPr>
        <p:spPr>
          <a:xfrm>
            <a:off x="3780000" y="450864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31:07Z</dcterms:modified>
  <cp:revision>34</cp:revision>
  <dc:subject/>
  <dc:title>PRESENT  CONTINUOUS</dc:title>
</cp:coreProperties>
</file>