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BE30-412C-48A4-9826-6A1F77D242D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6A95-3126-48D2-A7CB-89CB578FA54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44D6-4561-4C62-9286-6A0793EFBDB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7456-A550-4209-B910-F50354DAA8C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162D-AE38-4BC5-9DAA-2B03BD62786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95C1-98FD-42CD-BF4F-88E89B03CBD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7B9D-EB23-4AB0-A7E1-2C2C98D4514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60D-8D4D-4CE5-884A-590E54A2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E76-569D-4BBB-B8BC-E68F625B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B8F-B415-4217-8D79-D6341414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CA2-1706-408F-B4F4-C45C85BE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9D84-8FDA-4E73-8932-0E555771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9371-345C-4B1C-B6EE-C3167D80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A3FE-EAA0-4AB0-9BC8-D17817F5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281D-DBDC-4C5F-A448-727E0CF9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CBA7-FC84-4103-8740-C37360A6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70E9-C300-4318-BBD3-F2CDCF09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374C-D91A-44E2-A402-8EE2E847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A7E-2D5B-4805-9068-697C82C3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50D9-B025-4664-81AC-6004F8BF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1306-931B-43C9-A1F4-524B334C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BEF4-3D38-4462-A3DA-1B4A2C93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1F98-FB54-4AA3-B2DE-9FA8AFA9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D915-7A9C-45CD-BAB0-3961B76E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AAD10-271B-4238-8548-25A86058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1E06D-8FC2-4578-82D4-2442DC99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A9921-2F7F-41BC-BE3B-3120D12E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A7CFF-D7D5-4ABC-90F6-162879A6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EBC1B-DA5E-4594-858A-366D2118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C81-E50A-4F41-A475-B8AEFA8C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3AC59-BD19-4C14-A787-7CF974E0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9839E-6EB0-4BC3-A0C5-660AC4AA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1ADEB-E908-461A-8144-6CA58BF6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D0660-71C2-4AFE-A3DB-1D5AA628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F8A98-F22C-4D21-A7C5-EC3DD0CE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B4EA9-1B7F-4AFF-A848-F33FA623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4E671-FDCB-415B-868D-EEE99086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23E08-A1C7-4AD0-A6A3-BF564148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434D7-2D22-4BE7-9313-2BCC0C46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3D189-AAED-4B22-BA42-8CBB176C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3BF-2FD0-4F90-9943-A0FE4DE6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1DC13-A2B8-4780-B77A-539E296F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04820-F772-42F8-B566-DCC28488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E7DA0-814F-48E0-9733-71F6E650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41217-3CF4-4CEB-930D-C55ABA38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638D8-8720-4A96-92F3-DBB8EEF9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0DF61-D7EA-428F-93FA-641A2A16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54019-E5AE-47F9-B5FA-254306E9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968D4-CEAE-472A-B742-9A4F35C8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D9445-52D2-4B94-A2C3-DD096D61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CF291-DE20-4BFA-B7F5-DCC4E2A3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54D2-1114-4FE3-A472-70787B84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18B77-6398-4B16-AC3B-5B77A92A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A1EB2-4239-444C-B31A-99C1F4C2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986C4-B935-4A94-B8B0-0F04AD3A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9228E-D1EB-4EA5-BA18-2C9DE509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2B4EC-96FF-42B0-8549-FC1952EE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F0AEC-D925-40AF-892E-0938540A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DE03B-41BE-45FF-A5DB-09CE0F87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B49F6-0284-4783-B854-7F96ED97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F6FD2-9BF6-4B6D-8759-88579A9F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0BF5B-53EB-4BB0-AF89-A52EF1E1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C79-33A5-43E0-A903-17E6C67D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9BD4E-CC00-47C9-87EF-25CA1280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53D99-6806-4267-94D0-7D83D97D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A6EF6-435A-463B-A791-2AFF61C4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8BF7A-69D7-4A9F-9A47-EE9476E7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CC89D-5B06-4AF8-A54F-D1B0328F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C48A4-AAD3-4470-BDE0-739F2DE1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9A1B7-080A-4678-BF1C-9D33B48D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3D2E8-3972-4E8B-8345-C6412C19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3F203-46C4-4E36-AA9E-426D234C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59C0D-FA7C-467E-9D91-86E0E2A9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84E-4987-41A6-95EF-198F4E4A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B9A00-33AF-46A3-BB14-15ADFED0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F0F80-5DD7-4826-99C5-82C5E462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87095-086E-48D1-9F06-5EDE8F56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537C-03AF-43C4-8BF8-BA7697C6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AD34-E296-4C6D-AC88-ACD9BFD6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C19A-11AA-4C54-9ED5-B7A36BB42940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2A4C-C7C8-4B34-AE25-3E9B59601EF0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541C-8391-436E-B82D-651468C9D532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7F53-E71C-4438-B3A3-3E83B6B08361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034A-F6B4-4A95-A91F-F04899F94EC1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A06F-B7A4-49C9-A9CB-782BB9F9529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8355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Budoucí čas pomocí „to be going to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budoucího času s použitím vazby „to be going to“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Budoucí č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Future te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3640" y="2057400"/>
            <a:ext cx="8569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stoprocentně proběhne v budoucnu a již teď je to zřejm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 naplánovaný do budoucna (hodlám, mám v úmyslu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94920" y="3499920"/>
            <a:ext cx="820908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TO BE GOING TO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+ sloveso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00000" y="3428640"/>
            <a:ext cx="7848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TO BE NOT GOING TO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+ sloveso +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23640" y="3573360"/>
            <a:ext cx="8351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TO B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+ podmět +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GOING TO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+ sloveso + ...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stoprocentně nastane a již teď je to zřejm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t is so dark outside! It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is going to rai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ook at the boy, 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is going to fal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ff his b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is going to hav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bab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 naplánovaný do budouc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are going to mov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o Prague next ye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I am going to stay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n Lond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is not going to sell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her c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6:08Z</dcterms:modified>
  <cp:revision>12</cp:revision>
  <dc:subject/>
  <dc:title>PRESENT  CONTINUOUS</dc:title>
</cp:coreProperties>
</file>