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F40-F2DB-4F18-A93B-61AFA784E6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1A7C-9A4E-4CB5-A13D-97FB7D79298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EB08-30B2-4A35-AC19-2192B055E31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E268-BC18-49CC-BE07-1DB906D6E00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C653-24A9-4098-AF98-1E8F23D0400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961-2E09-4A91-8FBD-67988894BEA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C80-B724-476D-A173-D297914EE20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D7C-73DF-4FED-B7C2-5483EE18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9DE-7A3C-4682-88C6-86088CC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723-BE70-4807-B1E5-8D5AEE31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38C-AAF2-4294-986F-C112D4AA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E6CE-CE72-43AC-B1C3-F54CB903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7F08-F0A4-463F-8882-01475052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9C05-DE2A-4618-8574-F74962F6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959F-9611-46C7-9DE3-F54D64BC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421-A48C-4907-98F8-2E61B70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484D-F924-44AA-884E-DF370BD2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4D0A-2425-482A-8408-8CA3A9B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0A2-7D02-4732-AA00-44AF4C3F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98E-9DDF-45D6-8359-17180AE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66C-AF65-44D8-A13B-B9DD27E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5AE7-5309-4ECD-80A7-BD45B35E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A740-4615-4A77-BDA3-22D7995A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031-A474-41FF-A2BE-B9D89D93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C286-9AE4-485A-81BA-FF8B57E9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1FFF-F674-4237-B804-10F2B565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C199-2E55-4BE0-8C08-474A596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E63D-1412-40D6-B922-295F634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AB13-980B-4BC8-B747-B2DE28EB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003-9FB4-4584-A372-AF5A41DB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F744-07E4-465D-8043-D9C88F37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8EEE-29EE-4759-93D4-D0EE706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E39D-ECE2-4943-B9F8-11362FC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8A5C-E2A6-4CA0-8234-840922F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3B8B-9A2C-43A0-86D0-3B7BEE2E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688B-DF0C-4294-A7B7-327B71AF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F4CB-A77F-454A-B9F7-FB09C731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0D12-61C8-4BF6-955D-FE19030C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C3F1-98EA-4CCB-AAD4-2371960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42D2-BDE5-4C7E-BE89-9A13760C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938-73CC-4461-BB10-140A0D65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295B-F9B6-4D9A-8742-46349A7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7033-B314-45CD-9C8B-C4649DD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0F3D-AB3C-4B33-810D-176FF7C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5659-E62E-4BEE-B205-1F5293E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8ECE-C281-4804-890A-DEF1D70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9005-BC23-4114-8776-6DB6EDC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527BD-67EA-4217-B1D0-3F131455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F963-D00C-4FC4-8D6F-1D367186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86A4-A7B4-4B71-A80E-B3E8AF93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DF56-6F7B-4ED9-BEA4-E183F0E1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DB8-EA3A-4824-B0CF-AFEE778F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F188D-28D2-4D8C-A319-567B7EA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EADF-484D-4BE5-8DF8-30327013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DD44-41E3-4100-9E7E-F1E9E748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908C-2F65-4CAD-B55D-73565AC1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5DC4-5393-4C4C-B7C2-02FEDD7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FD205-A666-459F-98F0-618AA47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0967-65BD-4611-9598-777B72C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BCCC-6E2A-458F-ADDD-ED60D75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9CE9-E2E1-4252-B965-33B9482F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769F-A54A-45E4-8EF1-63B906C9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A49-6B92-4EC1-BD4B-D7F01CC3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9B8F-6EE1-4B59-94CC-69BB1A70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0AE49-38FB-4755-A09F-E11CACBF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81D6-8B9F-4D60-91AA-2DDB9AF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A017-22F4-4F3C-A6CB-BF2FCB51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D596-97C1-4891-945E-679CB50F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8AF3-6998-4B34-8E38-E3CCDBC5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74A8-77F8-44B5-AFA8-05322F7B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FEBFC-2727-4BB4-8BE7-9B0045F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DADA-9EB1-4491-A1B0-30EC392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B477-7F71-49AD-ABCE-9C006D0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F97-A216-4829-8C60-6CF79971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9270-C3EF-4388-B27B-6A7C800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D741-E042-4F21-A16B-5F10521A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7EDB-40E5-4A57-967E-A9722581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91F-7295-4CB4-8BC6-FEBEE90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489-6C0B-45C4-8423-221578F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205-E74F-4120-972D-0297B82A09D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CBC5-75F8-4F31-AE21-ACC82FA8258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867-744B-464A-A827-3A6F36892C1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0C46-3395-4D1D-8D81-CC5D14DCE67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F95-2106-4037-B4B4-5ED75852B6F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BDC5-4B05-46B6-8936-0DFDA7B9B6B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24912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sloveso „to b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home at the week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in Italy last sum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n´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school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y in the cinema, t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4768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minulý infinitiv (2.tvar slovesa nebo koncovka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-ed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428640"/>
            <a:ext cx="7417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didn´t + sloveso + 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55280" y="3573000"/>
            <a:ext cx="748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d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ope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door and enter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nnis last Satu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idn´t like the fil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did you arri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ne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o the cinema an hour a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 in front of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n´t  bu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1:29Z</dcterms:modified>
  <cp:revision>10</cp:revision>
  <dc:subject/>
  <dc:title>PRESENT  CONTINUOUS</dc:title>
</cp:coreProperties>
</file>