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A827-171E-46D3-8B3E-6C1ECEFECBE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9750-6988-4094-99FF-5A4F9EB1C06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3EEF-3CC0-409A-85D3-C46E09523F9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8757-6A93-49E8-8B79-F70734B569B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6E41-A481-4A9D-BFEB-4BD36FCFD8B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BEE1-6886-44CA-883A-B1F0FD95A25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1A5F-BD46-4605-B268-C8B1BE39837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463-19DA-4571-A250-A14AEF5F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1B7-B3D1-46B7-BA49-C176A6D9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314-52BA-4292-AD87-CB62AFF4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AC6-6D6B-45FE-B44B-B6D8A876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69E8-E6D2-44FD-A82E-B1F08576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9C28-B441-4C57-90E1-23C89CAF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7694-F787-445F-8D19-20D24A4E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856A-17E3-48D7-BDB6-C11CD7FA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798E-D123-4A6A-B3E7-987B1A6E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43D7-90E6-488B-B2CA-46F21AB1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E878-D468-47D4-8C51-D797A658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4E7-8582-4F29-A64B-2A57732E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4C4C-7DFB-44BE-AEAF-9EE96C69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688E-4C7A-47F5-B48A-8669E513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E811-1565-4AC1-B81E-51F153E7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033B-A24F-484A-BEE8-959CF584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3DE5-086D-4466-9C26-C930D6C8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8040-84DB-4E95-A1B4-A2FFCF14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F3C4-84E8-4A5F-9D06-33EE5E72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C5C1-8172-4EB0-B3C1-3497489A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563B-15BC-4500-A012-08503184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81EC6-038C-495E-B003-C573023F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2E7-24A2-43BE-9C92-326E6B81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D1E3-C05C-41EB-A90B-A2952660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2450-DF23-4F6A-BE7A-6DD0A28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8AA43-6D5B-4547-93F7-4F4AE63F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A4C5-E840-4560-8DF9-C6D41F3C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4ACB-4880-4B7C-B2B0-DE4478F3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B50F-89E0-4AE4-A5A4-AE122A0A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67C08-D590-47A0-B8C8-6FE22EA0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DF4C-99F6-4F58-B56D-52822B4E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3EEE-2001-4E64-994D-6B0681BE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6524F-95C1-4799-9233-EEF05048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30E-BF54-4B19-940B-183A7C60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423F-A701-4705-89DA-CD4C333C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AD6D6-0AA8-41DB-A755-6D1A7D6A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74F49-1A80-4645-B14F-4E29AFDD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DA16-5A3E-4579-9D6F-22E371B8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135B-16BF-4B7E-9307-842B19ED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0D02C-1B2C-4334-B41F-DE5A62B6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DBEE-364F-43C7-BD35-409AC61B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0B8F-66E6-4990-93FC-8ADBA0CF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C905D-C10A-43FB-A7CB-A47017CC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0FB78-D9C9-4432-A012-23EEFB1B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6DB-3CC4-4557-8DDF-E9038F46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19EE4-39FA-4B39-8FEA-27FC37C1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69B5E-B3AB-4723-999D-D9148BD7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19677-DDFE-4829-BA27-AB2FAA13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7D086-EC02-4D55-AA57-6928BEBF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346D-C1B2-4151-B315-8053A4F7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03031-A5BF-430E-8EA8-AA4AAE7E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A15C7-651A-4465-95FD-79326705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4F074-0E6C-4C61-8404-83CC865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1CDDD-8BDD-48E9-BBF4-F42909AA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9E396-E58B-4611-B039-FD88D1DA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220-F423-4A6C-B068-3CDFF044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45698-4B0A-4F8A-9C49-266A8751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F93CF-A176-46C2-A1A1-36D67715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D121C-685F-4043-A7B3-A1835CA1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AF00E-4493-48AB-81F4-76066D64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D07D6-700B-4445-B0C0-8603B0BF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5448F-58C8-4B6A-9D89-9A9638D6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AF7B5-F4D1-4ECB-877D-C0B050DB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F504C-3572-40B5-9010-71B953DE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D7415-DBE5-4BA3-B16C-E449A8A8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6C505-89D6-447B-B257-7244BA20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CF5-2829-4CB5-B4C1-9515C940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3E2D3-6220-4F9F-84A0-46A90ABD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928E7-87AD-4697-974D-881F4296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6343E-0BE3-49EA-8EB1-8EDBE456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571-D10E-4169-BF57-BD496AD7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1C1-192D-4412-A017-F6818E58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7120-7103-45F9-BEE0-6FB1B9985C1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8621-2463-40B6-B1DD-3DE40EDF562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B021-2568-46B0-B9B4-26911A57C14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BFE7-B167-405B-B167-7225C27F5A6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3BA4-817A-481E-BFFF-321B51FA1BE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1A87-F6A4-48D1-9B44-445E5642E00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ávě proběh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rrived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called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edložkami since a f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hom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 mor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liv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 this street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a ye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íslovci času ever, never, already, so far, yet, just a st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</a:t>
            </a: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ever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o Lond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never hear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bout u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already sent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íslovci času 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ever, never, already, so far, yet, just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st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writt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o f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n´t pai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her dinne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y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till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answered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96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ast simple  x  Present perfect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proběhl a skonč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nemá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začal v minulost a teď již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epokrač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SENT PER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proběhl a skončil, al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má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začal v minulosti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38088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ast simple  x  Present perfect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431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Past si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brok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y hand last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not broken now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oo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inn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pen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he wind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perf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ve broken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y h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still broken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ve cooke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o here it is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s opene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still op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9900"/>
                </a:solidFill>
                <a:uFillTx/>
                <a:latin typeface="Times New Roman"/>
              </a:rPr>
              <a:t>BE CAREFUL 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t home since the mor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RONG!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t home since the mor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CORRECT! </a:t>
            </a:r>
            <a:r>
              <a:rPr b="0" lang="cs-CZ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přítomn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perfec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oběhl v minulosti, ale do současnosti má 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ávě proběh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íslovci času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ver, never, already, so far, yet, just a st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499920"/>
            <a:ext cx="8136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 / has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357720"/>
            <a:ext cx="84978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n´t / hasn´t + příčestí minulé (-ed / 3.tvar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4360" y="3429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ve / has + podmět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začal v minulosti a stále trv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liv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 London for five ye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for an hou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s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im since the last we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many Spielberg´s film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e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l v minulost, ale do současnosti má následe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rok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clos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2:53Z</dcterms:modified>
  <cp:revision>18</cp:revision>
  <dc:subject/>
  <dc:title>PRESENT  CONTINUOUS</dc:title>
</cp:coreProperties>
</file>