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C90B-DBF3-4495-961A-80E1C727F50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84E6-33F0-4537-9311-4FB9D50A336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6D49-0942-48DA-8835-360500D5AE5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E613-BA48-4848-82C3-73587026989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767B-9503-41D5-A415-49E7A265034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727E-10E1-4F44-987B-3D7A419A1AB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60CB-C3FB-45A4-81C0-1BFAD9805C9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A7A9-8E7B-403A-889D-06F9EAF6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00E3-548E-4236-B9FB-08FC7A62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0A56-B07F-4143-BA6B-48F85596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6C2A-2FCD-44F4-B83D-FEE64B7D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184B-AF21-4933-84FB-1C5209CE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4593-E985-4CD8-AA88-A4C4E605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915B-1D03-433A-98AB-F7B5F719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6201-59F3-440C-BD99-3D0087D8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6229-6375-425E-B5D9-39F104EB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0E11-5EDE-40C7-BD3D-DC3242D9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0605-ED6A-455B-87EF-C18DBB8F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A94F-2B01-424D-988C-FAE0A499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2C25-EC1D-4127-B151-321A972C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6312-48F6-41BC-89C5-3EA07D89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F109-5C6E-4788-91DF-9ED45F67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B74F-00EC-4CE7-B5CF-1FE68869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B98E-49F0-439B-B948-C384C1F8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38BE2-C4A6-484F-A26D-0BC74BB2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D8F44-808E-4545-9D2A-173DDCC0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7D573-3A95-4D73-B959-66DD3327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7C4CE-6454-4A3E-8EBE-7EB90B7E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FFC1E-D4F3-4711-9F7B-ACB88EBA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242C-4CDE-4D18-8D7E-236FD514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13265-109D-4DD0-AD1E-12D91FA1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6A3DE-0E38-4144-9C34-45D89DA5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86926-DA17-45BB-96C2-180C3B61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F2091-CE60-4703-AD86-B6506EEB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6EFFE-4A42-4E4F-84D3-FFB97B46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B7EA5-C6C1-4CE7-AEF6-48115F71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2AFFA-8E11-46C9-B51F-8C850914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4A59A-E722-47EB-8C47-A730BF3C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68394-0527-4624-B4AA-52EE58A8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92E68-B52F-4658-9CF1-F03869A4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331A-3F9C-4CC4-958F-0105355E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14966-5757-44C3-A6F2-FE073B5A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1F335-A3A5-4566-874C-924F94F0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62173-D6A0-4C91-B909-7AC46068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7F3BC-C849-4A11-B58C-20B760FF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CA4BB-C0CB-4122-B27C-64C779B3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4461E-75FB-408E-A93C-31C1067D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8B724-CB36-4E02-B791-5B61F35D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0B5DC-312B-4BDF-A7EF-F331A7DA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A0E51-66E2-41A3-B36F-82DC217D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A33A1-C0A0-4847-AC14-F9A940AF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8066-5EC4-4E67-8CDC-3AA79EB9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9683D-56A3-44B5-9ADE-2DD482FB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4AF41-529D-4218-B012-C434D1CA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F4E91-AC42-4D73-8FA7-48C25EE7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704E9-AAD9-4029-AC3F-ABED33BC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90313-7C5C-4F4C-B1BB-220AFC03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53B7C-574C-4BB2-8D5D-92CF1CDE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7C399-8554-4573-8FA0-09FC327E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C36C3-A548-4AC4-8355-20C10653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7C9EE-36DC-456B-AF52-996A6F05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00448-ED5B-42E7-B3DA-1E70A8D6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3C2C-0213-44F6-A019-0D011F28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A9669-3A01-469E-B381-8871B4A1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75AED-A685-4137-94F6-2EC8FE9C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6C9F6-66A5-4A9E-B402-5996C57B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F8083-0DD6-4F80-86BF-B50ADEE8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A54B5-032A-414C-8600-86CC778F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6D3DB-EA13-4932-8BD9-6477EB33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EAA0D-8524-44E9-9AB0-8194AA9A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43DD3-070D-49EA-9890-7969B24D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05A70-0A4F-4CEB-8D08-48B4BB40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F800C-06F3-451E-8A64-3B15BD31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6D23-846E-4ADA-A687-F05924DB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F7D87-A64D-4C8C-AB96-E0429467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1755C-0A7B-4631-A476-6ECAD7F2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7C703-E44A-4C26-AAED-87AB766D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72EF-917E-4AE8-8B6B-483BB6D4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F9D7-688D-4F76-9F2E-4C94DAAE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3E6A-C483-44E1-81D8-DC263A64EB3A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422B-D275-40EE-9ACE-59CA6B5EC412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D36F-86CE-40D5-A183-D5D18EDF3F40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60EB-FF53-4DDD-B553-0CC7383A6421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EA92-8D26-4870-A41B-8B5EA68F317C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9BAD-86F3-4EC5-864F-00788B0FC88D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258560"/>
            <a:ext cx="7772400" cy="15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ČÍSLOVKY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971640" y="3213000"/>
            <a:ext cx="7416720" cy="21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How to read the time? </a:t>
            </a:r>
            <a:r>
              <a:rPr b="0" lang="cs-CZ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14:45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7:55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8:40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11:3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5:15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6:25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8:50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19:0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258560"/>
            <a:ext cx="7772400" cy="17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ČÍSLOVKY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71640" y="36450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w to read these dates?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3.8.1975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4.6.1999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8.1.19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1.5.1333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2.4.1564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9.11.20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hled druhů číslov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druhů číslovek používaných v anglickém jazy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Číslovky, základní číslovky, řadové číslovky, násobné číslovky, desetinná čísla, zlom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258920"/>
            <a:ext cx="7772400" cy="21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ČÍSLOVKY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971640" y="36450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řehled číslove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ŘADOVÉ  ČÍSLOV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85800" y="1981080"/>
          <a:ext cx="7772400" cy="3962520"/>
        </p:xfrm>
        <a:graphic>
          <a:graphicData uri="http://schemas.openxmlformats.org/drawingml/2006/table">
            <a:tbl>
              <a:tblPr/>
              <a:tblGrid>
                <a:gridCol w="3598920"/>
                <a:gridCol w="574560"/>
                <a:gridCol w="35989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ÁKLADNÍ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ŘADOVÉ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on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e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r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u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ur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f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NÁSOBNÉ  ČÍSLOV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85800" y="1981080"/>
          <a:ext cx="7772400" cy="3962520"/>
        </p:xfrm>
        <a:graphic>
          <a:graphicData uri="http://schemas.openxmlformats.org/drawingml/2006/table">
            <a:tbl>
              <a:tblPr/>
              <a:tblGrid>
                <a:gridCol w="3598920"/>
                <a:gridCol w="574560"/>
                <a:gridCol w="35989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ÁKLADNÍ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ÁSOBNÉ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c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ic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e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ee tim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u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ur tim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ve tim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ESETINNÁ ČÍSL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684360" y="1773360"/>
          <a:ext cx="7191360" cy="4668840"/>
        </p:xfrm>
        <a:graphic>
          <a:graphicData uri="http://schemas.openxmlformats.org/drawingml/2006/table">
            <a:tbl>
              <a:tblPr/>
              <a:tblGrid>
                <a:gridCol w="2661120"/>
                <a:gridCol w="218880"/>
                <a:gridCol w="43113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.ČÍS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CIMAL NU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14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4 = three point one fou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,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.4 = one hundred and twenty three point fou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09 = six point oh nin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75 = zero point three seven fi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…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…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LOM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684360" y="1557360"/>
          <a:ext cx="7772400" cy="4363920"/>
        </p:xfrm>
        <a:graphic>
          <a:graphicData uri="http://schemas.openxmlformats.org/drawingml/2006/table">
            <a:tbl>
              <a:tblPr/>
              <a:tblGrid>
                <a:gridCol w="3598560"/>
                <a:gridCol w="574920"/>
                <a:gridCol w="35989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LOMK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ACTION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hal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thir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ee fif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…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…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VYJADŘOVÁNÍ  ČAS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85800" y="1981080"/>
          <a:ext cx="7772400" cy="3475080"/>
        </p:xfrm>
        <a:graphic>
          <a:graphicData uri="http://schemas.openxmlformats.org/drawingml/2006/table">
            <a:tbl>
              <a:tblPr/>
              <a:tblGrid>
                <a:gridCol w="3598920"/>
                <a:gridCol w="574560"/>
                <a:gridCol w="35989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Č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: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er PAST sev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: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f PAST nin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: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er TO elev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: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ten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: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…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VYJADŘOVÁNÍ  D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685800" y="1981080"/>
          <a:ext cx="7772400" cy="3814920"/>
        </p:xfrm>
        <a:graphic>
          <a:graphicData uri="http://schemas.openxmlformats.org/drawingml/2006/table">
            <a:tbl>
              <a:tblPr/>
              <a:tblGrid>
                <a:gridCol w="2014560"/>
                <a:gridCol w="216000"/>
                <a:gridCol w="5541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U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uary 1st   /the first of January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2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bruary 23  or February 23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2.199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bruary 6, 19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February the sixth, nineteen ninety-sev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…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…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5:31Z</dcterms:modified>
  <cp:revision>50</cp:revision>
  <dc:subject/>
  <dc:title>PRESENT  CONTINUOUS</dc:title>
</cp:coreProperties>
</file>