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0DC-5145-43C9-A3CB-D98EE96BD0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569C-81E6-4933-9BC4-C108E43072E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172-1DE1-4033-8206-5610E471CD3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7D0B-3561-491E-999E-623F25CCF0E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92E-8847-4316-B892-062D8E6BD0F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5804-151B-4AEF-8D0E-05614B05B01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863-18A3-40D2-AB8B-C2359D0DFB5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752-FD53-423D-BC57-A6048CAD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91D-BF82-4B6C-A3C9-1F7DB06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859-4C3E-49A8-90AC-3DCAFC9A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05D-5DB0-45B0-B483-6113E9CA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E0C6-0BBB-4327-8E72-B25F38AC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DEC7-A07A-4301-B321-917F50DC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A6B-9A0B-44A7-B882-B2EC56D3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AE95-9220-413E-B8D1-A2D0818B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32F3-E167-434A-A6F0-364FAC9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315-1920-4A71-ABB8-8358605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10A1-4FBF-420B-A8E4-4881A35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EF1-65A6-46F6-A95C-61A8478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A96-46E8-4036-98E0-EB210BB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4C26-16E0-4EB7-BD4E-E493450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5B26-3DAF-46FD-83F5-61FD271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188F-D27B-470A-9C22-9B3F35CE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1E1A-8B56-4D85-8A64-0B6EE57C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3D2F-90E4-48B9-BA07-816EF7C6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B2CB-99F1-4EC7-84B8-4224F160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0C71-BEF6-4B9E-83E1-49E5A2A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D561-E452-4E51-A3E2-5C826DC7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59EB-56B4-4E44-A660-57DC91D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669-0401-4C86-9E4D-BC6AFC2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3C7B-BF91-4AF1-89D0-52AEC885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C44C-C4C2-4807-8288-A23E360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1161-375E-4F4C-8B77-954D182D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00A2-5795-4011-B266-8975FCD4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B102-6384-4B07-81B2-BC2867CA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09A7-13CF-4430-A094-767CE231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BCFE-C28D-4BDE-BF0B-13ED45C8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473C-E97B-43BE-A728-F887C21C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CCC2-2346-4DB1-A48F-561D121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EF99-2311-4C81-A356-2C0CFF8A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B44-1787-40D2-9DEB-CE44457F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156B-2CAE-4DB5-92B8-5183B33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89F36-E7A6-4B05-8BC0-D066DC65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8A96-224D-4DFF-A9EB-AC81FCF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8248-8D92-411B-8773-F0A2FCA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B07D-127C-43B0-BAEE-A336A8B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8342-56B9-4A6C-AC8F-79E304C8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1F13-0403-4556-905D-326733D9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DB1A-21DC-4CC1-AC0A-F7A2D6BC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97C2-0B9D-4F94-AD6C-1DC3D768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9024-434B-43DA-A9D4-E10C8EF8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F2E-7218-4673-A73C-8CD7A71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FF14-4321-46C1-AF85-0F57DB3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BEBA-56CD-4421-8C3D-051D4D22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FE9F-681F-44A2-85A6-E25A8FFF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0812-1AD7-4CD7-855F-E92FB3A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B036-FAFB-49F5-A156-E1755B26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1917-757A-4113-935D-4F06BB0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04F5C-3B5F-4E59-BAF1-A808848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C941-BD8D-414A-A83A-119A72D0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DE04-BBFE-401C-AA6D-47F7C4A1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3AC55-6B44-4F9F-BE10-89B17CD5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61F-EE6E-4349-AE6D-9139A20D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2AE4D-6122-4836-845C-82E4FC74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6EA1-AC9C-4ADC-B681-92F9DBEB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F249E-A52B-49E9-BC98-E2011782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4550-691F-4637-9397-2A613F5B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0430-8115-4A65-9528-016363C1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6773-4D69-48FC-A81C-AE607DC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5850-2D2A-48B5-B63A-282F069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03E7-98DB-445C-BF50-950AF4E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A894-4ED3-4470-8AE8-1837732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8E31-8D6B-4DD0-9D72-C5B3BB6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460-7AA4-47BB-9DB7-0590232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B3E7B-469A-4F7C-8F14-70BFB1B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DD80-6956-45F8-8170-ADB198B0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6602-8E9A-45D6-903E-2212B0CF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616-D085-415A-A3ED-5566F19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8BC-1FE9-49A6-88EE-1609A1B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9FD9-E2FA-4D72-8B76-0867EDBC2D5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A85E-D443-4416-A63D-83699848229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524-4817-4F81-8A6E-CD0E93F38E4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D455-EEE1-43E2-AD3A-930AA70E763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A75-651F-4ACA-8F80-14C9E7BCF04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6EF7-BD34-4D74-840C-AFDCE431E5D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ke opposites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83800" y="218448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pula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ssibl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cisiv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167360" y="24494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167360" y="3268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167360" y="400536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4145040" y="48848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on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předpon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předpo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ppo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dpony u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ŘEDPONY 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m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349000"/>
            <a:ext cx="7488360" cy="30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513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6728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42100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1164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11640" y="3441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r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5336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7280" y="3351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81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u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313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  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098960" y="2490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098960" y="3305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40360" y="4081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dis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097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38640" y="2514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0200" y="3301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0200" y="4076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2:53Z</dcterms:modified>
  <cp:revision>41</cp:revision>
  <dc:subject/>
  <dc:title>PRESENT  CONTINUOUS</dc:title>
</cp:coreProperties>
</file>