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92B34-4E6C-47C8-8A05-4B9CD012D274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40DE2-E970-4C50-B96C-0FB8C2E540F9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AAEC6-4189-435A-A8D9-9375EF4C38BE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7BFF1-07F7-4BFD-8C90-549DEB6FFD2D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00D88-30A2-4908-81A6-81757309FCC3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54753-A887-40D5-848E-D454B14F3305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3BD18-EC7B-4B4E-838A-65D239AEB5F3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4B885-5854-49C1-B84D-D5F370EB8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C7B40-9709-483D-A2D3-A4BD0F5CB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F7169-0F81-4711-A46E-D9851EAD5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535FE-D342-487F-BD0E-4C481B27C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EBE7E-24A9-4594-A0CC-BE017B62D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1BFC5-5E34-44F3-9BF5-D7265B343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32C71-4307-46D0-9C7B-3B3BB6D00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99405-6949-4D01-9D35-45B3E512C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BF540-E9C5-4D1F-A40B-196848F76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A9263-8036-4D64-8DC9-D895E5E72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6A3D5-1816-4DC9-9EDA-7A25476A9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C90C9-47E6-4A5A-81FE-66B57E70F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5163B-FE23-476E-A279-E14B239B4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9A0F4-F5DB-48D2-9B8F-4E8A936A4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734A1-E96C-4DBA-8DF4-063B56A6E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04326-044F-4FCF-BC85-45B8E3D8E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AAE98-1A48-4FEE-83DA-D98FF998A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94D258-5DF1-4ED4-AD95-1B3447837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9F3A14-95EE-416E-9076-E63302B26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A25C32-97DF-4F79-B3CC-83F829291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C1EBCD-209B-4686-9C8D-4B3F1505E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D552BE-E777-40FB-AEDA-A7FAF3DDE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9A1B6-CAB9-4671-AEF6-B1040F902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B239DF-4E7F-438F-B295-19A02FBB4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D21C5D-3773-4D2F-B643-7E8373A5E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03A35B-65EF-43CF-BC9C-4C657F5B5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56652F-8DEE-40A2-8732-CF2C4C157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F4309E-EB35-4D98-B978-057F6CAC9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454F57-AC55-497B-87F1-A0AC56C84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A2D0BE-9179-4F5E-BFAB-0FDCD6CFD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EF9C6C-DBFC-4FBD-B2F9-69DA019C2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6114E5-4A9C-4891-A71B-BC0B1421B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4B1249-6D0F-4D4C-8CA7-DC4CE72E6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EC22E-6EE3-4934-AB5D-3701D8F14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DD0B83-F0A2-44CB-A482-F1709411F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A8C117-4A17-4E80-A5D5-CC3AB74FC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1B79D0-392E-46E7-9CA8-B5BF09801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BE0A27-4EAA-4A50-82F6-7E324F78E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6F037D-7CD8-4AA7-8336-47CE674DD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DF5E7B-87B0-4441-86C8-7BE6DDA44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B97DF1-5C8E-410D-8548-A80DCE855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FB5916-A4C7-4750-97E0-6E05E8126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A610C1-C305-49CA-8B95-221AFEF2F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E8F3B6-D7B3-46B7-9199-03A62D61C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C0D9C-A20F-4AC8-9750-EE4D76C95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9FFB63-802B-44A9-951A-3755425A1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3C3D17-6AAF-4858-A95C-73CDC5B6A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63193E-67A6-4A9D-B570-2043DC391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58692D-C4A2-4958-A227-B22F7656E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D3C853-0FD1-4A02-A6BF-D1A930F6F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C110E8-C6A0-466A-BABD-1873D43F5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19C905-84B2-46C7-8881-7B8CAEC18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6DCE27-F9C0-4096-8335-0EF58C146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657EA1-2AD6-4BF9-B4B7-B317461D8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14D976-43BD-435D-8F7E-8C9B8CF11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D0791-ED53-4028-8133-CCF967A01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5FB049-8CBA-4037-BA59-E4EE78AF4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A6BECF-A2CA-49B1-8F00-27D9FBF0C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F57D90-19A2-482D-A406-724752189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0BC3F3-E3BD-42B1-AD98-7225A88EE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F6EA9E-AEBC-469E-88DF-E5506D778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7590F4-15EE-4A26-8C69-E7F617EA5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3AC386-7CDF-4B64-BED6-882093039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396AD1-2CE0-4D05-97B4-9932FF42B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0321B6-1DB6-451D-893D-F3095D11A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0CF2CE-DAD4-4E8C-8EC7-9A57408A4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9463C-FA86-41BB-B858-148CF82FC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D26FFE-07B1-43A5-BDB1-CF357EFD1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A16FE9-9EC4-40D5-BF4C-E3A203AA7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8D4802-8736-4ECE-8F71-22D06161C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AFF2D-C721-4BB3-AFB9-F574D05A5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498F5-3208-47AC-8637-4584D15C3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49.xml"/><Relationship Id="rId10" Type="http://schemas.openxmlformats.org/officeDocument/2006/relationships/slideLayout" Target="../slideLayouts/slideLayout50.xml"/><Relationship Id="rId11" Type="http://schemas.openxmlformats.org/officeDocument/2006/relationships/slideLayout" Target="../slideLayouts/slideLayout51.xml"/><Relationship Id="rId12" Type="http://schemas.openxmlformats.org/officeDocument/2006/relationships/slideLayout" Target="../slideLayouts/slideLayout52.xml"/><Relationship Id="rId13" Type="http://schemas.openxmlformats.org/officeDocument/2006/relationships/slideLayout" Target="../slideLayouts/slideLayout53.xml"/><Relationship Id="rId14" Type="http://schemas.openxmlformats.org/officeDocument/2006/relationships/slideLayout" Target="../slideLayouts/slideLayout54.xml"/><Relationship Id="rId15" Type="http://schemas.openxmlformats.org/officeDocument/2006/relationships/slideLayout" Target="../slideLayouts/slideLayout55.xml"/><Relationship Id="rId16" Type="http://schemas.openxmlformats.org/officeDocument/2006/relationships/slideLayout" Target="../slideLayouts/slideLayout56.xml"/><Relationship Id="rId17" Type="http://schemas.openxmlformats.org/officeDocument/2006/relationships/slideLayout" Target="../slideLayouts/slideLayout57.xml"/><Relationship Id="rId18" Type="http://schemas.openxmlformats.org/officeDocument/2006/relationships/slideLayout" Target="../slideLayouts/slideLayout58.xml"/><Relationship Id="rId19" Type="http://schemas.openxmlformats.org/officeDocument/2006/relationships/slideLayout" Target="../slideLayouts/slideLayout59.xml"/><Relationship Id="rId20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Freeform 5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Freeform 6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Freeform 10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E07C2-E378-421C-94F1-4EA66814384F}" type="slidenum">
              <a:rPr b="0" lang="en-C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5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5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E4AC2-0823-4AEB-AD1F-C1B55A506B3A}" type="slidenum">
              <a:rPr b="1" lang="en-CA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2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Freeform 3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Freeform 4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Freeform 5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Freeform 6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Freeform 7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Freeform 8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Freeform 9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Freeform 10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F5782-25ED-4902-ABB4-A000DB979570}" type="slidenum">
              <a:rPr b="0" lang="en-C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5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5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E037F-1F9E-4DC3-9990-D062EA82E21C}" type="slidenum">
              <a:rPr b="1" lang="en-CA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2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2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2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2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213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5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216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220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A78DD-C390-435F-9388-AEBC1C5C703B}" type="slidenum">
              <a:rPr b="1" lang="en-CA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9"/>
    <p:sldLayoutId id="2147483702" r:id="rId10"/>
    <p:sldLayoutId id="2147483703" r:id="rId11"/>
    <p:sldLayoutId id="2147483704" r:id="rId12"/>
    <p:sldLayoutId id="2147483705" r:id="rId13"/>
    <p:sldLayoutId id="2147483706" r:id="rId14"/>
    <p:sldLayoutId id="2147483707" r:id="rId15"/>
    <p:sldLayoutId id="2147483708" r:id="rId16"/>
    <p:sldLayoutId id="2147483709" r:id="rId17"/>
    <p:sldLayoutId id="2147483710" r:id="rId18"/>
    <p:sldLayoutId id="2147483711" r:id="rId19"/>
    <p:sldLayoutId id="2147483712" r:id="rId20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3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26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66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267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0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271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16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ftr" idx="17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sldNum" idx="18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3A52D-19A8-4941-90A3-25208E5580EF}" type="slidenum">
              <a:rPr b="1" lang="en-CA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2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ační číslo projektu: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Z.1.07/1.5.00/34.0208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22" name=""/>
          <p:cNvGraphicFramePr/>
          <p:nvPr/>
        </p:nvGraphicFramePr>
        <p:xfrm>
          <a:off x="1332000" y="4172040"/>
          <a:ext cx="7415280" cy="36504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639720"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5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23" name=""/>
          <p:cNvGraphicFramePr/>
          <p:nvPr/>
        </p:nvGraphicFramePr>
        <p:xfrm>
          <a:off x="1332000" y="4751280"/>
          <a:ext cx="7416720" cy="109692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gr. Martin Frolí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3</a:t>
                      </a: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.A/ třetí roční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2 / 201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24" name="Picture 3" descr=""/>
          <p:cNvPicPr/>
          <p:nvPr/>
        </p:nvPicPr>
        <p:blipFill>
          <a:blip r:embed="rId1"/>
          <a:stretch/>
        </p:blipFill>
        <p:spPr>
          <a:xfrm>
            <a:off x="2354400" y="333360"/>
            <a:ext cx="5297400" cy="1295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755640" y="69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ffff00"/>
                </a:solidFill>
                <a:latin typeface="Times New Roman"/>
              </a:rPr>
              <a:t>-less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subTitle"/>
          </p:nvPr>
        </p:nvSpPr>
        <p:spPr>
          <a:xfrm>
            <a:off x="899640" y="2349360"/>
            <a:ext cx="7488360" cy="29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pain                 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  pain</a:t>
            </a: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les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fear                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  fear</a:t>
            </a: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les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use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  use</a:t>
            </a: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les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...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Šipka doprava 4"/>
          <p:cNvSpPr/>
          <p:nvPr/>
        </p:nvSpPr>
        <p:spPr>
          <a:xfrm>
            <a:off x="4211640" y="2565360"/>
            <a:ext cx="977760" cy="48420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Šipka doprava 5"/>
          <p:cNvSpPr/>
          <p:nvPr/>
        </p:nvSpPr>
        <p:spPr>
          <a:xfrm>
            <a:off x="4211640" y="3357720"/>
            <a:ext cx="977760" cy="48420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Šipka doprava 6"/>
          <p:cNvSpPr/>
          <p:nvPr/>
        </p:nvSpPr>
        <p:spPr>
          <a:xfrm>
            <a:off x="4211640" y="4149720"/>
            <a:ext cx="977760" cy="485640"/>
          </a:xfrm>
          <a:prstGeom prst="rightArrow">
            <a:avLst>
              <a:gd name="adj1" fmla="val 50000"/>
              <a:gd name="adj2" fmla="val 49867"/>
            </a:avLst>
          </a:pr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755640" y="692280"/>
            <a:ext cx="79200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ffff00"/>
                </a:solidFill>
                <a:latin typeface="Times New Roman"/>
              </a:rPr>
              <a:t>Put in the correct ending: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subTitle"/>
          </p:nvPr>
        </p:nvSpPr>
        <p:spPr>
          <a:xfrm>
            <a:off x="899640" y="2349360"/>
            <a:ext cx="748836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wonder             .</a:t>
            </a: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………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noise               </a:t>
            </a: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….........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shade               </a:t>
            </a: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……….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hilarity             </a:t>
            </a: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……….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Šipka doprava 4"/>
          <p:cNvSpPr/>
          <p:nvPr/>
        </p:nvSpPr>
        <p:spPr>
          <a:xfrm>
            <a:off x="4067280" y="2522520"/>
            <a:ext cx="977760" cy="48420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Šipka doprava 5"/>
          <p:cNvSpPr/>
          <p:nvPr/>
        </p:nvSpPr>
        <p:spPr>
          <a:xfrm>
            <a:off x="4027320" y="3357720"/>
            <a:ext cx="978120" cy="484200"/>
          </a:xfrm>
          <a:prstGeom prst="rightArrow">
            <a:avLst>
              <a:gd name="adj1" fmla="val 50000"/>
              <a:gd name="adj2" fmla="val 50034"/>
            </a:avLst>
          </a:pr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Šipka doprava 6"/>
          <p:cNvSpPr/>
          <p:nvPr/>
        </p:nvSpPr>
        <p:spPr>
          <a:xfrm>
            <a:off x="4027320" y="4149720"/>
            <a:ext cx="978120" cy="485640"/>
          </a:xfrm>
          <a:prstGeom prst="rightArrow">
            <a:avLst>
              <a:gd name="adj1" fmla="val 50000"/>
              <a:gd name="adj2" fmla="val 49886"/>
            </a:avLst>
          </a:pr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Šipka doprava 7"/>
          <p:cNvSpPr/>
          <p:nvPr/>
        </p:nvSpPr>
        <p:spPr>
          <a:xfrm>
            <a:off x="4027320" y="4905360"/>
            <a:ext cx="978120" cy="485640"/>
          </a:xfrm>
          <a:prstGeom prst="rightArrow">
            <a:avLst>
              <a:gd name="adj1" fmla="val 50000"/>
              <a:gd name="adj2" fmla="val 49886"/>
            </a:avLst>
          </a:pr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5" name=""/>
          <p:cNvGraphicFramePr/>
          <p:nvPr/>
        </p:nvGraphicFramePr>
        <p:xfrm>
          <a:off x="1258920" y="1700280"/>
          <a:ext cx="7416720" cy="4667040"/>
        </p:xfrm>
        <a:graphic>
          <a:graphicData uri="http://schemas.openxmlformats.org/drawingml/2006/table">
            <a:tbl>
              <a:tblPr/>
              <a:tblGrid>
                <a:gridCol w="3184560"/>
                <a:gridCol w="4232160"/>
              </a:tblGrid>
              <a:tr h="422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Cizí jazyk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Anglická gramatik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Anglický jazy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Koncovky přídavných jme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5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rezentace k zopakování znalostí a procvičení gramatiky. Prezentace podává přehled nejčastějších koncovek přídavných jmen včetně příkladů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1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Přídavná jména, koncovk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endin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26" name="Picture 3" descr=""/>
          <p:cNvPicPr/>
          <p:nvPr/>
        </p:nvPicPr>
        <p:blipFill>
          <a:blip r:embed="rId1"/>
          <a:stretch/>
        </p:blipFill>
        <p:spPr>
          <a:xfrm>
            <a:off x="2325600" y="189000"/>
            <a:ext cx="5297400" cy="1295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1258560"/>
            <a:ext cx="7772400" cy="180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600" spc="-1" strike="noStrike">
                <a:solidFill>
                  <a:srgbClr val="ffff00"/>
                </a:solidFill>
                <a:latin typeface="Times New Roman"/>
              </a:rPr>
              <a:t>PŘÍDAVNÁ JMÉNA</a:t>
            </a:r>
            <a:endParaRPr b="0" lang="en-US" sz="6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971640" y="3645000"/>
            <a:ext cx="74167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Koncovky přídavných jme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00"/>
                </a:solidFill>
                <a:latin typeface="Times New Roman"/>
              </a:rPr>
              <a:t>KONCOVKY    PŘÍDAVNÝCH JME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330" name="Zástupný symbol pro obsah 5" descr=""/>
          <p:cNvPicPr/>
          <p:nvPr/>
        </p:nvPicPr>
        <p:blipFill>
          <a:blip r:embed="rId1"/>
          <a:stretch/>
        </p:blipFill>
        <p:spPr>
          <a:xfrm>
            <a:off x="676440" y="1981080"/>
            <a:ext cx="78022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755640" y="69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ffff00"/>
                </a:solidFill>
                <a:latin typeface="Times New Roman"/>
              </a:rPr>
              <a:t>-y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subTitle"/>
          </p:nvPr>
        </p:nvSpPr>
        <p:spPr>
          <a:xfrm>
            <a:off x="899640" y="2445840"/>
            <a:ext cx="7488360" cy="30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mess            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mess</a:t>
            </a: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fun       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fun</a:t>
            </a:r>
            <a:r>
              <a:rPr b="0" lang="cs-CZ" sz="4400" spc="-1" strike="noStrike" u="sng">
                <a:solidFill>
                  <a:srgbClr val="ffffff"/>
                </a:solidFill>
                <a:uFillTx/>
                <a:latin typeface="Times New Roman"/>
              </a:rPr>
              <a:t>n</a:t>
            </a: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wit      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wit</a:t>
            </a:r>
            <a:r>
              <a:rPr b="0" lang="cs-CZ" sz="4400" spc="-1" strike="noStrike" u="sng">
                <a:solidFill>
                  <a:srgbClr val="ffffff"/>
                </a:solidFill>
                <a:uFillTx/>
                <a:latin typeface="Times New Roman"/>
              </a:rPr>
              <a:t>t</a:t>
            </a: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...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Šipka doprava 4"/>
          <p:cNvSpPr/>
          <p:nvPr/>
        </p:nvSpPr>
        <p:spPr>
          <a:xfrm>
            <a:off x="4067280" y="2637000"/>
            <a:ext cx="977760" cy="48420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Šipka doprava 5"/>
          <p:cNvSpPr/>
          <p:nvPr/>
        </p:nvSpPr>
        <p:spPr>
          <a:xfrm>
            <a:off x="4097160" y="3486240"/>
            <a:ext cx="978120" cy="484200"/>
          </a:xfrm>
          <a:prstGeom prst="rightArrow">
            <a:avLst>
              <a:gd name="adj1" fmla="val 50000"/>
              <a:gd name="adj2" fmla="val 50034"/>
            </a:avLst>
          </a:pr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Šipka doprava 6"/>
          <p:cNvSpPr/>
          <p:nvPr/>
        </p:nvSpPr>
        <p:spPr>
          <a:xfrm>
            <a:off x="4067280" y="4265640"/>
            <a:ext cx="977760" cy="485640"/>
          </a:xfrm>
          <a:prstGeom prst="rightArrow">
            <a:avLst>
              <a:gd name="adj1" fmla="val 50000"/>
              <a:gd name="adj2" fmla="val 49867"/>
            </a:avLst>
          </a:pr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755640" y="69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ffff00"/>
                </a:solidFill>
                <a:latin typeface="Times New Roman"/>
              </a:rPr>
              <a:t>-ive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899640" y="2781000"/>
            <a:ext cx="7488360" cy="28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attractivity              attract</a:t>
            </a: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iv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naivity              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  na</a:t>
            </a: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iv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negativity                negat</a:t>
            </a: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iv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...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Šipka doprava 4"/>
          <p:cNvSpPr/>
          <p:nvPr/>
        </p:nvSpPr>
        <p:spPr>
          <a:xfrm>
            <a:off x="4226040" y="2997360"/>
            <a:ext cx="977760" cy="48420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Šipka doprava 5"/>
          <p:cNvSpPr/>
          <p:nvPr/>
        </p:nvSpPr>
        <p:spPr>
          <a:xfrm>
            <a:off x="4226040" y="3776760"/>
            <a:ext cx="977760" cy="48420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Šipka doprava 6"/>
          <p:cNvSpPr/>
          <p:nvPr/>
        </p:nvSpPr>
        <p:spPr>
          <a:xfrm>
            <a:off x="4226040" y="4581360"/>
            <a:ext cx="977760" cy="486000"/>
          </a:xfrm>
          <a:prstGeom prst="rightArrow">
            <a:avLst>
              <a:gd name="adj1" fmla="val 50000"/>
              <a:gd name="adj2" fmla="val 49831"/>
            </a:avLst>
          </a:pr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755640" y="69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ffff00"/>
                </a:solidFill>
                <a:latin typeface="Times New Roman"/>
              </a:rPr>
              <a:t>-ic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899640" y="2205000"/>
            <a:ext cx="748836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organism              organ</a:t>
            </a: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ic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enthusiasm               enthusiast</a:t>
            </a: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ic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history                histor</a:t>
            </a: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ic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...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Šipka doprava 4"/>
          <p:cNvSpPr/>
          <p:nvPr/>
        </p:nvSpPr>
        <p:spPr>
          <a:xfrm>
            <a:off x="4067280" y="2421000"/>
            <a:ext cx="977760" cy="48420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Šipka doprava 5"/>
          <p:cNvSpPr/>
          <p:nvPr/>
        </p:nvSpPr>
        <p:spPr>
          <a:xfrm>
            <a:off x="4060800" y="3213000"/>
            <a:ext cx="977760" cy="48420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Šipka doprava 6"/>
          <p:cNvSpPr/>
          <p:nvPr/>
        </p:nvSpPr>
        <p:spPr>
          <a:xfrm>
            <a:off x="4060800" y="4033800"/>
            <a:ext cx="977760" cy="485640"/>
          </a:xfrm>
          <a:prstGeom prst="rightArrow">
            <a:avLst>
              <a:gd name="adj1" fmla="val 50000"/>
              <a:gd name="adj2" fmla="val 49867"/>
            </a:avLst>
          </a:pr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755640" y="69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ffff00"/>
                </a:solidFill>
                <a:latin typeface="Times New Roman"/>
              </a:rPr>
              <a:t>-ous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883800" y="2244240"/>
            <a:ext cx="7488360" cy="285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advantage            advantage</a:t>
            </a: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ou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monotony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    monoton</a:t>
            </a: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ous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fury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furi</a:t>
            </a: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ou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...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Šipka doprava 4"/>
          <p:cNvSpPr/>
          <p:nvPr/>
        </p:nvSpPr>
        <p:spPr>
          <a:xfrm>
            <a:off x="4121280" y="2438280"/>
            <a:ext cx="977760" cy="48420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Šipka doprava 5"/>
          <p:cNvSpPr/>
          <p:nvPr/>
        </p:nvSpPr>
        <p:spPr>
          <a:xfrm>
            <a:off x="4121280" y="3192480"/>
            <a:ext cx="977760" cy="48420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Šipka doprava 6"/>
          <p:cNvSpPr/>
          <p:nvPr/>
        </p:nvSpPr>
        <p:spPr>
          <a:xfrm>
            <a:off x="4121280" y="3933720"/>
            <a:ext cx="977760" cy="486000"/>
          </a:xfrm>
          <a:prstGeom prst="rightArrow">
            <a:avLst>
              <a:gd name="adj1" fmla="val 50000"/>
              <a:gd name="adj2" fmla="val 49831"/>
            </a:avLst>
          </a:pr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755640" y="69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ffff00"/>
                </a:solidFill>
                <a:latin typeface="Times New Roman"/>
              </a:rPr>
              <a:t>-ful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899640" y="2349360"/>
            <a:ext cx="7488360" cy="29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beauty               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beauti</a:t>
            </a: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fu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colour               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colour</a:t>
            </a: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fu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meaning            meaning</a:t>
            </a: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fu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..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Šipka doprava 4"/>
          <p:cNvSpPr/>
          <p:nvPr/>
        </p:nvSpPr>
        <p:spPr>
          <a:xfrm>
            <a:off x="4211640" y="2548080"/>
            <a:ext cx="977760" cy="48420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Šipka doprava 5"/>
          <p:cNvSpPr/>
          <p:nvPr/>
        </p:nvSpPr>
        <p:spPr>
          <a:xfrm>
            <a:off x="4211640" y="3357720"/>
            <a:ext cx="977760" cy="48420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Šipka doprava 6"/>
          <p:cNvSpPr/>
          <p:nvPr/>
        </p:nvSpPr>
        <p:spPr>
          <a:xfrm>
            <a:off x="4211640" y="4149720"/>
            <a:ext cx="977760" cy="485640"/>
          </a:xfrm>
          <a:prstGeom prst="rightArrow">
            <a:avLst>
              <a:gd name="adj1" fmla="val 50000"/>
              <a:gd name="adj2" fmla="val 49867"/>
            </a:avLst>
          </a:pr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1T18:42:49Z</dcterms:created>
  <dc:creator>Martin</dc:creator>
  <dc:description/>
  <dc:language>en-US</dc:language>
  <cp:lastModifiedBy>Igor</cp:lastModifiedBy>
  <dcterms:modified xsi:type="dcterms:W3CDTF">2013-12-28T12:33:56Z</dcterms:modified>
  <cp:revision>38</cp:revision>
  <dc:subject/>
  <dc:title>PRESENT  CONTINUOUS</dc:title>
</cp:coreProperties>
</file>