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395-2757-4120-9B48-FBF2DD79C7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0772-B3C1-413F-B263-1B919886724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B05B-822F-4B93-8FB1-957B81C056E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DB8D-2B05-4BAD-B4D8-CECF5871937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C7BB-ED45-414F-A100-AD3ABE0260F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1AC4-B01F-4224-B823-CCE5576D6FA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6E6A-CB7A-4F5F-98E3-C64B8305AB8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FC8-A995-418D-B317-DDD0FE3A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A88-B03E-4D00-9F58-FE073134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EAC-BB1F-4C4D-9AAB-48DBFEAB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373-09AD-4EAF-BBA4-A01DBBBA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97C2-EB94-4201-9486-BDB1331E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3D71-9768-4F1E-A42A-92BC7FB9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1ACF-9559-46FB-951B-3ABEBA3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0F20-63E3-41C2-8142-8F33E6E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DB74-E374-4239-905E-B6793A9F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A655-893D-4072-840E-DD556C22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DE5E-00A4-4908-86F5-681F16F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82C-F5E1-4CC4-8A8D-A36C397D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B130-3C20-4A3C-9D36-646BBE23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B7FC-36D9-41CF-991A-3E82599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6297-376D-4D29-8554-FED047C3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7DE8-80FE-4114-85B8-FC90CAF3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C881-4B5D-4D70-B519-D0287618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0422-8076-42B5-B57E-BDA7F9EB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9310-65A2-4616-9758-B167E02B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EDBD-D0D6-47DB-8165-892D9CE1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406C-BA76-4146-B704-F495E4DC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FDA7-1573-40AD-9FA8-DD130A0B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C9F-6E6C-4641-AB26-F135A9C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0595-5981-4352-9051-7755DEF3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9607-AC84-45CE-AFC8-56544C5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8EED-8DA8-47CD-BDFE-D076826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3709-EAE7-4D29-AD3F-6C4E9CAB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F257-C292-4A11-9021-CCD0277C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E237-4A3E-4E02-8647-E2EA5C99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31B6-0A0B-4C08-92B1-03B61A00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7D01-9EDD-45A1-B825-B6C6E64C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024D-C114-45E0-8B0B-72683B07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FA64-C419-4336-B2A5-C90166F8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ADE-880A-4DD8-B0DE-13A1F1E7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10BF7-872A-4DC8-AA41-E1B8BC3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FB01-AB1D-478D-AAA7-959F2B92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153B-5FBC-4811-93A1-ADB1A734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3B37-0FA5-4C89-8F06-2BBCF7E6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48AD6-A1F7-498B-8B92-61A8F7E0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9092-CE40-4B94-BEC2-3ACBBECF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0AC7B-E5A2-4A23-A13B-5FC86BC5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FE9B6-9D11-4269-AC8B-57548DDF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83D9-0955-44C1-A27C-B0FCFEF3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521A6-3D97-47C4-BEA0-9F7BCEE5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27A-8F5A-4F8F-8338-B6E37BAC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A2819-BAAC-47E4-A298-B72B7985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6E5F2-CFFD-473F-B364-18FF2852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897FB-40F2-4DBC-AAD0-D8C18199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35C48-D4B3-47C2-BD60-C165B69B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184A5-FC5D-403C-929E-A0FC5114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4499A-443B-428A-A11D-967AC784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1D9B-ABC9-4558-B5BC-5A31DE04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2A51-5763-4AF3-B1D7-8F43D7CB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70B38-091E-49AC-84CF-0713F962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FDCF-3583-4F8C-981F-6C9CFA2D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280-A9BD-4E28-B2FA-8D6046BF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149E0-9CFB-4D4F-8684-776FB2D9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CD436-3E1E-4984-8FE7-B35FEBB3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69AE5-3220-4E1E-B481-557839D2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EC69-7D46-449C-8EF2-7EF61388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8A9CB-7CE6-44AA-A96D-C610C5B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52B3F-CCF3-4F5A-A20B-43EE3D3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1F7F5-207A-4130-B1BF-24BE31D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5DAF3-EA8B-469B-97F4-3A430F0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0C79-8668-4FDA-A065-BBC759C2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F3FD7-1C58-4DCA-BE80-B5A79C3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06B-5483-4867-B0F9-DE8350A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6047-07D9-4065-B3A3-D530C51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BC78-0E33-478A-8801-34AA1F10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7F85C-692E-4BA0-9E62-F45F1CF6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022-11B4-4694-AD30-330B6CB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657-0835-4EE1-A17A-99E3E06D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F6F6-CCE2-42D4-9727-9AFDF5AFCB3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A138-1D2E-49EF-8CAE-06E8E4079FE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E23B-9ACE-481C-B781-D712C2C6F2F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A94C-B440-48C3-9EDA-F9D033956E1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8DD7-5A75-45FD-AD8A-BFAC7B6B8A0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95AB-DC40-47AC-B89E-DC3672AAD88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58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Simple  x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ěj proběhl a skonč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ětšinou je dána doba, kdy děj proběh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ěj probíhal po určitou dob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odbarvení jiného děje v minulost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Simple  x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388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l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 sch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oo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rot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le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id not rea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id you d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ere walking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cook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writ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not read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book when she c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ere you doing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 + past si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got up and went to the bath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came home and cooked my lun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shouted and ran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 + past continu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ile I was waiting at the traffic lights, someone shouted at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 sitting in the armchair when he c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was working in the garden when we arri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continuous + past continu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 playing the piano and she was dan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were shopping and she was waiting for 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minul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íhal po určitou dobu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barvení jiného děje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yjadřuje nedokonav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3640" y="3499920"/>
            <a:ext cx="835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was / were + sloveso (-ing) +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920" y="3500280"/>
            <a:ext cx="8642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ět + wasn´t / weren´t + sloveso (-ing) +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s / were + podmět + sloveso (-ing) 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íhal po určitou dobu v minu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were reading magazi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was listening to the ra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n´t waiting for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were you doing at five o´cloc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odbarvení jiného děje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I came home, 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cook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n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I saw him, 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cross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watch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 when the telephone ra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2:10Z</dcterms:modified>
  <cp:revision>11</cp:revision>
  <dc:subject/>
  <dc:title>PRESENT  CONTINUOUS</dc:title>
</cp:coreProperties>
</file>