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F6D6-983F-4086-A476-7EE9A38FDD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498-3550-45A9-8BF7-3A511A80499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E866-DDD8-4674-96A0-2B05D75D382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1DB-D355-4E29-94B2-47DD3C61389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0751-C768-429D-9DE5-AE16728C33C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8C2-409D-46A6-99BF-0DBF4709A0E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4D15-17C5-464C-B90E-3EE1FCD5BF4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6CB-9FCA-4BCD-8AA3-0108BBAC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0B1-9AFE-4545-9348-1EE97C7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1CE-7358-41CD-B0AD-02872401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C33-9ACC-40E5-A3B0-5B41ACBF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D0E-9891-4450-9A3B-7F9A1D05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91C-C903-4C5E-8031-8480D9A5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E3ED-1593-414E-A5E2-4F88011F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381-79BE-4832-B9F6-658CA328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C351-629E-49A0-8AD9-E9F7846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FCC1-E884-4904-9EC8-D80058F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0789-D9F2-4753-B84F-BAED93A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F8F-0138-4281-8734-4887485A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CBAF-4A9C-4A9B-B3F9-B37BFE1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9E9-1C52-43B3-A64C-D60FAB5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F1E2-A344-4FC6-8DFE-210AFD4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16F-20E4-42B1-A947-D8BF68FB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FB3-7481-43CA-9008-1EE867A2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3C0A-F6AA-43A0-BA69-AF027EDA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2836-AED9-4730-887C-3DC1F2DE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9D88-01DA-4B1E-8E0D-51041BA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038F-AAF6-45BC-8111-FB9F556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B93F-98BE-49AF-8E30-26086E0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AD5-E8A8-4CAA-98D3-0C3B108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7461-C0A0-4F14-94AA-E896CD2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3E3A-6742-40F0-9A53-57AFA97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07A6-F663-4292-85F0-4DB2E15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DFC9-A70D-4574-A387-895B17F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122E-373D-475F-BDA8-C2BF79D9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6D20-F3B5-41C2-98A4-59418EA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284A-6759-4B74-925E-25B96BCB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C4C4-15DF-452C-9621-83DADF15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562D-78C0-4787-86E4-2468CF85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F7C8-5B42-45B9-B328-ACED975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169-A897-4ACB-87F4-7690C8FA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FF3D-3CCB-4FEB-A4A7-C2D8919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FB8F-5337-4376-B942-E67FE62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D59B-D6D8-42E6-A760-613D413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1F1C-0ECA-4DBE-BB25-9AC8AF6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0BA4-1F02-45DE-AD0D-B602E8B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4AB6-92D5-4DA9-8C62-CEFB57B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B147-4A8D-4DBB-A21A-2D7E3D17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9B76-DC33-4489-8F16-D844AF7E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F0CC-D372-4911-AC4E-5B4A161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89D2-D28E-4637-8210-0BEC767E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F6E-A871-4CC2-8191-241FD0D7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B2B5-EFDC-4BB2-A9C9-F4399361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39AE-D731-4CCF-9E1B-06E8057C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12A72-5F1D-4876-989B-966D5CD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FB34-0119-4E58-99CD-77233CA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F350-4805-464F-8E56-3C7CDA3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F27C-13A8-46A2-A4BB-3494EED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2E9C-37F8-446A-BB5C-61FEC65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442FF-4E00-4291-87C5-CA8CBD1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A895-FCA2-4782-A31D-4DBB5CC2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FFBA-1DC4-4A06-B45A-A80F48BD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AAD-2014-4607-9B34-DB474BF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3440-507C-45E7-9C31-82D616E7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0A90-48C7-4C90-A1BA-9C681C38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93D6-1967-4205-B66D-35925A2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4D88-9957-4F32-A10E-8F0034F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D612E-2EAB-4B56-BD35-FBC4243A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CC45-6AA3-4EC9-94E1-90CC2236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1DF6-7C53-4979-8F40-3FC43FBA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D26F-26CB-4224-A8CB-AC1ADBF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FF11-787D-4E04-A8AF-A54CC79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DF9B-D897-4F44-A4A6-EF83308A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F9D-C63B-4015-B925-8A2476B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BB6F-1C40-478E-AE52-9702C372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0C2C-166A-47A5-AF6A-34FF8694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C293-7125-43A5-A660-61B5671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900-091C-4C6F-A7D1-2ED4C39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B20-EB14-4D88-A8A4-49889B9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1A8-5ED1-4B00-95A9-1DD85F2882B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01B-F19A-4079-A5CD-1C4A75F15AB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017-1C85-44E3-8076-9FFC9BA35FD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8D5-852A-48EF-9280-D142B492517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D0C-6E8F-4947-9FE2-ECDC4DBBF8C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312-EE4E-4DBB-B248-D07019AC68E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live in Lond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works as 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often, sometimes, usually, every day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travel to the sea every summ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usually stay in this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often go to bed l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200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sloveso (3.os.č.j  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-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10920" y="3733560"/>
            <a:ext cx="806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don´t (doesn´t) + sloveso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 (does) + podmět 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goes to school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sometimes plays footb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don´ t watch horrors very oft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do you usually get u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ur and five make n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sun rises in the ea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9:47Z</dcterms:modified>
  <cp:revision>11</cp:revision>
  <dc:subject/>
  <dc:title>PRESENT  CONTINUOUS</dc:title>
</cp:coreProperties>
</file>