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DF63-BA9B-483E-8BC5-D624A587BC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F22E-52AB-45FC-9ED0-65ACB89F50B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CA7B-A68D-4F04-9A53-1BFCC392C96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87B-E765-4F4D-A49C-F19F3565FD9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068-37D8-481A-8799-9985DC7FBDF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1A5-777B-4F20-8982-84B86FEE7D4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303E-562C-4B85-98B4-D7F5E3DE753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2916-AE96-4CCE-87A6-0180E598379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B86-5BEE-429A-BFDC-1B63BBEA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3ED-D4AC-4C1B-8E90-9006C08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ACD-F5AF-4D5A-A9CB-B414E7AF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021-0D2A-4DFC-A1B6-C4AF6702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6320-119A-47A3-B157-9CF67D3C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CF1-AF0B-4AAA-874B-9E9C1F8A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F0EA-1F0D-4D3E-BB97-FB8AA65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E26C-88CB-4252-B72D-1E7520E3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FD8A-96D3-4E19-A601-9AD4605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CD5B-245F-4D94-B452-FEB6515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0CC-2F4B-467C-8D9A-B601CEFB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4D1-4A15-4C7B-98C8-93626AD2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8F3C-9AEF-4713-8638-9C15B40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0356-7DDD-42CA-8330-487A9E8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47C4-C477-4CC4-A99F-F8D8507F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1612-1B9F-4BEC-88F2-1B6C29D1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6C23-510F-4F78-AB27-14830C7F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1E41-9E63-495C-8002-0C451D3F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013C-C55D-4D8C-ADD1-42968641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69D8-DA94-4EB9-B0F5-6FB8B473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2F94-7936-4C83-A270-9C63BA9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7444-F72A-4069-B5C3-50D44D86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2A3-CE1E-4CFA-B921-0B3005E5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D9FB-F69B-485B-A7B2-61D556E2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6505-AB81-46FA-A6E8-EBE885FF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5EF4-8638-4315-9D21-526D849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7BCC-9E1F-498B-99D3-4D330C8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6C24-2A4A-4757-85F0-89D650CA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3D97-B272-47EA-8EB1-3E6235E0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5D40-98EB-4A6D-9FB7-246007E3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A844-BDB6-4F7B-9009-7AFC4226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EF68-FBF5-46F2-89AB-676C746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D17A-F626-4AA4-866A-B27B9C2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DA9-E41A-4E0E-BAE2-0B514866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2CBF-64EE-4B1A-915B-7D9DCE0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3A88-B9AB-47B5-92BE-DEF6C5E0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C464-B68C-4452-B4B3-144EDC63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14BC-B4A1-4BAF-AA2A-C4729BF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277CF-5376-418F-ACF6-66A505F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FD5E-EC11-4F1D-8EA9-DB243EB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696C-9046-4553-9044-5FA0A19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21AB-EEEA-4466-934C-DA6B1A2D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FA09-0C0A-49B7-9A82-B55EEE3F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D521-B44A-42A8-A408-AD5F7196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299-FE62-4B08-B61A-C8581048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1CA7-2F8C-4BEF-8A07-E993B9E2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2C78-BEDE-43E3-BCCC-FDD567EB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7073-9888-465C-98A1-706A730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4212-5D62-4F6C-AFEC-139D4F79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4C56-191F-4176-9D22-62A74263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5DEB-0620-4C0E-BA31-B4E8864B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7B42-9F0C-4003-AB4D-C4A9CC2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8210-B39A-4525-B859-2B7FC0D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69A9-0A8A-41BB-955D-852F7544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B37F-AC1D-4F8E-B97B-A21B8B07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019-BDE1-422D-8D58-C8B6036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F4C3-3897-42C6-8026-3BDBC473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5B30C-F38B-432A-AEAB-850323C6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DFC8-5185-4899-80A7-52B1F01A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9066-F354-4F5C-A54D-9330CC61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4F64B-55E9-4F15-9BA3-6D66A31E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A747-3F1C-40DA-8085-F6069C42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5CDC-4D0C-46E7-9AA0-21FCCBC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55705-83FF-4257-B8A6-8ED18BC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56C3-0DD3-4D6D-99CD-D359ACC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3CCE-7818-476C-BF07-1096BB2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588-522A-4E30-8390-95CFC1F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119BF-1B84-4A03-9C23-291129A9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D214-63D8-40B9-A04A-403ACBAC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90F4-DA99-4976-A8B8-93BE1794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86D-A2D9-483C-98BE-D172B108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D61-8DFA-4311-ADB3-219B682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D950-146C-46EA-ADDA-B92ECE6EDF4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1F9-17CE-48A9-9B9C-E4576DCD6E1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49F8-07C6-40CD-B738-EF1CFB3C9B6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CA3A-5935-4213-BADB-E533FA29CDB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5B1A-F130-46BC-9088-6CC2176D199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772-A6D9-4FED-BD75-36CD9625F13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park my car he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nd all his mon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OPISNÉ  TVARY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68000" y="278100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an                   be ab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av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a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 allow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4"/>
          <p:cNvSpPr/>
          <p:nvPr/>
        </p:nvSpPr>
        <p:spPr>
          <a:xfrm>
            <a:off x="356400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5"/>
          <p:cNvSpPr/>
          <p:nvPr/>
        </p:nvSpPr>
        <p:spPr>
          <a:xfrm>
            <a:off x="356400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6"/>
          <p:cNvSpPr/>
          <p:nvPr/>
        </p:nvSpPr>
        <p:spPr>
          <a:xfrm>
            <a:off x="35575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a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Šipka doprava 5"/>
          <p:cNvSpPr/>
          <p:nvPr/>
        </p:nvSpPr>
        <p:spPr>
          <a:xfrm>
            <a:off x="2843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6"/>
          <p:cNvSpPr/>
          <p:nvPr/>
        </p:nvSpPr>
        <p:spPr>
          <a:xfrm>
            <a:off x="2843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2627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5"/>
          <p:cNvSpPr/>
          <p:nvPr/>
        </p:nvSpPr>
        <p:spPr>
          <a:xfrm>
            <a:off x="2627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6"/>
          <p:cNvSpPr/>
          <p:nvPr/>
        </p:nvSpPr>
        <p:spPr>
          <a:xfrm>
            <a:off x="2627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modálních sloves a jejich opisné tvary pro minulý a budoucí č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, can, may, must, opisný 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lastnosti, opisné tv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jí stejný tvar ve všech osobách čísla jednotného i množné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n, you can, he can, we can, you can, they 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) Následuje po nich sloveso bez „t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v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y ma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ai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560" y="3573360"/>
            <a:ext cx="7417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) Do minulosti, budoucnosti apod. používáme opisné tv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i="1" lang="cs-CZ" sz="3200" spc="-1" strike="noStrike">
                <a:solidFill>
                  <a:srgbClr val="7a7a90"/>
                </a:solidFill>
                <a:latin typeface="Times New Roman"/>
              </a:rPr>
              <a:t>must?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cs-CZ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6"/>
          <p:cNvSpPr/>
          <p:nvPr/>
        </p:nvSpPr>
        <p:spPr>
          <a:xfrm>
            <a:off x="2411280" y="511956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CA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ak Engl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tay there over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dy my roo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help his m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6:30Z</dcterms:modified>
  <cp:revision>39</cp:revision>
  <dc:subject/>
  <dc:title>PRESENT  CONTINUOUS</dc:title>
</cp:coreProperties>
</file>