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B3DE-43A7-4592-9B5B-EB33A71C942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C01A-D6E3-4F81-B4DC-4EFF0EEA681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5B5-292B-4E03-A926-B0CBB2122E0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2953-F2D3-4F87-9FFE-EA82EFB7240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AE62-7FB4-47B8-8214-B73C26551F1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EA79-D429-49E5-9A45-9A88322AD9F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95C9-07B0-4621-A0B6-60BC356007C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9C6-244D-4E57-9E40-12E4E170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DB5-1D0A-4C73-85C2-6CBD2BF9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D28-98F2-42B8-83F1-6E5A6338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CC5-60C2-4876-8CF3-96A9C5F4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CD83-437D-483A-80E1-22FAF0FB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BD1D-7AF9-4B59-A4BA-73A60D5A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41E6-66BD-429D-A329-DF5FE324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8891-A838-4467-96BE-B0CDF371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97D5-F978-46DC-BEC2-352A49E8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861C-4182-4CAF-B4BB-04C82187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8064-E653-4DA5-BA0F-AB3F936C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858-AC8D-43AB-A2E4-E44509A9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6589-F512-40FE-B6E6-6BA4693E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7220-3CC7-45B3-91DE-6A6484B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08DC-B46F-4910-BA9F-BE880F35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A892-00E5-463C-94FD-C07178B3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7486-82C5-4265-890F-4CEA1341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4DCA-8F9A-4F1A-88F5-D02AC9F5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0104-1309-4B7E-9495-D36F9E6C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127FB-6FAA-4E85-AE76-3CCF36F0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76B4-AC5B-4F0F-9053-A6805EA6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7429-5D84-4763-931E-59C1466D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311-417E-494D-9D40-042F6D39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8D33-2704-45F3-BFF6-B2D27ACC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F229-18A6-4F90-9273-FA5AEA00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0F54-3AC1-41E8-9AEA-099A6DC7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EDE5-EBC7-4AE0-96DF-0431CF20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F76C-5934-4693-BCBA-EBAA8CBB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3093F-D652-47F9-9BC5-30D4F2F5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B15C-7CF0-40E2-9A9D-340D066D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54C0-E7C8-4D52-9879-75AFC34F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B087A-FB63-44D6-97BE-82FD900A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4D3D-FA47-4EB6-837F-D5E38945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235-E76A-47CF-BA0A-9152A4AC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A9CF7-A1F1-4283-8A12-434ED9E9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88B5D-8923-4100-9C2D-44A0470E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FBF1-AE54-4D2A-951E-829D446C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CE480-F7B2-4A0A-8E7B-563D9858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C3B7-B80C-4F87-A6A2-10EABFCC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80C5C-8E41-4281-9EBC-678C001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FC5F2-D88E-48AE-B1A2-D544C05D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73389-4D76-4525-A2D8-EF19A98D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C47D-0282-40E5-A535-EC1CE0D1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6EB6D-E49C-487B-AF8E-2904113C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C01-A400-4FE9-9822-A001686D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C39B-7E9C-44B9-A346-E416395C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4D21-4B6F-4CAF-A55C-EEC61B37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6E1BF-65F3-4230-A15E-F6E81AFF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9F482-9CAA-4D8E-A3BB-9CE1EED4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77F4-A700-4922-9F68-241BED15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12028-0D93-4C7D-B7CC-5FEAB9A9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D0375-942A-4A23-8FC5-0EC39C2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5DA0-2C1D-4CB5-85B2-5DA4B53E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B4322-8313-4EA7-B3FA-AD454B04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655CC-04B6-4663-9B9F-D9329BCE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265-2C12-468F-AD64-8F5672B6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5C37-D7AF-43B6-90AB-CC3F860B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2986D-573C-4AD7-85D4-8FAFB9E2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FF0D6-4D05-464A-83D8-605A7594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C3DBD-D47A-4D2A-BCD1-055E0DE4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C2D70-6875-45AF-9863-1F88E54E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83383-7B5D-4B11-860F-08D09D47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4095F-365A-4329-B18B-00F1E278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86154-3131-4543-A635-A472082D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8C4EC-423B-47A6-B760-33DC0038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600F3-32AF-4DB0-95F8-2124E4D0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B18-F2CF-4C92-8596-AFB1223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38910-22CD-4F77-9CA2-F75FEA22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97E24-BCAD-4AE1-977A-645CDCAC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79C0E-745A-43F5-8F0B-03EF122C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EFD-C82D-455D-94CC-CCA283AA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6F6-376A-4F70-83F8-FEEC075C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1258-4598-4F24-86D3-A8709FA52FB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5EA4-4791-45BA-ACF4-B65781406AD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D354-5B06-4712-880A-402BEC541C06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0823-16A5-40E9-BE5E-12F1DBB30B8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22EB-A146-406A-9E0E-4B82170AD58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83AA-BCD0-421D-93AB-6D14547403A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42480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many books </a:t>
            </a:r>
            <a:r>
              <a:rPr b="0" lang="cs-CZ" sz="4000" spc="-1" strike="noStrike">
                <a:solidFill>
                  <a:srgbClr val="ffc000"/>
                </a:solidFill>
                <a:latin typeface="Times New Roman"/>
              </a:rPr>
              <a:t>have you rea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o f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1640" y="2349000"/>
            <a:ext cx="403236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continu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long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you been read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boo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přítomn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perfec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 spojený s otázkou, jak dlouho něco probíhá (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long?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716280"/>
            <a:ext cx="8497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ět + have / has + been + sloveso (-ing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733560"/>
            <a:ext cx="849780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n´t / hasn´t + been + sloveso (-ing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ve / has + podmět + been + sloveso (-ing)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been study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nglish for five ye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swimm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an hou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been wait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hi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long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been read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boo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důrazňuje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ůsledek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děj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e spojení 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m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2920" y="227664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důrazňuje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průběh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děj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e spojení 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l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3:41Z</dcterms:modified>
  <cp:revision>17</cp:revision>
  <dc:subject/>
  <dc:title>PRESENT  CONTINUOUS</dc:title>
</cp:coreProperties>
</file>