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47C6-40EF-4260-9368-22C3BEA23B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CB76-19A2-4E09-9887-816B3627274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62A5-C2D6-40C6-95D3-58FFB04C31E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3D1D-8570-49C1-9A24-0976860B0DA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6190-C073-41C2-90EB-54EFBA0577C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16CF-A62B-4E64-8C7F-A5C3DC574D9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34C5-DD74-441C-9A32-72DBADC641B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E30-ED1F-434E-971F-E50DAB74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D0C-1FD1-431E-97A8-47A8E7E2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19B-5119-409D-8B8E-153D8E2E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746-E326-4A8A-A780-4627BDC0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4884-F654-4397-928D-14CD56E2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060B-6500-49B2-BB20-5B7BB4CA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2322-70DC-414C-ABD2-3A029880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4F29-30B7-4C1A-8FF2-4453DF28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1664-9C59-4365-9789-B32A485A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3312-DA00-488B-8E05-DE5117A1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92FD-4A25-4B04-B087-EF85E2C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C1A-0FF3-4F91-9CC7-CD77B1A7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5B70-0FC1-4F2A-9AC9-DEF1574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CADD-638D-4BE9-A679-05463A00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21A0-15DD-4671-86EB-C7A5B935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B571-2996-4A68-A2CE-C1DE8DE4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94CA-AF8B-407E-AF39-D1F4B462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65F3-479E-4D43-9CD7-79B8C8EC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D348-7711-4EBE-9339-6C6627D8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2368-FC09-4F5A-8C3A-2EFD9DC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A5AB-7CCD-488D-9398-21F3919D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E1A5-C05E-4482-A21D-7AD30635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483-FD82-4417-B610-A09785E0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B536-3BE2-492D-B6B3-9C6A908B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43EA-0D78-4BA0-9235-D0F88DAE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B7BD-3DD1-4723-A337-E7988EA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A355-B048-4609-9372-268FCE5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3AB3-E701-430B-BBCC-A8D7A1AF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6DE1-1C9A-4ECD-80EA-A8C31A1D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EB7A-E397-427C-A09F-646CEC2A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434D-4A9F-4045-8FD5-3B2C0E94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DEB4-6956-4C51-85E3-97AAF54F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5EB0-70D8-4053-AEB5-C7E63E31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FB4-B26C-4586-A336-9F695A2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5B14-21A3-4066-80A6-59107022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0951-FDDB-4706-B30E-0DEFA8A3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9E172-4E81-40F3-A767-77542ADE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F22E-A48F-4CFB-B0BD-6067227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AD8B-E75D-44FB-84BA-4BB77E07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BC4A-1D47-43E8-AE7D-05F1395C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6270-8CA2-425F-9533-4607D3B9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44D7-14FB-4563-B192-53629929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52DE1-5FBE-4DFD-BC72-9ACEE93B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82E3-95C9-412D-A59A-A94DB16F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CEB-E0CD-4A48-9E9C-2251C430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E77BA-5204-42DA-99ED-1DA5DB46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3C42-0A45-41F8-8D95-A939FFB7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6B61-5058-4A7F-9041-A20FE6E7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0D96-9475-4ED6-8D30-47E65333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DA2E-42E8-4BFA-931B-AA53B44C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E6A8B-BAFC-44BC-A3F9-A4150CD7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7AF71-2F33-46BA-87E5-2ADF4D8A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64AD-75E0-4D49-990A-35FC294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E767-56CE-4CFD-9440-D2091FCF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58372-8358-4C0A-B4FE-76586413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F5C-941D-497F-9D60-C3436404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EED03-6A8B-4AE1-B5B9-1B8130D5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8CE2A-C87B-49FB-A123-1903E269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2EA4B-1BB7-4E38-9DF7-6C12413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333D3-7FF2-4EC6-A7A5-41435604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4F025-E45E-4DFE-B81A-A4784128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FC3A-BF55-4DE0-8BD8-AE7FBD19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5E7DC-F3E3-4916-96E8-0BDB4630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2E84A-5EC3-41BB-9C06-BC809255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16A99-1237-47B5-B816-ACE48A25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B7ED4-82D7-4C49-8C84-F83BD05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3B9-66D0-40ED-A10F-F3CE1CE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2F48F-01F4-4157-B994-33BEA1DE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82998-574A-49D5-9898-6A2917E9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3A420-8ECE-4758-B0F1-9F99C505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75C-2F0A-49A7-AFC2-9707FDE4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FAB-ACC1-4578-8AD6-2AD4095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7E6E-4EA1-48F4-A3D3-742E0918722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A8F7-E87F-424F-A226-DD23A18AA4D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176-08E1-4EF3-AAA7-6C63F797F94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2E08-63EB-4EC0-ACA3-D9B5D7B4033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1409-E3A0-4F22-ACB3-B3557AD2AE2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C4A8-B7D3-4A35-93FE-EEAAA728741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minulý č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minulého času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minulý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perf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jiným děj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určitým časovým bod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se při vyprávění vracíme v č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497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d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497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dn´t + příčestí minulé (-ed / 3.tvar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d + podmět + příčestí minulé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1360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l před jiným dějem v minulost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efore she came, 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called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read the magazine 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bough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as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 train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already lef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we arrived at the 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4:30Z</dcterms:modified>
  <cp:revision>15</cp:revision>
  <dc:subject/>
  <dc:title>PRESENT  CONTINUOUS</dc:title>
</cp:coreProperties>
</file>