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088-EA4D-4941-9F4B-4315719D8A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972E-E4E2-48EA-909C-6368683BC8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CFE1-4B50-4187-BCB5-27548EE3D5A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5D4-444C-4F9C-AE2B-C8118E09641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270-D1B3-4296-8D5E-0D84645373E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C77-7F82-423B-AAE9-4E0F77AEA01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326-241D-40BB-94A5-EDAB7B815F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FEB-7EFC-4133-A687-EDEA4A50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51C-8F40-4749-8794-A8E4D07E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113-2F1E-423C-90C4-8DF2A517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E71-5717-43D0-85B6-DF3AC796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2CF9-D9FC-440C-A684-0CF0FA98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598-7591-4162-AF8E-4DF519F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6529-CF59-448E-9982-D9A47F6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00C-417F-4BA9-819B-86A49EE6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1FB6-1908-4B2F-9CAF-73C1A375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78B-25F5-42FB-8D84-54A31FDA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AFA-26A4-4FCC-90CF-C7A1418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826-6497-4549-B5F6-E114DCE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53FC-0304-4A28-AE4F-7941548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A6F9-67F1-4A00-BECF-EC714CA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BD18-DF7C-40B0-8545-28C680F3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E1F-DA57-48AB-AE5D-3F3E7102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50E-6756-4929-848C-B25227C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0780-4E2E-4608-8BE8-BB474E59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B724-A045-4900-B425-8BE52DF5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427F-4DBD-44D3-942F-EDDD9F1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0430-B73E-48A0-A175-DCB8CF7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CB74-CD11-430A-B93C-B1B56E9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694-2872-4794-BC50-60840B9E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490F-C12F-4C80-A51A-7460172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7E4E-ED46-470C-8A9F-9134CA5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8527-9F4E-4C6E-BAAE-8AC5763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E349-702A-4FC5-92E5-1991E69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5333-134A-437A-BC77-430CAB2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F2EC-2E56-4C7B-BB6E-43CD88F3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7859-1B39-4527-963F-022A04CF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98DB4-D3A9-4D09-810C-4A7CD1FF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D46A-3AD4-4C80-9C79-1425179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A648-8C86-4DFD-80FA-2F8A44CD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599-5A09-4DF2-BB9B-F149418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3939-BCC3-44E9-B024-CF4EBB12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F4CA-9124-4D4C-B44F-50394BF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AAE9-EEF7-42B4-B056-719667A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583A-D357-4383-AD61-556ACA3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B6221-DEE9-4EC6-8313-9C433E4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5C7C-29E8-403F-9455-E47AA3C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269C-E9C4-42E0-B4C0-42FEF6C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8E28-0B0F-426D-9FD9-BC5930D4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20E2-38A6-4277-AC30-BF90AFB1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307A-ABDF-4F50-9732-80A056DF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530-0FDB-48AD-A96C-6D0E459D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FC7A-2852-4530-ABDA-A42DC1E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A556-7E37-4A73-A857-DE6649E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0CC0-6E47-465F-9C1A-635FDC90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CF09-E187-48C9-ABF5-149F466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53E5-F22D-480B-BECC-3D5FD380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7842F-07A6-4B1A-B7DC-4FA1DA8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36F5-2F42-4889-A0A7-8B5C507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CEE9-8DCE-464C-A279-1BB79F4E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9E6D5-1F7D-4B66-AD24-4DDBDC7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414D-B096-407A-A571-39FAC9C7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805-39EB-44D3-8386-F53BD05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FF16-1ED7-4C1C-9E20-1C7390D1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F176-5583-4010-A644-7C5A9580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60A7-5BB9-4908-9F69-B88F7FEC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B8BD-A564-4190-8D45-6588ADD4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AACDD-2349-4FE5-AB5A-B3A2BC11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C2B8-CF14-45BF-B675-D1E2856B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8BBC-FCA9-4119-A5AC-80686CD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302A-A3D9-4181-9756-0AAF29F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0D1B-C3EC-47D1-9AA0-02AC0FF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00660-B1B9-4834-BFB7-6B551A2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37F-CA97-49FD-9B04-710B1614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5AB1-7C1A-47E8-94FB-94650EF5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64A52-A59A-47EA-8A33-A0435F19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C76C-C6B6-44F8-80B0-494739E4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B80-CD9D-4485-A5E1-377BBDA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211-63B0-4045-AC09-79D2132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341-59B9-4491-8484-0DA738771E7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B12-7A35-4F59-96AC-5C678E6E9E2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8F5-C691-46B5-A7A5-2CC1A062BDD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008-323D-4060-8891-77160F32D33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F091-BC61-470C-B819-7FB8F994767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D55B-374F-411E-B740-6F09CE96DBA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earn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ould pas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ied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g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re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2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2.podmínkoá věta, spojka 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 clause, if clause, ver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ínka neskutečná (nemůže nasta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= kdy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minulý čas ….podmiň.způso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lea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n´t wa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55Z</dcterms:modified>
  <cp:revision>42</cp:revision>
  <dc:subject/>
  <dc:title>PRESENT  CONTINUOUS</dc:title>
</cp:coreProperties>
</file>