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24F-118B-40BD-B571-2FBFCB2F7A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343-FCC5-45D4-A4A8-50286BF05A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5A0-F02A-44DD-A6C6-DEFAEE8844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FB05-EEB0-4661-8974-57899352C9B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94BD-023B-4D6D-8C63-2C1EF8FEBEC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3EA-037F-4569-B188-239559E3FED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0AA9-7F49-4C10-BCC3-66F00751B63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D44-70B9-4092-9700-59459EB2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544-C5F2-4788-BC3E-5229777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925-E632-43E5-81E6-DFD54122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A4B-EF61-4BA6-B281-16E743AD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2BE5-1BFC-4C2A-8B6E-64B13C35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D048-3B26-4B74-A453-076334C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3DC4-970D-4347-AE5E-553D6ACB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9FDF-17ED-44A9-8B63-9971FD3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F92-CE64-4745-A1E4-F3F23543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D7C9-BF92-4215-8C56-8A2F110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8EF-CA64-459B-BFFA-2FBF7E5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E70-61DD-4FE2-AD55-80A1B8BE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7D80-318E-473E-8166-4A06AC42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B5FC-0434-4A6A-B5A9-4C4D34E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736B-A9DD-41C8-B8B5-822E343A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45A8-DEB4-44D1-B445-8679C98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DB67-09ED-475B-A47D-3DF1F1B7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4F1A-BB20-49E8-AB30-BF055C86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C1AC-5EEA-4ED2-91DE-9915734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1EF0-865B-4ADD-A661-ED0C573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5D7B-9358-4F39-9B72-1E93F66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0295-1FC7-43F1-B893-08E550D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A5C-A914-4BED-918C-FE3CF356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926C-105B-4EC3-AD48-CD84235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69A6-FE69-44D5-BA3B-777C158A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2837-BC06-4C25-9092-A19ABB8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306B-43C2-4958-84BD-C05D44C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E9F1-6161-4AA8-AC2A-F97B7C8C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6073-0417-4402-8F7A-59662C7A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10D8-987A-4264-A8AC-4B336CB6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A60A-A6FE-45AD-92A8-9E20030D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427E-1B72-4229-BF43-0441DB1B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8C85-C49A-4338-AD10-34083DC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CAE-E25E-45D0-B397-C667A992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DD91-4BC7-4E50-86BD-22C4A96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440A-6B80-4F03-9DC3-67EB138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6726-3B3D-4FAD-91C6-AEBD56E9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232F-A87B-4FAA-8A68-5CFDE83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5841-C9FC-4DFB-A3AE-FA3E158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DB3D-D6C4-4C09-9D78-7DAFE3C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D603-8802-4C0C-9E37-153D008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0850-7D90-48F8-8F3C-F1BF12DA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EED22-669B-4F41-8397-A918B792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0356-5F39-448B-BC82-CCC47622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C4B-BD02-4CA8-93F6-7DAEE2D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A098-345A-4A02-BCBC-76F0F7B7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88D4-7BCE-42C8-B358-8B8E40D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1609-E136-486C-93B4-225D6853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465A-9504-4CB7-825A-5F2568F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4CE1-7B12-42C7-B84D-26CFBC7D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BAD7-BB4A-48AE-98D1-9E04A57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40DA-B3CB-4C51-BA6E-AE2F129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42CD-7BB9-406A-B6A5-77D780D8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95BB-8A39-4E04-A2EF-D3AFD0DD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FD786-73F0-49E3-A927-DC13DB67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FBE-4DA7-4476-B148-7B50FD2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D796-7B96-4664-AC71-15321CAB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2022-23FC-4ED1-831E-0647B1AD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62BD-625A-4E8F-86CE-6A55B286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BEFD-C700-41C7-B7FF-F9A1E93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C375-ED76-4B3B-859D-C8B130A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749B-9396-4EB7-8B2F-408B510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F147-C3D6-4271-B49F-965ED39E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7C3A6-D9DA-4EA1-8D32-3B57FAE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5503-A65E-443C-9546-C60F5E3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C3686-AB07-40D9-B996-A6D4172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671-D312-4F03-9BB6-E08B749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EC5B-E7A0-4AED-A095-B34E835D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A0D4-AB3A-4FA4-9D48-37C8FC7A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221E-B6D5-411A-BFBF-AD6B1CAE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314-1EA6-4AC4-900A-C9795D3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301-6063-49C6-9FCB-4EE1BD5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3B5-C1E4-4B41-B568-511E624C1B1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689-DDF8-4D45-B454-C906B1A549D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B74-49AF-444A-BE15-6968E473B71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E2D-F183-4D2F-B65A-78674185EBF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1B6-69E4-43FA-9CA1-0126AE06D53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C8C-9E3F-4B80-B890-0511A310A7B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u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furth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ke comparatives and superlativ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mportant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t 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oisy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all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291636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291636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2886120" y="4243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601200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4"/>
          <p:cNvSpPr/>
          <p:nvPr/>
        </p:nvSpPr>
        <p:spPr>
          <a:xfrm>
            <a:off x="6012000" y="3552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4"/>
          <p:cNvSpPr/>
          <p:nvPr/>
        </p:nvSpPr>
        <p:spPr>
          <a:xfrm>
            <a:off x="5979960" y="42703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Šipka doprava 6"/>
          <p:cNvSpPr/>
          <p:nvPr/>
        </p:nvSpPr>
        <p:spPr>
          <a:xfrm>
            <a:off x="286704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Šipka doprava 6"/>
          <p:cNvSpPr/>
          <p:nvPr/>
        </p:nvSpPr>
        <p:spPr>
          <a:xfrm>
            <a:off x="595152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stupňování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, přídavná jména, comparatives, superlative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             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                 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                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                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2050920" y="29480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2050920" y="3546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20509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4"/>
          <p:cNvSpPr/>
          <p:nvPr/>
        </p:nvSpPr>
        <p:spPr>
          <a:xfrm>
            <a:off x="493236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4"/>
          <p:cNvSpPr/>
          <p:nvPr/>
        </p:nvSpPr>
        <p:spPr>
          <a:xfrm>
            <a:off x="489744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897440" y="42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6"/>
          <p:cNvSpPr/>
          <p:nvPr/>
        </p:nvSpPr>
        <p:spPr>
          <a:xfrm>
            <a:off x="2050920" y="488160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897440" y="48974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br>
              <a:rPr sz="6000"/>
            </a:b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(pravopisné změny)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              larg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                 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r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2268360" y="2924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2268360" y="3548160"/>
            <a:ext cx="978120" cy="482400"/>
          </a:xfrm>
          <a:prstGeom prst="righ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2268360" y="426564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6"/>
          <p:cNvSpPr/>
          <p:nvPr/>
        </p:nvSpPr>
        <p:spPr>
          <a:xfrm>
            <a:off x="4908600" y="4203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4"/>
          <p:cNvSpPr/>
          <p:nvPr/>
        </p:nvSpPr>
        <p:spPr>
          <a:xfrm>
            <a:off x="4908600" y="2924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908600" y="3548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4"/>
          <p:cNvSpPr/>
          <p:nvPr/>
        </p:nvSpPr>
        <p:spPr>
          <a:xfrm>
            <a:off x="4908600" y="486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4"/>
          <p:cNvSpPr/>
          <p:nvPr/>
        </p:nvSpPr>
        <p:spPr>
          <a:xfrm>
            <a:off x="2268360" y="4892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Nepravidelné stupňován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36Z</dcterms:modified>
  <cp:revision>38</cp:revision>
  <dc:subject/>
  <dc:title>PRESENT  CONTINUOUS</dc:title>
</cp:coreProperties>
</file>