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43ED-D638-46B6-8BD8-BB5DC3F6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97C9-FED4-4423-8ABC-10D3451F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E240-9D44-49FE-9A11-4B25EB7AA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F75E-25E0-47FD-8806-448F44D08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10B3-AE41-453F-9CBF-BF884403E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87D5-A188-4F12-854F-75CA195B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B018-C093-4F35-A36A-424F47E6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C501-DF2A-4D01-9A2E-7B353BF1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83F3-00BD-405A-948F-050C5893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9115-E29D-435B-9DD2-63BFE91D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01A6-650A-4791-A734-4F80C224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7202-EF74-41F9-811E-5618030F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009D-9B18-4636-8F56-F9EB88C1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35B3-9474-4653-934E-8A2F85DB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8B89-CE4E-4EA5-BF18-096ACE2C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53B1-7D94-44AB-A754-74B012D42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2065-7DCB-47C4-8A75-8953DA85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70F5-2A36-4048-A64B-4EB5F1D8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AAD1-A9EA-4AE5-9F33-EF9B879E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2EAF-01FF-44A8-9557-4CC861BA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DADA-8818-4D9D-B819-DFBE628E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5D06-306C-4B46-8147-7C5E26C9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C555-AE10-4AEB-8521-FC0BC129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5B1C-09A2-4AE9-910B-9D212673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C5E8-E552-41A0-8C74-92892700D04B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E24A-06B3-487E-9AE5-2C6FE5175823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Výukový materiál zpracován v rámci projektu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EU peníze školá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Registrační číslo projektu: CZ.1.07/1.5.00/34.020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11280"/>
                <a:gridCol w="1441440"/>
                <a:gridCol w="1656000"/>
                <a:gridCol w="295272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Y_32_INOVACE_18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10.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333360"/>
            <a:ext cx="8147160" cy="65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Daňové odpisy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– řídí se zákonem o dani z příj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jadřují opotřebení majetku v průměrných podmínká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tyto odpisy ovlivňují daň z příjmu, metody výpočtu jsou závazně stanoveny stát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metody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a/ rovnoměrné odpisová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b/ zrychlené odpisová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 případě technického zhodnocení (přestavba, rekonstrukce, modernizace, …) dražšího než 40 000,- Kč ročně se zvyšuje hodnota dlouhodobého majetku a odpisy se provádí ze zvýšené cen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26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2890800"/>
            <a:ext cx="7772400" cy="301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99"/>
                </a:solidFill>
                <a:latin typeface="Arial"/>
              </a:rPr>
              <a:t>Co je to technické zhodnocení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Technické zhodnoce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daje na nástavby, přístavby, stavební úpravy, rekonstrukce a modernizace majetku, pokud převýšily u jednotlivého DHM nebo DNM v úhrnu za rok částku 40 000,- Kč. *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TZ zvyšuje PC majetku, při odepisování je nutné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Zvýšit PC (V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oužít sazby (koeficienty) pro zvýšenou V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Technické zhodnocení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a/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odernizace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– rozšíření vybavenosti nebo použitelnosti majetk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b/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rekonstrukce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– zásahy do majetku, které mají za následek změnu jeho účelu nebo technických parametrů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vyšuje PC majetku, projeví se v nákladech postupně pomocí vyšších odpisů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íklady na odpisy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 lednu 2008 si firma koupila auto, PC 200 000,- Kč. Odpisujte rovnoměrně, odpisová skupina 2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Firma koupila v únoru 2008 traktor, jehož PC je 1 600 000,- Kč. Odpisujte zrychleně, odpisová skupina 2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Řešení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Auto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79280" y="2492280"/>
          <a:ext cx="8964720" cy="3819600"/>
        </p:xfrm>
        <a:graphic>
          <a:graphicData uri="http://schemas.openxmlformats.org/drawingml/2006/table">
            <a:tbl>
              <a:tblPr/>
              <a:tblGrid>
                <a:gridCol w="1793880"/>
                <a:gridCol w="1792440"/>
                <a:gridCol w="1792080"/>
                <a:gridCol w="1893960"/>
                <a:gridCol w="1692360"/>
              </a:tblGrid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p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rávk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8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5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 5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3 5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5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1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5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5 5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5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5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356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476280"/>
            <a:ext cx="3809880" cy="561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Trak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79280" y="1484280"/>
          <a:ext cx="8785440" cy="4751280"/>
        </p:xfrm>
        <a:graphic>
          <a:graphicData uri="http://schemas.openxmlformats.org/drawingml/2006/table">
            <a:tbl>
              <a:tblPr/>
              <a:tblGrid>
                <a:gridCol w="1757520"/>
                <a:gridCol w="1755720"/>
                <a:gridCol w="1758960"/>
                <a:gridCol w="1755720"/>
                <a:gridCol w="1757520"/>
              </a:tblGrid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p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rávk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6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28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6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2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2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8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6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4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216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4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6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6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472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6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6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íklady na odpisy s technickým zhodnocením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Firma pořídila v roce 2008 budovu v PC 1 300 000,- Kč, v roce 2009 provedla technické zhodnocení za 900 000,- Kč. Odpisová skupina 6, vypočítejte odpisy v prvních 5 letech rovnoměrně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Firma koupila v lednu 2008 stroj, PC 700 000,- Kč. V roce 2010 byla provedena modernizace v hodnotě 100 000,- Kč. Odpisová skupina 2, odpisujte zrychleně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Řešení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Budova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2565360"/>
          <a:ext cx="9144000" cy="40147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p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rávk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3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26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26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286 74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2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 26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142 74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2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1 26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098 74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2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5 26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054 74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2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9 26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010 74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998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620280"/>
            <a:ext cx="3809880" cy="547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troj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9280" y="1413000"/>
          <a:ext cx="8748720" cy="4800600"/>
        </p:xfrm>
        <a:graphic>
          <a:graphicData uri="http://schemas.openxmlformats.org/drawingml/2006/table">
            <a:tbl>
              <a:tblPr/>
              <a:tblGrid>
                <a:gridCol w="1749600"/>
                <a:gridCol w="1749240"/>
                <a:gridCol w="1751040"/>
                <a:gridCol w="1749600"/>
                <a:gridCol w="17492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p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rávk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0 000,-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4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4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6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4 4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8 4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1 6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0 8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9 2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0 8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 2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6 4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 6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 6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ŠVARCOVÁ, J. </a:t>
            </a: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Ekonomie – stručný přehled,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ydání</a:t>
            </a: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ro rok</a:t>
            </a: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*)ŠTOHL, P. </a:t>
            </a: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Učebnice účetnictví pro střední školy a veřejnost II. Díl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nojmo 2009. ISBN 978-80-87237-13-7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898640" y="609480"/>
            <a:ext cx="53467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457200" y="1905120"/>
          <a:ext cx="8229600" cy="4906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středí podni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ázev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pisy dlouhodobého majet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 k zopakování a shrnutí učiva ekonomik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pisy, oprávky, zůstatková cena, technické zhodnoce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299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cbcbcb"/>
                </a:solidFill>
                <a:latin typeface="Times New Roman"/>
              </a:rPr>
              <a:t>Odpisy dlouhodobého majetku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5562000"/>
            <a:ext cx="640080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26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420640"/>
            <a:ext cx="769644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99"/>
                </a:solidFill>
                <a:latin typeface="Arial"/>
              </a:rPr>
              <a:t>Co to jsou odpisy a proč majetek odpisujeme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-275400"/>
            <a:ext cx="6870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louhodobý majetek se opotřebovává postupně, a proto se jeho hodnota postupně přenáší do nákladů firmy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Opotřebení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Fyzické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– opotřebení používání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Morální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– majetek technicky zaostává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826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99"/>
                </a:solidFill>
                <a:latin typeface="Arial"/>
              </a:rPr>
              <a:t>Definujte základní pojmy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1" lang="cs-CZ" sz="3600" spc="-1" strike="noStrike">
                <a:solidFill>
                  <a:srgbClr val="ff9999"/>
                </a:solidFill>
                <a:latin typeface="Arial"/>
              </a:rPr>
              <a:t>Odpis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99"/>
                </a:solidFill>
                <a:latin typeface="Arial"/>
              </a:rPr>
              <a:t>Oprávk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99"/>
                </a:solidFill>
                <a:latin typeface="Arial"/>
              </a:rPr>
              <a:t>Z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826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Odpisy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– peněžní vyjádření opotřebení majetku za určité obdob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Oprávky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– souhrn všech odpisů za dobu užívání majet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Zůstatková cena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= pořizovací cena – oprávk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9736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640" y="2707920"/>
            <a:ext cx="7696080" cy="181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99"/>
                </a:solidFill>
                <a:latin typeface="Arial"/>
              </a:rPr>
              <a:t>Jaké znáte druhy odpisů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Druhy odpis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Účetní odpisy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– jsou upraveny zákonem 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tyto odpisy vyjadřují skutečné opotřebení dlouhodobého majetku v konkrétních podmínká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etoda výpočtu odpisu závisí na firm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07:21:45Z</dcterms:created>
  <dc:creator>klapuchova</dc:creator>
  <dc:description/>
  <dc:language>en-US</dc:language>
  <cp:lastModifiedBy>Igor</cp:lastModifiedBy>
  <dcterms:modified xsi:type="dcterms:W3CDTF">2014-09-13T15:05:14Z</dcterms:modified>
  <cp:revision>23</cp:revision>
  <dc:subject/>
  <dc:title>Odpisy dlouhodobého majetku</dc:title>
</cp:coreProperties>
</file>