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6660-3AE5-4890-A299-D0DEC72B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945D-A314-4D1A-8D1D-C4D6188C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9AC4-3473-487A-B931-6EE98F08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39A0-C723-4388-A3C0-FBA2D5F6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026B-331A-4B32-9159-F678DF66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76D2-0549-4C99-95F5-7AF17B91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96A9-E314-4907-9E9A-3953E5E4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5051-C0FC-45B3-86E0-FF0B03EC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50AE-F4DC-4AB7-9BE3-444EA959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1C26-B0BA-42C2-BFF4-045084DC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9CC1-C2CA-4D88-8AAD-CFC2CA0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0A44-7241-47E8-8E72-C74CC6C7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F436-CE30-4DF4-BAFD-3466257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D6FB-E4F4-4CFA-977C-C7D229F4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31AB-E76F-4F81-8DCA-BDDE85AE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2933-BB0A-493B-AA00-CC9AE5F6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7FF7-895D-4326-B3F4-6A362FEE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EA28-8C6E-4B19-A15C-EAD836FE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63E7-5210-4B53-9904-BEA20DFB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D530-4D74-4DAE-B4D3-1906C194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3175-37E2-44A8-8AB3-8CAD089A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C939-5FF1-4258-9F19-D244F33F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A979-EA71-4D09-AC5F-0D02676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6B0D0-D247-4DB5-AD88-4AEC0DE2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2960-C6F0-4F29-83A4-EAFA1C577BEB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8152-DDA5-4826-A27A-A273E6EBA6CA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04920"/>
                <a:gridCol w="165744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39880" y="457200"/>
            <a:ext cx="566424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57200" y="1905120"/>
          <a:ext cx="8229600" cy="451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dotazníkem a hledají chyby v jeho sestav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ázky otevřené, uzavřen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Dotazník - ukázk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2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žení občané, ke dn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1.2009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o Vás otevíráme nové nákupní centrum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DD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eré bude zaměřené na oblečení pro všechny věkové kategorie. Proto by nás zajímalo, co Vám zde v nákupním centru chybí, co byste si zde přáli najít a další připomínk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Co byste si přáli najít v oddělení pro kojence a batolat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větší výběr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rozšíření sortimentu o obu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dětskou kosmetiku a jiné doplňky ( hračky, vaničky, chodítka, chrastítka apo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Jakého druhu zboží byste uvítali v dětském oddělení ví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oblečení zaměřené na určitou tématiku (sportovní, kulturní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 Co byste si přáli mít v dámském a pánském oddělení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olečenské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4. Dáváte přednost obuvi vysoké kva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5. V módních doplňcích chcete převážně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pasky, šper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kabelky, kožená galante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kravaty, manžetové knoflíčky (pánské doplňk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6. Přejete si mít v našem nákupním centru malou kavárn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7. Přejete si v našem nákupním centru mít dětský koute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8. Jaké oddělení byste zde ještě chtěli najít?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. Uvítali byste kvalitu služeb jakou je například asistentka nebo poradkyně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0. Jak byste naše nákupní centrum ohodnotili na stupnici 1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 zakroužkujte )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lepší –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horší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 – 2 – 3 – 4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1. Jak často nakupujete oblečení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aximálně 1 x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2 – 4 x  měsíč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5 x a více 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2. Js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u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ž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3. Váš vě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8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9 – 29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30 – 50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51 a více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3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4. Ve Vaší rodině se nacház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______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t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5. Váš měsíční příjem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1 000 – 24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25 000 – 4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41 000 Kč a ví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kujeme za vyplnění našeho dotazníku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hodnoťte, zda dotazník obsahuje všechny čá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 otázky jsou otevřené a které uzavřen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každé otázky určete druh (dichotonická, vícevýběrová, vstupní věta,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splněny všechny požadavky kladené na sestavení dotazníku? Najděte případné chyby a zkuste je odstra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7:30:40Z</dcterms:created>
  <dc:creator>Administrator</dc:creator>
  <dc:description/>
  <dc:language>en-US</dc:language>
  <cp:lastModifiedBy>Igor</cp:lastModifiedBy>
  <dcterms:modified xsi:type="dcterms:W3CDTF">2014-09-13T15:24:47Z</dcterms:modified>
  <cp:revision>13</cp:revision>
  <dc:subject/>
  <dc:title>Snímek 1</dc:title>
</cp:coreProperties>
</file>