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848FE-6A1E-4BCC-B9AE-77F89D04956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0E111-EC5E-400B-88CE-91D9C7EF29FF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9748-2642-48CE-9AB9-1B8A91369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8FE7-8090-45D1-ABF7-B6B82B06B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96F0-C278-4E7D-9AEA-F33C0B478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2F08-604C-4DE7-A74C-772D55665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5F0B3-2F2A-44C5-8C0E-A74DADD51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2B714-70D1-4C6B-B2C1-A31513E2D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531F7-3146-4B41-9461-2746FD68C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0B933-7125-486F-A337-CBDE3092E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C4592-E2A4-4D70-8047-81A27A64E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0E778-1C3B-4483-93DC-47DCD8EC3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99757-0815-40FB-810F-D75E3C8F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A824-CAEC-4ED7-9264-799C3F8D3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F6EBA-6EF4-4CE3-8742-D1DBED39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8A763-994F-4ED7-83B9-A6581971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3BE3C-E459-4DD4-98FC-D5DB8799F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9413E-8FD9-4A2B-A8AE-DD0FCE6BA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B7184-AB4B-4342-A2A1-5FCC9872E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A888-8573-4767-A025-7CBC513CD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27C9-480D-44A8-A0D1-CCBD19902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B84C-2EBD-4176-9C79-1FDD435D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4B92-C5B7-4AE0-B146-BF2FA3731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09A8-D8F7-4011-87DF-BF15601D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AFCD-8C11-4E22-8E55-021BF615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B941-E67E-490B-B0A3-EB5A4677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69F0A-1A3F-426D-A856-00782D1AC299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17311-66FB-47A2-B52E-317BA7CB8FDD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Výukový materiál zpracován v rámci projektu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EU peníze školá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Registrační číslo projektu: CZ.1.07/1.5.00/34.0208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39640" y="3573360"/>
          <a:ext cx="7488360" cy="736560"/>
        </p:xfrm>
        <a:graphic>
          <a:graphicData uri="http://schemas.openxmlformats.org/drawingml/2006/table">
            <a:tbl>
              <a:tblPr/>
              <a:tblGrid>
                <a:gridCol w="2071800"/>
                <a:gridCol w="1312920"/>
                <a:gridCol w="1655640"/>
                <a:gridCol w="244800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Y_INOVACE_19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. 10. 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11280" y="333000"/>
            <a:ext cx="6400800" cy="10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Umístění firmy a její imag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34544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Naši Zoo jsme umístili na okraji Českých Budějovic z důvodů potřeby velkých pozemků a přírody.</a:t>
            </a:r>
            <a:br>
              <a:rPr sz="1600"/>
            </a:b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Adresa:</a:t>
            </a:r>
            <a:br>
              <a:rPr sz="1600"/>
            </a:b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Stromovka 9</a:t>
            </a:r>
            <a:br>
              <a:rPr sz="1600"/>
            </a:b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927 05 České Budějovice</a:t>
            </a:r>
            <a:br>
              <a:rPr sz="1600"/>
            </a:b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Výběhy jsou speciálně přizpůsobené přirozenému prostředí jednotlivých druhů zvířat.</a:t>
            </a:r>
            <a:br>
              <a:rPr sz="1600"/>
            </a:b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Pro neomezené možnosti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 pozorování zvířat</a:t>
            </a: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 jsme postavili vysoké rozhledny.</a:t>
            </a:r>
            <a:br>
              <a:rPr sz="1600"/>
            </a:b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V areálu jsou rozmístěny automaty na horké nápoje a studené nápoje, obchody se suvenýry a občerstvením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26920" y="2491920"/>
            <a:ext cx="7490160" cy="2057400"/>
          </a:xfrm>
          <a:prstGeom prst="rect">
            <a:avLst/>
          </a:prstGeom>
          <a:solidFill>
            <a:srgbClr val="0066cc">
              <a:alpha val="50000"/>
            </a:srgbClr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ffffff"/>
                </a:solidFill>
                <a:latin typeface="Times New Roman"/>
              </a:rPr>
              <a:t>Marketingové</a:t>
            </a:r>
            <a:br>
              <a:rPr sz="6600"/>
            </a:br>
            <a:r>
              <a:rPr b="0" lang="cs-CZ" sz="6600" spc="-1" strike="noStrike">
                <a:solidFill>
                  <a:srgbClr val="ffffff"/>
                </a:solidFill>
                <a:latin typeface="Times New Roman"/>
              </a:rPr>
              <a:t>mezoprostředí</a:t>
            </a:r>
            <a:endParaRPr b="0" lang="en-US" sz="66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11280" y="188640"/>
            <a:ext cx="6400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Partneři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411280" y="1125360"/>
            <a:ext cx="64008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bcbcb"/>
                </a:solidFill>
                <a:latin typeface="Century Gothic"/>
              </a:rPr>
              <a:t>KB České Budějovice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• vedení běžného účtu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• poskytnutí bankovního úvěru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bcbcb"/>
                </a:solidFill>
                <a:latin typeface="Century Gothic"/>
              </a:rPr>
              <a:t>Pojišťovna Kooperativa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• pojištění majetku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• pojištění osob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• pojištění odpovědnosti za škody 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• cestovní pojištění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bcbcb"/>
                </a:solidFill>
                <a:latin typeface="Century Gothic"/>
              </a:rPr>
              <a:t>Krokodýlí ZOO Protivín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• dodavatelé fauny (krokodýlů)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bcbcb"/>
                </a:solidFill>
                <a:latin typeface="Century Gothic"/>
              </a:rPr>
              <a:t>Kidepo Valley National Park 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• dodavatelé fauny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bcbcb"/>
                </a:solidFill>
                <a:latin typeface="Century Gothic"/>
              </a:rPr>
              <a:t>Caprivi Game Park</a:t>
            </a: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• dodavatelé fauny (ptáci) a flóry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bcbcb"/>
                </a:solidFill>
                <a:latin typeface="Century Gothic"/>
              </a:rPr>
              <a:t>Cestovní kancelář Nomád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• zprostředkování pracovních cest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• partner při odměnách zaměstnanců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84360" y="333360"/>
            <a:ext cx="6400800" cy="125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Nejsilnější konkurenti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411280" y="1773000"/>
            <a:ext cx="6400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cbcbcb"/>
                </a:solidFill>
                <a:latin typeface="Century Gothic"/>
              </a:rPr>
              <a:t>DVŮR KRÁLOVÉ </a:t>
            </a: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je jedna z největších ZOO v České republice. Nebezpečnější je fakt, že nabízí zajímavou podívanou v podobě Afrického safari. Je to v podstatě jediná větší ZOO, která je z velké části zaměřená na Afriku a tudíž má z části podobné nabídky pro návštěvníky jako my.</a:t>
            </a:r>
            <a:br>
              <a:rPr sz="1600"/>
            </a:b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cbcbcb"/>
                </a:solidFill>
                <a:latin typeface="Arial"/>
              </a:rPr>
              <a:t>ZOO ZLÍN LEŠNÁ </a:t>
            </a: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se nachází na Moravě. Svůj areál rozdělili na kontinenty, takže návštěvníci si v této ZOO přijdou na své - i Afrika je zde dostatečně zastoupena. Výběhy jsou vymyšlené velice hezky a podobně jako u nás, žádné klece, ale přírodně oplocené části, oddělované říčkou a vodními příkopy.</a:t>
            </a:r>
            <a:br>
              <a:rPr sz="1600"/>
            </a:b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cbcbcb"/>
                </a:solidFill>
                <a:latin typeface="Century Gothic"/>
              </a:rPr>
              <a:t>ZOO PRAHA </a:t>
            </a: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Vysoce moderní zahrada ukazující zvířata v podmínkách, které se co nejvíce blíží jejich přirozenému prostředí. Nabízí také mnoho vzdělávacích programů pro školy i širokou veřejnost, v čemž je pro nás velkou konkurencí. V budoucnu tedy zaměříme větší pozornost právě do vzdělávacích programů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bcbcb"/>
                </a:solidFill>
                <a:latin typeface="Times New Roman"/>
              </a:rPr>
              <a:t>Veřejnost – sdělovací prostředky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410920" y="1557000"/>
            <a:ext cx="6427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entury Gothic"/>
              </a:rPr>
              <a:t>Největší vlivy v rámci sdělovacích prostředků: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cbcbcb"/>
                </a:solidFill>
                <a:latin typeface="Century Gothic"/>
              </a:rPr>
              <a:t>TV</a:t>
            </a:r>
            <a:r>
              <a:rPr b="0" lang="cs-CZ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Century Gothic"/>
              </a:rPr>
              <a:t>– pořady na stanicích Nova, Prima, Prima COOL, ČT1, ČT2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cbcbcb"/>
                </a:solidFill>
                <a:latin typeface="Century Gothic"/>
              </a:rPr>
              <a:t>Časopisy</a:t>
            </a:r>
            <a:r>
              <a:rPr b="1" lang="cs-CZ" sz="2400" spc="-1" strike="noStrike">
                <a:solidFill>
                  <a:srgbClr val="cbcbcb"/>
                </a:solidFill>
                <a:latin typeface="Century Gothic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Century Gothic"/>
              </a:rPr>
              <a:t>– zveřejňování reportáží z cest do Afriky od našich zoologů</a:t>
            </a:r>
            <a:br>
              <a:rPr sz="2400"/>
            </a:b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bcbcb"/>
                </a:solidFill>
                <a:latin typeface="Times New Roman"/>
              </a:rPr>
              <a:t>Zákazníci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Century Gothic"/>
              </a:rPr>
              <a:t>Šíří všeobecně známé informace o Zoo, na žádnou z námi poskytovaných služeb si v dotaznících nestěžují, preferují naši Zoo před jinými, šíří dobré jméno firmy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26560" y="2565000"/>
            <a:ext cx="7620120" cy="2057400"/>
          </a:xfrm>
          <a:prstGeom prst="rect">
            <a:avLst/>
          </a:prstGeom>
          <a:solidFill>
            <a:srgbClr val="0066cc">
              <a:alpha val="50000"/>
            </a:srgbClr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ffffff"/>
                </a:solidFill>
                <a:latin typeface="Times New Roman"/>
              </a:rPr>
              <a:t>Marketingové makroprostředí</a:t>
            </a:r>
            <a:endParaRPr b="0" lang="en-US" sz="66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Vybrané ekonomické ukazatele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4" name="Picture 645" descr=""/>
          <p:cNvPicPr/>
          <p:nvPr/>
        </p:nvPicPr>
        <p:blipFill>
          <a:blip r:embed="rId1"/>
          <a:stretch/>
        </p:blipFill>
        <p:spPr>
          <a:xfrm>
            <a:off x="1547640" y="2060640"/>
            <a:ext cx="6191280" cy="428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546" descr=""/>
          <p:cNvPicPr/>
          <p:nvPr/>
        </p:nvPicPr>
        <p:blipFill>
          <a:blip r:embed="rId1"/>
          <a:stretch/>
        </p:blipFill>
        <p:spPr>
          <a:xfrm>
            <a:off x="1547640" y="2492280"/>
            <a:ext cx="6115320" cy="27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bcbcb"/>
                </a:solidFill>
                <a:latin typeface="Times New Roman"/>
              </a:rPr>
              <a:t>Vybrané demografické vlivy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7" name="Picture 441" descr=""/>
          <p:cNvPicPr/>
          <p:nvPr/>
        </p:nvPicPr>
        <p:blipFill>
          <a:blip r:embed="rId1"/>
          <a:stretch/>
        </p:blipFill>
        <p:spPr>
          <a:xfrm>
            <a:off x="1403280" y="2276640"/>
            <a:ext cx="6485040" cy="318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897200" y="609480"/>
            <a:ext cx="534960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"/>
          <p:cNvGraphicFramePr/>
          <p:nvPr/>
        </p:nvGraphicFramePr>
        <p:xfrm>
          <a:off x="611280" y="1743120"/>
          <a:ext cx="7488000" cy="5075280"/>
        </p:xfrm>
        <a:graphic>
          <a:graphicData uri="http://schemas.openxmlformats.org/drawingml/2006/table">
            <a:tbl>
              <a:tblPr/>
              <a:tblGrid>
                <a:gridCol w="3746520"/>
                <a:gridCol w="3741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dnikání a podnikové činnost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ématická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středí podnik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ing a manage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ázev učebního materiál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ingové prostředí - ukáz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ýstižný popis způsobu využití, případně metodické pokyny: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kázka analýzy marketingového prostředí, dokazuje nutnost návaznosti učiva ekonomiky, účetnictví, statistiky, práva a marketingu a vede ke zopakování základních znalostí z těchto předmět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zvaha, výsledovka, partnerské firmy, konkurence, politické prostřed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320" descr=""/>
          <p:cNvPicPr/>
          <p:nvPr/>
        </p:nvPicPr>
        <p:blipFill>
          <a:blip r:embed="rId1"/>
          <a:stretch/>
        </p:blipFill>
        <p:spPr>
          <a:xfrm>
            <a:off x="2771640" y="1916280"/>
            <a:ext cx="3648240" cy="308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Přírodní podmínk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438280" y="1341000"/>
            <a:ext cx="6400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bcbcb"/>
                </a:solidFill>
                <a:latin typeface="Century Gothic"/>
              </a:rPr>
              <a:t>Ochrana životního prostředí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Naše Zoo se samozřejmě účastní spousty akcí, pomáhajících životnímu prostředí v našem okolí, ale také zahraničí. Jsme v několika Evropských organizací, pomáhajících proti vymírání ohrožených druhů zvířat, pro lepší péči o lesy, atd.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Názvy vybraných organizací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PETA</a:t>
            </a: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 (</a:t>
            </a:r>
            <a:r>
              <a:rPr b="1" i="1" lang="en-US" sz="1800" spc="-1" strike="noStrike">
                <a:solidFill>
                  <a:srgbClr val="ffffff"/>
                </a:solidFill>
                <a:latin typeface="Century Gothic"/>
              </a:rPr>
              <a:t>People for the Ethical Treatment of Animals</a:t>
            </a: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) organizace na ochranu zvířat</a:t>
            </a:r>
            <a:br>
              <a:rPr sz="1800"/>
            </a:b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WWF</a:t>
            </a: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 (</a:t>
            </a: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World Wide Fund for Nature</a:t>
            </a: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) – celosvětový fond pro přírodu</a:t>
            </a:r>
            <a:br>
              <a:rPr sz="1800"/>
            </a:b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UNESCO </a:t>
            </a:r>
            <a:br>
              <a:rPr sz="1800"/>
            </a:b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Europarc</a:t>
            </a: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 - Evropská federace pro národní parky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411280" y="260280"/>
            <a:ext cx="64008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Politické prostředí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411280" y="1196640"/>
            <a:ext cx="6400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bcbcb"/>
                </a:solidFill>
                <a:latin typeface="Century Gothic"/>
              </a:rPr>
              <a:t>Zákony</a:t>
            </a:r>
            <a:br>
              <a:rPr sz="1800"/>
            </a:b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563/1991 Sb. Zákon o účetnictví</a:t>
            </a:r>
            <a:br>
              <a:rPr sz="1800"/>
            </a:b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100/1988 Sb. Zákon o sociálním zabezpečení </a:t>
            </a:r>
            <a:br>
              <a:rPr sz="1800"/>
            </a:br>
            <a:br>
              <a:rPr sz="1800"/>
            </a:br>
            <a:r>
              <a:rPr b="1" lang="pl-PL" sz="1800" spc="-1" strike="noStrike">
                <a:solidFill>
                  <a:srgbClr val="ffffff"/>
                </a:solidFill>
                <a:latin typeface="Century Gothic"/>
              </a:rPr>
              <a:t>586/1992 Sb. Zákon o dani z příjmů</a:t>
            </a:r>
            <a:br>
              <a:rPr sz="1800"/>
            </a:b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411/2008 Sb. Vyhláška o stanovení druhů zvířat vyžadujících zvláštní péči</a:t>
            </a:r>
            <a:br>
              <a:rPr sz="1800"/>
            </a:b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215/2008 Sb. Vyhláška o opatřeních proti zavlékání a rozšiřování škodlivých organismů rostlin a rostlinných produktů </a:t>
            </a:r>
            <a:br>
              <a:rPr sz="1800"/>
            </a:b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296/2003 Sb. vyhláška o zdraví zvířat a jeho ochraně, o přemísťování a přepravě zvířat a o oprávnění a odborné způsobilosti k výkonu některých odborných veterinárních činností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Kulturní prostředí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411280" y="1700280"/>
            <a:ext cx="6400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Velmi dbáme na oblast </a:t>
            </a: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vzdělávání</a:t>
            </a: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. Kromě obvyklého pohledu na svět zvířat se zákazníci díky přednáškám mohou rozvíjet své znalosti v oblasti živočišné a rostlinné říši. Pro studenty veterinárních středních (popř. vysokých) škol a také pro studenty botaniky, nabízíme speciální programy pro celé třídy, ale i pro jedince, je možná domluva s profesorem a v rámci možností zařídit přednášky s právě probíraných učivem ve škole.</a:t>
            </a:r>
            <a:br>
              <a:rPr sz="1600"/>
            </a:b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Navštívit Zoo může kdokoliv, má-li zájem o faunu a flóru afrického kontinentu, je to vhodné trávení </a:t>
            </a: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volného času</a:t>
            </a: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, výborné pro děti, je třeba v nich pěstovat dobrý </a:t>
            </a: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vztah k přírodě.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9988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692280"/>
            <a:ext cx="7772400" cy="540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Úkoly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Jaké další informace byste zařadili do analýzy marketingového prostředí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Jaké ukazatele finanční analýzy znáte? Z uvedené rozvahy a výsledovky zkuste vybrané ukazatele vypočíta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Které další ekonomické a demografické vlivy působí na tuto firmu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9988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439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Zdroj tabulek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http://vdb.czso.cz/vdbvo/tabparam.jsp?voa=tabulka&amp;cislotab=DEM0040PU_KR&amp;vo=tabulka&amp;kapitola_id=1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http://vdb.czso.cz/vdbvo/tabparam.jsp?voa=tabulka&amp;cislotab=DEM0030PU_KR&amp;vo=tabulka&amp;kapitola_id=1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http://www.czso.cz/csu/dyngrafy.nsf/graf/inflace_1994_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http://www.czso.cz/csu/redakce.nsf/i/prace_a_mzdy_pra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6920" y="2565000"/>
            <a:ext cx="7490160" cy="2057400"/>
          </a:xfrm>
          <a:prstGeom prst="rect">
            <a:avLst/>
          </a:prstGeom>
          <a:solidFill>
            <a:srgbClr val="0066cc">
              <a:alpha val="50000"/>
            </a:srgbClr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ffffff"/>
                </a:solidFill>
                <a:latin typeface="Times New Roman"/>
              </a:rPr>
              <a:t>Marketingové prostředí</a:t>
            </a:r>
            <a:endParaRPr b="0" lang="en-US" sz="66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640" y="2491920"/>
            <a:ext cx="7129440" cy="2016360"/>
          </a:xfrm>
          <a:prstGeom prst="rect">
            <a:avLst/>
          </a:prstGeom>
          <a:solidFill>
            <a:srgbClr val="0066cc">
              <a:alpha val="50000"/>
            </a:srgbClr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ffffff"/>
                </a:solidFill>
                <a:latin typeface="Times New Roman"/>
              </a:rPr>
              <a:t>Marketingové mikroprostředí</a:t>
            </a:r>
            <a:endParaRPr b="0" lang="en-US" sz="66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84360" y="188640"/>
            <a:ext cx="6400800" cy="111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Návrh organizační struktur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105" name="Organization Chart 11"/>
          <p:cNvGrpSpPr/>
          <p:nvPr/>
        </p:nvGrpSpPr>
        <p:grpSpPr>
          <a:xfrm>
            <a:off x="685800" y="1981080"/>
            <a:ext cx="7771680" cy="4114440"/>
            <a:chOff x="685800" y="1981080"/>
            <a:chExt cx="7771680" cy="4114440"/>
          </a:xfrm>
        </p:grpSpPr>
        <p:cxnSp>
          <p:nvCxnSpPr>
            <p:cNvPr id="106" name="_s1028"/>
            <p:cNvCxnSpPr>
              <a:stCxn id="107" idx="1"/>
              <a:endCxn id="108" idx="2"/>
            </p:cNvCxnSpPr>
            <p:nvPr/>
          </p:nvCxnSpPr>
          <p:spPr>
            <a:xfrm rot="10800000">
              <a:off x="1913760" y="4332600"/>
              <a:ext cx="199080" cy="14702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029"/>
            <p:cNvCxnSpPr>
              <a:stCxn id="110" idx="0"/>
              <a:endCxn id="111" idx="2"/>
            </p:cNvCxnSpPr>
            <p:nvPr/>
          </p:nvCxnSpPr>
          <p:spPr>
            <a:xfrm flipV="1">
              <a:off x="4571280" y="3450600"/>
              <a:ext cx="3600" cy="294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2" name="_s1030"/>
            <p:cNvCxnSpPr>
              <a:stCxn id="113" idx="1"/>
              <a:endCxn id="108" idx="2"/>
            </p:cNvCxnSpPr>
            <p:nvPr/>
          </p:nvCxnSpPr>
          <p:spPr>
            <a:xfrm rot="10800000">
              <a:off x="1913760" y="4332600"/>
              <a:ext cx="199080" cy="588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4" name="_s1031"/>
            <p:cNvCxnSpPr>
              <a:stCxn id="115" idx="0"/>
              <a:endCxn id="111" idx="2"/>
            </p:cNvCxnSpPr>
            <p:nvPr/>
          </p:nvCxnSpPr>
          <p:spPr>
            <a:xfrm flipV="1" rot="16200000">
              <a:off x="5752440" y="2268720"/>
              <a:ext cx="294480" cy="2657880"/>
            </a:xfrm>
            <a:prstGeom prst="bentConnector3">
              <a:avLst>
                <a:gd name="adj1" fmla="val 3561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6" name="_s1032"/>
            <p:cNvCxnSpPr>
              <a:stCxn id="108" idx="0"/>
              <a:endCxn id="111" idx="2"/>
            </p:cNvCxnSpPr>
            <p:nvPr/>
          </p:nvCxnSpPr>
          <p:spPr>
            <a:xfrm flipH="1" flipV="1" rot="5400000">
              <a:off x="3095280" y="2269080"/>
              <a:ext cx="294480" cy="2657160"/>
            </a:xfrm>
            <a:prstGeom prst="bentConnector3">
              <a:avLst>
                <a:gd name="adj1" fmla="val 3561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7" name="_s1033"/>
            <p:cNvCxnSpPr>
              <a:stCxn id="118" idx="0"/>
              <a:endCxn id="119" idx="2"/>
            </p:cNvCxnSpPr>
            <p:nvPr/>
          </p:nvCxnSpPr>
          <p:spPr>
            <a:xfrm flipV="1" rot="16200000">
              <a:off x="5752440" y="1386720"/>
              <a:ext cx="294480" cy="2657880"/>
            </a:xfrm>
            <a:prstGeom prst="bentConnector3">
              <a:avLst>
                <a:gd name="adj1" fmla="val 3561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0" name="_s1034"/>
            <p:cNvCxnSpPr>
              <a:stCxn id="111" idx="0"/>
              <a:endCxn id="119" idx="2"/>
            </p:cNvCxnSpPr>
            <p:nvPr/>
          </p:nvCxnSpPr>
          <p:spPr>
            <a:xfrm flipV="1">
              <a:off x="4571280" y="2568600"/>
              <a:ext cx="3600" cy="294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1" name="_s1035"/>
            <p:cNvCxnSpPr>
              <a:stCxn id="122" idx="0"/>
              <a:endCxn id="119" idx="2"/>
            </p:cNvCxnSpPr>
            <p:nvPr/>
          </p:nvCxnSpPr>
          <p:spPr>
            <a:xfrm flipH="1" flipV="1" rot="5400000">
              <a:off x="3095280" y="1387080"/>
              <a:ext cx="294480" cy="2657160"/>
            </a:xfrm>
            <a:prstGeom prst="bentConnector3">
              <a:avLst>
                <a:gd name="adj1" fmla="val 35618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9" name="_s1036"/>
            <p:cNvSpPr/>
            <p:nvPr/>
          </p:nvSpPr>
          <p:spPr>
            <a:xfrm>
              <a:off x="3342240" y="1981080"/>
              <a:ext cx="2457720" cy="58788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Ředitel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_s1037"/>
            <p:cNvSpPr/>
            <p:nvPr/>
          </p:nvSpPr>
          <p:spPr>
            <a:xfrm>
              <a:off x="685800" y="2863080"/>
              <a:ext cx="2457720" cy="58788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Ekonomické oddělení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_s1038"/>
            <p:cNvSpPr/>
            <p:nvPr/>
          </p:nvSpPr>
          <p:spPr>
            <a:xfrm>
              <a:off x="3342240" y="2863080"/>
              <a:ext cx="2457720" cy="58788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Personální oddělení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_s1039"/>
            <p:cNvSpPr/>
            <p:nvPr/>
          </p:nvSpPr>
          <p:spPr>
            <a:xfrm>
              <a:off x="5999760" y="2863080"/>
              <a:ext cx="2457720" cy="58788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Ekologické oddělení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040"/>
            <p:cNvSpPr/>
            <p:nvPr/>
          </p:nvSpPr>
          <p:spPr>
            <a:xfrm>
              <a:off x="685800" y="3745080"/>
              <a:ext cx="2457720" cy="58788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Zoologové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_s1041"/>
            <p:cNvSpPr/>
            <p:nvPr/>
          </p:nvSpPr>
          <p:spPr>
            <a:xfrm>
              <a:off x="5999760" y="3745080"/>
              <a:ext cx="2457720" cy="58788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Údržba, úklid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_s1042"/>
            <p:cNvSpPr/>
            <p:nvPr/>
          </p:nvSpPr>
          <p:spPr>
            <a:xfrm>
              <a:off x="2113200" y="4627080"/>
              <a:ext cx="2457720" cy="58788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Ošetřovatelé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043"/>
            <p:cNvSpPr/>
            <p:nvPr/>
          </p:nvSpPr>
          <p:spPr>
            <a:xfrm>
              <a:off x="3342240" y="3745080"/>
              <a:ext cx="2457720" cy="58608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Veterináři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044"/>
            <p:cNvSpPr/>
            <p:nvPr/>
          </p:nvSpPr>
          <p:spPr>
            <a:xfrm>
              <a:off x="2113200" y="5509440"/>
              <a:ext cx="2457720" cy="58608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Přednášející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56000" y="260280"/>
            <a:ext cx="64008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Motivace zaměstnanců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411280" y="1052280"/>
            <a:ext cx="6400800" cy="53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entury Gothic"/>
              </a:rPr>
              <a:t>Všichni naši zaměstnanci mají vstupné do našeho areálu i mimo pracovní dobu zdarma. Pro jejich blízké příbuzné poskytujeme karty s 50% slevou.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entury Gothic"/>
              </a:rPr>
              <a:t>Údržba (elektrikáři, IT technici,…) mají k dispozici služební auta s logem Zoo. Mohou jej využívat i v osobním čase, avšak pohonné hmoty a škody způsobené vlastní vinou si hradí sami.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entury Gothic"/>
              </a:rPr>
              <a:t>Zoologové i veterináři mají možnost účastnit se dvakrát za rok konkurzů a vycestovat na speciální zoologické kurzy do afrických rezervací. Při této příležitosti se vzdělají v oblasti tamějších metod ošetřování, léčení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zvířat</a:t>
            </a:r>
            <a:r>
              <a:rPr b="1" lang="cs-CZ" sz="2000" spc="-1" strike="noStrike">
                <a:solidFill>
                  <a:srgbClr val="ffffff"/>
                </a:solidFill>
                <a:latin typeface="Century Gothic"/>
              </a:rPr>
              <a:t> a vedení těchto zařízeních.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entury Gothic"/>
              </a:rPr>
              <a:t>Všichni zoologové i veterináři se během roku účastní vzdělávacích kurzů, jak z oblasti fauny, tak flóry, podle zaměření práce a podle zájmů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Technologické vliv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Century Gothic"/>
              </a:rPr>
              <a:t>Vybavení:</a:t>
            </a:r>
            <a:br>
              <a:rPr sz="2400"/>
            </a:b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entury Gothic"/>
              </a:rPr>
              <a:t>Klimatizační systémy v pavilóne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entury Gothic"/>
              </a:rPr>
              <a:t>Vestavěné vodotrysky ve všech externích i interních (mořský pavilon) vodních plochá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entury Gothic"/>
              </a:rPr>
              <a:t>Filtry na okysličení vody (5x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entury Gothic"/>
              </a:rPr>
              <a:t>3x automat na horké nápoje, 2x automat na studené nápoje, 2x automat s občerstvení pro návštěvník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entury Gothic"/>
              </a:rPr>
              <a:t>Automaty na vodu pro zaměstnance (4x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entury Gothic"/>
              </a:rPr>
              <a:t>Informační počítače s dotykovou obrazovkou v pavilonech (5x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11280" y="404280"/>
            <a:ext cx="6400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Rozvah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411280" y="1773360"/>
          <a:ext cx="6400800" cy="3670200"/>
        </p:xfrm>
        <a:graphic>
          <a:graphicData uri="http://schemas.openxmlformats.org/drawingml/2006/table">
            <a:tbl>
              <a:tblPr/>
              <a:tblGrid>
                <a:gridCol w="1989360"/>
                <a:gridCol w="1211040"/>
                <a:gridCol w="2028960"/>
                <a:gridCol w="117144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cbcbcb"/>
                          </a:solidFill>
                          <a:latin typeface="Century Gothic"/>
                        </a:rPr>
                        <a:t>AKTIV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cbcbcb"/>
                          </a:solidFill>
                          <a:latin typeface="Century Gothic"/>
                        </a:rPr>
                        <a:t>PASIV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8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zemk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Budov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Movitý majete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ftw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Zvířat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oklad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Běžný úče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Stravenk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ohledávky odb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ohledávky zam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0 5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 300 4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 120 5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3 65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8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256 6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7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6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2 3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Základní kapitá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Rezervní fon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Zis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louhodobý úvě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Závazky dodav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Závazky k F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lužné mzd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4 068 0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0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7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 7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 50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6 2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4 1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9 2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cbcbcb"/>
                          </a:solidFill>
                          <a:latin typeface="Century Gothic"/>
                        </a:rPr>
                        <a:t>CELKEM                       7 373 3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cbcbcb"/>
                          </a:solidFill>
                          <a:latin typeface="Century Gothic"/>
                        </a:rPr>
                        <a:t>CELKEM                       7 373 3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84360" y="18900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Účet zisků a ztrá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484360" y="1268280"/>
          <a:ext cx="6400800" cy="4888080"/>
        </p:xfrm>
        <a:graphic>
          <a:graphicData uri="http://schemas.openxmlformats.org/drawingml/2006/table">
            <a:tbl>
              <a:tblPr/>
              <a:tblGrid>
                <a:gridCol w="1917720"/>
                <a:gridCol w="1282680"/>
                <a:gridCol w="1886040"/>
                <a:gridCol w="1314360"/>
              </a:tblGrid>
              <a:tr h="3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cbcbcb"/>
                          </a:solidFill>
                          <a:latin typeface="Century Gothic"/>
                        </a:rPr>
                        <a:t>MÁ DÁT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cbcbcb"/>
                          </a:solidFill>
                          <a:latin typeface="Century Gothic"/>
                        </a:rPr>
                        <a:t>D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0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2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3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46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94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9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5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4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5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87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3 5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2 6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0 9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 6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4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8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 39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6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239 6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39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4 9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87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5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2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cbcbcb"/>
                          </a:solidFill>
                          <a:latin typeface="Century Gothic"/>
                        </a:rPr>
                        <a:t>OBRA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cbcbcb"/>
                          </a:solidFill>
                          <a:latin typeface="Century Gothic"/>
                        </a:rPr>
                        <a:t>1 163 6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cbcbcb"/>
                          </a:solidFill>
                          <a:latin typeface="Century Gothic"/>
                        </a:rPr>
                        <a:t>OBRA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cbcbcb"/>
                          </a:solidFill>
                          <a:latin typeface="Century Gothic"/>
                        </a:rPr>
                        <a:t>2 133 5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9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cbcbcb"/>
                          </a:solidFill>
                          <a:latin typeface="Century Gothic"/>
                        </a:rPr>
                        <a:t>DZ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4 1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cbcbcb"/>
                          </a:solidFill>
                          <a:latin typeface="Century Gothic"/>
                        </a:rPr>
                        <a:t>7</a:t>
                      </a:r>
                      <a:r>
                        <a:rPr b="0" lang="cs-CZ" sz="1600" spc="-1" strike="noStrike">
                          <a:solidFill>
                            <a:srgbClr val="cbcbcb"/>
                          </a:solidFill>
                          <a:latin typeface="Arial"/>
                        </a:rPr>
                        <a:t>85 7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12:03:50Z</dcterms:created>
  <dc:creator>morcinkova</dc:creator>
  <dc:description/>
  <dc:language>en-US</dc:language>
  <cp:lastModifiedBy>Igor</cp:lastModifiedBy>
  <dcterms:modified xsi:type="dcterms:W3CDTF">2014-09-13T15:02:51Z</dcterms:modified>
  <cp:revision>41</cp:revision>
  <dc:subject/>
  <dc:title>MARKETING A MANAGEMENT</dc:title>
</cp:coreProperties>
</file>