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FF3DE-1EA3-4663-87DF-2E59245D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30EAD-EA0E-442F-B938-5749B6DA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107AD-54C5-4C05-88C5-9A2B3081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1D09B-7FAE-45A0-9213-55EF7F32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686B-2C0F-42F3-B77D-0A7B3709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F6DA-6B07-4B80-B8C6-0845107A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C362-9870-428D-B7D8-707CA11E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EBB1-AA82-4891-854D-4091C92C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0F46-D792-4BCE-A7FB-781563EA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B470-42C0-43AA-ACC9-C627093C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C829-25FB-4789-994D-41C6996B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DEC42-AEF5-4F1C-BD1A-9CD5C9BA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A253-2446-4DAD-AD78-BB69ADA5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AFAC-E4E6-4FBF-8780-A78F8C20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1668-5636-4A8C-A08C-40080814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B070-E64A-4D6E-84BA-6AABC9B3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037C-D30F-4D0B-B27C-6EA0F1FD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DD9B2-843F-4FA9-802F-4BC270CB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12D55-FD24-499A-BA93-DFF0B0BD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A0342-B7D5-4140-B6F5-DD53B78B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B07FB-2359-4AA5-96EA-A55E257F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8D464-FD74-4319-9FBE-3B3AEE3F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06674-6814-4652-858B-151017C2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2A39D-6512-4DCA-B187-28D83A55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98D0-A9A6-4B0E-A149-101BA982209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F834-7D46-45C1-B685-28395EAB4B2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727280"/>
                <a:gridCol w="1512720"/>
                <a:gridCol w="273708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1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4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Dotazov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V jakých případech byste dotazování použil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ými způsoby můžete kontaktovat dotazované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é jsou výhody a nevýhod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Dotazování se uskutečňuje prostřednictvím dotazní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Respondenty můžeme kontaktovat 3 způsob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ffff"/>
                </a:solidFill>
                <a:latin typeface="Garamond"/>
              </a:rPr>
              <a:t>Písemně</a:t>
            </a: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 – poštou nebo vhazováním do schránek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+ nízké náklad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malá návratnost – je nutné ji zvyšovat např. soutěžemi, dárky, urgenčními dopisy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ffff"/>
                </a:solidFill>
                <a:latin typeface="Garamond"/>
              </a:rPr>
              <a:t>Telefonicky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+ vyšší návratno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vyšší náklady, nutnost klást jednoduché otáz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ffff"/>
                </a:solidFill>
                <a:latin typeface="Garamond"/>
              </a:rPr>
              <a:t>Osobně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+ velká návratnost dotazní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vysoké náklady, nutnost vyškolit tazate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Garamond"/>
              </a:rPr>
              <a:t>Druhy dotazování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strukturované – dotazník je pro všechny respondenty stejný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polostrukturované – v dotazníku se připouští odchylky podle reakcí respondentů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nestrukturované – je stanoven pouze cíl dotazování a tazatel se může ptát každého respondenta jinak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Dotazník – nástroj marketingového výzkumu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Části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slovení, vysvětlení výzkum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ázky k témat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Klasifikační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oděková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42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Uzavře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ichotonick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ícevýběrov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yjadřující stupeň souhlasu nebo nesouhla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yjadřující stupeň důležito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ycházející ze slovního rozliše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Bodové hodno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evře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Úplně otevře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Slovní asoci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stupní vě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evřený příbě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bráz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olně komentovaný obráz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Ke každému typu otázky vytvořte příkl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e5e5ff"/>
                </a:solidFill>
                <a:uFillTx/>
                <a:latin typeface="Garamond"/>
              </a:rPr>
              <a:t>Pravidla při sestavování dotazníku: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Uvádět všechny možnosti odpověd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ázky musí být jednoduch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používat cizí slo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klást otázky do daleké budoucno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pokládat vícenásob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klást otázky na prestižní a intimní tém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používat slova denně, pravidelně, nyní,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rovést pilotáž dotazník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57200" y="1905120"/>
          <a:ext cx="8229600" cy="4816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udenti poznávají důležitost informací a způsoby jejich získávání, diskutují o svých zkušenostech s marketingovými výzkumy, kterých se zúčastnil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IS, marketingový výzkum, dotaz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22050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e5e5ff"/>
                </a:solidFill>
                <a:latin typeface="Garamond"/>
              </a:rPr>
              <a:t>Marketingový výzkum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5153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Proč jsou v podnikání důležité inform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Jaké požadavky na informace kladem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Z jakých zdrojů informace můžeme získa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Marketingový informační systé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362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MIS</a:t>
            </a: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 – zahrnuje pracovníky, zařízení a informační technologie pro sběr, třídění, analýzy, vyhodnocování a distribuci informací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ffffff"/>
                </a:solidFill>
                <a:uFillTx/>
                <a:latin typeface="Garamond"/>
              </a:rPr>
              <a:t>Požadavky na informace:</a:t>
            </a: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 potřebné, včasné, přesné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ffffff"/>
                </a:solidFill>
                <a:uFillTx/>
                <a:latin typeface="Garamond"/>
              </a:rPr>
              <a:t>Zdroje informací MI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interní podnikové zdroje – informace z účetnictví, podnikových statistik, databází,… Poskytují informace o nákladech, výnosech, výsledku hospodaření,…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marketingová inteligence – poskytuje informace o marketingovém prostředí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vlastní zaměstnanci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prodejní článk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konkuren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specializované agentur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marketingový výzkum – poskytuje informace o trhu, konkurenci, prostředí a hlavně o zákaznících, o jejich potřebách a reakcích na marketingový mix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Marketingový výzkumný proces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Garamond"/>
              </a:rPr>
              <a:t>Etap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říprava výzkumu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Definování problému a orientační analýza situace včetně stanovení hypotéz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lán výzkumu – obsahuje druh a zdroje informací, výběr vzorku (náhodný, výběrový, typický), stanovení metody výzkumu, způsob analýzy, rozpočet, časový harmonogr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Realizace výzkumu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Sběr informac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Zpracování a analýza informací (úprava, klasifikování, kódování, technické zpracování informací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Interpretace výsledků, závěry (potvrzení nebo vyvrácení hypotézy), doporuč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Metody marketingového výzkumu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229600" cy="27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Základní metod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Pozorov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V jakých případech byste pozorování použil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é jsou výhody a nevýhody pozorování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ři pozorování se zaznamenává, jak se spotřebitelé chovají při nákupu, a to buď osobně, nebo prostřednictvím kamer. Používá se, pokud nám zákazník nechce nebo nemůže poskytnout požadované informace. Musí být nenápadné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ruhy pozorování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Standardizované – pozorovatel má přesně určeno co, jak, kdy, kde má pozorovat a jak má zaznamenat výsledk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Nestandardizované – pozorovatel má stanoven pouze cíl pozorování a všechno ostatní si určuje sá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+ nezávislost na ochotě zákazníků spolupracov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- velmi vysoké nároky na pozorovatele, časově náročn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4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Experi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Informace jsou čerpány ze skutečností, které jsou z důvodů výzkumu schválně přichystá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ruhy experimentů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Laboratorní – test párového srovnává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 terénu – v prodejnách změníme např. umístění výrobků a sledujeme reakci zákazník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0:11:23Z</dcterms:created>
  <dc:creator>kabek</dc:creator>
  <dc:description/>
  <dc:language>en-US</dc:language>
  <cp:lastModifiedBy>Igor</cp:lastModifiedBy>
  <dcterms:modified xsi:type="dcterms:W3CDTF">2014-09-13T15:04:41Z</dcterms:modified>
  <cp:revision>19</cp:revision>
  <dc:subject/>
  <dc:title>Marketingový výzkum a segmentace trhu</dc:title>
</cp:coreProperties>
</file>