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183-BE2F-45E6-AF78-6AB276B2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FFE-0691-431B-9AED-750BA3B6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807-2EA2-4F55-AA28-AAF2A872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14A-10F0-4BEF-93E5-104F8B35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1CC-D026-4026-9F53-22CC179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825-8629-4626-82AE-2A1C2413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8FC-B7A4-43C5-A3B7-3B75FFB4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2B5-3B84-4326-B35B-29E68017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575-4147-4847-AA8B-E6372195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114-4A93-4C78-863A-3A8CC62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97C-44F1-4F9A-9505-0410A6F7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0D5-E3DE-4D55-B573-FE6EB7AF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8FEA-2821-47F4-9385-842EC490D4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78000"/>
                <a:gridCol w="1584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9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lenění oběžného majet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oby – věcná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materiál a sur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ný materi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onné hmo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é nářa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elářské potře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ící prostřed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končená výroba – nedokončené výrobky v takovém stupni zpracování, že nejsou prod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tovary – rozpracované výrobky, které by se už daly prodá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tové výrobky – určeny k prod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oží – vše, co je zakoupeno za účelem dalšího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ířata – zásoby pro zemědělskou výr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něžní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tkodobý finanční maj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v poklad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na běžném ú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odobé cenné papí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ledáv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rob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užívá se déle než 1 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á pořizovací cenu menší než 40 000,-, popř. 60 000,-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robn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Ne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66ff"/>
                </a:solidFill>
                <a:latin typeface="Arial"/>
              </a:rPr>
              <a:t>Uveďte příklady drobného hmotného a nehmotného majet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 krytí maje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66ff"/>
                </a:solidFill>
                <a:latin typeface="Arial"/>
              </a:rPr>
              <a:t>Jaké znáte zdroje krytí majet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ndy tvořené ze zi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ff"/>
                </a:solidFill>
                <a:latin typeface="Arial"/>
              </a:rPr>
              <a:t>Jak můžeme použít disponibilní z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izí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ankovní úvě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tatní závaz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dodavat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aměstnanc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OS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dravotním pojišťovnám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ff"/>
                </a:solidFill>
                <a:latin typeface="Arial"/>
              </a:rPr>
              <a:t>S jakými hospodářskými operacemi je spjat vznik závazků vůči uvedeným institucí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Co je to rozvaha a kdy ji sestav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vaha 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etek = Aktiv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oje krytí = P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last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klad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Oběžn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Ciz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ankovní ú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F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statní záva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hledá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et aktiv = součet pas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Arial"/>
              </a:rPr>
              <a:t>Příkla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estavte přehled aktiv a pasiv, pokud víte, že podnik měl k 31. 12. tento stav majetku a zdrojů krytí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. závazky vůči dodavatel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1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. pohledáv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3. dlouhodobý majetek celke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50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4. peníze v pokladn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5. materiál na sklad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1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6. krátkodobý bankovní úvěr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4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výrob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8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8. peníze na BÚ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62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závazky vůči zaměstnanc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76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0. ZK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619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95280" y="0"/>
            <a:ext cx="8066160" cy="12528360"/>
            <a:chOff x="395280" y="0"/>
            <a:chExt cx="8066160" cy="12528360"/>
          </a:xfrm>
        </p:grpSpPr>
        <p:sp>
          <p:nvSpPr>
            <p:cNvPr id="91" name="AutoShape 21"/>
            <p:cNvSpPr/>
            <p:nvPr/>
          </p:nvSpPr>
          <p:spPr>
            <a:xfrm>
              <a:off x="395280" y="0"/>
              <a:ext cx="8066160" cy="125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56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k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3299040" y="835200"/>
              <a:ext cx="20970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Rozvaha k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7009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Pas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556560" y="2088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6"/>
            <p:cNvSpPr/>
            <p:nvPr/>
          </p:nvSpPr>
          <p:spPr>
            <a:xfrm>
              <a:off x="3952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DM celkem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3 50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OM – materiál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21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výrob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8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eníze v pokl.          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BÚ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62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ohledáv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42670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VK – ZK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619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K – bank. Úvěr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45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dodavatelé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110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zaměstnanci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76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556560" y="4176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9"/>
            <p:cNvSpPr/>
            <p:nvPr/>
          </p:nvSpPr>
          <p:spPr>
            <a:xfrm>
              <a:off x="395280" y="4593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A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3 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0"/>
            <p:cNvSpPr/>
            <p:nvPr/>
          </p:nvSpPr>
          <p:spPr>
            <a:xfrm>
              <a:off x="4267080" y="4593600"/>
              <a:ext cx="403308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P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4267080" y="2088000"/>
              <a:ext cx="0" cy="37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ouhodobý majetek, oběžný majetek, vlastní zdroje krytí, cizí zdroje krytí, rozva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jetek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Definujte majetek podn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ek, který podnikatel vloží do podnikání se nazýv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chodní 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476360" y="1844640"/>
            <a:ext cx="7201080" cy="4321080"/>
            <a:chOff x="1476360" y="1844640"/>
            <a:chExt cx="7201080" cy="4321080"/>
          </a:xfrm>
        </p:grpSpPr>
        <p:sp>
          <p:nvSpPr>
            <p:cNvPr id="54" name="AutoShape 5"/>
            <p:cNvSpPr/>
            <p:nvPr/>
          </p:nvSpPr>
          <p:spPr>
            <a:xfrm>
              <a:off x="1476360" y="1844640"/>
              <a:ext cx="72010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3924720" y="2420640"/>
              <a:ext cx="1440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chodní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76360" y="4293000"/>
              <a:ext cx="1584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louhodob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6229080" y="4293000"/>
              <a:ext cx="1728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ěž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068720" y="4293000"/>
              <a:ext cx="1152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rob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 flipH="1">
              <a:off x="2052360" y="3141000"/>
              <a:ext cx="2016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5220720" y="3141000"/>
              <a:ext cx="1872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>
              <a:off x="4644720" y="314100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Čím se liší majetek dlouhodobý a oběž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louhodob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je del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tá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třebovává se ve výrobě najednou, ale opotřebovává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louhodob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hmotný majetek (D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ovitý majetek – pozemky a budovy bez ohledu na jejich pořizovací c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vitý majetek – majetek, který má dobu použitelnosti nejméně 1 rok a pořizovací cenu větší než 40 000,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nehmotný majetek (DNM) – doba použitelnosti je delší než 1 rok a pořizovací cena větší než 60 000,- (licence, autorská práva, software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finanční majetek (DFM) – na dobu delší než 1 rok (dlouhodobé cenné papíry, dlouhodobé půjčky poskytnuté jiným podnikatelům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běž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krat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ní svoji podst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robě se spotřebová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5:54:33Z</dcterms:created>
  <dc:creator>klapuchova</dc:creator>
  <dc:description/>
  <dc:language>en-US</dc:language>
  <cp:lastModifiedBy>Igor</cp:lastModifiedBy>
  <dcterms:modified xsi:type="dcterms:W3CDTF">2014-09-13T15:02:16Z</dcterms:modified>
  <cp:revision>19</cp:revision>
  <dc:subject/>
  <dc:title>Majetek podniku</dc:title>
</cp:coreProperties>
</file>