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5B1-0937-4134-AC61-988F8DC0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5B4-C0BD-4074-99BD-E0FA2E86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AEF-9711-40B6-8177-173D3D76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41B-EFB7-4B6C-9143-5D59D9F3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7A62-301B-4BEF-8091-FEFBE9A6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7C0D-63F5-496E-9066-E592562A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6B0B-00AB-4EEC-B32A-898E6354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E968-08A3-4410-BFF0-59E58011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3D9D-7A44-42DF-8272-C554356F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B650-7544-4636-817E-D30296B9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D9D6-96B3-4B5E-95BE-2BA50771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3C5-6B67-4058-B742-870CA6EF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46BC-2A0D-40B7-9719-74174990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2C89-E207-4E8C-93F3-56BDA5E1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4B54-9190-4E35-932C-701D0E41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6BB2-A3AE-43DF-B734-B611C496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0D6A-D56E-42E7-A64C-DDEBE8B1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2E6-9EB6-4201-9566-31672D8C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3B7-6AB3-49DB-AEF6-6BBD569B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E9D-78C3-4351-AD72-AED3AE02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633-26FA-4699-A6D1-E220AB88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995-9D84-4520-B334-07C89829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1E6-D688-4E55-B3AF-4911A281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2C8-1ECF-487A-B5C3-016DEFCA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F036-F57C-43F3-B48E-24B2716863C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42CF-3E66-4451-81CC-59EF7FAECD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133640"/>
                <a:gridCol w="165564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12.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k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uste najít další silné a slabé stránky, příležitosti i hrozby pro ZOO Krále Jelim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457200" y="1905120"/>
          <a:ext cx="8229600" cy="4830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hledají silné a slabé stránky, příležitosti a hrozby dané firmy, navrhují jak využít příležitosti v konkurenčním bo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né stránky, slabé stránky, příležitosti, hroz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1915920"/>
            <a:ext cx="8217000" cy="155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500" spc="-1" strike="noStrike">
                <a:solidFill>
                  <a:srgbClr val="000000"/>
                </a:solidFill>
                <a:latin typeface="Century Gothic"/>
              </a:rPr>
              <a:t>Zoo Krále Jelimán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4824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Základní infor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še Zoo je zaměřená na africký kontinent, tamní faunu a flóru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štěvníci mohou vidět speciálně upravené obrovské výběhy pro všechna zvířata, přizpůsobené jejich přírodnímu prostředí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zde několik vysokých rozhleden a každý návštěvník dostane při vstupu dalekohled, aby mu ze světa zvířat neunikl ani jeden moment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zájemce jsou zde zařízeny přednášky našich zoologů z cest do Afriky, případně se mohou zapojit do akcí jako jsou Den africké kuchyně, Festival africké hudby apod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omovka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ské Budějo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927 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2060640"/>
            <a:ext cx="828828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500" spc="-1" strike="noStrike">
                <a:solidFill>
                  <a:srgbClr val="000000"/>
                </a:solidFill>
                <a:latin typeface="Century Gothic"/>
              </a:rPr>
              <a:t>SWOT analýz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Silné strá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iginalita v zaměře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me jedinou Zoo v České republice, která je dopodrobna zaměřena na jeden kontinent, milovníci Afriky ocení, že se mohou plně soustředit jen na toto prostředí, nejsou rozptylováni a pleteni jinými kontine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jímavos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jišťujeme různé zájmové kurzy a přednášky, na které mohou přijít všichni zájemci, o všech akcích jsou předem informováni letáky a informacemi na našich internetových stránk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klam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še firma je dobře reprezentována v zahraničí, naše jméno se objevuje na seznamech mezinárodních organizacích,  z masmédií využíváme reklamu v rádiích, TV, internetu, máme billboardy, letáky, brožury, vizitky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mag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ý důraz klademe na image celého areálu, výběhu jsou vystaveny co nejpřirozeněji, nacházejí se zde vodopády, vodotrysky, jezírka, bambusové ploty, chatrč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stup k zákazníků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nažíme se, aby zákazníci měli přístup k veškerým informacím, což řešíme pomocí informačních počítačů s dotykovou obrazovkou rozmístěných v areálu a také naši zaměstnanci jsou pověřeni vždy pomoci a poradit, budou-li požádá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mezené zaměření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ím, že jsme zaměřeni pouze na Afriku, lidem zajímajícím se o Asii, Ameriku, Evropu, nemáme v podstatě co nabídnout a připravujeme se o potenciální zákazní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soké provozní náklad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hledem ke snaze zajistit co nejpřirozenější prostředí pro zvířata a zkrášlení celého areálu, musíme vynakládat vysoké náklady, a přesto vstupné necháváme s poměrně nízkou cenou, takže hrozí, že při menším množství zákazníků se dostane naše firma do ztrá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klady na vzdělání zaměstnanců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še zaměstnance se snažíme motivovat vzdělávacími kurzy z oblasti zoologie. Při výjezdech do Afriky si hradí co možná nejmenší náklady, což je velkou finanční zátěží pro naši fir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Slabé strá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46195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Příležit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ové technologie, poznatk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sme vybavení moderními technologiemi pro snadný přístup zákazníků k informacím. Moderní techniku využíváme také například ve Vodním světě nebo Světě rostlin, kde máme speciální zavlažovací systémy a klimatizace nastavované k přesné simulaci přirozeného prostředí. Speciální zaměstnanci se také věnují vědě a výzkumu o chování zvířat, jejich prostředí, úspěšném rozmnožování v zajetí apod. Úspěšné práce mohou předkládat mezinárodním organizacím a získat případné paten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ost zachraňovat ohrožené druh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ky vědě dokážeme odchovat mláďata ohroženým druhům zvíř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eloživotní vzdělávání zajišťuje pracovité a snažící se zaměstnan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hledem k nabízeným možnostem je poptávka po práci v naší Zoo vysoká, máme tedy možnost výběru vhodných uchazečů, kteří se chtějí vzdělávat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Hroz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557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rozba úhynu a šíření nemocí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ní možné zajistit, aby se zvířata nedostala do kontaktu s nemocnou osobou nebo úplně zamezit krmení zvířat nežádoucí potravou. Může to vést k onemocnění či dokonce úhynu zvíř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padek v technické oblasti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ane-li se, že budeme dočasně odloučeni z důvodů závady od elektřiny, hrozí velké nebezpečí narušení normální chodu Zoo a ohrožení života některých zvířat (například vysazení filtrů ve Vodním světě). Snažíme se proto zajistit alternativní řešení v nouzových situacích, ale nemůžeme být zabezpečeni na 10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ychle se měnící potřeby zákazníků, jejich stálost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k jsme již zmínili, zaměření naší firmy je výhodou i nevýhodou. Hrozbou se stává v tom případě, že návštěvník nemá k africkému kontinentu natolik vyvinutý vztah, aby byl ochoten naši Zoo vícekrát navštívit. Jelikož není možné každý den upoutávat jejich pozornost akcemi, návštěvnost může být ohrožena nedostatečným zájm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kurenc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še Zoo sice sídlí ve velkém městě, ale blízkost Prahy je ohrožující, vezmeme-li v úvahu, že je hlavním městem a má široké zaměření. Také Zoo Dvůr Králové je velmi konkurence schopná, jejich Africké safari je celorepublikově znám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7:23:15Z</dcterms:created>
  <dc:creator>morcinkova</dc:creator>
  <dc:description/>
  <dc:language>en-US</dc:language>
  <cp:lastModifiedBy>Igor</cp:lastModifiedBy>
  <dcterms:modified xsi:type="dcterms:W3CDTF">2014-09-13T15:26:00Z</dcterms:modified>
  <cp:revision>22</cp:revision>
  <dc:subject/>
  <dc:title>Zoo Krále Jelimána</dc:title>
</cp:coreProperties>
</file>