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3D85-E6B9-4FC1-95CE-D77D4A2E8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DF26-337C-4109-A0C7-6D0F46A3A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86E1-750D-4BB7-8BED-92A3CDFE7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822B-DD4C-4A0F-AAD0-098F16B1C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0BCF7-A020-4502-BC2E-087FFD23F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072AA-71CA-43B2-AE0E-7B62B9D2A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14BBD-FCC3-4F74-84CE-3D53CF672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D7B24-9777-4DFE-BCC3-DF4617711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B51E7-0612-454D-BC6A-92D182232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9D312-3904-4124-AD3B-5CCFAF48C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1BB24-077D-4BFD-BEBD-235AC4EF3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FE90-B9ED-42CA-9D6B-2DFEE3E94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5DE86-8289-456F-A395-B17ED85CA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94F22-2277-4F3B-ABD2-29FBC5F17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7976F-AB12-42AF-8B6D-68BAFF97C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AA33B-471D-44C3-89E2-4845273EA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5A570-243B-441F-B724-07684A4F9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CB09-1020-4365-9C61-00ECEFDEB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CEFD-0D79-46B3-B362-5367B62CA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1B20-5DC0-4001-8751-5DA3D5547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B015-8DA2-47BF-96DB-98E527245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41AF-688D-4C8A-AEDE-1BF0BFD3E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2A35-D86A-4E65-883D-FA2CF0D5C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AAE5-2434-4544-B0CD-76309C21E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b"/>
            </a:gs>
            <a:gs pos="100000">
              <a:srgbClr val="0000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110045"/>
                </a:gs>
                <a:gs pos="100000">
                  <a:srgbClr val="1a006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3e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140052"/>
                </a:gs>
                <a:gs pos="100000">
                  <a:srgbClr val="1a006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1a006c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5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8086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38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1a006c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110048"/>
                </a:gs>
                <a:gs pos="100000">
                  <a:srgbClr val="1a006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f0f6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2f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34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40055"/>
                </a:gs>
                <a:gs pos="100000">
                  <a:srgbClr val="1a00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1717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1a00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10048"/>
                </a:gs>
                <a:gs pos="100000">
                  <a:srgbClr val="1a00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12004b"/>
                </a:gs>
                <a:gs pos="100000">
                  <a:srgbClr val="1a00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1a00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41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3e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56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32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6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140055"/>
                </a:gs>
                <a:gs pos="100000">
                  <a:srgbClr val="1a00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3b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50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4a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1717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04B81-EAAD-484F-83D7-EC8E9BD191E7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b"/>
            </a:gs>
            <a:gs pos="100000">
              <a:srgbClr val="0000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110045"/>
                </a:gs>
                <a:gs pos="100000">
                  <a:srgbClr val="1a006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3e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140052"/>
                </a:gs>
                <a:gs pos="100000">
                  <a:srgbClr val="1a006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1a006c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5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8086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38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1a006c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110048"/>
                </a:gs>
                <a:gs pos="100000">
                  <a:srgbClr val="1a006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f0f6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2f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34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40055"/>
                </a:gs>
                <a:gs pos="100000">
                  <a:srgbClr val="1a00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1717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1a00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10048"/>
                </a:gs>
                <a:gs pos="100000">
                  <a:srgbClr val="1a00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12004b"/>
                </a:gs>
                <a:gs pos="100000">
                  <a:srgbClr val="1a00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1a00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41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3e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56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32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6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140055"/>
                </a:gs>
                <a:gs pos="100000">
                  <a:srgbClr val="1a00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3b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50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4a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1717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CD755-8538-4D89-90D2-1D150F949B36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Výukový materiál zpracován v rámci projektu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EU peníze školá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Registrační číslo projektu: CZ.1.07/1.5.00/34.020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4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Y_32_INOVACE_21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39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g. Bohuslava Klapuchová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 roční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. 3. 201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"/>
          <p:cNvPicPr/>
          <p:nvPr/>
        </p:nvPicPr>
        <p:blipFill>
          <a:blip r:embed="rId1"/>
          <a:stretch/>
        </p:blipFill>
        <p:spPr>
          <a:xfrm>
            <a:off x="1741320" y="27792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7" name=""/>
          <p:cNvGraphicFramePr/>
          <p:nvPr/>
        </p:nvGraphicFramePr>
        <p:xfrm>
          <a:off x="468360" y="1413000"/>
          <a:ext cx="7991280" cy="540864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78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dnikání a podnikové činnost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rketingový mix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rketing a managem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zentace k seznámení studentů s podporou prodeje a jejími nástroj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8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zorky, cenové stimuly, prémie, kupony, vystavení zboží, soutěže a loterie, dárky, věrnostní prémie, společná reklam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 u="sng">
                <a:solidFill>
                  <a:srgbClr val="ccccff"/>
                </a:solidFill>
                <a:uFillTx/>
                <a:latin typeface="Arial"/>
              </a:rPr>
              <a:t>Podpora prodeje</a:t>
            </a: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8000" y="2205000"/>
            <a:ext cx="835164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cíl: stimulovat prodej výrobků a služeb prostřednictvím dodatečných podnětů, je zaměřená n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konečné spotřebite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distribuční článk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cccc"/>
                </a:solidFill>
                <a:latin typeface="Arial"/>
              </a:rPr>
              <a:t>Jaké znáte nástroje podpory prodeje u konečných spotřebitel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cccff"/>
                </a:solidFill>
                <a:latin typeface="Arial"/>
              </a:rPr>
              <a:t>Nástroje podpory prodeje spotřebitelům</a:t>
            </a:r>
            <a:endParaRPr b="0" lang="en-US" sz="4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ff"/>
                </a:solidFill>
                <a:latin typeface="Arial"/>
              </a:rPr>
              <a:t>Vzorky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– zákazník dostává zdarma, a to prostřednictvím pošty, v časopisech, v obchodech, jako součást jiného výrobku,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ff"/>
                </a:solidFill>
                <a:latin typeface="Arial"/>
              </a:rPr>
              <a:t>Cenové stimuly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– cenově výhodná balení, akce 2+1 zdar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ff"/>
                </a:solidFill>
                <a:latin typeface="Arial"/>
              </a:rPr>
              <a:t>Prémie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– zvyšují atraktivnost výrobku, např. vkládání drobných hraček do obalu, kupony na obalu, drobný dárek při nákup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68000" y="691920"/>
            <a:ext cx="8280360" cy="50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ff"/>
                </a:solidFill>
                <a:latin typeface="Arial"/>
              </a:rPr>
              <a:t>Kupony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– poukázky, které umožňují zákazníkům získat při nákupu určitého zboží výhodu – slevu, dárek,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ff"/>
                </a:solidFill>
                <a:latin typeface="Arial"/>
              </a:rPr>
              <a:t>Vystavení zboží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– u pokladen, na konci regálů, upoutání pozornosti zákazníků plakátem, neobvyklým dekorativním předmětem,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ff"/>
                </a:solidFill>
                <a:latin typeface="Arial"/>
              </a:rPr>
              <a:t>Soutěže a loterie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– soutěže – zákazníci odpovídají na určitou otázku a při úspěšné odpovědi mohou vyhrát cenu, loterie – slosování s možností výh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57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ff"/>
                </a:solidFill>
                <a:latin typeface="Arial"/>
              </a:rPr>
              <a:t>Dárky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– reklamní dárky jsou předměty se jménem firmy, které zákazník dostává zdarma (propisky, tašky, trička,…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ff"/>
                </a:solidFill>
                <a:latin typeface="Arial"/>
              </a:rPr>
              <a:t>Věrnostní prémie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– forma peněžité nebo nepeněžité odměny, kterou získává stálý zákazní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cccc"/>
                </a:solidFill>
                <a:latin typeface="Arial"/>
              </a:rPr>
              <a:t>S jakými nástroji podpory prodeje jste se setkali a u jakých výrobků to bylo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cccff"/>
                </a:solidFill>
                <a:latin typeface="Arial"/>
              </a:rPr>
              <a:t>Nástroje podpory prodeje v distribuční síti </a:t>
            </a:r>
            <a:endParaRPr b="0" lang="en-US" sz="4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ff"/>
                </a:solidFill>
                <a:latin typeface="Arial"/>
              </a:rPr>
              <a:t>Společná reklama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– na základě vzájemné dohody poskytne výrobce prostředky a informace k reklamě a právo prodeje jeho výrobků v MO. Maloobchodník odebere výrobky a jejich prodej podporuje. Výrobce maloobchodníkovi část nákladů na reklamu uhradí nebo poskytne funkční slev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ff"/>
                </a:solidFill>
                <a:latin typeface="Arial"/>
              </a:rPr>
              <a:t>Obchodní slevy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– obchodníkům, kteří nakoupí větší množství, zboží vystaví na výhodném místě, apo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ff"/>
                </a:solidFill>
                <a:latin typeface="Arial"/>
              </a:rPr>
              <a:t>Veletrhy a výstavy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– umožňují výrobky předvést, poskytnout informace, zodpovědět otázky, porovnávat s konkurencí, získat informace o konkurenci,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539640" y="134100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Zdroj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ŠVARCOVÁ, J. </a:t>
            </a:r>
            <a:r>
              <a:rPr b="0" i="1" lang="cs-CZ" sz="3200" spc="-1" strike="noStrike">
                <a:solidFill>
                  <a:srgbClr val="ffffff"/>
                </a:solidFill>
                <a:latin typeface="Arial"/>
              </a:rPr>
              <a:t>Ekonomie – stručný přehled,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ydání</a:t>
            </a:r>
            <a:r>
              <a:rPr b="0" i="1" lang="cs-CZ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ro rok</a:t>
            </a:r>
            <a:r>
              <a:rPr b="0" i="1" lang="cs-CZ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2012/2013 Zlín : Nakladatelství a vydavatelství Ing. Jena Švarcová, Ph. D., CEED, 2012. ISBN 987-80-87301-16-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SVĚTLÍK, J. </a:t>
            </a:r>
            <a:r>
              <a:rPr b="0" i="1" lang="cs-CZ" sz="3200" spc="-1" strike="noStrike">
                <a:solidFill>
                  <a:srgbClr val="ffffff"/>
                </a:solidFill>
                <a:latin typeface="Arial"/>
              </a:rPr>
              <a:t>Marketing – cesta k trhu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, Zlín: EKKA, 1994. ISBN 80-900015-8-0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4T07:26:52Z</dcterms:created>
  <dc:creator>Guest</dc:creator>
  <dc:description/>
  <dc:language>en-US</dc:language>
  <cp:lastModifiedBy>Igor</cp:lastModifiedBy>
  <dcterms:modified xsi:type="dcterms:W3CDTF">2014-09-13T15:08:17Z</dcterms:modified>
  <cp:revision>15</cp:revision>
  <dc:subject/>
  <dc:title>Podpora prodeje</dc:title>
</cp:coreProperties>
</file>