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C16-1BB0-40BF-8269-E19CB88B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7C4-FE37-4470-8DC6-DAEE0C0A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561-9FFF-4B4B-837A-AF64DDF2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AE4-15AB-4A5A-9D78-BFABFF18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2B95-BD4F-41AB-8694-9983F7F9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48F-8E88-4851-89B3-22A986C4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02B4-13AD-423E-8098-2BC9E0D3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A12F-FB69-47AF-92A4-B400173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C372-1076-4629-AE5F-24A2B284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39D8-AF20-407D-AD7B-B5F4415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DE90-050B-4A59-8D44-BDB8B49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F27-56CE-433C-A30F-4FEC6E73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2270-157D-46A3-9C1B-D51D357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DDA6-6FB2-4F87-B927-C8D9662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363A-85B7-4815-9639-107EC3E3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364F-5002-4F44-99BA-C267E239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A08-9A8B-4452-A8F3-D706D24C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7F9-F8EF-4493-B6ED-6B4F9190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25A-8E8D-4294-BA80-31010489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2D6-06A4-4166-8E41-58D19C2C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A3B-3F45-4F76-AE67-FD3CBE4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418-2764-475E-B151-6E51C34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7EF-A6B5-413B-A1B8-207C902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624-126A-4B6B-8D1A-946C08AF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E957-146E-4659-AADC-9AACC04771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385-22BF-4795-9FFD-2442A78F1E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3573360"/>
          <a:ext cx="7704360" cy="736560"/>
        </p:xfrm>
        <a:graphic>
          <a:graphicData uri="http://schemas.openxmlformats.org/drawingml/2006/table">
            <a:tbl>
              <a:tblPr/>
              <a:tblGrid>
                <a:gridCol w="1656000"/>
                <a:gridCol w="936360"/>
                <a:gridCol w="1944720"/>
                <a:gridCol w="3167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prostředníka z hlediska výrob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řístup k cílovému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držuje optimální stav zásob výrob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kutečňuje vlastní stimulaci, která je v souladu se stimulací výr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uje zákazníkům služby na odpovídající úrov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 dodané výrobky platí řádně a vč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Intenzita prodej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Intenzita prodeje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= počet jednotlivých samostatných článků na prodejní cestě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Z hlediska intenzity prodeje rozlišujem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nzívní prodej – snaha prodávat výrobek v co největším počtu prodejních jednotek při zapojení co nejvíce článků do prodeje, používá se u zboží denní potřeby (potraviny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elektivní prodej – distribuce prostřednictvím maloobchodních jednotek, zboží je náročnější na prodej, vyžaduje proškolený personál (oděvy, elektronika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ýhradní prodej – distribuční článek má výhradní právo na prodej na určitém území, výrobky mají mimořádné postavení na trhu, je drahé, značkové, prodejce musí poskytnou maximum informací (drahá auta, nemovitosti, …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Velkoobcho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Firmy zabývající se velkoobchodní činností kupují výrobky za účelem jejich dalšího prodeje maloobchodním nebo jiným organizací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Funkce V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tváření úzkého výrobního sortimentu na široký obchodní sorti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klenutí časového nesouladu mezi výrobou a spotřeb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ytváření zásob k pružnému zásobování odběratel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obchodního úvěru odběratelů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bírá riziko spojené s nákupem, dopravou a skladováním zbož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stimulaci prode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dohotovení zboží, jeho balení a úpravá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jištění dopravy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informací o poptávkách, cenách, konkurenci,… výrobců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V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tradiční velkoobchodní podniky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– poskytuje všechny nebo většinu uvedených funk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velkoobchodní podniky s omezenými funkce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sh-and-carry – maloobchodník platí v hotovosti a sám si zboží musí odvé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rop shipper – velkoobchod nakupuje a prodává zboží, ale neskladuje ho (hlavně uhlí, dřevo, stavební materiál, 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licový velkoobchodník – nabízí své zboží konečným spotřebitelům v pronajatých místech maloobchodních jednotek (např. noviny, knihy, kosmetika, hračky ,… prodávané v supermarketech apod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jízdný velkoobchodník – nabízí a prodává zboží maloobchodníkům podle jejich potřeby přímo u svého dodávkového auta (koření, textil, zelenina a ovoce,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 u="sng">
                <a:solidFill>
                  <a:srgbClr val="000000"/>
                </a:solidFill>
                <a:uFillTx/>
                <a:latin typeface="Verdana"/>
              </a:rPr>
              <a:t>agenti a komisionáři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– nepřebírají zboží do svého vlastnictví, vykonávají omezené množství funkcí, zprostředkovávají nákup a prodej určitého zboží, pracují za provizi, nesou minimální rizik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isionář – kontaktuje prodávající a kupující, pomáhá při jejich obchodním jednání, provizi dostává od toho, kdo ho najím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chodní zástupci – nezávislí zástupci výrobního podniku v určité oblasti, s výrobci mají uzavřenou smlouvu o místě působnosti, cenách, službách, provizi. Nevlastní zboží, pouze zprostředkovávají nákup a prod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kční společnosti – umožňují kontakt prodávajícího a kupujícího, vystavení a prohlédnutí zboží, cena se stanovuje podle nabídky a poptávky (např. umělecké předměty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kupní agent – pracuje pro určitou firmu na základě dlouhodobé smlouvy. Pro firmu nakupuje zboží, kontroluje kvalitu a organizuje přepravu ke kupující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Maloobchod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ou veškeré činnosti, které jsou spojené s prodejem zboží a poskytováním služeb konečnému spotřebitel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ování velkého množství služ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álé přizpůsobování se potřebám zákazní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ná konku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M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pecializované prodejn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hlavně u nepotravinářského zboží, profesionální personál (oděvy, sportovní potřeby, elektronika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prodejny se zbožím denní potřeb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ákladní potravinářský a nepotravinářský sortiment, otevřeno 24 hodin denně, např. u benzínových pu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u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velké samoobslužné prodejny se sortimentem potravinářským a nepotravinářským, rozlehlá prodejní plocha, prodlužují prodejní dobu, velká konkur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hy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obrovské samoobslužné prodejny na okrajích měst, široký sortiment, nízké ceny, dostupné au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obchodní dom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nabízejí velmi široký sortiment zboží pod jednou střechou, snaží se zvýšit přitažlivost, provozují nové služby (cestovní kanceláře, půjčovny aut, realitní kanceláře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diskontní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ývají členy řetězců obchodů, velký obrat, omezené služby, výprodeje zásob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obchodní středisk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ozsáhlé obchodní komplexy, především na okrajích měst, seskupují řadu nezávislých specializovaných obchodních firem a obchodních domů, široký sortiment zboží, široká nabídka služeb (opravny, restaurace, holičství, CK, bankovní služby,…), občerstvení a odpočinek (dětské koutky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katalogové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zákazníci si vyberou ve výstavní místnosti podle katalogů nebo podle vystaveného zboží, vyplní objednávku a při zaplacení je jim zboží vydáno přímo ze skladu, omezené služ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Ve kterých MO nakupujete nejčastěji, které zboží a proč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VARCOVÁ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Ekonomie – stručný přehled,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dání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rok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012/2013 Zlín : Nakladatelství a vydavatelství Ing. Jena Švarcová, Ph. D., CEED, 2012. ISBN 987-80-87301-16-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ĚTLÍK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Marketing – cesta k trhu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Zlín: EKKA, 1994. ISBN 80-900015-8-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850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57200" y="1905120"/>
          <a:ext cx="8229600" cy="458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tická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ový mi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a manag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ižný popis způsobu využití, případně metodické pokyny:</a:t>
                      </a: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se seznamují se způsoby distribuce, s funkcemi a druhy VO a M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íčová slova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ce, prodejní cesty, velkoobchod, maloobch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uh učebního materiálu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enta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cc"/>
                </a:solidFill>
                <a:latin typeface="Arial"/>
              </a:rPr>
              <a:t>Marketingový mix - distribu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Distribuce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istribuce řeší problé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u a kde se budou výrobky prodá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zajistit, aby byl výrobek nabízen na správném místě ve správném okamži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Prodejní cesty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rodejní ces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souhrn prostředníků a zprostředkovatelských článků, jejichž prostřednictvím přechází zboží od výrobce ke kupující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Prodejní ces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m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přímé – zahrnují jeden nebo více mezičlánků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Jaký typ prodejní cesty a z jakých důvodů byste navrhli 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a/ peč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b/ elektron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Funkce prodejních ce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chodní – zahrnuje nákup zboží od výrobců, prodej zboží a převzetí riz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ogistická  - zahrnuje dopravu od výrobce, skladování, přizpůsobení zboží požadavkům zákaz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půrná – zahrnuje finanční pomoc v podobě obchodního úvěru, marketingový výzkum, propagaci, poskytování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313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výrobce, aby s ním prostředníci (VO, MO)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výrobce z hlediska prostřední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ává včas, ve sjednaném množství, ceně, kvalitě, balení a desig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imuluje poptávku po výrobcích vhodnou reklam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nástrojů podpory prodeje ve vztahu k prostředník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ržuje záruční lhůty, poskytuje opravy, instalaci a další služ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prostředník (VO, MO), aby s ním výrobci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53:23Z</dcterms:created>
  <dc:creator>kabek</dc:creator>
  <dc:description/>
  <dc:language>en-US</dc:language>
  <cp:lastModifiedBy>Igor</cp:lastModifiedBy>
  <dcterms:modified xsi:type="dcterms:W3CDTF">2014-09-13T15:03:29Z</dcterms:modified>
  <cp:revision>17</cp:revision>
  <dc:subject/>
  <dc:title>Marketingový mix - distribuce</dc:title>
</cp:coreProperties>
</file>