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E5569-F55D-451D-95D1-AF178DEC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6D72-4FCF-4979-B988-7DD167CF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69ED1-4B04-46E9-9F0A-9F43B8D8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07E5-3124-4C14-919F-159E9F8A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659A-2EA8-4C32-B339-1B7A20D0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406B-9D11-4DD7-83EA-B4D16F65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DB4D-2FFB-451C-A0A6-7FACF861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1378-4965-4F9B-A2C3-0B81BAEB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E62A-9965-4416-B49B-2E48098A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7005-4CF5-4441-81FB-CAE2E178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6F01-82F0-4871-A18B-4F040E7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FD1E6-04B3-4B3C-9262-DDF562AA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3FC0-ABB0-48DB-8CFB-82E3563B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8F5C-AC04-4047-B2F1-AC659115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9D43-811D-4A10-B5F9-240E905A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9D79-7C2C-47AF-A4AC-4E993917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D9FA-BD9B-4EB5-BF15-20DBCB26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619D-C33C-4B01-9E8C-1CA2B345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28D0-E019-4D17-B7C3-894CE4DC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944C-AD37-4F5C-9F1E-9E82F04A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F0C3-B715-42D8-ABCB-C7363787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2BCD3-2031-43E5-9984-65AE1FC1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9485-7E60-4720-BCD1-78BDF64C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349E-CC91-457F-8105-0D2BEC93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177D-34CA-4ADF-829F-7351BF1428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31A0-6BA0-4B87-9008-3435D93DE9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. 3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13000"/>
          <a:ext cx="7991280" cy="41274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sobním prodej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roky v osobním prodeji, personální řízení osobního prode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349000"/>
            <a:ext cx="7239240" cy="19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 u="sng">
                <a:solidFill>
                  <a:srgbClr val="000000"/>
                </a:solidFill>
                <a:uFillTx/>
                <a:latin typeface="Garamond"/>
              </a:rPr>
              <a:t>Osobní prodej</a:t>
            </a:r>
            <a:br>
              <a:rPr sz="6600"/>
            </a:br>
            <a:endParaRPr b="1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aramond"/>
              </a:rPr>
              <a:t>jde o osobní formu komunikace s jedním nebo více zákazníky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aramond"/>
              </a:rPr>
              <a:t>cíl: dosažení prodeje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00ff"/>
                </a:solidFill>
                <a:latin typeface="Garamond"/>
              </a:rPr>
              <a:t>Jaké funkce  mají osobní prodejci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Garamond"/>
              </a:rPr>
              <a:t>Pracovníci, kteří provádějí osobní prodej, mají tyto funkce: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ovlivňují kupujícího v procesu rozhodování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zprostředkovávají informa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poskytují servis, zajišťují dodání zboží, 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6600ff"/>
                </a:solidFill>
                <a:latin typeface="Garamond"/>
              </a:rPr>
              <a:t>Jaké vlastnosti by měl mít pracovník v osobním prodeji?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Garamond"/>
              </a:rPr>
              <a:t>Požadavky na pracovníky v osobním prodeji: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schopnost vcítění se do myšlení zákazníků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nadšení a důvěra ve výrobe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pružnost, schopnost adaptovat se na požadavky zákazníků, komunikační schopnosti, dobrá organizace času,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aramond"/>
              </a:rPr>
              <a:t>Kroky v osobním prodeji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průzkum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prodejce hledá vhodné potenciální zákazníky, na které se pak zaměří. Zdroje informací: dopisy, telefonáty, informace od prodejců, databáze zákazníků,…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kontakt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na základě průzkumu se prodejce musí rozhodnout, jak zákazníky kontaktovat. Nejčastější postup – úvodní dopis, telefonát, osobní schůzka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prezentace 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– prodejce sděluje zákazníkovi potřebné informace o výrobku včetně jeho předvedení. Zdůrazňuje při tom vlastnosti výrobku, které jsou pro zákazníka nejdůležitější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řešení připomínek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odpovědi na otázky zákazníka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závěr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dohoda o všech náležitostech kupní smlouvy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další kontakt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nezbytný pro plné uspokojení zákazníka, jde o poskytování služeb spojených s užíváním. Tím roste spokojenost zákazníka a roste image firmy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6600ff"/>
                </a:solidFill>
                <a:latin typeface="Garamond"/>
              </a:rPr>
              <a:t>Máte nějaké zkušenosti s osobním prodejem? 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6600ff"/>
                </a:solidFill>
                <a:latin typeface="Garamond"/>
              </a:rPr>
              <a:t>U jakých výrobků se s tímto způsobem prodeje můžeme setkat?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aramond"/>
              </a:rPr>
              <a:t>Personální řízení osobního prodeje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Garamond"/>
              </a:rPr>
              <a:t>Výběr osob</a:t>
            </a: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 – z odpovědí na inzeráty, z Úřadu práce, studenti končící školu,…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kritéria pro výběr: dotazník a životopis, ústní pohovor, písemné testy. Kritéria vychází z požadavků na osobního prodejce (komunikativnost, schopnost organizovat čas, řešit problémy, kreativita,…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Garamond"/>
              </a:rPr>
              <a:t>Příprava</a:t>
            </a: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 – má splnit tyto úkoly: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firmy a její histori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výrobků firm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konkurenčních výrobků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trhu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V přípravě by se měl prodejce naučit zvládnout celý proces osobního prodeje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Motivac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Morální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Finanční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Výhody – služební auto, mobil,…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Soutěže mezi prodejc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ff"/>
                </a:solidFill>
                <a:latin typeface="Garamond"/>
              </a:rPr>
              <a:t>Pokud byste byli osobní prodejci, jaké motivační faktory by pro Vás byly nejsilnější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Vyhodnocení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základem jsou prodejní kvóty – ty se stanovují na základě konkrétních podmínek, ve kterých prodejce působí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alší podklady – zprávy ze služebních cest, informace od zákazníků,…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Prodejci by měli znát kritéria, podle kterých budou hodnoce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7:04:56Z</dcterms:created>
  <dc:creator>Guest</dc:creator>
  <dc:description/>
  <dc:language>en-US</dc:language>
  <cp:lastModifiedBy>Igor</cp:lastModifiedBy>
  <dcterms:modified xsi:type="dcterms:W3CDTF">2014-09-13T15:05:50Z</dcterms:modified>
  <cp:revision>13</cp:revision>
  <dc:subject/>
  <dc:title>Osobní prodej</dc:title>
</cp:coreProperties>
</file>