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8D5F3-90EC-45BF-B13B-8A31EEA66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A7D64-3088-4190-B5BB-D3B4C7F7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0713D-4B73-4F7E-A8A1-71DEBADB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BA44E-5A61-439D-9F1B-E08ECCEE2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1C19-08C4-40D3-B449-377CACA8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2E4E-4AC0-48F7-9C99-79D83750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8066-5660-44BC-A4B1-89E6851D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208D-ED6B-463A-8736-1EC4A189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3AF0-B3CC-496A-89E7-CD58C180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7660-DB57-4BF7-A9EB-515C9AB5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8AED-5B1E-4A8C-8EAD-57F0B3A2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82BA1-AC2F-485D-BB03-1972D32F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1105-4684-4821-A573-FE69BA36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2F88-76E6-46E6-9D59-C57D3030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5E9D-7047-48BB-A247-0E277B0B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4FC2-567B-4129-947A-6A50E1547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447B-C976-4880-8CF5-3B429C0C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0B099-506F-48E2-B00D-16DDD518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FDC39-B8A8-4A56-AB13-523258D3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5F18F-91C2-4233-B40B-A4349431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F3EF4-E4BB-4721-8DC1-6D878FDD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71D86-2F1F-430D-A2CC-ED50A9A2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A7963-0CBD-4B7F-97BF-76164514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E3CE4-7E9F-4917-A424-861AF53E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1493-584D-422F-B30B-186701F6DC7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959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e60"/>
                  </a:gs>
                  <a:gs pos="100000">
                    <a:srgbClr val="5159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54b5c"/>
                </a:gs>
                <a:gs pos="100000">
                  <a:srgbClr val="5159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959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e60"/>
                  </a:gs>
                  <a:gs pos="100000">
                    <a:srgbClr val="5159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54b5c"/>
                </a:gs>
                <a:gs pos="100000">
                  <a:srgbClr val="5159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CBE2-2F9B-4B2F-BF9B-400075C0BF5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Y_32_INOVACE_2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. 12.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ddddd"/>
                </a:solidFill>
                <a:latin typeface="Tahoma"/>
              </a:rPr>
              <a:t>Životní cyklus výrobku</a:t>
            </a:r>
            <a:br>
              <a:rPr sz="4400"/>
            </a:b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Fáze životního cyklu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1. Uveden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ýrobek není na trhu známý, je po něm nízká poptávka, musí se provést propaga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malý prodej, vysoké náklady, nízký zisk popř. ztrát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cenové strategie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enetration pri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kimming pri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ýrobek nakupují inovátoř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2. Rů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roste prodej, rostou tržby, klesají náklady na jednotku, roste zis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enetration price roste, skimming price klesá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roste i konkurence, proto firma začíná uvažovat o modifikacích výrobk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akupují počáteční osvojitelé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7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3. Zralo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jvyšší prodej, nejnižší náklady na jednotku, nejvyšší zis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firma se snaží udržet v této fázi co nejdé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jvětší konkurence, firma vylepšuje a modifikuje výrobe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akupuje počáteční a pozdní většin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4. Úpade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lesá prodej, klesá zis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firma snižuje cenu, aby doprodala výrobe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rozhoduje se, kdy bude výrobek stažen z trh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akupují opozdilc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 životním cyklu existují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odchylky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– nový život, styl, móda, výstřelk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Do jaké skupiny zákazníků byste se zařadili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ddddd"/>
                </a:solidFill>
                <a:latin typeface="Tahoma"/>
              </a:rPr>
              <a:t>Křivka životního cyklu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1" name="Group 5"/>
          <p:cNvGrpSpPr/>
          <p:nvPr/>
        </p:nvGrpSpPr>
        <p:grpSpPr>
          <a:xfrm>
            <a:off x="395280" y="2060640"/>
            <a:ext cx="8280360" cy="3960720"/>
            <a:chOff x="395280" y="2060640"/>
            <a:chExt cx="8280360" cy="3960720"/>
          </a:xfrm>
        </p:grpSpPr>
        <p:sp>
          <p:nvSpPr>
            <p:cNvPr id="132" name="AutoShape 6"/>
            <p:cNvSpPr/>
            <p:nvPr/>
          </p:nvSpPr>
          <p:spPr>
            <a:xfrm>
              <a:off x="395280" y="2060640"/>
              <a:ext cx="8280360" cy="39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" name="Line 7"/>
            <p:cNvSpPr/>
            <p:nvPr/>
          </p:nvSpPr>
          <p:spPr>
            <a:xfrm>
              <a:off x="1554480" y="5229000"/>
              <a:ext cx="529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" name="Line 8"/>
            <p:cNvSpPr/>
            <p:nvPr/>
          </p:nvSpPr>
          <p:spPr>
            <a:xfrm flipV="1">
              <a:off x="1554480" y="2588400"/>
              <a:ext cx="0" cy="264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2051280" y="2742480"/>
              <a:ext cx="3146400" cy="2090160"/>
            </a:xfrm>
            <a:custGeom>
              <a:avLst/>
              <a:gdLst/>
              <a:ahLst/>
              <a:rect l="l" t="t" r="r" b="b"/>
              <a:pathLst>
                <a:path w="3420" h="2850">
                  <a:moveTo>
                    <a:pt x="0" y="2850"/>
                  </a:moveTo>
                  <a:cubicBezTo>
                    <a:pt x="525" y="1575"/>
                    <a:pt x="1050" y="300"/>
                    <a:pt x="1620" y="150"/>
                  </a:cubicBezTo>
                  <a:cubicBezTo>
                    <a:pt x="2190" y="0"/>
                    <a:pt x="3120" y="1650"/>
                    <a:pt x="3420" y="195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" name="Text Box 10"/>
            <p:cNvSpPr/>
            <p:nvPr/>
          </p:nvSpPr>
          <p:spPr>
            <a:xfrm>
              <a:off x="395280" y="2720520"/>
              <a:ext cx="115920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Tahoma"/>
                </a:rPr>
                <a:t>Prodej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" name="Text Box 11"/>
            <p:cNvSpPr/>
            <p:nvPr/>
          </p:nvSpPr>
          <p:spPr>
            <a:xfrm>
              <a:off x="6025680" y="5361120"/>
              <a:ext cx="8280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Tahoma"/>
                </a:rPr>
                <a:t>Čas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ŠVARCOVÁ, J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Ekonomie – stručný přehled,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dání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o rok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VĚTLÍK, J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Marketing – cesta k trh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Zlín: EKKA, 1994. ISBN 80-900015-8-0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468360" y="1495440"/>
          <a:ext cx="8229600" cy="5440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ingový m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tudenti se seznamují s významem značky. Uvádějí informace, které musí být uvedeny na obalu různých druhů výrobků (potraviny, léky,…). Seznamují se s životním cyklem výrobků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ingový mix, výrobek, koncepce totálního výrobku, životní cyklus výrob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dddddd"/>
                </a:solidFill>
                <a:latin typeface="Garamond"/>
              </a:rPr>
              <a:t>Marketingový mix</a:t>
            </a:r>
            <a:endParaRPr b="1" lang="en-US" sz="66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779640" y="2420640"/>
            <a:ext cx="3816360" cy="36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ýrobe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Cen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Distribu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ropag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dddddd"/>
                </a:solidFill>
                <a:latin typeface="Tahoma"/>
              </a:rPr>
              <a:t>Výrobek</a:t>
            </a:r>
            <a:br>
              <a:rPr sz="4400"/>
            </a:b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ff"/>
                </a:solidFill>
                <a:latin typeface="Tahoma"/>
              </a:rPr>
              <a:t>Zkuste definovat výrobe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ýrobek</a:t>
            </a: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motný statek, služba nebo myšlenka, která se stává předmětem směny na trhu a je určena k uspokojení lidské potřeby nebo přán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Členění výrobků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Z hlediska délky použití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boží dlouhodobé spotřeby – používá se déle než 1 ro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boží krátkodobé spotřeby – používá se po dobu kratší než 1 ro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 hlediska zákazníka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potřební zboží – nakupují domácnost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apitálové statky – nakupují firm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ddddd"/>
                </a:solidFill>
                <a:latin typeface="Tahoma"/>
              </a:rPr>
              <a:t>Koncepce totálního výrobku</a:t>
            </a:r>
            <a:br>
              <a:rPr sz="4000"/>
            </a:b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535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Jádr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– užitná vlastnost výrobk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Zhmotnělý výrobek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– cena, kvalita, design, značka, obal,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Přidaný výrobek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– záruka, servis, služby,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Definujte jádro, zhmotnělý a přidaný výrobek u auta a počítač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2" name="Zástupný symbol pro obsah 13315"/>
          <p:cNvGrpSpPr/>
          <p:nvPr/>
        </p:nvGrpSpPr>
        <p:grpSpPr>
          <a:xfrm>
            <a:off x="2769840" y="2700360"/>
            <a:ext cx="5424480" cy="2897640"/>
            <a:chOff x="2769840" y="2700360"/>
            <a:chExt cx="5424480" cy="2897640"/>
          </a:xfrm>
        </p:grpSpPr>
        <p:sp>
          <p:nvSpPr>
            <p:cNvPr id="113" name="_s1028"/>
            <p:cNvSpPr/>
            <p:nvPr/>
          </p:nvSpPr>
          <p:spPr>
            <a:xfrm>
              <a:off x="2769840" y="3512520"/>
              <a:ext cx="3364920" cy="2085480"/>
            </a:xfrm>
            <a:prstGeom prst="donut">
              <a:avLst>
                <a:gd name="adj" fmla="val 16666"/>
              </a:avLst>
            </a:prstGeom>
            <a:solidFill>
              <a:srgbClr val="ff8c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4" name="_s1029"/>
            <p:cNvSpPr/>
            <p:nvPr/>
          </p:nvSpPr>
          <p:spPr>
            <a:xfrm>
              <a:off x="7296480" y="3627360"/>
              <a:ext cx="897840" cy="46332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řidaný výrobek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" name="_s1030"/>
            <p:cNvSpPr/>
            <p:nvPr/>
          </p:nvSpPr>
          <p:spPr>
            <a:xfrm>
              <a:off x="3331080" y="3859920"/>
              <a:ext cx="2242800" cy="1390320"/>
            </a:xfrm>
            <a:prstGeom prst="donut">
              <a:avLst>
                <a:gd name="adj" fmla="val 25000"/>
              </a:avLst>
            </a:prstGeom>
            <a:solidFill>
              <a:srgbClr val="01bd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6" name="_s1031"/>
            <p:cNvSpPr/>
            <p:nvPr/>
          </p:nvSpPr>
          <p:spPr>
            <a:xfrm>
              <a:off x="7296480" y="3163680"/>
              <a:ext cx="897840" cy="46332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ahoma"/>
                </a:rPr>
                <a:t>Zhmotnělý výrobek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" name="_s1032"/>
            <p:cNvSpPr/>
            <p:nvPr/>
          </p:nvSpPr>
          <p:spPr>
            <a:xfrm>
              <a:off x="3891600" y="4207680"/>
              <a:ext cx="1121400" cy="694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" name="_s1033"/>
            <p:cNvSpPr/>
            <p:nvPr/>
          </p:nvSpPr>
          <p:spPr>
            <a:xfrm>
              <a:off x="7296480" y="2700360"/>
              <a:ext cx="897840" cy="46332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Jádro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ddddd"/>
                </a:solidFill>
                <a:latin typeface="Tahoma"/>
              </a:rPr>
              <a:t>Značka výrobku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Co je to značka a v čem vidíte její význam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dlišuje výrobek od konkurence, pomáhá jeho identifikaci, je i zárukou kvality, měla by být snadno zapamatovatelná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dentifikace výrobku určitého výrobce pomocí jména, symbolu, čísla, tvaru nebo kombinace těchto faktorů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chranná známka = registrovaná a právně chráněná značk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Význam značky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rychlá identifikace výrobků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mage výrobků – sdělení, co zákazníci mohou od výrobku očekáv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garance kval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áklad komunikace se zákazníke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onzistence v nákupním chování – zákazník, který je spokojený s jedním výrobkem určité značky pravděpodobně koupí i jiné výrobky téže znač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000" y="980640"/>
            <a:ext cx="8280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Značka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ýrob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bchodní firm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Věrnost značce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– tendence v chování zákazníků záměrně a opakovaně kupovat výrobek určité znač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Existuje značka, které jste věrni? U jakého výrobku a proč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Strategie značky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menová značka – všechny výrobky jednoho výrobce mají stejnou značku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ndividuální značka – jeden výrobce má pro každý svůj výrobek jinou značk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ddddd"/>
                </a:solidFill>
                <a:latin typeface="Tahoma"/>
              </a:rPr>
              <a:t>Obal</a:t>
            </a:r>
            <a:r>
              <a:rPr b="1" lang="cs-CZ" sz="4400" spc="-1" strike="noStrike">
                <a:solidFill>
                  <a:srgbClr val="dddddd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Jaké funkce má obal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Jaké informace můžeme získat z etikety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Tvoří ho samotný fyzický obal a etiket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Funkce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chranná – ochrana před poškozením, … např. při přepravě výrobk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omunikační – obal obsahuje informace důležité pro zákazní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ddddd"/>
                </a:solidFill>
                <a:latin typeface="Tahoma"/>
              </a:rPr>
              <a:t>Služby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V čem vidíte význam služeb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Jaké druhy služeb podle vás zákazníci nejčastěji vyžadují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vyšují prodej, vytváří image podniku, snižují riziko zákazníků při nákup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Druhy služeb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áruk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rácení peněz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doprava, instala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asílání katalogů,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06:37:22Z</dcterms:created>
  <dc:creator>kabek</dc:creator>
  <dc:description/>
  <dc:language>en-US</dc:language>
  <cp:lastModifiedBy>Igor</cp:lastModifiedBy>
  <dcterms:modified xsi:type="dcterms:W3CDTF">2014-09-13T15:04:23Z</dcterms:modified>
  <cp:revision>21</cp:revision>
  <dc:subject/>
  <dc:title>Marketingový mix</dc:title>
</cp:coreProperties>
</file>